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51E-3FD5-43D3-9036-803BBD2AC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E5E0-C71B-4485-B4E1-FFFB8984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222-D038-448D-A138-A6F02B22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F8C-07A3-4A9F-9AE8-7261E57A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047-88B4-4FD8-B237-E7B9150F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B88-4CC4-4407-82C9-7DE1982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0B9A-3370-4C85-8FAB-1181DE1E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7BA7-580C-4BE2-A2E1-B90D567D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226080"/>
            <a:ext cx="907164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D51-BD86-4C1F-B2E2-A17B4711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147-184D-4922-ACDD-467C811B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F0F3-AA70-4CE4-BA60-A0C7EC0C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0E86-DE80-4D52-85FB-7763D389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5165280"/>
            <a:ext cx="31950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5165280"/>
            <a:ext cx="234828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7A9582-BAE4-4CDA-A0DC-92B866217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226080"/>
            <a:ext cx="9071640" cy="9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Normal.eit</Template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2T07:18:23Z</dcterms:created>
  <dc:creator>Cynthia</dc:creator>
  <dc:description/>
  <dc:language>en-US</dc:language>
  <cp:lastModifiedBy>Cynthia</cp:lastModifiedBy>
  <dcterms:modified xsi:type="dcterms:W3CDTF">2019-04-02T07:18:47Z</dcterms:modified>
  <cp:revision>0</cp:revision>
  <dc:subject/>
  <dc:title/>
</cp:coreProperties>
</file>