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9B6-E560-4594-9885-3DEB7460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5AB-6530-44AE-81DB-294F5BE4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6A8-3E7B-4F33-A279-4219835B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1D5-4D62-485C-A490-B1B808FB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099-7986-401A-93C2-B10F2C4E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39E-28C3-407D-83DB-CF51E33A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C17-81E2-418E-8A8C-E68F2D17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B0D-B8FD-47AD-B688-70B7A40B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03D-F21F-43D8-8921-F2292AD3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6BC-AB33-451F-9092-709B0CD6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374-646C-4C82-88B5-93351E0B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CDB-525C-46A8-9EA3-293D1208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BF70-1B71-4EF5-B9C2-FB27D714A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07:04:34Z</dcterms:created>
  <dc:creator>KODENSHA</dc:creator>
  <dc:description/>
  <dc:language>en-US</dc:language>
  <cp:lastModifiedBy>松本光造</cp:lastModifiedBy>
  <dcterms:modified xsi:type="dcterms:W3CDTF">2011-02-15T06:17:26Z</dcterms:modified>
  <cp:revision>182</cp:revision>
  <dc:subject/>
  <dc:title>PowerPoint プレゼンテーション</dc:title>
</cp:coreProperties>
</file>