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8828-08D5-4C91-A6B1-95757A45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46C2B-70BC-42D6-885C-4038EC6D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CFA7D-AF8F-4DDB-AFA1-41BF702E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9785A-2875-4D82-B826-7A957A4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59A6A-5636-4588-AFD6-E0E8E511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76F14-DFA2-442E-A448-7B422376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A7EA4-8665-4A03-8FBA-2F3D4FD8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C4799-843E-4A39-B52D-7DE17D9C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0227-44B5-456C-A9E7-02D14E00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E6B0E-0F04-459B-A17A-5CBBE487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09B72-3E6C-44AA-8E79-40C119F6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83C0C-4556-4D4B-9C7E-3F0CFF50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9A61-605C-4BA3-8268-681F9E8A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BA85E-7D11-4FC9-B7EC-3E943F47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8601E-562F-4A3B-A292-CB0C0567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ABF52-25F2-4AAB-97A4-5F27DFC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6E759-2D55-4E6B-9F08-9264619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897DF-9FA9-4C93-956E-64E4F60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752EB-1F1D-44AF-B36E-251B9C2E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D735A-9AD2-4A51-993A-CB6FAA33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74086-197B-4025-9F4C-F6AF4D1D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69254-EEF8-439E-BC6F-B3E942BD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AAC5F-6F47-465A-8B44-05F71702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EDA16-24F9-4FC6-BAB6-D1E9612F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E64A5-32F4-409D-BA88-BAC62521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29765-0105-4153-B243-EEB2CE34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BF3AB-9E9F-4986-A39E-935FB767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17F52-B7AF-495C-8D3E-51EEFA7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E6C5A-ABD3-4656-9D2F-3FB514C2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B0FDD-9704-428D-9572-BF137BB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2AC-28A9-4EC3-BBA4-11156A11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45EFD-0C88-4103-9DAB-DC5D539A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531CF-DCAD-4C31-8D06-2FE62C95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DFA66-F090-4E64-8492-9A750266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A3C06-955C-4A5B-983F-C0506427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7468C-1622-4C2F-AF9B-46CF550E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7513A-F907-4BAD-BDE5-BF5D2023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94A57-47AF-47D3-8CB3-237B449B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E4F2C-A80B-4FDC-83A8-540DA380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F84BE-4282-4DC8-A909-0C5DC555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5EB3D-C501-41E6-BE12-71DAE87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718-59F6-4B55-8BE9-743B222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8BA99-F33E-4B9C-8959-8515D95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B8711-A29B-4A95-B9D0-4E55507F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BFB82-C1D4-4381-B55E-4DA7CA8D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6B3AA-6196-4CE1-860E-8CEAC627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9C507-24FC-4FFC-8146-CDF47E08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0EB66-3218-465B-9B4B-339D74E0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5666F-E378-49CB-A0DF-3BCA38EB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393F4-8CB6-40B0-99FD-67324DD2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9EFAB-B565-473E-8CE4-66494377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0FE59-DEA5-42B5-ADA6-7E15796D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468-6DA9-405E-B21E-FFC4CBED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51015-355D-4C4E-B529-36A48FC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726F8-590C-4503-86FA-4FE46E6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88A23-1C3F-455D-9D52-6334FA8C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8B986-2D65-4FD8-98B4-B2D192A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803E3-41D6-431A-8E0D-0BE08382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D0679-DBB5-4A34-8DDA-EB813C74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68256-545B-410C-A02B-53B553F4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28B36-1822-46B3-890B-02D4D849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AEB93-C132-4E18-9D9C-006CCC1C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C64F1-A065-4C35-A854-D94BFDAA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790-0C32-41D1-B331-068BA3B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53ACE-4454-45F7-AA17-982D5E64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52173-1F29-4DDD-8C0F-88F92169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13D9A-7158-43AD-8271-1E02B481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A3B0F-6F45-44E8-9B93-9852C7C0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84FF2-5CBF-46EA-BF28-952365B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B561F-F646-4B70-A85A-95895F1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BF0EF-179F-4A7F-89A2-C76C30F6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07685-EC46-4945-83F5-89F02123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DA3A5-1494-43C5-8ACD-7C7C7924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AD9-1CDF-4E3C-95F3-FCCEBF06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658-6E9F-493F-8EB0-552991A0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D2D-6D7C-4AC4-8640-4D4DD73B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B2D-4F95-4683-9EC3-4B9EE80F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EBF-A0EC-4D8D-8957-D00361C6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2F9-51BA-4DDE-A90C-D4583407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7C4-8466-453A-BFD2-47128811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E26-16F6-415B-AFCA-9CD14716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A5CB-563E-4080-88EE-F55D17CC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0F1D-7557-4773-A8EB-EFF5C82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ECDC-9359-4B4F-8D1B-E7B9A0B1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F85D-7F0F-40F8-83D6-EF759B1C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1425-C996-450E-A73C-0365D36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3C15-335D-4C85-8429-347AE318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253B-2E40-45E0-9231-35D0018F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8277-E80C-4A7F-858A-048D2EEE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C409-E540-4160-867E-A56937E2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5DE5-92F7-4D8A-9B74-88136AEE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60F2-FD22-43BB-8005-E471DDC1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5ADD-E621-4EFE-A54B-BD04AF61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D9E1-88B9-46C1-9FCD-AC387DFB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988C-88C8-4A98-943E-8A338659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9362-EF70-47BB-AD79-E15525DE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1698-DF7E-4138-B72A-18C70C9F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1D91-425E-4A62-B0C7-5E9116E1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CC45-52AE-41C4-8F11-C35A7E34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57B5-62E5-4E60-BA8E-5663DB3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AB09-4A0B-4173-9AB1-10519E5C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BAC8-4876-4D12-AE03-6F3A55A0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97CA-336B-427A-98E8-B9C7EECC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78835-D82B-4EEE-A8C7-2582EC89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8D82-98B2-4375-B21C-CF54618B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4CB2F-FEAF-45A4-A1D6-7EB887F2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F845-CF68-48AA-A3E6-7A1D923A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EC58-0EA9-448E-953F-B70D1AA5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9D0D-5810-46F3-9199-5E5E6389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6ED5-BEF4-4873-8EB3-FE661D6D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9F8D-FAB2-47E2-8E79-C8EC78A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40AB-69A9-46B2-BCC2-B7EC381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904F-6A96-45FC-B386-953A986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B127-9777-4989-99B9-BFF8737B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0D80-A8F3-4084-90DF-25095680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6322C-356B-4039-BE38-594787B0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BA75-4C51-48FC-8D47-66682633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6827-CAB7-4AEF-BD6F-80583C98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1951-716A-44B6-A70B-910A4D18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02BC0-59F4-4BD8-9197-8F4A9CD7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F77E2-AD99-4D9C-A618-BC01FEF5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F0B41-6BBE-4372-8748-509C9556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3C2C3-5898-41AE-85A5-7D1742C5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0E4C-3AD9-4C1A-BA99-0494045A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4B7D4-BF08-459B-8845-1C0A891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8855-4D0E-4D81-A719-565D84B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18700-0288-4FBA-8E33-9E311D1A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A67F8-048F-4592-8A27-50CD3CAF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376F5-75F6-4B8C-992E-6A1726FD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9A26-E938-4C1B-8A2D-B780462D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D128E-3C53-44D1-BF6D-E263EC75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125C-E51F-4E2A-91B2-ED414F32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6D2E-9B15-49CF-84A3-31565EE8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9027D-684F-4807-970F-852CB7E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150F2-FE48-4BB9-8597-30B0C54E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08EA-8BD2-404C-B65C-B906419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AEB13-BAC3-40CA-BE82-7A3E0AB0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F98DA-652C-44A3-B35C-9B58E8CE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4DDE3-7BD3-467A-B831-506391DC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EEF55-213A-4EDA-91C1-C37AA2A4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6C50-9BB6-4295-BC36-E5A4BDA4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C3585-E335-4D68-B7EB-6A4FE846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85963-AAEF-4BD7-A157-FBF91E32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46651-845A-4F39-AA25-13EC8665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可选过程 1025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e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新月形 1026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新月形 1027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新月形 1028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流程图: 可选过程 1029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EEA8-8D31-46CE-8167-717EFD164C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AA59-0A25-4BE5-A916-57701F9578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1A25-B4E1-4B26-BB63-1058754639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747E-C97C-4D06-8B90-743CD3802B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5248-D200-4A9E-8A32-B2BD6469BA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C101-626B-4992-8BF6-6993CEE663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流程图: 可选过程 2049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d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新月形 2050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新月形 2051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新月形 2052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DABE-41B8-41D8-AA3A-1CC4B022E3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5366-466E-4DED-9572-2DA64C9445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75CC-C3BE-4419-91D3-E48A790ABC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651E-4578-4370-B576-6D4DDA8C9A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EEB-3E26-4F3D-B940-A46F29E7E4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BFA0-6D26-48E0-AB79-26AA2BAFA0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4,5,&#8212;&#8212;&#20102;&#35299;&#21592;&#24037;&#20351;&#29992;&#30005;&#33041;&#26102;&#27491;&#22312;&#20570;&#20160;&#20040;&#12290;" TargetMode="External"/><Relationship Id="rId2" Type="http://schemas.openxmlformats.org/officeDocument/2006/relationships/hyperlink" Target="265,6,&#8212;&#8212;&#20102;&#35299;&#21592;&#24037;&#20570;&#36807;&#20160;&#20040;&#65292;&#20197;&#20415;&#32771;&#23519;&#12290;" TargetMode="External"/><Relationship Id="rId3" Type="http://schemas.openxmlformats.org/officeDocument/2006/relationships/hyperlink" Target="266,7,&#8212;&#8212;&#35753;&#21592;&#24037;&#19978;&#29677;&#26102;&#38388;&#21482;&#33021;&#20570;&#19982;&#24037;&#20316;&#30456;&#20851;&#30340;&#20107;&#24773;&#65292;&#25552;&#39640;&#24037;&#20316;&#25928;&#29575;&#12290;" TargetMode="External"/><Relationship Id="rId4" Type="http://schemas.openxmlformats.org/officeDocument/2006/relationships/hyperlink" Target="274,8,&#31995;&#32479;&#21629;&#20196;&#65306;&#x0d;&#36828;&#31243;&#23545;&#21592;&#24037;&#31471;&#36827;&#34892;&#20851;&#26426;&#12289;&#37325;&#21551;&#12289;&#27880;&#38144;&#31561;&#25805;&#20316;&#65307;&#21521;&#36873;&#20013;&#21592;&#24037;&#31471;&#21457;&#36865;&#24191;&#25773;&#28040;&#24687;&#12290;" TargetMode="External"/><Relationship Id="rId5" Type="http://schemas.openxmlformats.org/officeDocument/2006/relationships/hyperlink" Target="275,9,&#33258;&#23450;&#20041;&#25253;&#35686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超  级  眼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副标题 5122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7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7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产品优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流程图: 可选过程 5"/>
          <p:cNvSpPr/>
          <p:nvPr/>
        </p:nvSpPr>
        <p:spPr>
          <a:xfrm rot="5400000">
            <a:off x="4909320" y="1111680"/>
            <a:ext cx="3823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"/>
          <p:cNvSpPr/>
          <p:nvPr/>
        </p:nvSpPr>
        <p:spPr>
          <a:xfrm>
            <a:off x="470304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7"/>
          <p:cNvGrpSpPr/>
          <p:nvPr/>
        </p:nvGrpSpPr>
        <p:grpSpPr>
          <a:xfrm>
            <a:off x="3124080" y="2133720"/>
            <a:ext cx="3834000" cy="228600"/>
            <a:chOff x="3124080" y="2133720"/>
            <a:chExt cx="3834000" cy="228600"/>
          </a:xfrm>
        </p:grpSpPr>
        <p:sp>
          <p:nvSpPr>
            <p:cNvPr id="674" name="左中括号 6"/>
            <p:cNvSpPr/>
            <p:nvPr/>
          </p:nvSpPr>
          <p:spPr>
            <a:xfrm rot="5400000">
              <a:off x="5002920" y="406800"/>
              <a:ext cx="76320" cy="38340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320 h 3834000"/>
                <a:gd name="textAreaBottom" fmla="*/ 382968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4"/>
            <p:cNvSpPr/>
            <p:nvPr/>
          </p:nvSpPr>
          <p:spPr>
            <a:xfrm>
              <a:off x="506052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3"/>
            <p:cNvSpPr/>
            <p:nvPr/>
          </p:nvSpPr>
          <p:spPr>
            <a:xfrm>
              <a:off x="5600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4"/>
            <p:cNvSpPr/>
            <p:nvPr/>
          </p:nvSpPr>
          <p:spPr>
            <a:xfrm>
              <a:off x="4200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8"/>
          <p:cNvSpPr/>
          <p:nvPr/>
        </p:nvSpPr>
        <p:spPr>
          <a:xfrm>
            <a:off x="2746080" y="2476440"/>
            <a:ext cx="60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隐蔽性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被控端毫无察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9"/>
          <p:cNvSpPr/>
          <p:nvPr/>
        </p:nvSpPr>
        <p:spPr>
          <a:xfrm>
            <a:off x="3828960" y="2514600"/>
            <a:ext cx="606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功能全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安全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0"/>
          <p:cNvSpPr/>
          <p:nvPr/>
        </p:nvSpPr>
        <p:spPr>
          <a:xfrm>
            <a:off x="5337000" y="2514600"/>
            <a:ext cx="60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支持多种电脑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要求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1"/>
          <p:cNvSpPr/>
          <p:nvPr/>
        </p:nvSpPr>
        <p:spPr>
          <a:xfrm>
            <a:off x="6632280" y="2562120"/>
            <a:ext cx="60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耐心的售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贴心的售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2"/>
          <p:cNvSpPr/>
          <p:nvPr/>
        </p:nvSpPr>
        <p:spPr>
          <a:xfrm>
            <a:off x="4343400" y="68580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为什么选择超级眼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右弧形箭头 1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应用范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我们能用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"/>
          <p:cNvSpPr/>
          <p:nvPr/>
        </p:nvSpPr>
        <p:spPr>
          <a:xfrm>
            <a:off x="4191120" y="3124080"/>
            <a:ext cx="1450800" cy="11210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"/>
          <p:cNvSpPr/>
          <p:nvPr/>
        </p:nvSpPr>
        <p:spPr>
          <a:xfrm>
            <a:off x="4343400" y="350532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超级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1"/>
          <p:cNvSpPr/>
          <p:nvPr/>
        </p:nvSpPr>
        <p:spPr>
          <a:xfrm>
            <a:off x="1981080" y="22860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2"/>
          <p:cNvSpPr/>
          <p:nvPr/>
        </p:nvSpPr>
        <p:spPr>
          <a:xfrm>
            <a:off x="4191120" y="91440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私营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3"/>
          <p:cNvSpPr/>
          <p:nvPr/>
        </p:nvSpPr>
        <p:spPr>
          <a:xfrm>
            <a:off x="6553080" y="243828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4"/>
          <p:cNvSpPr/>
          <p:nvPr/>
        </p:nvSpPr>
        <p:spPr>
          <a:xfrm>
            <a:off x="5943600" y="48006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2590920" y="472428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政府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行政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箭头 16"/>
          <p:cNvSpPr/>
          <p:nvPr/>
        </p:nvSpPr>
        <p:spPr>
          <a:xfrm rot="7880400">
            <a:off x="3891240" y="452340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右箭头 17"/>
          <p:cNvSpPr/>
          <p:nvPr/>
        </p:nvSpPr>
        <p:spPr>
          <a:xfrm rot="11703600">
            <a:off x="3399840" y="3101400"/>
            <a:ext cx="471240" cy="433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箭头 18"/>
          <p:cNvSpPr/>
          <p:nvPr/>
        </p:nvSpPr>
        <p:spPr>
          <a:xfrm rot="16200000">
            <a:off x="4705920" y="2379960"/>
            <a:ext cx="468360" cy="432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右箭头 19"/>
          <p:cNvSpPr/>
          <p:nvPr/>
        </p:nvSpPr>
        <p:spPr>
          <a:xfrm rot="20425800">
            <a:off x="6001920" y="311436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右箭头 20"/>
          <p:cNvSpPr/>
          <p:nvPr/>
        </p:nvSpPr>
        <p:spPr>
          <a:xfrm rot="2928600">
            <a:off x="5645160" y="452268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2"/>
          <p:cNvSpPr/>
          <p:nvPr/>
        </p:nvSpPr>
        <p:spPr>
          <a:xfrm>
            <a:off x="6950160" y="28195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台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外资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6317640" y="518148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学校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教育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2279160" y="27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国有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4"/>
          <p:cNvSpPr/>
          <p:nvPr/>
        </p:nvSpPr>
        <p:spPr>
          <a:xfrm>
            <a:off x="4724280" y="5334120"/>
            <a:ext cx="658800" cy="609480"/>
          </a:xfrm>
          <a:prstGeom prst="ellipse">
            <a:avLst/>
          </a:prstGeom>
          <a:solidFill>
            <a:srgbClr val="ceceef"/>
          </a:solidFill>
          <a:ln w="1260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"/>
          <p:cNvSpPr/>
          <p:nvPr/>
        </p:nvSpPr>
        <p:spPr>
          <a:xfrm>
            <a:off x="4952880" y="4495680"/>
            <a:ext cx="76320" cy="7632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7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"/>
          <p:cNvSpPr/>
          <p:nvPr/>
        </p:nvSpPr>
        <p:spPr>
          <a:xfrm>
            <a:off x="4952880" y="68580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"/>
          <p:cNvSpPr/>
          <p:nvPr/>
        </p:nvSpPr>
        <p:spPr>
          <a:xfrm>
            <a:off x="2209680" y="1981080"/>
            <a:ext cx="2813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宜兴市国税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扬州联通线缆电器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金华鼎鑫汽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如皋市金陵化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泰山玻璃纤维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建设雅马哈摩托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中研信息咨询管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沈阳索华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廊坊菊龙五金磨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赛象科技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三方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豪州万福房地产经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省清远灵龙房地产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博宇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金三航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永康般若进出口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"/>
          <p:cNvSpPr/>
          <p:nvPr/>
        </p:nvSpPr>
        <p:spPr>
          <a:xfrm>
            <a:off x="5715000" y="2057400"/>
            <a:ext cx="2992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正力佳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海顺商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吉力芸峰实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省大宏电子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今天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安市速达计算机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烟台市质量技术监督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科瑞石油装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方根数码微控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央储备粮济南直属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鼎成信息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徐州市铜山供电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市高明福家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威海光威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中软安人网络通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8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"/>
          <p:cNvSpPr/>
          <p:nvPr/>
        </p:nvSpPr>
        <p:spPr>
          <a:xfrm>
            <a:off x="5105520" y="762120"/>
            <a:ext cx="34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"/>
          <p:cNvSpPr/>
          <p:nvPr/>
        </p:nvSpPr>
        <p:spPr>
          <a:xfrm>
            <a:off x="2057400" y="2286000"/>
            <a:ext cx="3048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永强永强岩土工程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铭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华北制药集团动物保健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赢政工艺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海安县精诚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长丰热电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中国航空信息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锐众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亚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江苏东光微电子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余姚舜政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市通告高压泵制造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银兆网络科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同盛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"/>
          <p:cNvSpPr/>
          <p:nvPr/>
        </p:nvSpPr>
        <p:spPr>
          <a:xfrm>
            <a:off x="5257800" y="2286000"/>
            <a:ext cx="33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金信知识产权代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佳易计算机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科同向科技（北京）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海曙中启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赢山倍科贸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常州武进亚星卫生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恒策投资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中国科技大学产学研基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泉州市通典文化传播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嘉兴市伊清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易材数码图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天讯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六度设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华力电脑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"/>
          <p:cNvSpPr/>
          <p:nvPr/>
        </p:nvSpPr>
        <p:spPr>
          <a:xfrm>
            <a:off x="2133720" y="2057400"/>
            <a:ext cx="3311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深辉酒店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航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市中信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双禾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省淄博市中关村科技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中山市雅思家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石家庄海星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山环威实业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珠海中润靖杰打印机耗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绥化市泰伦英语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哈尔滨市奇凯信息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黑龙江广名会计师事务所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德龙企业管理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河北林南仓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延邑制模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5638680" y="2057400"/>
            <a:ext cx="3040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花都易大机械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蓝天航空经济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博斯软件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南方竹木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普庆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市康伟实业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泉州市迪光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四川警察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三屯钜熙鞋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力德国际贸易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长春大成生化饲料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市海诺曼奥信息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天翔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抚顺中宇建设（集团）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展盈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6"/>
          <p:cNvSpPr/>
          <p:nvPr/>
        </p:nvSpPr>
        <p:spPr>
          <a:xfrm>
            <a:off x="1600200" y="60958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提示：以上是一部分应用成功的客户，如不想再公开，请联系客服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关于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"/>
          <p:cNvSpPr/>
          <p:nvPr/>
        </p:nvSpPr>
        <p:spPr>
          <a:xfrm>
            <a:off x="4876920" y="76212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99"/>
          <p:cNvSpPr/>
          <p:nvPr/>
        </p:nvSpPr>
        <p:spPr>
          <a:xfrm>
            <a:off x="1905120" y="1371600"/>
            <a:ext cx="6352920" cy="39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1" sz="1200" spc="-1" strike="noStrike">
                <a:solidFill>
                  <a:srgbClr val="7f7f7f"/>
                </a:solidFill>
                <a:latin typeface="宋体"/>
              </a:rPr>
              <a:t>深圳市超时代软件有限公司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成立于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2005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年，总部设于深圳，专业从事数据安全监控产品的研发和销售，致力于为个人用户与单位企业提供全面的数据安全保护方案。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级眼监控软件是超时代软件公司旗下的主要产品，公司主站为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www.360drm.co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是国内较早从事加密安全领域研究的机构之一，拥有全面的信息防泄密产品线和解决方案，为客户提供安全、稳定、可靠的产品和服务。凭借核心研发团队多年的行业积累，超时代软件已申请多项技术发明专利，并拥有全部自主知识产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目前有多款企业级应用软件： 共享文件夹加密专家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U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盘防拷贝系统、超级眼监控软件（分内网版和外网版）、视频加密器和文档透明加密系统等。 公司将始终专注于提高企业员工工作效率方面的新产品研发和推广，坚持不懈地贯彻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精品战略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思想，带给客户更多的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新产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专注于信息安全领域，坚持高品质、高科技、高效率的原则，先后取得软件企业、高新企业等证书，产品通过了信息安全测试部门测评，取得了著作权和产品登记证书。一直以来，超时代软件不懈努力，竭诚为企业信息化管理建设奉献出一份力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宋体"/>
              </a:rPr>
              <a:t>联系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国统一服务热线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4000-186-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工作时间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一至周五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9:00 - 18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公司地址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广东省深圳市南山区科技文化广场华富洋大厦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4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楼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A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如果需要技术支持，请直接联系我们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，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通常也保持在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2057400" y="1447920"/>
            <a:ext cx="13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8193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ffdeab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4"/>
          <p:cNvSpPr/>
          <p:nvPr/>
        </p:nvSpPr>
        <p:spPr>
          <a:xfrm>
            <a:off x="2666880" y="190512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deab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超级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248040" y="5257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Su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6019920" y="609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H_Others_1"/>
          <p:cNvSpPr/>
          <p:nvPr/>
        </p:nvSpPr>
        <p:spPr>
          <a:xfrm>
            <a:off x="3597120" y="1297080"/>
            <a:ext cx="0" cy="4492440"/>
          </a:xfrm>
          <a:prstGeom prst="line">
            <a:avLst/>
          </a:prstGeom>
          <a:ln w="25560">
            <a:solidFill>
              <a:srgbClr val="e4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3794040" y="162864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软件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MH_Number_2"/>
          <p:cNvSpPr/>
          <p:nvPr/>
        </p:nvSpPr>
        <p:spPr>
          <a:xfrm>
            <a:off x="3398760" y="29192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MH_Others_2"/>
          <p:cNvSpPr/>
          <p:nvPr/>
        </p:nvSpPr>
        <p:spPr>
          <a:xfrm>
            <a:off x="754200" y="28083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华文中宋"/>
                <a:ea typeface="华文中宋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Others_3"/>
          <p:cNvSpPr/>
          <p:nvPr/>
        </p:nvSpPr>
        <p:spPr>
          <a:xfrm>
            <a:off x="754200" y="33321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华文细黑"/>
                <a:ea typeface="华文细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H_Number_2"/>
          <p:cNvSpPr/>
          <p:nvPr/>
        </p:nvSpPr>
        <p:spPr>
          <a:xfrm>
            <a:off x="3398760" y="16556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2"/>
          <p:cNvSpPr/>
          <p:nvPr/>
        </p:nvSpPr>
        <p:spPr>
          <a:xfrm>
            <a:off x="3398760" y="23036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Number_2"/>
          <p:cNvSpPr/>
          <p:nvPr/>
        </p:nvSpPr>
        <p:spPr>
          <a:xfrm>
            <a:off x="3398760" y="35672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Number_2"/>
          <p:cNvSpPr/>
          <p:nvPr/>
        </p:nvSpPr>
        <p:spPr>
          <a:xfrm>
            <a:off x="3398760" y="422280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Number_2"/>
          <p:cNvSpPr/>
          <p:nvPr/>
        </p:nvSpPr>
        <p:spPr>
          <a:xfrm>
            <a:off x="3398760" y="487692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Entry_1"/>
          <p:cNvSpPr/>
          <p:nvPr/>
        </p:nvSpPr>
        <p:spPr>
          <a:xfrm>
            <a:off x="3794040" y="22953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Entry_1"/>
          <p:cNvSpPr/>
          <p:nvPr/>
        </p:nvSpPr>
        <p:spPr>
          <a:xfrm>
            <a:off x="3798720" y="2892600"/>
            <a:ext cx="399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Entry_1"/>
          <p:cNvSpPr/>
          <p:nvPr/>
        </p:nvSpPr>
        <p:spPr>
          <a:xfrm>
            <a:off x="3814920" y="3559320"/>
            <a:ext cx="399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用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Entry_1"/>
          <p:cNvSpPr/>
          <p:nvPr/>
        </p:nvSpPr>
        <p:spPr>
          <a:xfrm>
            <a:off x="3814920" y="4183200"/>
            <a:ext cx="399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客户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Entry_1"/>
          <p:cNvSpPr/>
          <p:nvPr/>
        </p:nvSpPr>
        <p:spPr>
          <a:xfrm>
            <a:off x="3809880" y="48369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关于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标题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19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" descr="图片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81280" y="2133720"/>
            <a:ext cx="5457960" cy="40924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5"/>
          <p:cNvSpPr/>
          <p:nvPr/>
        </p:nvSpPr>
        <p:spPr>
          <a:xfrm>
            <a:off x="2209680" y="236232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超级眼 计算机管理系统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是超时代软件自主研发的，对计算机操作行为进行全面监控和管理的一款软件，可监控计算机所有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网址：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www.360mon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弧形箭头 3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1676160"/>
            <a:ext cx="2982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、实时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二、历史监控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、限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、远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五、实时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标注 15"/>
          <p:cNvSpPr/>
          <p:nvPr/>
        </p:nvSpPr>
        <p:spPr>
          <a:xfrm rot="10800000">
            <a:off x="5105160" y="1904400"/>
            <a:ext cx="3429000" cy="28573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5257800" y="2438280"/>
            <a:ext cx="312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超级眼软件分为内网版、外网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内网版是局域网内部监控，外网版是异地远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除此差异之外，二者功能完全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弧形箭头 4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605040" cy="1143000"/>
          </a:xfrm>
          <a:prstGeom prst="rect">
            <a:avLst/>
          </a:prstGeom>
          <a:ln w="0">
            <a:noFill/>
          </a:ln>
        </p:spPr>
      </p:pic>
      <p:sp>
        <p:nvSpPr>
          <p:cNvPr id="604" name="流程图: 可选过程 4"/>
          <p:cNvSpPr/>
          <p:nvPr/>
        </p:nvSpPr>
        <p:spPr>
          <a:xfrm>
            <a:off x="2135160" y="2754360"/>
            <a:ext cx="38268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"/>
          <p:cNvSpPr/>
          <p:nvPr/>
        </p:nvSpPr>
        <p:spPr>
          <a:xfrm>
            <a:off x="2094480" y="2771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时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左中括号 7"/>
          <p:cNvSpPr/>
          <p:nvPr/>
        </p:nvSpPr>
        <p:spPr>
          <a:xfrm>
            <a:off x="2819520" y="2085840"/>
            <a:ext cx="139680" cy="3108600"/>
          </a:xfrm>
          <a:custGeom>
            <a:avLst/>
            <a:gdLst>
              <a:gd name="textAreaLeft" fmla="*/ 41040 w 139680"/>
              <a:gd name="textAreaRight" fmla="*/ 140040 w 139680"/>
              <a:gd name="textAreaTop" fmla="*/ 5400 h 3108600"/>
              <a:gd name="textAreaBottom" fmla="*/ 31032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80"/>
                </a:cubicBezTo>
                <a:lnTo>
                  <a:pt x="0" y="21520"/>
                </a:lnTo>
                <a:cubicBezTo>
                  <a:pt x="0" y="2156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9"/>
          <p:cNvSpPr/>
          <p:nvPr/>
        </p:nvSpPr>
        <p:spPr>
          <a:xfrm>
            <a:off x="3200400" y="1905120"/>
            <a:ext cx="503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①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实时远程桌面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管理者及时了解所有员工动向，可通过实时桌面监控，或者多画面桌面监控可以了解员工当前的电脑桌面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"/>
          <p:cNvSpPr/>
          <p:nvPr/>
        </p:nvSpPr>
        <p:spPr>
          <a:xfrm>
            <a:off x="3200400" y="3429000"/>
            <a:ext cx="510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②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远程摄像头监控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实时查看被监控计算机摄像头的画面，可多画面实时监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"/>
          <p:cNvSpPr/>
          <p:nvPr/>
        </p:nvSpPr>
        <p:spPr>
          <a:xfrm>
            <a:off x="3200400" y="495288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③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流量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"/>
          <p:cNvSpPr/>
          <p:nvPr/>
        </p:nvSpPr>
        <p:spPr>
          <a:xfrm>
            <a:off x="3124080" y="5257800"/>
            <a:ext cx="52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员工计算机的流量进行实时监控，及时发现流量的异常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2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"/>
          <p:cNvSpPr/>
          <p:nvPr/>
        </p:nvSpPr>
        <p:spPr>
          <a:xfrm>
            <a:off x="4267080" y="685800"/>
            <a:ext cx="46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了解员工使用电脑时正在做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历史记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可选过程 4"/>
          <p:cNvSpPr/>
          <p:nvPr/>
        </p:nvSpPr>
        <p:spPr>
          <a:xfrm>
            <a:off x="1946160" y="2773440"/>
            <a:ext cx="384120" cy="18921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1913400" y="2640960"/>
            <a:ext cx="485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历史监控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左中括号 6"/>
          <p:cNvSpPr/>
          <p:nvPr/>
        </p:nvSpPr>
        <p:spPr>
          <a:xfrm>
            <a:off x="2514600" y="1676520"/>
            <a:ext cx="76320" cy="449568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4495680"/>
              <a:gd name="textAreaBottom" fmla="*/ 449280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"/>
                  <a:pt x="0" y="30"/>
                </a:cubicBezTo>
                <a:lnTo>
                  <a:pt x="0" y="21570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10"/>
          <p:cNvSpPr/>
          <p:nvPr/>
        </p:nvSpPr>
        <p:spPr>
          <a:xfrm>
            <a:off x="2514600" y="1676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11"/>
          <p:cNvSpPr/>
          <p:nvPr/>
        </p:nvSpPr>
        <p:spPr>
          <a:xfrm>
            <a:off x="2514600" y="6172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2"/>
          <p:cNvSpPr/>
          <p:nvPr/>
        </p:nvSpPr>
        <p:spPr>
          <a:xfrm>
            <a:off x="2516040" y="342900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3"/>
          <p:cNvSpPr/>
          <p:nvPr/>
        </p:nvSpPr>
        <p:spPr>
          <a:xfrm>
            <a:off x="2516040" y="2209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4"/>
          <p:cNvSpPr/>
          <p:nvPr/>
        </p:nvSpPr>
        <p:spPr>
          <a:xfrm>
            <a:off x="2516040" y="28195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5"/>
          <p:cNvSpPr/>
          <p:nvPr/>
        </p:nvSpPr>
        <p:spPr>
          <a:xfrm>
            <a:off x="2514600" y="41911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16"/>
          <p:cNvSpPr/>
          <p:nvPr/>
        </p:nvSpPr>
        <p:spPr>
          <a:xfrm>
            <a:off x="2516040" y="47242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17"/>
          <p:cNvSpPr/>
          <p:nvPr/>
        </p:nvSpPr>
        <p:spPr>
          <a:xfrm>
            <a:off x="2514600" y="54100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"/>
          <p:cNvSpPr/>
          <p:nvPr/>
        </p:nvSpPr>
        <p:spPr>
          <a:xfrm>
            <a:off x="2819520" y="1523880"/>
            <a:ext cx="5478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①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聊天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可以查看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、旺旺、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SKYPE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等常用聊天软件的聊天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820960" y="2057400"/>
            <a:ext cx="5357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②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程序运行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用户电脑上软件的使用时间，包括启动与结束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"/>
          <p:cNvSpPr/>
          <p:nvPr/>
        </p:nvSpPr>
        <p:spPr>
          <a:xfrm>
            <a:off x="2820960" y="2666880"/>
            <a:ext cx="541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③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屏幕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对员工计算机屏幕画面进行记录，再现员工之前在计算机上的一举一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"/>
          <p:cNvSpPr/>
          <p:nvPr/>
        </p:nvSpPr>
        <p:spPr>
          <a:xfrm>
            <a:off x="2820960" y="3276720"/>
            <a:ext cx="544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④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网址访问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各种浏览器的网页访问记录，自动记下网页的标题，网址以及访问   时间，方便管理者考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2820960" y="4038480"/>
            <a:ext cx="5443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⑤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文件操作记录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被控端所有的文件操作，包括创建，删除或复制文件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4"/>
          <p:cNvSpPr/>
          <p:nvPr/>
        </p:nvSpPr>
        <p:spPr>
          <a:xfrm>
            <a:off x="2820960" y="4572000"/>
            <a:ext cx="547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⑥ </a:t>
            </a:r>
            <a:r>
              <a:rPr b="1" lang="en-US" sz="1400" spc="-1" strike="noStrike">
                <a:solidFill>
                  <a:srgbClr val="262626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盘使用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清晰记录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盘和光盘的使用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5"/>
          <p:cNvSpPr/>
          <p:nvPr/>
        </p:nvSpPr>
        <p:spPr>
          <a:xfrm>
            <a:off x="2819520" y="5280120"/>
            <a:ext cx="5510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⑦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邮件收发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员工计算机所有收发的邮件，记录包括收发时间、收件人、发件人、标题和内容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2819520" y="6006960"/>
            <a:ext cx="54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⑧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其他：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开关机记录、键盘记录、剪贴板记录、报警记录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4343400" y="685800"/>
            <a:ext cx="45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了解员工做过什么，以便考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2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限制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流程图: 可选过程 5"/>
          <p:cNvSpPr/>
          <p:nvPr/>
        </p:nvSpPr>
        <p:spPr>
          <a:xfrm>
            <a:off x="1817640" y="3071880"/>
            <a:ext cx="3841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1767240" y="3057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限制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中括号 8"/>
          <p:cNvSpPr/>
          <p:nvPr/>
        </p:nvSpPr>
        <p:spPr>
          <a:xfrm>
            <a:off x="2286000" y="2209680"/>
            <a:ext cx="76320" cy="358164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3581640"/>
              <a:gd name="textAreaBottom" fmla="*/ 357876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"/>
          <p:cNvSpPr/>
          <p:nvPr/>
        </p:nvSpPr>
        <p:spPr>
          <a:xfrm>
            <a:off x="2514600" y="2133720"/>
            <a:ext cx="33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软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2517840" y="4929120"/>
            <a:ext cx="2361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硬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盘、光驱进行禁用，以避免员工使用与工作无关的计算机设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124080" y="19177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程序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3124080" y="2422440"/>
            <a:ext cx="15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网页访问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文件操作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-2147482613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45000" cy="24796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-2147482614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41760" cy="250344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9"/>
          <p:cNvSpPr/>
          <p:nvPr/>
        </p:nvSpPr>
        <p:spPr>
          <a:xfrm>
            <a:off x="4038480" y="76212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让员工上班时间只能做与工作相关的事情，提高工作效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"/>
          <p:cNvGrpSpPr/>
          <p:nvPr/>
        </p:nvGrpSpPr>
        <p:grpSpPr>
          <a:xfrm>
            <a:off x="2876400" y="2057400"/>
            <a:ext cx="247680" cy="1136520"/>
            <a:chOff x="2876400" y="2057400"/>
            <a:chExt cx="247680" cy="1136520"/>
          </a:xfrm>
        </p:grpSpPr>
        <p:sp>
          <p:nvSpPr>
            <p:cNvPr id="648" name="左中括号 4"/>
            <p:cNvSpPr/>
            <p:nvPr/>
          </p:nvSpPr>
          <p:spPr>
            <a:xfrm>
              <a:off x="3028680" y="2057400"/>
              <a:ext cx="75960" cy="113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880 h 1136520"/>
                <a:gd name="textAreaBottom" fmla="*/ 11336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60"/>
                    <a:pt x="0" y="120"/>
                  </a:cubicBezTo>
                  <a:lnTo>
                    <a:pt x="0" y="21480"/>
                  </a:lnTo>
                  <a:cubicBezTo>
                    <a:pt x="0" y="2154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4"/>
            <p:cNvSpPr/>
            <p:nvPr/>
          </p:nvSpPr>
          <p:spPr>
            <a:xfrm>
              <a:off x="2876400" y="2590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远程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2514600" y="2971800"/>
            <a:ext cx="384120" cy="120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2170440" y="3048120"/>
            <a:ext cx="790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远程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1"/>
          <p:cNvGrpSpPr/>
          <p:nvPr/>
        </p:nvGrpSpPr>
        <p:grpSpPr>
          <a:xfrm>
            <a:off x="2971800" y="2209680"/>
            <a:ext cx="247680" cy="2714760"/>
            <a:chOff x="2971800" y="2209680"/>
            <a:chExt cx="247680" cy="2714760"/>
          </a:xfrm>
        </p:grpSpPr>
        <p:sp>
          <p:nvSpPr>
            <p:cNvPr id="655" name="左中括号 4"/>
            <p:cNvSpPr/>
            <p:nvPr/>
          </p:nvSpPr>
          <p:spPr>
            <a:xfrm>
              <a:off x="3124080" y="2209680"/>
              <a:ext cx="76320" cy="27147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880 h 2714760"/>
                <a:gd name="textAreaBottom" fmla="*/ 271188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4"/>
            <p:cNvSpPr/>
            <p:nvPr/>
          </p:nvSpPr>
          <p:spPr>
            <a:xfrm>
              <a:off x="2971800" y="358092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6"/>
          <p:cNvSpPr/>
          <p:nvPr/>
        </p:nvSpPr>
        <p:spPr>
          <a:xfrm>
            <a:off x="3200400" y="2057400"/>
            <a:ext cx="556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远程文件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超级眼的文件管理功能，不仅可对员工文件进行远程复制、删除、删除、重命名等操作，还可以上传、下载，为批量下载员工端文件到管理端提供便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7"/>
          <p:cNvSpPr/>
          <p:nvPr/>
        </p:nvSpPr>
        <p:spPr>
          <a:xfrm>
            <a:off x="4419720" y="762120"/>
            <a:ext cx="44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轻松远程管理员工的计算机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8"/>
          <p:cNvSpPr/>
          <p:nvPr/>
        </p:nvSpPr>
        <p:spPr>
          <a:xfrm>
            <a:off x="3276720" y="3352680"/>
            <a:ext cx="5329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进程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在进程列表查看员工当前正在运行的进程，并可以结束选中的进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9"/>
          <p:cNvSpPr/>
          <p:nvPr/>
        </p:nvSpPr>
        <p:spPr>
          <a:xfrm>
            <a:off x="3276720" y="4572000"/>
            <a:ext cx="5235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系统命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远程对员工端进行关机、重启、注销等操作；向选中员工端发送广播消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-2147482609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84840" cy="399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实时报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4343400" y="609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全力保护企业利益：对员工的敏感操作实时报警、防泄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2286000" y="5791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插入</a:t>
            </a:r>
            <a:r>
              <a:rPr b="1" lang="en-US" sz="1400" spc="-1" strike="noStrike">
                <a:solidFill>
                  <a:srgbClr val="7f7f7f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盘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3809880" y="579132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拷贝带走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81480" y="5791320"/>
            <a:ext cx="20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变动自动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5"/>
          <p:cNvSpPr/>
          <p:nvPr/>
        </p:nvSpPr>
        <p:spPr>
          <a:xfrm>
            <a:off x="6858000" y="579132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自定义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右弧形箭头 17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7:22:00Z</dcterms:created>
  <dc:creator/>
  <dc:description/>
  <dc:language>en-US</dc:language>
  <cp:lastModifiedBy>hopo</cp:lastModifiedBy>
  <dcterms:modified xsi:type="dcterms:W3CDTF">2016-06-21T10:19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