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06B-482F-4ACD-A187-011806C7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F6F-2EF4-484D-9C2D-8F2C2D9B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049-AA69-4CDD-A8CE-6D32A6D1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AD3-8AB9-41C0-B122-DEE29675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B6C-24E2-4323-BED6-50A7AA9D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B8F-16D2-4C78-A15D-AA1CE10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DD0-B232-4814-9BB8-7730FB1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434-2992-4169-BBC8-CC8470EC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CC9-5C03-4A92-BF1F-BBB1B98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512-CCFC-4795-BB4D-EC67485D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FEC-2021-4E52-871F-7A24DFDE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1DA-5600-41B3-9340-F55087D1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E2CE-1BBF-4637-886F-A1AAA63C2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684360" y="321948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714240"/>
            <a:ext cx="3821040" cy="3483360"/>
            <a:chOff x="4251240" y="714240"/>
            <a:chExt cx="3821040" cy="3483360"/>
          </a:xfrm>
        </p:grpSpPr>
        <p:sp>
          <p:nvSpPr>
            <p:cNvPr id="203" name="TextBox 11"/>
            <p:cNvSpPr/>
            <p:nvPr/>
          </p:nvSpPr>
          <p:spPr>
            <a:xfrm>
              <a:off x="4251240" y="1557720"/>
              <a:ext cx="171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4" name="TextBox 25"/>
            <p:cNvSpPr/>
            <p:nvPr/>
          </p:nvSpPr>
          <p:spPr>
            <a:xfrm>
              <a:off x="6360840" y="71424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6"/>
            <p:cNvSpPr/>
            <p:nvPr/>
          </p:nvSpPr>
          <p:spPr>
            <a:xfrm>
              <a:off x="4251240" y="389052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7"/>
            <p:cNvSpPr/>
            <p:nvPr/>
          </p:nvSpPr>
          <p:spPr>
            <a:xfrm>
              <a:off x="6073920" y="352404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7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张小龙</cp:lastModifiedBy>
  <cp:lastPrinted>1899-12-30T00:00:00Z</cp:lastPrinted>
  <dcterms:modified xsi:type="dcterms:W3CDTF">2013-06-14T09:44:35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