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337-5F23-4269-9BD6-17DB4DAD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427-A331-47FB-A93A-C203DECA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F4A-7341-486A-8CA2-D4E33F92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E29-032A-4DAF-8DB8-A43F3489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ABA-B89C-4429-A1D0-BD995BD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7E2-12B6-485E-9C46-5CBAB57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C6D-7099-4040-9F06-16F63D3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E5C-4D1A-4861-830C-77C14910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CDC-F8BB-42C2-A968-E2B0FE8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D84-4C66-4B2D-88EB-85B97CD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02A-299B-4DD1-BE07-1E8FEEE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9BF-3C9E-4D26-8F8B-3F5C35C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28626" t="11327" r="5037" b="37650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78DB-CDC4-4A15-8505-B8891FF3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28622" t="11339" r="5039" b="37638"/>
          <a:stretch/>
        </p:blipFill>
        <p:spPr>
          <a:xfrm>
            <a:off x="4572000" y="-160200"/>
            <a:ext cx="11160" cy="6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50" name="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6" name="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1" name="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2" name="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6" name="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1" name="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2" name="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rcRect l="35714" t="20401" r="41037" b="25175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à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3" name="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22"/>
            <p:cNvSpPr/>
            <p:nvPr/>
          </p:nvSpPr>
          <p:spPr>
            <a:xfrm>
              <a:off x="6225840" y="2242080"/>
              <a:ext cx="216072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9" name="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20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2"/>
            <p:cNvSpPr/>
            <p:nvPr/>
          </p:nvSpPr>
          <p:spPr>
            <a:xfrm>
              <a:off x="363996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9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22"/>
            <p:cNvSpPr/>
            <p:nvPr/>
          </p:nvSpPr>
          <p:spPr>
            <a:xfrm>
              <a:off x="104760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1" name="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/>
  <dc:description/>
  <dc:language>en-US</dc:language>
  <cp:lastModifiedBy>王茹薇</cp:lastModifiedBy>
  <cp:lastPrinted>1899-12-30T00:00:00Z</cp:lastPrinted>
  <dcterms:modified xsi:type="dcterms:W3CDTF">2011-08-06T04:03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