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FD9-F4DF-44E2-BDFD-2D2BD09B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1B6-B3B9-4BFD-876A-EBACABE6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C04-3A49-4723-9448-5629340F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DD8-5B3F-4A5D-85E5-CE78F83B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D1F-1994-4BCD-9E34-3422FA1C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469-2638-43DE-A4B0-CFFC88BA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2CA-D7D5-4F79-B8D2-50E7FE27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248-6C4C-440F-874F-3B277919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0BA-29B2-45A2-97F6-5494CDA3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13A-4380-4D7C-8281-FF0AC353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34F-55AE-4799-A1EB-3D690155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02A-86C8-4FD9-9CD4-D5AB0D58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0961-6B81-4BFE-9D35-5B59EC3AE07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3DEF-BCEC-47F5-8A1E-4D21A33BB8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rcRect l="0" t="2575" r="0" b="1451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1"/>
          <p:cNvSpPr/>
          <p:nvPr/>
        </p:nvSpPr>
        <p:spPr>
          <a:xfrm>
            <a:off x="7981920" y="483552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2914"/>
                </a:solidFill>
                <a:latin typeface="微软雅黑"/>
                <a:ea typeface="微软雅黑"/>
              </a:rPr>
              <a:t>zzplovezz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rcRect l="0" t="7879" r="0" b="863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0" y="950760"/>
            <a:ext cx="9144000" cy="1800360"/>
          </a:xfrm>
          <a:prstGeom prst="rect">
            <a:avLst/>
          </a:prstGeom>
          <a:solidFill>
            <a:srgbClr val="e8e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rcRect l="0" t="22221" r="-86" b="51462"/>
          <a:stretch/>
        </p:blipFill>
        <p:spPr>
          <a:xfrm>
            <a:off x="0" y="1041480"/>
            <a:ext cx="9144000" cy="162072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0" y="1103400"/>
            <a:ext cx="9144000" cy="1493640"/>
          </a:xfrm>
          <a:prstGeom prst="rect">
            <a:avLst/>
          </a:prstGeom>
          <a:solidFill>
            <a:srgbClr val="b3612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14018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a2914"/>
                </a:solidFill>
                <a:latin typeface="微软雅黑"/>
                <a:ea typeface="微软雅黑"/>
              </a:rPr>
              <a:t>单击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0" y="2738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a2914"/>
                </a:solidFill>
                <a:latin typeface="微软雅黑"/>
                <a:ea typeface="微软雅黑"/>
              </a:rPr>
              <a:t>添加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28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28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"/>
          <p:cNvGrpSpPr/>
          <p:nvPr/>
        </p:nvGrpSpPr>
        <p:grpSpPr>
          <a:xfrm>
            <a:off x="431640" y="1987560"/>
            <a:ext cx="8280720" cy="847440"/>
            <a:chOff x="431640" y="1987560"/>
            <a:chExt cx="8280720" cy="847440"/>
          </a:xfrm>
        </p:grpSpPr>
        <p:grpSp>
          <p:nvGrpSpPr>
            <p:cNvPr id="293" name=""/>
            <p:cNvGrpSpPr/>
            <p:nvPr/>
          </p:nvGrpSpPr>
          <p:grpSpPr>
            <a:xfrm>
              <a:off x="431640" y="1987560"/>
              <a:ext cx="8280720" cy="847440"/>
              <a:chOff x="431640" y="1987560"/>
              <a:chExt cx="8280720" cy="847440"/>
            </a:xfrm>
          </p:grpSpPr>
          <p:sp>
            <p:nvSpPr>
              <p:cNvPr id="294" name="矩形 7"/>
              <p:cNvSpPr/>
              <p:nvPr/>
            </p:nvSpPr>
            <p:spPr>
              <a:xfrm>
                <a:off x="431640" y="19875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Box 8"/>
              <p:cNvSpPr/>
              <p:nvPr/>
            </p:nvSpPr>
            <p:spPr>
              <a:xfrm>
                <a:off x="1331640" y="20692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Box 9"/>
              <p:cNvSpPr/>
              <p:nvPr/>
            </p:nvSpPr>
            <p:spPr>
              <a:xfrm>
                <a:off x="635760" y="20098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同心圆 10"/>
              <p:cNvSpPr/>
              <p:nvPr/>
            </p:nvSpPr>
            <p:spPr>
              <a:xfrm>
                <a:off x="511920" y="198756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15560" y="203148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0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0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0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0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0" dur="75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5" dur="75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60" dur="75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314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317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318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324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325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31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32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38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39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45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47" name="圆角矩形 66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圆角矩形 67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圆角矩形 68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圆角矩形 69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圆角矩形 70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圆角矩形 71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圆角矩形 72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圆角矩形 73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78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Box 79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Box 80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1.23457E-006 L -0.00086 -0.50802 E">
                                      <p:cBhvr>
                                        <p:cTn id="178" dur="25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87" dur="75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63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65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381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382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6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88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90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06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07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1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49722 L -0.00208 0.02253 E">
                                      <p:cBhvr>
                                        <p:cTn id="193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15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16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0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1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22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23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7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431640" y="2932200"/>
            <a:ext cx="8280720" cy="847440"/>
            <a:chOff x="431640" y="2932200"/>
            <a:chExt cx="8280720" cy="847440"/>
          </a:xfrm>
        </p:grpSpPr>
        <p:grpSp>
          <p:nvGrpSpPr>
            <p:cNvPr id="429" name=""/>
            <p:cNvGrpSpPr/>
            <p:nvPr/>
          </p:nvGrpSpPr>
          <p:grpSpPr>
            <a:xfrm>
              <a:off x="431640" y="2932200"/>
              <a:ext cx="8280720" cy="847440"/>
              <a:chOff x="431640" y="2932200"/>
              <a:chExt cx="8280720" cy="847440"/>
            </a:xfrm>
          </p:grpSpPr>
          <p:sp>
            <p:nvSpPr>
              <p:cNvPr id="430" name="矩形 12"/>
              <p:cNvSpPr/>
              <p:nvPr/>
            </p:nvSpPr>
            <p:spPr>
              <a:xfrm>
                <a:off x="431640" y="2932200"/>
                <a:ext cx="828072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Box 13"/>
              <p:cNvSpPr/>
              <p:nvPr/>
            </p:nvSpPr>
            <p:spPr>
              <a:xfrm>
                <a:off x="1331640" y="301392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Box 14"/>
              <p:cNvSpPr/>
              <p:nvPr/>
            </p:nvSpPr>
            <p:spPr>
              <a:xfrm>
                <a:off x="592200" y="29545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同心圆 15"/>
              <p:cNvSpPr/>
              <p:nvPr/>
            </p:nvSpPr>
            <p:spPr>
              <a:xfrm>
                <a:off x="511920" y="2932200"/>
                <a:ext cx="81936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4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15560" y="2980800"/>
              <a:ext cx="495036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36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37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4" dur="75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9" dur="75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4" dur="75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443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4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4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53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5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46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46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6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6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74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65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图片 66" descr=""/>
            <p:cNvPicPr/>
            <p:nvPr/>
          </p:nvPicPr>
          <p:blipFill>
            <a:blip r:embed="rId9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4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3.7037E-007 L -0.00017 -0.69167 E">
                                      <p:cBhvr>
                                        <p:cTn id="238" dur="25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4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4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251" dur="75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78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图片 3" descr=""/>
            <p:cNvPicPr/>
            <p:nvPr/>
          </p:nvPicPr>
          <p:blipFill>
            <a:blip r:embed="rId1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81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82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83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7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89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图片 3" descr=""/>
            <p:cNvPicPr/>
            <p:nvPr/>
          </p:nvPicPr>
          <p:blipFill>
            <a:blip r:embed="rId1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92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93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94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8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68438 L -0.00278 0.01946 E">
                                      <p:cBhvr>
                                        <p:cTn id="257" dur="75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2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02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03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7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8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509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510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4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516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517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1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2" name=""/>
          <p:cNvGrpSpPr/>
          <p:nvPr/>
        </p:nvGrpSpPr>
        <p:grpSpPr>
          <a:xfrm>
            <a:off x="431640" y="3921120"/>
            <a:ext cx="8280720" cy="847440"/>
            <a:chOff x="431640" y="3921120"/>
            <a:chExt cx="8280720" cy="847440"/>
          </a:xfrm>
        </p:grpSpPr>
        <p:grpSp>
          <p:nvGrpSpPr>
            <p:cNvPr id="523" name=""/>
            <p:cNvGrpSpPr/>
            <p:nvPr/>
          </p:nvGrpSpPr>
          <p:grpSpPr>
            <a:xfrm>
              <a:off x="431640" y="3921120"/>
              <a:ext cx="8280720" cy="847440"/>
              <a:chOff x="431640" y="3921120"/>
              <a:chExt cx="8280720" cy="847440"/>
            </a:xfrm>
          </p:grpSpPr>
          <p:sp>
            <p:nvSpPr>
              <p:cNvPr id="524" name="矩形 17"/>
              <p:cNvSpPr/>
              <p:nvPr/>
            </p:nvSpPr>
            <p:spPr>
              <a:xfrm>
                <a:off x="431640" y="392112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Box 18"/>
              <p:cNvSpPr/>
              <p:nvPr/>
            </p:nvSpPr>
            <p:spPr>
              <a:xfrm>
                <a:off x="1331640" y="400284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Box 19"/>
              <p:cNvSpPr/>
              <p:nvPr/>
            </p:nvSpPr>
            <p:spPr>
              <a:xfrm>
                <a:off x="621360" y="394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同心圆 20"/>
              <p:cNvSpPr/>
              <p:nvPr/>
            </p:nvSpPr>
            <p:spPr>
              <a:xfrm>
                <a:off x="511920" y="392112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15560" y="396972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8" dur="75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3" dur="75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5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8" dur="75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5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6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62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63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69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70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76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77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7" dur="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" dur="75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" dur="75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32" dur="75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83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8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8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93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9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0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0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0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0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14" name="矩形 40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4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4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0.01111 L -4.72222E-006 -0.13488 E">
                                      <p:cBhvr>
                                        <p:cTn id="54" dur="25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59" dur="75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17" name="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18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24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27" name="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28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34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12716 L -0.0007 0.01111 E">
                                      <p:cBhvr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31640" y="1041480"/>
            <a:ext cx="8280720" cy="826920"/>
            <a:chOff x="431640" y="1041480"/>
            <a:chExt cx="8280720" cy="826920"/>
          </a:xfrm>
        </p:grpSpPr>
        <p:grpSp>
          <p:nvGrpSpPr>
            <p:cNvPr id="139" name=""/>
            <p:cNvGrpSpPr/>
            <p:nvPr/>
          </p:nvGrpSpPr>
          <p:grpSpPr>
            <a:xfrm>
              <a:off x="431640" y="1041480"/>
              <a:ext cx="8280720" cy="826920"/>
              <a:chOff x="431640" y="1041480"/>
              <a:chExt cx="8280720" cy="826920"/>
            </a:xfrm>
          </p:grpSpPr>
          <p:sp>
            <p:nvSpPr>
              <p:cNvPr id="140" name="矩形 2"/>
              <p:cNvSpPr/>
              <p:nvPr/>
            </p:nvSpPr>
            <p:spPr>
              <a:xfrm>
                <a:off x="431640" y="10479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3"/>
              <p:cNvSpPr/>
              <p:nvPr/>
            </p:nvSpPr>
            <p:spPr>
              <a:xfrm>
                <a:off x="1331640" y="11296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4"/>
              <p:cNvSpPr/>
              <p:nvPr/>
            </p:nvSpPr>
            <p:spPr>
              <a:xfrm>
                <a:off x="606600" y="10414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同心圆 5"/>
              <p:cNvSpPr/>
              <p:nvPr/>
            </p:nvSpPr>
            <p:spPr>
              <a:xfrm>
                <a:off x="511920" y="104796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15560" y="108396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46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47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53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54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60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61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5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86" dur="75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1" dur="75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6" dur="7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167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170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171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5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77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78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84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85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9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91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92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6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98" name="矩形 37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00" name="直接连接符 42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43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矩形 44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45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46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47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48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49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50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9" name="直接箭头连接符 51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10" name="直接箭头连接符 52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11" name="TextBox 53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Box 54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55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56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57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58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59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60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61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62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4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4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3.7037E-007 L -4.72222E-006 -0.32037 E">
                                      <p:cBhvr>
                                        <p:cTn id="114" dur="25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19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22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24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3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34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35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46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47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1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53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55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4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65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66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77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78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2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3108 L -0.00139 0.01975 E">
                                      <p:cBhvr>
                                        <p:cTn id="129" dur="5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08:31:00Z</dcterms:created>
  <dc:creator>微软中国</dc:creator>
  <dc:description/>
  <dc:language>en-US</dc:language>
  <cp:lastModifiedBy>微软中国</cp:lastModifiedBy>
  <cp:lastPrinted>1899-12-30T00:00:00Z</cp:lastPrinted>
  <dcterms:modified xsi:type="dcterms:W3CDTF">2012-06-10T11:17:00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