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916-2DB0-4997-A452-2EECF2E3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CAD-B1F8-449A-856A-5EDEFDFE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951-832F-4F24-A15B-42FF4CA7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D89-13D0-4EF9-A654-5AFDBE62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E93C-CBD1-44FC-AED5-570A959D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ABCD-0E08-4401-AA68-BEEDF216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016E-6557-413C-8D6C-A4F8BEB9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BBFC-89CE-4DE3-88D2-3488CAF9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C2AE-E2FF-4987-ABCA-5A2AE37B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F048-7A0D-409A-85CD-92C0D161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9FCE-54CF-450C-82DA-FB365348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10B-DC17-425E-9F3E-D967C093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0046-519B-42E6-A028-EC22DFE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9D08-2A6E-490D-A99B-C38BBC87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57E4-E7E3-4335-9943-7D3954CE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7312-D1B9-4B03-9097-14A1D1C6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2A0C-810B-44B0-9AF6-6548D290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5E5-C6B6-4D39-A391-AE675EC0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ED0-AE46-4B5F-9AD6-FCFFE143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594-B7A9-4F51-8239-A50D2622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2C8-157F-4C85-A118-00D7EF28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FF6-2413-43E7-8A37-EAF133B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F9E-6DE4-4C69-89CF-587DC7B4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B92-73B2-45A7-BCBE-84F0232B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D8BA-F3FE-4CC2-AA91-A35E11132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F0B4-0A72-4963-9082-BBC4E8787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342880"/>
            <a:ext cx="723888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中国风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5736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微软中国</cp:lastModifiedBy>
  <dcterms:modified xsi:type="dcterms:W3CDTF">2010-10-15T16:50:08Z</dcterms:modified>
  <cp:revision>13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