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B43-499B-4F03-87E4-F4BC7FF2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D7E-0CBB-4899-9A33-A21C67B8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E09-287B-4409-AC0D-21849F9D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32F-C25E-482E-AB05-3F6B6B6D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0FB-A76C-4FF3-AF5A-8250011F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380-A757-43DD-AD84-759B17B1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2E6-A900-465C-B8EB-1442AB62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CF5-1733-4B67-BA2A-9B0E3AA8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C5E-D21B-49AE-83FC-453977F3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E40-56A6-4486-9765-A8AB98C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8D2-3CE0-4B27-9A92-9FED6C7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22B-C658-416C-93A6-8C2DEDC5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156280"/>
            <a:chOff x="0" y="0"/>
            <a:chExt cx="9144000" cy="5156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7150" t="4425" r="10973" b="3226"/>
            <a:stretch/>
          </p:blipFill>
          <p:spPr>
            <a:xfrm>
              <a:off x="0" y="0"/>
              <a:ext cx="9144000" cy="51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28626" t="11327" r="5037" b="37650"/>
            <a:stretch/>
          </p:blipFill>
          <p:spPr>
            <a:xfrm>
              <a:off x="8220240" y="4789440"/>
              <a:ext cx="9237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179B-120A-46E9-872C-C900AF2F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28622" t="11339" r="5039" b="37638"/>
          <a:stretch/>
        </p:blipFill>
        <p:spPr>
          <a:xfrm>
            <a:off x="4572000" y="-160200"/>
            <a:ext cx="11160" cy="6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06240" y="2773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148360" y="2917800"/>
            <a:ext cx="287280" cy="287280"/>
            <a:chOff x="5148360" y="2917800"/>
            <a:chExt cx="287280" cy="287280"/>
          </a:xfrm>
        </p:grpSpPr>
        <p:sp>
          <p:nvSpPr>
            <p:cNvPr id="50" name=""/>
            <p:cNvSpPr/>
            <p:nvPr/>
          </p:nvSpPr>
          <p:spPr>
            <a:xfrm>
              <a:off x="5148360" y="291780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91280" y="306072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472360" y="313380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35000" y="1349280"/>
            <a:ext cx="5373720" cy="504720"/>
            <a:chOff x="1935000" y="1349280"/>
            <a:chExt cx="5373720" cy="504720"/>
          </a:xfrm>
        </p:grpSpPr>
        <p:grpSp>
          <p:nvGrpSpPr>
            <p:cNvPr id="56" name=""/>
            <p:cNvGrpSpPr/>
            <p:nvPr/>
          </p:nvGrpSpPr>
          <p:grpSpPr>
            <a:xfrm>
              <a:off x="1935000" y="1349280"/>
              <a:ext cx="5373720" cy="504720"/>
              <a:chOff x="1935000" y="1349280"/>
              <a:chExt cx="5373720" cy="504720"/>
            </a:xfrm>
          </p:grpSpPr>
          <p:sp>
            <p:nvSpPr>
              <p:cNvPr id="57" name=""/>
              <p:cNvSpPr/>
              <p:nvPr/>
            </p:nvSpPr>
            <p:spPr>
              <a:xfrm>
                <a:off x="193500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6668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268360" y="14144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935000" y="2139840"/>
            <a:ext cx="5373720" cy="504720"/>
            <a:chOff x="1935000" y="2139840"/>
            <a:chExt cx="5373720" cy="504720"/>
          </a:xfrm>
        </p:grpSpPr>
        <p:grpSp>
          <p:nvGrpSpPr>
            <p:cNvPr id="61" name=""/>
            <p:cNvGrpSpPr/>
            <p:nvPr/>
          </p:nvGrpSpPr>
          <p:grpSpPr>
            <a:xfrm>
              <a:off x="1935000" y="2139840"/>
              <a:ext cx="5373720" cy="504720"/>
              <a:chOff x="1935000" y="2139840"/>
              <a:chExt cx="5373720" cy="504720"/>
            </a:xfrm>
          </p:grpSpPr>
          <p:sp>
            <p:nvSpPr>
              <p:cNvPr id="62" name=""/>
              <p:cNvSpPr/>
              <p:nvPr/>
            </p:nvSpPr>
            <p:spPr>
              <a:xfrm>
                <a:off x="1935000" y="213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66680" y="217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2247840" y="22352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35000" y="2932200"/>
            <a:ext cx="5373720" cy="504720"/>
            <a:chOff x="1935000" y="2932200"/>
            <a:chExt cx="5373720" cy="504720"/>
          </a:xfrm>
        </p:grpSpPr>
        <p:grpSp>
          <p:nvGrpSpPr>
            <p:cNvPr id="66" name=""/>
            <p:cNvGrpSpPr/>
            <p:nvPr/>
          </p:nvGrpSpPr>
          <p:grpSpPr>
            <a:xfrm>
              <a:off x="1935000" y="2932200"/>
              <a:ext cx="5373720" cy="504720"/>
              <a:chOff x="1935000" y="2932200"/>
              <a:chExt cx="5373720" cy="504720"/>
            </a:xfrm>
          </p:grpSpPr>
          <p:sp>
            <p:nvSpPr>
              <p:cNvPr id="67" name=""/>
              <p:cNvSpPr/>
              <p:nvPr/>
            </p:nvSpPr>
            <p:spPr>
              <a:xfrm>
                <a:off x="1935000" y="2932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66680" y="2963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259000" y="3005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935000" y="3724200"/>
            <a:ext cx="5373720" cy="504720"/>
            <a:chOff x="1935000" y="3724200"/>
            <a:chExt cx="5373720" cy="504720"/>
          </a:xfrm>
        </p:grpSpPr>
        <p:grpSp>
          <p:nvGrpSpPr>
            <p:cNvPr id="71" name=""/>
            <p:cNvGrpSpPr/>
            <p:nvPr/>
          </p:nvGrpSpPr>
          <p:grpSpPr>
            <a:xfrm>
              <a:off x="1935000" y="3724200"/>
              <a:ext cx="5373720" cy="504720"/>
              <a:chOff x="1935000" y="3724200"/>
              <a:chExt cx="5373720" cy="504720"/>
            </a:xfrm>
          </p:grpSpPr>
          <p:sp>
            <p:nvSpPr>
              <p:cNvPr id="72" name=""/>
              <p:cNvSpPr/>
              <p:nvPr/>
            </p:nvSpPr>
            <p:spPr>
              <a:xfrm>
                <a:off x="1935000" y="3724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66680" y="3755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259000" y="3797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rcRect l="35714" t="20401" r="41037" b="25175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汉语拼音】：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àn qiā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4560" y="1563840"/>
            <a:ext cx="2303640" cy="750240"/>
            <a:chOff x="6154560" y="1563840"/>
            <a:chExt cx="2303640" cy="750240"/>
          </a:xfrm>
        </p:grpSpPr>
        <p:grpSp>
          <p:nvGrpSpPr>
            <p:cNvPr id="113" name=""/>
            <p:cNvGrpSpPr/>
            <p:nvPr/>
          </p:nvGrpSpPr>
          <p:grpSpPr>
            <a:xfrm>
              <a:off x="6154560" y="1563840"/>
              <a:ext cx="2303640" cy="696600"/>
              <a:chOff x="6154560" y="1563840"/>
              <a:chExt cx="2303640" cy="696600"/>
            </a:xfrm>
          </p:grpSpPr>
          <p:sp>
            <p:nvSpPr>
              <p:cNvPr id="114" name="AutoShape 3"/>
              <p:cNvSpPr/>
              <p:nvPr/>
            </p:nvSpPr>
            <p:spPr>
              <a:xfrm>
                <a:off x="6154560" y="1563840"/>
                <a:ext cx="2303640" cy="69660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"/>
              <p:cNvSpPr/>
              <p:nvPr/>
            </p:nvSpPr>
            <p:spPr>
              <a:xfrm>
                <a:off x="6154560" y="1650960"/>
                <a:ext cx="230364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22"/>
            <p:cNvSpPr/>
            <p:nvPr/>
          </p:nvSpPr>
          <p:spPr>
            <a:xfrm>
              <a:off x="6225840" y="2242080"/>
              <a:ext cx="216072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9" name=""/>
            <p:cNvGrpSpPr/>
            <p:nvPr/>
          </p:nvGrpSpPr>
          <p:grpSpPr>
            <a:xfrm>
              <a:off x="3564000" y="1592280"/>
              <a:ext cx="2303280" cy="697320"/>
              <a:chOff x="3564000" y="1592280"/>
              <a:chExt cx="2303280" cy="697320"/>
            </a:xfrm>
          </p:grpSpPr>
          <p:sp>
            <p:nvSpPr>
              <p:cNvPr id="120" name="AutoShape 3"/>
              <p:cNvSpPr/>
              <p:nvPr/>
            </p:nvSpPr>
            <p:spPr>
              <a:xfrm>
                <a:off x="356400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3"/>
              <p:cNvSpPr/>
              <p:nvPr/>
            </p:nvSpPr>
            <p:spPr>
              <a:xfrm>
                <a:off x="356400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229"/>
            <p:cNvSpPr/>
            <p:nvPr/>
          </p:nvSpPr>
          <p:spPr>
            <a:xfrm>
              <a:off x="430236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22"/>
            <p:cNvSpPr/>
            <p:nvPr/>
          </p:nvSpPr>
          <p:spPr>
            <a:xfrm>
              <a:off x="363996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1592280"/>
              <a:ext cx="2303280" cy="697320"/>
              <a:chOff x="971640" y="1592280"/>
              <a:chExt cx="2303280" cy="697320"/>
            </a:xfrm>
          </p:grpSpPr>
          <p:sp>
            <p:nvSpPr>
              <p:cNvPr id="129" name="AutoShape 3"/>
              <p:cNvSpPr/>
              <p:nvPr/>
            </p:nvSpPr>
            <p:spPr>
              <a:xfrm>
                <a:off x="97164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3"/>
              <p:cNvSpPr/>
              <p:nvPr/>
            </p:nvSpPr>
            <p:spPr>
              <a:xfrm>
                <a:off x="97164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229"/>
            <p:cNvSpPr/>
            <p:nvPr/>
          </p:nvSpPr>
          <p:spPr>
            <a:xfrm>
              <a:off x="171000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22"/>
            <p:cNvSpPr/>
            <p:nvPr/>
          </p:nvSpPr>
          <p:spPr>
            <a:xfrm>
              <a:off x="104760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41" name="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/>
  <dc:description/>
  <dc:language>en-US</dc:language>
  <cp:lastModifiedBy>王茹薇</cp:lastModifiedBy>
  <cp:lastPrinted>1899-12-30T00:00:00Z</cp:lastPrinted>
  <dcterms:modified xsi:type="dcterms:W3CDTF">2011-08-06T04:03:0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