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0758-AFEF-48A9-BF0C-A7EA02545E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1F4DE-DC2E-486A-93A0-EEFDE032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14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A16F-FA68-4CE3-BE01-438F9E74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96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472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96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472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36EE-A260-48B4-85F5-38752EAE2D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E3FC1-0338-4A34-BD7B-CA9F4F54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5496B-F3AB-43F4-A0AB-CBEAFE57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71071-5ECE-43B8-B862-FBC335E1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E7A2-0205-4B47-A442-D0FFF573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8768-FA26-4518-B95F-B08EDA47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1EE8-28AD-4AB6-A3D7-F0438D3C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14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156B-560F-4715-ADAA-757A17D8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2EFB-638F-4AEB-8B6A-FAD8A5BD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9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8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5F65-C324-4C5E-BED8-324701E9839A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75"/>
          <p:cNvSpPr/>
          <p:nvPr/>
        </p:nvSpPr>
        <p:spPr>
          <a:xfrm>
            <a:off x="6858000" y="0"/>
            <a:ext cx="2286000" cy="10825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6"/>
          <p:cNvSpPr/>
          <p:nvPr/>
        </p:nvSpPr>
        <p:spPr>
          <a:xfrm>
            <a:off x="-22320" y="914400"/>
            <a:ext cx="9140760" cy="184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77"/>
          <p:cNvSpPr/>
          <p:nvPr/>
        </p:nvSpPr>
        <p:spPr>
          <a:xfrm>
            <a:off x="6616800" y="914400"/>
            <a:ext cx="2527200" cy="2286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8"/>
          <p:cNvSpPr/>
          <p:nvPr/>
        </p:nvSpPr>
        <p:spPr>
          <a:xfrm>
            <a:off x="0" y="1066680"/>
            <a:ext cx="9144000" cy="1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7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4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Freeform 113"/>
          <p:cNvSpPr/>
          <p:nvPr/>
        </p:nvSpPr>
        <p:spPr>
          <a:xfrm>
            <a:off x="6477120" y="0"/>
            <a:ext cx="2666880" cy="327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9"/>
          <p:cNvSpPr/>
          <p:nvPr/>
        </p:nvSpPr>
        <p:spPr>
          <a:xfrm>
            <a:off x="0" y="3271680"/>
            <a:ext cx="6629400" cy="471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Freeform 110"/>
          <p:cNvSpPr/>
          <p:nvPr/>
        </p:nvSpPr>
        <p:spPr>
          <a:xfrm>
            <a:off x="6111720" y="3255840"/>
            <a:ext cx="3032280" cy="487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综艺简体"/>
              </a:rPr>
              <a:t>我的原创模版系列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333648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</a:rPr>
              <a:t>在此添加公司名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4"/>
          <a:srcRect l="26312" t="0" r="29931" b="41720"/>
          <a:stretch/>
        </p:blipFill>
        <p:spPr>
          <a:xfrm>
            <a:off x="8124840" y="1916280"/>
            <a:ext cx="387360" cy="360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7850160" y="23335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微软雅黑"/>
              </a:rPr>
              <a:t>LO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602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综艺简体"/>
              </a:rPr>
              <a:t>目录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76400" y="2205000"/>
            <a:ext cx="4071960" cy="544680"/>
            <a:chOff x="2876400" y="2205000"/>
            <a:chExt cx="4071960" cy="544680"/>
          </a:xfrm>
        </p:grpSpPr>
        <p:sp>
          <p:nvSpPr>
            <p:cNvPr id="56" name="矩形 2"/>
            <p:cNvSpPr/>
            <p:nvPr/>
          </p:nvSpPr>
          <p:spPr>
            <a:xfrm>
              <a:off x="2987640" y="2205000"/>
              <a:ext cx="3960720" cy="54468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矩形 1"/>
            <p:cNvSpPr/>
            <p:nvPr/>
          </p:nvSpPr>
          <p:spPr>
            <a:xfrm>
              <a:off x="2876400" y="2205000"/>
              <a:ext cx="545040" cy="544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TextBox 4"/>
          <p:cNvSpPr/>
          <p:nvPr/>
        </p:nvSpPr>
        <p:spPr>
          <a:xfrm>
            <a:off x="3780000" y="22924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76400" y="3129120"/>
            <a:ext cx="4071960" cy="544320"/>
            <a:chOff x="2876400" y="3129120"/>
            <a:chExt cx="4071960" cy="544320"/>
          </a:xfrm>
        </p:grpSpPr>
        <p:sp>
          <p:nvSpPr>
            <p:cNvPr id="60" name="矩形 14"/>
            <p:cNvSpPr/>
            <p:nvPr/>
          </p:nvSpPr>
          <p:spPr>
            <a:xfrm>
              <a:off x="2987640" y="3129120"/>
              <a:ext cx="3960720" cy="5443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矩形 15"/>
            <p:cNvSpPr/>
            <p:nvPr/>
          </p:nvSpPr>
          <p:spPr>
            <a:xfrm>
              <a:off x="2876400" y="3129120"/>
              <a:ext cx="545040" cy="544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876400" y="4064040"/>
            <a:ext cx="4071960" cy="546120"/>
            <a:chOff x="2876400" y="4064040"/>
            <a:chExt cx="4071960" cy="546120"/>
          </a:xfrm>
        </p:grpSpPr>
        <p:sp>
          <p:nvSpPr>
            <p:cNvPr id="63" name="矩形 17"/>
            <p:cNvSpPr/>
            <p:nvPr/>
          </p:nvSpPr>
          <p:spPr>
            <a:xfrm>
              <a:off x="2987640" y="4064040"/>
              <a:ext cx="3960720" cy="5461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矩形 18"/>
            <p:cNvSpPr/>
            <p:nvPr/>
          </p:nvSpPr>
          <p:spPr>
            <a:xfrm>
              <a:off x="2876400" y="4064040"/>
              <a:ext cx="545040" cy="546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76400" y="4929120"/>
            <a:ext cx="4071960" cy="544680"/>
            <a:chOff x="2876400" y="4929120"/>
            <a:chExt cx="4071960" cy="544680"/>
          </a:xfrm>
        </p:grpSpPr>
        <p:sp>
          <p:nvSpPr>
            <p:cNvPr id="66" name="矩形 20"/>
            <p:cNvSpPr/>
            <p:nvPr/>
          </p:nvSpPr>
          <p:spPr>
            <a:xfrm>
              <a:off x="2987640" y="4929120"/>
              <a:ext cx="3960720" cy="54468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矩形 21"/>
            <p:cNvSpPr/>
            <p:nvPr/>
          </p:nvSpPr>
          <p:spPr>
            <a:xfrm>
              <a:off x="2876400" y="4929120"/>
              <a:ext cx="545040" cy="544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TextBox 22"/>
          <p:cNvSpPr/>
          <p:nvPr/>
        </p:nvSpPr>
        <p:spPr>
          <a:xfrm>
            <a:off x="3780000" y="32162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3780000" y="41529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3780000" y="50166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4BE0A-730E-434F-B789-925AEAF3C6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602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过渡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700360" y="3645000"/>
            <a:ext cx="4071960" cy="546120"/>
            <a:chOff x="2700360" y="3645000"/>
            <a:chExt cx="4071960" cy="546120"/>
          </a:xfrm>
        </p:grpSpPr>
        <p:sp>
          <p:nvSpPr>
            <p:cNvPr id="73" name="矩形 3"/>
            <p:cNvSpPr/>
            <p:nvPr/>
          </p:nvSpPr>
          <p:spPr>
            <a:xfrm>
              <a:off x="2811600" y="3645000"/>
              <a:ext cx="3960720" cy="5461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矩形 4"/>
            <p:cNvSpPr/>
            <p:nvPr/>
          </p:nvSpPr>
          <p:spPr>
            <a:xfrm>
              <a:off x="2700360" y="3645000"/>
              <a:ext cx="545040" cy="546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TextBox 5"/>
          <p:cNvSpPr/>
          <p:nvPr/>
        </p:nvSpPr>
        <p:spPr>
          <a:xfrm>
            <a:off x="3603600" y="37339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一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6383160" y="3201840"/>
            <a:ext cx="1621080" cy="2738520"/>
          </a:xfrm>
          <a:custGeom>
            <a:avLst/>
            <a:gdLst>
              <a:gd name="textAreaLeft" fmla="*/ 17280 w 1621080"/>
              <a:gd name="textAreaRight" fmla="*/ 1603800 w 1621080"/>
              <a:gd name="textAreaTop" fmla="*/ 17280 h 2738520"/>
              <a:gd name="textAreaBottom" fmla="*/ 2721240 h 2738520"/>
            </a:gdLst>
            <a:ahLst/>
            <a:rect l="textAreaLeft" t="textAreaTop" r="textAreaRight" b="textAreaBottom"/>
            <a:pathLst>
              <a:path w="21600" h="36486">
                <a:moveTo>
                  <a:pt x="786" y="0"/>
                </a:moveTo>
                <a:arcTo wR="786" hR="786" stAng="16200000" swAng="-5400000"/>
                <a:lnTo>
                  <a:pt x="0" y="35700"/>
                </a:lnTo>
                <a:arcTo wR="786" hR="786" stAng="10800000" swAng="-5400000"/>
                <a:lnTo>
                  <a:pt x="20814" y="36486"/>
                </a:lnTo>
                <a:arcTo wR="786" hR="786" stAng="5400000" swAng="-5400000"/>
                <a:lnTo>
                  <a:pt x="21600" y="786"/>
                </a:lnTo>
                <a:arcTo wR="786" hR="786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87920" y="3201840"/>
            <a:ext cx="1611360" cy="2738520"/>
          </a:xfrm>
          <a:custGeom>
            <a:avLst/>
            <a:gdLst>
              <a:gd name="textAreaLeft" fmla="*/ 20880 w 1611360"/>
              <a:gd name="textAreaRight" fmla="*/ 1590480 w 1611360"/>
              <a:gd name="textAreaTop" fmla="*/ 20880 h 2738520"/>
              <a:gd name="textAreaBottom" fmla="*/ 2717640 h 2738520"/>
            </a:gdLst>
            <a:ahLst/>
            <a:rect l="textAreaLeft" t="textAreaTop" r="textAreaRight" b="textAreaBottom"/>
            <a:pathLst>
              <a:path w="21600" h="36706">
                <a:moveTo>
                  <a:pt x="956" y="0"/>
                </a:moveTo>
                <a:arcTo wR="956" hR="956" stAng="16200000" swAng="-5400000"/>
                <a:lnTo>
                  <a:pt x="0" y="35750"/>
                </a:lnTo>
                <a:arcTo wR="956" hR="956" stAng="10800000" swAng="-5400000"/>
                <a:lnTo>
                  <a:pt x="20644" y="36706"/>
                </a:lnTo>
                <a:arcTo wR="956" hR="956" stAng="5400000" swAng="-5400000"/>
                <a:lnTo>
                  <a:pt x="21600" y="956"/>
                </a:lnTo>
                <a:arcTo wR="956" hR="956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3005280" y="3201840"/>
            <a:ext cx="1563480" cy="2738520"/>
          </a:xfrm>
          <a:custGeom>
            <a:avLst/>
            <a:gdLst>
              <a:gd name="textAreaLeft" fmla="*/ 18720 w 1563480"/>
              <a:gd name="textAreaRight" fmla="*/ 1544760 w 1563480"/>
              <a:gd name="textAreaTop" fmla="*/ 18720 h 2738520"/>
              <a:gd name="textAreaBottom" fmla="*/ 2719800 h 2738520"/>
            </a:gdLst>
            <a:ahLst/>
            <a:rect l="textAreaLeft" t="textAreaTop" r="textAreaRight" b="textAreaBottom"/>
            <a:pathLst>
              <a:path w="21600" h="37830">
                <a:moveTo>
                  <a:pt x="895" y="0"/>
                </a:moveTo>
                <a:arcTo wR="895" hR="895" stAng="16200000" swAng="-5400000"/>
                <a:lnTo>
                  <a:pt x="0" y="36935"/>
                </a:lnTo>
                <a:arcTo wR="895" hR="895" stAng="10800000" swAng="-5400000"/>
                <a:lnTo>
                  <a:pt x="20705" y="37830"/>
                </a:lnTo>
                <a:arcTo wR="895" hR="895" stAng="5400000" swAng="-5400000"/>
                <a:lnTo>
                  <a:pt x="21600" y="895"/>
                </a:lnTo>
                <a:arcTo wR="895" hR="895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298520" y="3201840"/>
            <a:ext cx="1620720" cy="2738520"/>
          </a:xfrm>
          <a:custGeom>
            <a:avLst/>
            <a:gdLst>
              <a:gd name="textAreaLeft" fmla="*/ 9000 w 1620720"/>
              <a:gd name="textAreaRight" fmla="*/ 1611720 w 1620720"/>
              <a:gd name="textAreaTop" fmla="*/ 9000 h 2738520"/>
              <a:gd name="textAreaBottom" fmla="*/ 2729520 h 2738520"/>
            </a:gdLst>
            <a:ahLst/>
            <a:rect l="textAreaLeft" t="textAreaTop" r="textAreaRight" b="textAreaBottom"/>
            <a:pathLst>
              <a:path w="21600" h="36494">
                <a:moveTo>
                  <a:pt x="422" y="0"/>
                </a:moveTo>
                <a:arcTo wR="422" hR="422" stAng="16200000" swAng="-5400000"/>
                <a:lnTo>
                  <a:pt x="0" y="36072"/>
                </a:lnTo>
                <a:arcTo wR="422" hR="422" stAng="10800000" swAng="-5400000"/>
                <a:lnTo>
                  <a:pt x="21178" y="36494"/>
                </a:lnTo>
                <a:arcTo wR="422" hR="422" stAng="5400000" swAng="-5400000"/>
                <a:lnTo>
                  <a:pt x="21600" y="422"/>
                </a:lnTo>
                <a:arcTo wR="422" hR="422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59360" y="1631520"/>
            <a:ext cx="6215400" cy="1324800"/>
            <a:chOff x="1359360" y="1631520"/>
            <a:chExt cx="6215400" cy="1324800"/>
          </a:xfrm>
        </p:grpSpPr>
        <p:sp>
          <p:nvSpPr>
            <p:cNvPr id="82" name="Rectangle 8"/>
            <p:cNvSpPr/>
            <p:nvPr/>
          </p:nvSpPr>
          <p:spPr>
            <a:xfrm rot="3418800">
              <a:off x="1567080" y="183960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484360" y="2012760"/>
              <a:ext cx="899640" cy="124200"/>
              <a:chOff x="2484360" y="2012760"/>
              <a:chExt cx="899640" cy="124200"/>
            </a:xfrm>
          </p:grpSpPr>
          <p:sp>
            <p:nvSpPr>
              <p:cNvPr id="84" name="Oval 10"/>
              <p:cNvSpPr/>
              <p:nvPr/>
            </p:nvSpPr>
            <p:spPr>
              <a:xfrm>
                <a:off x="2484360" y="201276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11"/>
              <p:cNvSpPr/>
              <p:nvPr/>
            </p:nvSpPr>
            <p:spPr>
              <a:xfrm>
                <a:off x="2570400" y="201348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2"/>
              <p:cNvSpPr/>
              <p:nvPr/>
            </p:nvSpPr>
            <p:spPr>
              <a:xfrm>
                <a:off x="3247560" y="201456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13"/>
              <p:cNvSpPr/>
              <p:nvPr/>
            </p:nvSpPr>
            <p:spPr>
              <a:xfrm>
                <a:off x="3320280" y="205344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Rectangle 14"/>
            <p:cNvSpPr/>
            <p:nvPr/>
          </p:nvSpPr>
          <p:spPr>
            <a:xfrm rot="3418800">
              <a:off x="3231720" y="1777320"/>
              <a:ext cx="874080" cy="970920"/>
            </a:xfrm>
            <a:prstGeom prst="rect">
              <a:avLst/>
            </a:prstGeom>
            <a:solidFill>
              <a:srgbClr val="42a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149360" y="2012760"/>
              <a:ext cx="899640" cy="124200"/>
              <a:chOff x="4149360" y="2012760"/>
              <a:chExt cx="899640" cy="124200"/>
            </a:xfrm>
          </p:grpSpPr>
          <p:sp>
            <p:nvSpPr>
              <p:cNvPr id="90" name="Oval 16"/>
              <p:cNvSpPr/>
              <p:nvPr/>
            </p:nvSpPr>
            <p:spPr>
              <a:xfrm>
                <a:off x="4149360" y="201276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17"/>
              <p:cNvSpPr/>
              <p:nvPr/>
            </p:nvSpPr>
            <p:spPr>
              <a:xfrm>
                <a:off x="4235400" y="201348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18"/>
              <p:cNvSpPr/>
              <p:nvPr/>
            </p:nvSpPr>
            <p:spPr>
              <a:xfrm>
                <a:off x="4912560" y="201456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19"/>
              <p:cNvSpPr/>
              <p:nvPr/>
            </p:nvSpPr>
            <p:spPr>
              <a:xfrm>
                <a:off x="4985280" y="205344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Rectangle 20"/>
            <p:cNvSpPr/>
            <p:nvPr/>
          </p:nvSpPr>
          <p:spPr>
            <a:xfrm rot="3418800">
              <a:off x="4827600" y="177696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826600" y="2012760"/>
              <a:ext cx="1180080" cy="124200"/>
              <a:chOff x="5826600" y="2012760"/>
              <a:chExt cx="1180080" cy="124200"/>
            </a:xfrm>
          </p:grpSpPr>
          <p:sp>
            <p:nvSpPr>
              <p:cNvPr id="96" name="Oval 22"/>
              <p:cNvSpPr/>
              <p:nvPr/>
            </p:nvSpPr>
            <p:spPr>
              <a:xfrm>
                <a:off x="5826600" y="201276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23"/>
              <p:cNvSpPr/>
              <p:nvPr/>
            </p:nvSpPr>
            <p:spPr>
              <a:xfrm>
                <a:off x="5939640" y="2013480"/>
                <a:ext cx="9781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24"/>
              <p:cNvSpPr/>
              <p:nvPr/>
            </p:nvSpPr>
            <p:spPr>
              <a:xfrm>
                <a:off x="6827760" y="2014560"/>
                <a:ext cx="1789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25"/>
              <p:cNvSpPr/>
              <p:nvPr/>
            </p:nvSpPr>
            <p:spPr>
              <a:xfrm>
                <a:off x="6923160" y="205344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Rectangle 26"/>
            <p:cNvSpPr/>
            <p:nvPr/>
          </p:nvSpPr>
          <p:spPr>
            <a:xfrm rot="3418800">
              <a:off x="6492240" y="1776960"/>
              <a:ext cx="874080" cy="971280"/>
            </a:xfrm>
            <a:prstGeom prst="rect">
              <a:avLst/>
            </a:prstGeom>
            <a:solidFill>
              <a:srgbClr val="42a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Rectangle 27"/>
          <p:cNvSpPr/>
          <p:nvPr/>
        </p:nvSpPr>
        <p:spPr>
          <a:xfrm>
            <a:off x="85032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25066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40528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57484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40328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2982960" y="347832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1"/>
          <p:cNvSpPr/>
          <p:nvPr/>
        </p:nvSpPr>
        <p:spPr>
          <a:xfrm>
            <a:off x="475920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1"/>
          <p:cNvSpPr/>
          <p:nvPr/>
        </p:nvSpPr>
        <p:spPr>
          <a:xfrm>
            <a:off x="645948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9"/>
          <p:cNvSpPr/>
          <p:nvPr/>
        </p:nvSpPr>
        <p:spPr>
          <a:xfrm>
            <a:off x="1333440" y="1800360"/>
            <a:ext cx="6750000" cy="1241280"/>
          </a:xfrm>
          <a:prstGeom prst="roundRect">
            <a:avLst>
              <a:gd name="adj" fmla="val 7870"/>
            </a:avLst>
          </a:prstGeom>
          <a:noFill/>
          <a:ln w="1260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二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2762280" y="298944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4680000" y="2924280"/>
            <a:ext cx="366840" cy="156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5"/>
          <p:cNvSpPr/>
          <p:nvPr/>
        </p:nvSpPr>
        <p:spPr>
          <a:xfrm flipH="1">
            <a:off x="5079240" y="2989440"/>
            <a:ext cx="1900440" cy="137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400480" y="1790640"/>
            <a:ext cx="1361880" cy="1322280"/>
          </a:xfrm>
          <a:prstGeom prst="roundRect">
            <a:avLst>
              <a:gd name="adj" fmla="val 3662"/>
            </a:avLst>
          </a:prstGeom>
          <a:solidFill>
            <a:srgbClr val="89ad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699560" y="213840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4178160" y="1790640"/>
            <a:ext cx="1362240" cy="1322280"/>
          </a:xfrm>
          <a:prstGeom prst="roundRect">
            <a:avLst>
              <a:gd name="adj" fmla="val 5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5965920" y="1800360"/>
            <a:ext cx="1361880" cy="1322280"/>
          </a:xfrm>
          <a:prstGeom prst="roundRect">
            <a:avLst>
              <a:gd name="adj" fmla="val 366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436560" y="213840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5252400" y="214776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533680" y="4543560"/>
            <a:ext cx="5548320" cy="1241280"/>
          </a:xfrm>
          <a:prstGeom prst="roundRect">
            <a:avLst>
              <a:gd name="adj" fmla="val 10069"/>
            </a:avLst>
          </a:prstGeom>
          <a:noFill/>
          <a:ln w="12600">
            <a:solidFill>
              <a:srgbClr val="cec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3191040" y="4562640"/>
            <a:ext cx="4700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1333440" y="4478400"/>
            <a:ext cx="1362240" cy="1322280"/>
          </a:xfrm>
          <a:prstGeom prst="roundRect">
            <a:avLst>
              <a:gd name="adj" fmla="val 3662"/>
            </a:avLst>
          </a:prstGeom>
          <a:solidFill>
            <a:srgbClr val="89ad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1368360" y="4788000"/>
            <a:ext cx="1289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三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111320" y="2575080"/>
            <a:ext cx="7061040" cy="3733560"/>
          </a:xfrm>
          <a:prstGeom prst="roundRect">
            <a:avLst>
              <a:gd name="adj" fmla="val 2245"/>
            </a:avLst>
          </a:prstGeom>
          <a:noFill/>
          <a:ln w="9360">
            <a:solidFill>
              <a:srgbClr val="fcfc8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62546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640400" y="2935440"/>
            <a:ext cx="1560240" cy="2652480"/>
          </a:xfrm>
          <a:custGeom>
            <a:avLst/>
            <a:gdLst>
              <a:gd name="textAreaLeft" fmla="*/ 0 w 1560240"/>
              <a:gd name="textAreaRight" fmla="*/ 1560600 w 1560240"/>
              <a:gd name="textAreaTop" fmla="*/ 0 h 2652480"/>
              <a:gd name="textAreaBottom" fmla="*/ 2652480 h 2652480"/>
            </a:gdLst>
            <a:ahLst/>
            <a:rect l="textAreaLeft" t="textAreaTop" r="textAreaRight" b="textAreaBottom"/>
            <a:pathLst>
              <a:path w="21600" h="36718">
                <a:moveTo>
                  <a:pt x="0" y="0"/>
                </a:moveTo>
                <a:arcTo wR="0" hR="0" stAng="16200000" swAng="-5400000"/>
                <a:lnTo>
                  <a:pt x="0" y="36718"/>
                </a:lnTo>
                <a:arcTo wR="0" hR="0" stAng="10800000" swAng="-5400000"/>
                <a:lnTo>
                  <a:pt x="21600" y="367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89ad1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30290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72d5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4144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146240" y="1879560"/>
            <a:ext cx="70610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关注</a:t>
            </a:r>
            <a:r>
              <a:rPr b="0" lang="en-US" sz="1600" spc="-1" strike="noStrike">
                <a:solidFill>
                  <a:srgbClr val="fcfc8f"/>
                </a:solidFill>
                <a:latin typeface="微软雅黑"/>
              </a:rPr>
              <a:t>Eric-lin</a:t>
            </a: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关注</a:t>
            </a:r>
            <a:r>
              <a:rPr b="0" lang="en-US" sz="1600" spc="-1" strike="noStrike">
                <a:solidFill>
                  <a:srgbClr val="fcfc8f"/>
                </a:solidFill>
                <a:latin typeface="微软雅黑"/>
              </a:rPr>
              <a:t>Eric-lin</a:t>
            </a: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原创模版系列，获得您的喜爱将是我的无限荣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19120" y="5283360"/>
            <a:ext cx="1553760" cy="704520"/>
            <a:chOff x="1419120" y="5283360"/>
            <a:chExt cx="1553760" cy="704520"/>
          </a:xfrm>
        </p:grpSpPr>
        <p:sp>
          <p:nvSpPr>
            <p:cNvPr id="132" name="AutoShape 10"/>
            <p:cNvSpPr/>
            <p:nvPr/>
          </p:nvSpPr>
          <p:spPr>
            <a:xfrm>
              <a:off x="141912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142020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038400" y="5283360"/>
            <a:ext cx="1553760" cy="704520"/>
            <a:chOff x="3038400" y="5283360"/>
            <a:chExt cx="1553760" cy="704520"/>
          </a:xfrm>
        </p:grpSpPr>
        <p:sp>
          <p:nvSpPr>
            <p:cNvPr id="135" name="AutoShape 13"/>
            <p:cNvSpPr/>
            <p:nvPr/>
          </p:nvSpPr>
          <p:spPr>
            <a:xfrm>
              <a:off x="303840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303948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656240" y="5283360"/>
            <a:ext cx="1553760" cy="704520"/>
            <a:chOff x="4656240" y="5283360"/>
            <a:chExt cx="1553760" cy="704520"/>
          </a:xfrm>
        </p:grpSpPr>
        <p:sp>
          <p:nvSpPr>
            <p:cNvPr id="138" name="AutoShape 16"/>
            <p:cNvSpPr/>
            <p:nvPr/>
          </p:nvSpPr>
          <p:spPr>
            <a:xfrm>
              <a:off x="465624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465732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272280" y="5283360"/>
            <a:ext cx="1553760" cy="704520"/>
            <a:chOff x="6272280" y="5283360"/>
            <a:chExt cx="1553760" cy="704520"/>
          </a:xfrm>
        </p:grpSpPr>
        <p:sp>
          <p:nvSpPr>
            <p:cNvPr id="141" name="AutoShape 19"/>
            <p:cNvSpPr/>
            <p:nvPr/>
          </p:nvSpPr>
          <p:spPr>
            <a:xfrm>
              <a:off x="627228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627336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 Box 21"/>
          <p:cNvSpPr/>
          <p:nvPr/>
        </p:nvSpPr>
        <p:spPr>
          <a:xfrm>
            <a:off x="148428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309888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471960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6321600" y="3097080"/>
            <a:ext cx="14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1436760" y="527544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3054240" y="5275440"/>
            <a:ext cx="3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4676760" y="52754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8"/>
          <p:cNvSpPr/>
          <p:nvPr/>
        </p:nvSpPr>
        <p:spPr>
          <a:xfrm>
            <a:off x="6275520" y="527544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422360" y="5089680"/>
            <a:ext cx="1550520" cy="155520"/>
            <a:chOff x="1422360" y="5089680"/>
            <a:chExt cx="1550520" cy="155520"/>
          </a:xfrm>
        </p:grpSpPr>
        <p:sp>
          <p:nvSpPr>
            <p:cNvPr id="152" name="AutoShape 30"/>
            <p:cNvSpPr/>
            <p:nvPr/>
          </p:nvSpPr>
          <p:spPr>
            <a:xfrm>
              <a:off x="1422360" y="508968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31"/>
            <p:cNvSpPr/>
            <p:nvPr/>
          </p:nvSpPr>
          <p:spPr>
            <a:xfrm>
              <a:off x="1423440" y="508968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422360" y="4935600"/>
            <a:ext cx="1550520" cy="152280"/>
            <a:chOff x="1422360" y="4935600"/>
            <a:chExt cx="1550520" cy="152280"/>
          </a:xfrm>
        </p:grpSpPr>
        <p:sp>
          <p:nvSpPr>
            <p:cNvPr id="155" name="AutoShape 33"/>
            <p:cNvSpPr/>
            <p:nvPr/>
          </p:nvSpPr>
          <p:spPr>
            <a:xfrm>
              <a:off x="1422360" y="4935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34"/>
            <p:cNvSpPr/>
            <p:nvPr/>
          </p:nvSpPr>
          <p:spPr>
            <a:xfrm>
              <a:off x="1423440" y="4935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422360" y="4748040"/>
            <a:ext cx="1550520" cy="154080"/>
            <a:chOff x="1422360" y="4748040"/>
            <a:chExt cx="1550520" cy="154080"/>
          </a:xfrm>
        </p:grpSpPr>
        <p:sp>
          <p:nvSpPr>
            <p:cNvPr id="158" name="AutoShape 36"/>
            <p:cNvSpPr/>
            <p:nvPr/>
          </p:nvSpPr>
          <p:spPr>
            <a:xfrm>
              <a:off x="1422360" y="47480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37"/>
            <p:cNvSpPr/>
            <p:nvPr/>
          </p:nvSpPr>
          <p:spPr>
            <a:xfrm>
              <a:off x="1423440" y="47480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422360" y="4560840"/>
            <a:ext cx="1550520" cy="154080"/>
            <a:chOff x="1422360" y="4560840"/>
            <a:chExt cx="1550520" cy="154080"/>
          </a:xfrm>
        </p:grpSpPr>
        <p:sp>
          <p:nvSpPr>
            <p:cNvPr id="161" name="AutoShape 39"/>
            <p:cNvSpPr/>
            <p:nvPr/>
          </p:nvSpPr>
          <p:spPr>
            <a:xfrm>
              <a:off x="1422360" y="45608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utoShape 40"/>
            <p:cNvSpPr/>
            <p:nvPr/>
          </p:nvSpPr>
          <p:spPr>
            <a:xfrm>
              <a:off x="1423440" y="45608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422360" y="4378320"/>
            <a:ext cx="1550520" cy="155520"/>
            <a:chOff x="1422360" y="4378320"/>
            <a:chExt cx="1550520" cy="155520"/>
          </a:xfrm>
        </p:grpSpPr>
        <p:sp>
          <p:nvSpPr>
            <p:cNvPr id="164" name="AutoShape 42"/>
            <p:cNvSpPr/>
            <p:nvPr/>
          </p:nvSpPr>
          <p:spPr>
            <a:xfrm>
              <a:off x="1422360" y="437832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43"/>
            <p:cNvSpPr/>
            <p:nvPr/>
          </p:nvSpPr>
          <p:spPr>
            <a:xfrm>
              <a:off x="1423440" y="437832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422360" y="4191120"/>
            <a:ext cx="1550520" cy="155520"/>
            <a:chOff x="1422360" y="4191120"/>
            <a:chExt cx="1550520" cy="155520"/>
          </a:xfrm>
        </p:grpSpPr>
        <p:sp>
          <p:nvSpPr>
            <p:cNvPr id="167" name="AutoShape 45"/>
            <p:cNvSpPr/>
            <p:nvPr/>
          </p:nvSpPr>
          <p:spPr>
            <a:xfrm>
              <a:off x="1422360" y="419112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46"/>
            <p:cNvSpPr/>
            <p:nvPr/>
          </p:nvSpPr>
          <p:spPr>
            <a:xfrm>
              <a:off x="1423440" y="419112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22360" y="4003560"/>
            <a:ext cx="1550520" cy="155520"/>
            <a:chOff x="1422360" y="4003560"/>
            <a:chExt cx="1550520" cy="155520"/>
          </a:xfrm>
        </p:grpSpPr>
        <p:sp>
          <p:nvSpPr>
            <p:cNvPr id="170" name="AutoShape 48"/>
            <p:cNvSpPr/>
            <p:nvPr/>
          </p:nvSpPr>
          <p:spPr>
            <a:xfrm>
              <a:off x="1422360" y="400356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49"/>
            <p:cNvSpPr/>
            <p:nvPr/>
          </p:nvSpPr>
          <p:spPr>
            <a:xfrm>
              <a:off x="1423440" y="400356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22360" y="3817800"/>
            <a:ext cx="1550520" cy="154080"/>
            <a:chOff x="1422360" y="3817800"/>
            <a:chExt cx="1550520" cy="154080"/>
          </a:xfrm>
        </p:grpSpPr>
        <p:sp>
          <p:nvSpPr>
            <p:cNvPr id="173" name="AutoShape 51"/>
            <p:cNvSpPr/>
            <p:nvPr/>
          </p:nvSpPr>
          <p:spPr>
            <a:xfrm>
              <a:off x="1422360" y="3817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52"/>
            <p:cNvSpPr/>
            <p:nvPr/>
          </p:nvSpPr>
          <p:spPr>
            <a:xfrm>
              <a:off x="1423440" y="3817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046320" y="5089680"/>
            <a:ext cx="1550880" cy="155520"/>
            <a:chOff x="3046320" y="5089680"/>
            <a:chExt cx="1550880" cy="155520"/>
          </a:xfrm>
        </p:grpSpPr>
        <p:sp>
          <p:nvSpPr>
            <p:cNvPr id="176" name="AutoShape 54"/>
            <p:cNvSpPr/>
            <p:nvPr/>
          </p:nvSpPr>
          <p:spPr>
            <a:xfrm>
              <a:off x="3046320" y="5089680"/>
              <a:ext cx="1549440" cy="155520"/>
            </a:xfrm>
            <a:prstGeom prst="roundRect">
              <a:avLst>
                <a:gd name="adj" fmla="val 20588"/>
              </a:avLst>
            </a:prstGeom>
            <a:solidFill>
              <a:srgbClr val="36b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55"/>
            <p:cNvSpPr/>
            <p:nvPr/>
          </p:nvSpPr>
          <p:spPr>
            <a:xfrm>
              <a:off x="3047400" y="5089680"/>
              <a:ext cx="15498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046320" y="4935600"/>
            <a:ext cx="1550880" cy="152280"/>
            <a:chOff x="3046320" y="4935600"/>
            <a:chExt cx="1550880" cy="152280"/>
          </a:xfrm>
        </p:grpSpPr>
        <p:sp>
          <p:nvSpPr>
            <p:cNvPr id="179" name="AutoShape 57"/>
            <p:cNvSpPr/>
            <p:nvPr/>
          </p:nvSpPr>
          <p:spPr>
            <a:xfrm>
              <a:off x="3046320" y="493560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58"/>
            <p:cNvSpPr/>
            <p:nvPr/>
          </p:nvSpPr>
          <p:spPr>
            <a:xfrm>
              <a:off x="3047400" y="493560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48320" y="5089680"/>
            <a:ext cx="1549080" cy="155520"/>
            <a:chOff x="4648320" y="5089680"/>
            <a:chExt cx="1549080" cy="155520"/>
          </a:xfrm>
        </p:grpSpPr>
        <p:sp>
          <p:nvSpPr>
            <p:cNvPr id="182" name="AutoShape 60"/>
            <p:cNvSpPr/>
            <p:nvPr/>
          </p:nvSpPr>
          <p:spPr>
            <a:xfrm>
              <a:off x="4648320" y="5089680"/>
              <a:ext cx="1547640" cy="15552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61"/>
            <p:cNvSpPr/>
            <p:nvPr/>
          </p:nvSpPr>
          <p:spPr>
            <a:xfrm>
              <a:off x="4649400" y="5089680"/>
              <a:ext cx="15480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269040" y="5089680"/>
            <a:ext cx="1549080" cy="155520"/>
            <a:chOff x="6269040" y="5089680"/>
            <a:chExt cx="1549080" cy="155520"/>
          </a:xfrm>
        </p:grpSpPr>
        <p:sp>
          <p:nvSpPr>
            <p:cNvPr id="185" name="AutoShape 63"/>
            <p:cNvSpPr/>
            <p:nvPr/>
          </p:nvSpPr>
          <p:spPr>
            <a:xfrm>
              <a:off x="6269040" y="5089680"/>
              <a:ext cx="154764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64"/>
            <p:cNvSpPr/>
            <p:nvPr/>
          </p:nvSpPr>
          <p:spPr>
            <a:xfrm>
              <a:off x="6270120" y="5089680"/>
              <a:ext cx="15480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046320" y="4749840"/>
            <a:ext cx="1550880" cy="152280"/>
            <a:chOff x="3046320" y="4749840"/>
            <a:chExt cx="1550880" cy="152280"/>
          </a:xfrm>
        </p:grpSpPr>
        <p:sp>
          <p:nvSpPr>
            <p:cNvPr id="188" name="AutoShape 66"/>
            <p:cNvSpPr/>
            <p:nvPr/>
          </p:nvSpPr>
          <p:spPr>
            <a:xfrm>
              <a:off x="3046320" y="47498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67"/>
            <p:cNvSpPr/>
            <p:nvPr/>
          </p:nvSpPr>
          <p:spPr>
            <a:xfrm>
              <a:off x="3047400" y="47498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046320" y="4572000"/>
            <a:ext cx="1550880" cy="152280"/>
            <a:chOff x="3046320" y="4572000"/>
            <a:chExt cx="1550880" cy="152280"/>
          </a:xfrm>
        </p:grpSpPr>
        <p:sp>
          <p:nvSpPr>
            <p:cNvPr id="191" name="AutoShape 69"/>
            <p:cNvSpPr/>
            <p:nvPr/>
          </p:nvSpPr>
          <p:spPr>
            <a:xfrm>
              <a:off x="3046320" y="457200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70"/>
            <p:cNvSpPr/>
            <p:nvPr/>
          </p:nvSpPr>
          <p:spPr>
            <a:xfrm>
              <a:off x="3047400" y="457200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046320" y="4386240"/>
            <a:ext cx="1550880" cy="152280"/>
            <a:chOff x="3046320" y="4386240"/>
            <a:chExt cx="1550880" cy="152280"/>
          </a:xfrm>
        </p:grpSpPr>
        <p:sp>
          <p:nvSpPr>
            <p:cNvPr id="194" name="AutoShape 72"/>
            <p:cNvSpPr/>
            <p:nvPr/>
          </p:nvSpPr>
          <p:spPr>
            <a:xfrm>
              <a:off x="3046320" y="43862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73"/>
            <p:cNvSpPr/>
            <p:nvPr/>
          </p:nvSpPr>
          <p:spPr>
            <a:xfrm>
              <a:off x="3047400" y="43862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648320" y="4933800"/>
            <a:ext cx="1549080" cy="155880"/>
            <a:chOff x="4648320" y="4933800"/>
            <a:chExt cx="1549080" cy="155880"/>
          </a:xfrm>
        </p:grpSpPr>
        <p:sp>
          <p:nvSpPr>
            <p:cNvPr id="197" name="AutoShape 75"/>
            <p:cNvSpPr/>
            <p:nvPr/>
          </p:nvSpPr>
          <p:spPr>
            <a:xfrm>
              <a:off x="4648320" y="4933800"/>
              <a:ext cx="1547640" cy="15588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76"/>
            <p:cNvSpPr/>
            <p:nvPr/>
          </p:nvSpPr>
          <p:spPr>
            <a:xfrm>
              <a:off x="4649400" y="4933800"/>
              <a:ext cx="1548000" cy="62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648320" y="4748040"/>
            <a:ext cx="1549080" cy="154080"/>
            <a:chOff x="4648320" y="4748040"/>
            <a:chExt cx="1549080" cy="154080"/>
          </a:xfrm>
        </p:grpSpPr>
        <p:sp>
          <p:nvSpPr>
            <p:cNvPr id="200" name="AutoShape 78"/>
            <p:cNvSpPr/>
            <p:nvPr/>
          </p:nvSpPr>
          <p:spPr>
            <a:xfrm>
              <a:off x="4648320" y="47480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79"/>
            <p:cNvSpPr/>
            <p:nvPr/>
          </p:nvSpPr>
          <p:spPr>
            <a:xfrm>
              <a:off x="4649400" y="4748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269040" y="4925880"/>
            <a:ext cx="1549080" cy="154080"/>
            <a:chOff x="6269040" y="4925880"/>
            <a:chExt cx="1549080" cy="154080"/>
          </a:xfrm>
        </p:grpSpPr>
        <p:sp>
          <p:nvSpPr>
            <p:cNvPr id="203" name="AutoShape 81"/>
            <p:cNvSpPr/>
            <p:nvPr/>
          </p:nvSpPr>
          <p:spPr>
            <a:xfrm>
              <a:off x="6269040" y="49258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AutoShape 82"/>
            <p:cNvSpPr/>
            <p:nvPr/>
          </p:nvSpPr>
          <p:spPr>
            <a:xfrm>
              <a:off x="6270120" y="49258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7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14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477120" y="0"/>
            <a:ext cx="2666880" cy="327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09"/>
          <p:cNvSpPr/>
          <p:nvPr/>
        </p:nvSpPr>
        <p:spPr>
          <a:xfrm>
            <a:off x="0" y="3271680"/>
            <a:ext cx="6629400" cy="471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reeform 110"/>
          <p:cNvSpPr/>
          <p:nvPr/>
        </p:nvSpPr>
        <p:spPr>
          <a:xfrm>
            <a:off x="6111720" y="3255840"/>
            <a:ext cx="3032280" cy="487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WordArt 3"/>
          <p:cNvSpPr/>
          <p:nvPr/>
        </p:nvSpPr>
        <p:spPr>
          <a:xfrm>
            <a:off x="2444760" y="4392720"/>
            <a:ext cx="4952880" cy="685800"/>
          </a:xfrm>
          <a:custGeom>
            <a:avLst/>
            <a:gdLst>
              <a:gd name="textAreaLeft" fmla="*/ 0 w 4952880"/>
              <a:gd name="textAreaRight" fmla="*/ 4952880 w 49528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5867280" y="5518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@Eric_wang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2:19:00Z</dcterms:created>
  <dc:creator>王琳</dc:creator>
  <dc:description/>
  <dc:language>en-US</dc:language>
  <cp:lastModifiedBy>王琳</cp:lastModifiedBy>
  <cp:lastPrinted>1899-12-30T00:00:00Z</cp:lastPrinted>
  <dcterms:modified xsi:type="dcterms:W3CDTF">2012-04-23T11:37:00Z</dcterms:modified>
  <cp:revision>11</cp:revision>
  <dc:subject/>
  <dc:title>[ PowerPoint Template 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