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9B0C-60DC-47CE-A872-F9EC243FD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16DA-34DE-4C4A-AB5A-E81145905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C087-D9B9-448C-979F-9D9B32749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87A1-BFAC-480E-97E4-56943F003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3BFA8-100D-41AE-898A-74F9C1A3E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F4B15-A578-44A4-B724-1F25ACE6F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DBF89-AE62-4811-B088-E3CE11E75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E7578-065F-408D-AA53-D4684A1E3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69512-9EB2-4409-869A-1BA4DF0F9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39B5B-EB03-4E32-BAB1-B7027F814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B76CF-BAEA-412F-8205-F4EE6224B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3625-DED2-49B4-A61D-C0165FCFD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34291-38CA-4136-9E84-5428A27B0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02B3A-7A0F-4C8F-BFA3-5517B7934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2A086-C5EC-4A03-A7DF-775AA3C37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0A6FF-A2F1-4A45-9516-A14B7CA7F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2C352-BEB2-4F06-8277-A71D94E78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1912-5800-4814-9F69-AFB8C936A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0EF1-AD13-43EA-84CE-B178CE4FF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91C2-C76C-44E7-9A47-754A5F9E2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6DA4-FA1D-4973-861C-9A6054D2E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4A37-9F2A-460B-994D-AEB1C0C24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4709-9995-45A0-A846-412A73351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AEC9-A90E-47B6-AED2-C6CF5B980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行楷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9A1C1-1526-4BF6-8A63-ADB96C41DA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行楷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BCD98-54FD-43AD-BD3C-227B7AD150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342880"/>
            <a:ext cx="7238880" cy="103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</a:rPr>
              <a:t>中国风</a:t>
            </a:r>
            <a:r>
              <a:rPr b="1" lang="en-US" sz="4000" spc="-1" strike="noStrike">
                <a:solidFill>
                  <a:srgbClr val="000000"/>
                </a:solidFill>
                <a:latin typeface="华文行楷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858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行楷"/>
              </a:rPr>
              <a:t>配色方案修改：</a:t>
            </a:r>
            <a:endParaRPr b="0" lang="en-US" sz="2000" spc="-1" strike="noStrike">
              <a:solidFill>
                <a:srgbClr val="000000"/>
              </a:solidFill>
              <a:latin typeface="华文行楷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配色方案在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格式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幻灯片设计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配色方案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编辑配色方案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华文行楷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行楷"/>
              </a:rPr>
              <a:t>LOGO</a:t>
            </a:r>
            <a:r>
              <a:rPr b="0" lang="zh-CN" sz="2000" spc="-1" strike="noStrike">
                <a:solidFill>
                  <a:srgbClr val="000000"/>
                </a:solidFill>
                <a:latin typeface="华文行楷"/>
              </a:rPr>
              <a:t>的添加：</a:t>
            </a:r>
            <a:endParaRPr b="0" lang="en-US" sz="2000" spc="-1" strike="noStrike">
              <a:solidFill>
                <a:srgbClr val="000000"/>
              </a:solidFill>
              <a:latin typeface="华文行楷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内页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添加修改在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下调整。首页直接选择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图片删除或修改。</a:t>
            </a:r>
            <a:endParaRPr b="0" lang="en-US" sz="1800" spc="-1" strike="noStrike">
              <a:solidFill>
                <a:srgbClr val="000000"/>
              </a:solidFill>
              <a:latin typeface="华文行楷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行楷"/>
              </a:rPr>
              <a:t>字体格式的设置：</a:t>
            </a:r>
            <a:endParaRPr b="0" lang="en-US" sz="2000" spc="-1" strike="noStrike">
              <a:solidFill>
                <a:srgbClr val="000000"/>
              </a:solidFill>
              <a:latin typeface="华文行楷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括标题和文本格式的设置在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华文行楷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3"/>
          <p:cNvSpPr/>
          <p:nvPr/>
        </p:nvSpPr>
        <p:spPr>
          <a:xfrm>
            <a:off x="3198960" y="2457360"/>
            <a:ext cx="3201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谢谢观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PPT模板 </cp:keywords>
  <dc:language>en-US</dc:language>
  <cp:lastModifiedBy>微软中国</cp:lastModifiedBy>
  <dcterms:modified xsi:type="dcterms:W3CDTF">2010-10-15T16:50:08Z</dcterms:modified>
  <cp:revision>13</cp:revision>
  <dc:subject/>
  <dc:title>中国风PPT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