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5.wmf" ContentType="image/x-wmf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7.wmf" ContentType="image/x-wmf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  <p:custShowLst>
    <p:custShow name="自定义放映 1" id="0">
      <p:sldLst>
        <p:sld r:id="rId50"/>
        <p:sld r:id="rId33"/>
        <p:sld r:id="rId5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4C7-5544-4F81-9B6D-C73D9DBD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B78-9025-4825-81BC-9174941B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076-4A9D-4EA5-92EE-2221A691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CC4-0C8C-4990-AFB9-3320CA00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434-110F-4B8D-9821-1B0108EE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F96-F18D-42C7-8987-0C4E73A6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FBB-F103-4BFA-83B8-60B087FB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99E-7DDC-403C-A364-ECEA0B65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60F-D950-437F-ABBD-7008535D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228-B6D7-4DE2-B913-99B24B8C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20A-87D7-4F63-81CA-AF84D8B1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C1B-D1EE-479C-A5F8-74C761D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BC9A-0BFD-4622-AF88-EB314ACCFE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4.xml"/><Relationship Id="rId8" Type="http://schemas.openxmlformats.org/officeDocument/2006/relationships/slide" Target="slide20.xml"/><Relationship Id="rId9" Type="http://schemas.openxmlformats.org/officeDocument/2006/relationships/slide" Target="slide28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7.xml"/><Relationship Id="rId4" Type="http://schemas.openxmlformats.org/officeDocument/2006/relationships/slide" Target="slide19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2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4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4.xml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" Target="slide23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.xml"/><Relationship Id="rId3" Type="http://schemas.openxmlformats.org/officeDocument/2006/relationships/slide" Target="slide25.xml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8.xml"/><Relationship Id="rId3" Type="http://schemas.openxmlformats.org/officeDocument/2006/relationships/slide" Target="slide19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47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19.xml"/><Relationship Id="rId5" Type="http://schemas.openxmlformats.org/officeDocument/2006/relationships/slide" Target="slide30.xml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19.xml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4.xml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4.xml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4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2000" y="3699000"/>
            <a:ext cx="3546360" cy="722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基本使用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排课高手3"/>
          <p:cNvPicPr/>
          <p:nvPr/>
        </p:nvPicPr>
        <p:blipFill>
          <a:blip r:embed="rId1"/>
          <a:stretch/>
        </p:blipFill>
        <p:spPr>
          <a:xfrm>
            <a:off x="2727360" y="2303640"/>
            <a:ext cx="3743280" cy="1068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03640" y="620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教学管理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979640" y="4941720"/>
            <a:ext cx="61927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幻灯片制作  南京市 张鸿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0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>
            <a:hlinkClick r:id="rId2" action="ppaction://hlinksldjump"/>
          </p:cNvPr>
          <p:cNvSpPr/>
          <p:nvPr/>
        </p:nvSpPr>
        <p:spPr>
          <a:xfrm>
            <a:off x="702000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8432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  <a:ea typeface="华文新魏"/>
              </a:rPr>
              <a:t>智能电脑排课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4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20000" cy="4505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27352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辑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232000" y="773280"/>
            <a:ext cx="23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学校和班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108000" y="3339720"/>
            <a:ext cx="1592280" cy="368640"/>
          </a:xfrm>
          <a:prstGeom prst="wedgeRectCallout">
            <a:avLst>
              <a:gd name="adj1" fmla="val 95249"/>
              <a:gd name="adj2" fmla="val -51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里直接修改学制的年数（输入新值后回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108000" y="5154480"/>
            <a:ext cx="1657440" cy="368640"/>
          </a:xfrm>
          <a:prstGeom prst="wedgeRectCallout">
            <a:avLst>
              <a:gd name="adj1" fmla="val 177185"/>
              <a:gd name="adj2" fmla="val -460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级名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108000" y="5936400"/>
            <a:ext cx="1403280" cy="642600"/>
          </a:xfrm>
          <a:prstGeom prst="wedgeRectCallout">
            <a:avLst>
              <a:gd name="adj1" fmla="val 236865"/>
              <a:gd name="adj2" fmla="val -387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班数（可以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输入新值后回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5003640" y="6149160"/>
            <a:ext cx="649440" cy="368280"/>
          </a:xfrm>
          <a:prstGeom prst="wedgeRectCallout">
            <a:avLst>
              <a:gd name="adj1" fmla="val -20805"/>
              <a:gd name="adj2" fmla="val -70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主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8028000" y="3033720"/>
            <a:ext cx="936720" cy="915840"/>
          </a:xfrm>
          <a:prstGeom prst="wedgeRectCallout">
            <a:avLst>
              <a:gd name="adj1" fmla="val -148268"/>
              <a:gd name="adj2" fmla="val 214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全部班级输入完毕后一定要按“确定”按钮。完成本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108000" y="4433760"/>
            <a:ext cx="1592280" cy="368640"/>
          </a:xfrm>
          <a:prstGeom prst="wedgeRectCallout">
            <a:avLst>
              <a:gd name="adj1" fmla="val 94347"/>
              <a:gd name="adj2" fmla="val -314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下面各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4932360" y="330840"/>
            <a:ext cx="2664000" cy="642600"/>
          </a:xfrm>
          <a:prstGeom prst="wedgeRectCallout">
            <a:avLst>
              <a:gd name="adj1" fmla="val -106546"/>
              <a:gd name="adj2" fmla="val 192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后按”课程及位置位置尽量不排“标签，进入“编辑全校条件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>
            <a:hlinkClick r:id="" action="ppaction://hlinkshowjump?jump=nextslide"/>
          </p:cNvPr>
          <p:cNvSpPr/>
          <p:nvPr/>
        </p:nvSpPr>
        <p:spPr>
          <a:xfrm>
            <a:off x="8101080" y="6229080"/>
            <a:ext cx="934920" cy="423000"/>
          </a:xfrm>
          <a:custGeom>
            <a:avLst/>
            <a:gdLst>
              <a:gd name="textAreaLeft" fmla="*/ 27360 w 934920"/>
              <a:gd name="textAreaRight" fmla="*/ 907560 w 9349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718" h="21600">
                <a:moveTo>
                  <a:pt x="0" y="0"/>
                </a:moveTo>
                <a:lnTo>
                  <a:pt x="47718" y="0"/>
                </a:lnTo>
                <a:lnTo>
                  <a:pt x="47718" y="21600"/>
                </a:lnTo>
                <a:lnTo>
                  <a:pt x="0" y="21600"/>
                </a:lnTo>
                <a:close/>
              </a:path>
              <a:path fill="lightenLess" w="47718" h="21600">
                <a:moveTo>
                  <a:pt x="0" y="0"/>
                </a:moveTo>
                <a:lnTo>
                  <a:pt x="47718" y="0"/>
                </a:lnTo>
                <a:lnTo>
                  <a:pt x="46318" y="1400"/>
                </a:lnTo>
                <a:lnTo>
                  <a:pt x="1400" y="1400"/>
                </a:lnTo>
                <a:close/>
              </a:path>
              <a:path fill="darken" w="47718" h="21600">
                <a:moveTo>
                  <a:pt x="47718" y="0"/>
                </a:moveTo>
                <a:lnTo>
                  <a:pt x="47718" y="21600"/>
                </a:lnTo>
                <a:lnTo>
                  <a:pt x="46318" y="20200"/>
                </a:lnTo>
                <a:lnTo>
                  <a:pt x="46318" y="1400"/>
                </a:lnTo>
                <a:close/>
              </a:path>
              <a:path fill="darkenLess" w="47718" h="21600">
                <a:moveTo>
                  <a:pt x="4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18" y="20200"/>
                </a:lnTo>
                <a:close/>
              </a:path>
              <a:path fill="lighten" w="4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18" h="21600">
                <a:moveTo>
                  <a:pt x="16853" y="3794"/>
                </a:moveTo>
                <a:lnTo>
                  <a:pt x="30866" y="10800"/>
                </a:lnTo>
                <a:lnTo>
                  <a:pt x="168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2124000" y="5947200"/>
            <a:ext cx="2789280" cy="641520"/>
          </a:xfrm>
          <a:prstGeom prst="wedgeRectCallout">
            <a:avLst>
              <a:gd name="adj1" fmla="val 23222"/>
              <a:gd name="adj2" fmla="val -136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级名和班级数后一定要按“确定”按钮，级名和班名进右边大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2"/>
          <a:stretch/>
        </p:blipFill>
        <p:spPr>
          <a:xfrm>
            <a:off x="0" y="1916280"/>
            <a:ext cx="1846440" cy="9745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/>
          <p:cNvSpPr/>
          <p:nvPr/>
        </p:nvSpPr>
        <p:spPr>
          <a:xfrm>
            <a:off x="179280" y="749160"/>
            <a:ext cx="1584360" cy="368640"/>
          </a:xfrm>
          <a:prstGeom prst="wedgeRectCallout">
            <a:avLst>
              <a:gd name="adj1" fmla="val 140162"/>
              <a:gd name="adj2" fmla="val 5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下拉箭头，出现日历，选择开学日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5724360" y="6111720"/>
            <a:ext cx="2160720" cy="368640"/>
          </a:xfrm>
          <a:prstGeom prst="wedgeRectCallout">
            <a:avLst>
              <a:gd name="adj1" fmla="val 7870"/>
              <a:gd name="adj2" fmla="val -594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选中上表某班级的班主任位置，再在教师框选中某教师，该教师成为班主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8"/>
          <p:cNvSpPr/>
          <p:nvPr/>
        </p:nvSpPr>
        <p:spPr>
          <a:xfrm>
            <a:off x="8028000" y="668880"/>
            <a:ext cx="934920" cy="642600"/>
          </a:xfrm>
          <a:prstGeom prst="wedgeRectCallout">
            <a:avLst>
              <a:gd name="adj1" fmla="val -244879"/>
              <a:gd name="adj2" fmla="val 294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直接在表格中修改班名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1">
            <a:hlinkClick r:id="rId3" action="ppaction://hlinksldjump"/>
          </p:cNvPr>
          <p:cNvSpPr/>
          <p:nvPr/>
        </p:nvSpPr>
        <p:spPr>
          <a:xfrm>
            <a:off x="8101080" y="5084640"/>
            <a:ext cx="936720" cy="433440"/>
          </a:xfrm>
          <a:custGeom>
            <a:avLst/>
            <a:gdLst>
              <a:gd name="textAreaLeft" fmla="*/ 28080 w 936720"/>
              <a:gd name="textAreaRight" fmla="*/ 908640 w 936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60" h="21600">
                <a:moveTo>
                  <a:pt x="0" y="0"/>
                </a:moveTo>
                <a:lnTo>
                  <a:pt x="46660" y="0"/>
                </a:lnTo>
                <a:lnTo>
                  <a:pt x="46660" y="21600"/>
                </a:lnTo>
                <a:lnTo>
                  <a:pt x="0" y="21600"/>
                </a:lnTo>
                <a:close/>
              </a:path>
              <a:path fill="lightenLess" w="46660" h="21600">
                <a:moveTo>
                  <a:pt x="0" y="0"/>
                </a:moveTo>
                <a:lnTo>
                  <a:pt x="46660" y="0"/>
                </a:lnTo>
                <a:lnTo>
                  <a:pt x="45260" y="1400"/>
                </a:lnTo>
                <a:lnTo>
                  <a:pt x="1400" y="1400"/>
                </a:lnTo>
                <a:close/>
              </a:path>
              <a:path fill="darken" w="46660" h="21600">
                <a:moveTo>
                  <a:pt x="46660" y="0"/>
                </a:moveTo>
                <a:lnTo>
                  <a:pt x="46660" y="21600"/>
                </a:lnTo>
                <a:lnTo>
                  <a:pt x="45260" y="20200"/>
                </a:lnTo>
                <a:lnTo>
                  <a:pt x="45260" y="1400"/>
                </a:lnTo>
                <a:close/>
              </a:path>
              <a:path fill="darkenLess" w="46660" h="21600">
                <a:moveTo>
                  <a:pt x="46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0" y="20200"/>
                </a:lnTo>
                <a:close/>
              </a:path>
              <a:path fill="lighten" w="46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0" h="21600">
                <a:moveTo>
                  <a:pt x="16323" y="10800"/>
                </a:moveTo>
                <a:lnTo>
                  <a:pt x="30336" y="3794"/>
                </a:lnTo>
                <a:lnTo>
                  <a:pt x="303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3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9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70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20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70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2000"/>
                            </p:stCondLst>
                            <p:childTnLst>
                              <p:par>
                                <p:cTn id="34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7667640" cy="5664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6156360" y="189000"/>
            <a:ext cx="16653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     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956720" y="189000"/>
            <a:ext cx="104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及指定位置尽量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643280" y="4203360"/>
            <a:ext cx="3600720" cy="337320"/>
          </a:xfrm>
          <a:prstGeom prst="wedgeRectCallout">
            <a:avLst>
              <a:gd name="adj1" fmla="val -96865"/>
              <a:gd name="adj2" fmla="val -401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如果逐个输入则在此框输入需要添加的课程名称（最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字），回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6372360" y="3411000"/>
            <a:ext cx="2520720" cy="337680"/>
          </a:xfrm>
          <a:prstGeom prst="wedgeRectCallout">
            <a:avLst>
              <a:gd name="adj1" fmla="val -128648"/>
              <a:gd name="adj2" fmla="val -1507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系统自动产生课程简称，若不合适可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 flipV="1" rot="10782000">
            <a:off x="6658920" y="2639520"/>
            <a:ext cx="2089080" cy="368640"/>
          </a:xfrm>
          <a:prstGeom prst="wedgeRectCallout">
            <a:avLst>
              <a:gd name="adj1" fmla="val 59837"/>
              <a:gd name="adj2" fmla="val 5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主科副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2">
            <a:hlinkClick r:id="" action="ppaction://hlinkshowjump?jump=nextslide"/>
          </p:cNvPr>
          <p:cNvSpPr/>
          <p:nvPr/>
        </p:nvSpPr>
        <p:spPr>
          <a:xfrm>
            <a:off x="8112240" y="6229080"/>
            <a:ext cx="923760" cy="423000"/>
          </a:xfrm>
          <a:custGeom>
            <a:avLst/>
            <a:gdLst>
              <a:gd name="textAreaLeft" fmla="*/ 27360 w 923760"/>
              <a:gd name="textAreaRight" fmla="*/ 896400 w 923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149" h="21600">
                <a:moveTo>
                  <a:pt x="0" y="0"/>
                </a:moveTo>
                <a:lnTo>
                  <a:pt x="47149" y="0"/>
                </a:lnTo>
                <a:lnTo>
                  <a:pt x="47149" y="21600"/>
                </a:lnTo>
                <a:lnTo>
                  <a:pt x="0" y="21600"/>
                </a:lnTo>
                <a:close/>
              </a:path>
              <a:path fill="lightenLess" w="47149" h="21600">
                <a:moveTo>
                  <a:pt x="0" y="0"/>
                </a:moveTo>
                <a:lnTo>
                  <a:pt x="47149" y="0"/>
                </a:lnTo>
                <a:lnTo>
                  <a:pt x="45749" y="1400"/>
                </a:lnTo>
                <a:lnTo>
                  <a:pt x="1400" y="1400"/>
                </a:lnTo>
                <a:close/>
              </a:path>
              <a:path fill="darken" w="47149" h="21600">
                <a:moveTo>
                  <a:pt x="47149" y="0"/>
                </a:moveTo>
                <a:lnTo>
                  <a:pt x="47149" y="21600"/>
                </a:lnTo>
                <a:lnTo>
                  <a:pt x="45749" y="20200"/>
                </a:lnTo>
                <a:lnTo>
                  <a:pt x="45749" y="1400"/>
                </a:lnTo>
                <a:close/>
              </a:path>
              <a:path fill="darkenLess" w="47149" h="21600">
                <a:moveTo>
                  <a:pt x="47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49" y="20200"/>
                </a:lnTo>
                <a:close/>
              </a:path>
              <a:path fill="lighten" w="47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149" h="21600">
                <a:moveTo>
                  <a:pt x="16568" y="3794"/>
                </a:moveTo>
                <a:lnTo>
                  <a:pt x="30581" y="10800"/>
                </a:lnTo>
                <a:lnTo>
                  <a:pt x="16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3203640" y="242640"/>
            <a:ext cx="2592360" cy="580680"/>
          </a:xfrm>
          <a:prstGeom prst="wedgeRectCallout">
            <a:avLst>
              <a:gd name="adj1" fmla="val -46337"/>
              <a:gd name="adj2" fmla="val 237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课程特殊要求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>
            <a:hlinkClick r:id="rId2" action="ppaction://hlinksldjump"/>
          </p:cNvPr>
          <p:cNvSpPr/>
          <p:nvPr/>
        </p:nvSpPr>
        <p:spPr>
          <a:xfrm>
            <a:off x="8101080" y="5084640"/>
            <a:ext cx="934920" cy="452520"/>
          </a:xfrm>
          <a:custGeom>
            <a:avLst/>
            <a:gdLst>
              <a:gd name="textAreaLeft" fmla="*/ 29160 w 934920"/>
              <a:gd name="textAreaRight" fmla="*/ 905760 w 93492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44608" h="21600">
                <a:moveTo>
                  <a:pt x="0" y="0"/>
                </a:moveTo>
                <a:lnTo>
                  <a:pt x="44608" y="0"/>
                </a:lnTo>
                <a:lnTo>
                  <a:pt x="44608" y="21600"/>
                </a:lnTo>
                <a:lnTo>
                  <a:pt x="0" y="21600"/>
                </a:lnTo>
                <a:close/>
              </a:path>
              <a:path fill="lightenLess" w="44608" h="21600">
                <a:moveTo>
                  <a:pt x="0" y="0"/>
                </a:moveTo>
                <a:lnTo>
                  <a:pt x="44608" y="0"/>
                </a:lnTo>
                <a:lnTo>
                  <a:pt x="43208" y="1400"/>
                </a:lnTo>
                <a:lnTo>
                  <a:pt x="1400" y="1400"/>
                </a:lnTo>
                <a:close/>
              </a:path>
              <a:path fill="darken" w="44608" h="21600">
                <a:moveTo>
                  <a:pt x="44608" y="0"/>
                </a:moveTo>
                <a:lnTo>
                  <a:pt x="44608" y="21600"/>
                </a:lnTo>
                <a:lnTo>
                  <a:pt x="43208" y="20200"/>
                </a:lnTo>
                <a:lnTo>
                  <a:pt x="43208" y="1400"/>
                </a:lnTo>
                <a:close/>
              </a:path>
              <a:path fill="darkenLess" w="44608" h="21600">
                <a:moveTo>
                  <a:pt x="44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08" y="20200"/>
                </a:lnTo>
                <a:close/>
              </a:path>
              <a:path fill="lighten" w="44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08" h="21600">
                <a:moveTo>
                  <a:pt x="15297" y="10800"/>
                </a:moveTo>
                <a:lnTo>
                  <a:pt x="29310" y="3794"/>
                </a:lnTo>
                <a:lnTo>
                  <a:pt x="293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4716360" y="6053760"/>
            <a:ext cx="1440000" cy="368640"/>
          </a:xfrm>
          <a:prstGeom prst="wedgeRectCallout">
            <a:avLst>
              <a:gd name="adj1" fmla="val -145675"/>
              <a:gd name="adj2" fmla="val -19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输入该课程哪些节次尽量不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4"/>
          <p:cNvSpPr/>
          <p:nvPr/>
        </p:nvSpPr>
        <p:spPr>
          <a:xfrm>
            <a:off x="250920" y="364320"/>
            <a:ext cx="2232000" cy="337680"/>
          </a:xfrm>
          <a:prstGeom prst="wedgeRectCallout">
            <a:avLst>
              <a:gd name="adj1" fmla="val -35504"/>
              <a:gd name="adj2" fmla="val 7124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课程名的方式，逐个输入还是从剪贴板粘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5"/>
          <p:cNvSpPr/>
          <p:nvPr/>
        </p:nvSpPr>
        <p:spPr>
          <a:xfrm>
            <a:off x="4643280" y="5010120"/>
            <a:ext cx="3384720" cy="368640"/>
          </a:xfrm>
          <a:prstGeom prst="wedgeRectCallout">
            <a:avLst>
              <a:gd name="adj1" fmla="val -125078"/>
              <a:gd name="adj2" fmla="val -185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直接在表格中修改课程名（最多６字）和简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4920" cy="35892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6229" h="21600">
                <a:moveTo>
                  <a:pt x="0" y="0"/>
                </a:moveTo>
                <a:lnTo>
                  <a:pt x="56229" y="0"/>
                </a:lnTo>
                <a:lnTo>
                  <a:pt x="56229" y="21600"/>
                </a:lnTo>
                <a:lnTo>
                  <a:pt x="0" y="21600"/>
                </a:lnTo>
                <a:close/>
              </a:path>
              <a:path fill="lightenLess" w="56229" h="21600">
                <a:moveTo>
                  <a:pt x="0" y="0"/>
                </a:moveTo>
                <a:lnTo>
                  <a:pt x="56229" y="0"/>
                </a:lnTo>
                <a:lnTo>
                  <a:pt x="54829" y="1400"/>
                </a:lnTo>
                <a:lnTo>
                  <a:pt x="1400" y="1400"/>
                </a:lnTo>
                <a:close/>
              </a:path>
              <a:path fill="darken" w="56229" h="21600">
                <a:moveTo>
                  <a:pt x="56229" y="0"/>
                </a:moveTo>
                <a:lnTo>
                  <a:pt x="56229" y="21600"/>
                </a:lnTo>
                <a:lnTo>
                  <a:pt x="54829" y="20200"/>
                </a:lnTo>
                <a:lnTo>
                  <a:pt x="54829" y="1400"/>
                </a:lnTo>
                <a:close/>
              </a:path>
              <a:path fill="darkenLess" w="56229" h="21600">
                <a:moveTo>
                  <a:pt x="56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829" y="20200"/>
                </a:lnTo>
                <a:close/>
              </a:path>
              <a:path fill="lighten" w="56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229" h="21600">
                <a:moveTo>
                  <a:pt x="21108" y="10800"/>
                </a:moveTo>
                <a:lnTo>
                  <a:pt x="35121" y="3794"/>
                </a:lnTo>
                <a:lnTo>
                  <a:pt x="351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2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7515360" cy="5556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5724360" y="115920"/>
            <a:ext cx="2025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        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885080" y="115920"/>
            <a:ext cx="10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2411280" y="5946480"/>
            <a:ext cx="1440000" cy="368640"/>
          </a:xfrm>
          <a:prstGeom prst="wedgeRectCallout">
            <a:avLst>
              <a:gd name="adj1" fmla="val -37328"/>
              <a:gd name="adj2" fmla="val -130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语文课做作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79280" y="394200"/>
            <a:ext cx="2737080" cy="368640"/>
          </a:xfrm>
          <a:prstGeom prst="wedgeRectCallout">
            <a:avLst>
              <a:gd name="adj1" fmla="val 19657"/>
              <a:gd name="adj2" fmla="val 487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左边表格中选择课程，在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”框中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7885080" y="2672280"/>
            <a:ext cx="1116000" cy="368640"/>
          </a:xfrm>
          <a:prstGeom prst="wedgeRectCallout">
            <a:avLst>
              <a:gd name="adj1" fmla="val -215425"/>
              <a:gd name="adj2" fmla="val 62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物理、化学等需要实验器材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7740720" y="4764600"/>
            <a:ext cx="1297080" cy="368640"/>
          </a:xfrm>
          <a:prstGeom prst="wedgeRectCallout">
            <a:avLst>
              <a:gd name="adj1" fmla="val -185597"/>
              <a:gd name="adj2" fmla="val -9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需要实验室、音乐室或运动场地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">
            <a:hlinkClick r:id="rId2" action="ppaction://hlinksldjump"/>
          </p:cNvPr>
          <p:cNvSpPr/>
          <p:nvPr/>
        </p:nvSpPr>
        <p:spPr>
          <a:xfrm>
            <a:off x="8172360" y="6229080"/>
            <a:ext cx="887400" cy="423000"/>
          </a:xfrm>
          <a:custGeom>
            <a:avLst/>
            <a:gdLst>
              <a:gd name="textAreaLeft" fmla="*/ 27360 w 887400"/>
              <a:gd name="textAreaRight" fmla="*/ 860040 w 8874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5294" h="21600">
                <a:moveTo>
                  <a:pt x="0" y="0"/>
                </a:moveTo>
                <a:lnTo>
                  <a:pt x="45294" y="0"/>
                </a:lnTo>
                <a:lnTo>
                  <a:pt x="45294" y="21600"/>
                </a:lnTo>
                <a:lnTo>
                  <a:pt x="0" y="21600"/>
                </a:lnTo>
                <a:close/>
              </a:path>
              <a:path fill="lightenLess" w="45294" h="21600">
                <a:moveTo>
                  <a:pt x="0" y="0"/>
                </a:moveTo>
                <a:lnTo>
                  <a:pt x="45294" y="0"/>
                </a:lnTo>
                <a:lnTo>
                  <a:pt x="43894" y="1400"/>
                </a:lnTo>
                <a:lnTo>
                  <a:pt x="1400" y="1400"/>
                </a:lnTo>
                <a:close/>
              </a:path>
              <a:path fill="darken" w="45294" h="21600">
                <a:moveTo>
                  <a:pt x="45294" y="0"/>
                </a:moveTo>
                <a:lnTo>
                  <a:pt x="45294" y="21600"/>
                </a:lnTo>
                <a:lnTo>
                  <a:pt x="43894" y="20200"/>
                </a:lnTo>
                <a:lnTo>
                  <a:pt x="43894" y="1400"/>
                </a:lnTo>
                <a:close/>
              </a:path>
              <a:path fill="darkenLess" w="45294" h="21600">
                <a:moveTo>
                  <a:pt x="45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894" y="20200"/>
                </a:lnTo>
                <a:close/>
              </a:path>
              <a:path fill="lighten" w="45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294" h="21600">
                <a:moveTo>
                  <a:pt x="15640" y="3794"/>
                </a:moveTo>
                <a:lnTo>
                  <a:pt x="29653" y="10800"/>
                </a:lnTo>
                <a:lnTo>
                  <a:pt x="156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4284720" y="1416600"/>
            <a:ext cx="4464000" cy="368640"/>
          </a:xfrm>
          <a:prstGeom prst="wedgeRectCallout">
            <a:avLst>
              <a:gd name="adj1" fmla="val -42180"/>
              <a:gd name="adj2" fmla="val 771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大中专职校的需要连排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3132000" y="242640"/>
            <a:ext cx="2592360" cy="580680"/>
          </a:xfrm>
          <a:prstGeom prst="wedgeRectCallout">
            <a:avLst>
              <a:gd name="adj1" fmla="val -14000"/>
              <a:gd name="adj2" fmla="val 241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专用教室和作息时间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5">
            <a:hlinkClick r:id="rId3" action="ppaction://hlinksldjump"/>
          </p:cNvPr>
          <p:cNvSpPr/>
          <p:nvPr/>
        </p:nvSpPr>
        <p:spPr>
          <a:xfrm>
            <a:off x="6227640" y="6237360"/>
            <a:ext cx="917640" cy="452520"/>
          </a:xfrm>
          <a:custGeom>
            <a:avLst/>
            <a:gdLst>
              <a:gd name="textAreaLeft" fmla="*/ 29160 w 917640"/>
              <a:gd name="textAreaRight" fmla="*/ 888480 w 91764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43784" h="21600">
                <a:moveTo>
                  <a:pt x="0" y="0"/>
                </a:moveTo>
                <a:lnTo>
                  <a:pt x="43784" y="0"/>
                </a:lnTo>
                <a:lnTo>
                  <a:pt x="43784" y="21600"/>
                </a:lnTo>
                <a:lnTo>
                  <a:pt x="0" y="21600"/>
                </a:lnTo>
                <a:close/>
              </a:path>
              <a:path fill="lightenLess" w="43784" h="21600">
                <a:moveTo>
                  <a:pt x="0" y="0"/>
                </a:moveTo>
                <a:lnTo>
                  <a:pt x="43784" y="0"/>
                </a:lnTo>
                <a:lnTo>
                  <a:pt x="42384" y="1400"/>
                </a:lnTo>
                <a:lnTo>
                  <a:pt x="1400" y="1400"/>
                </a:lnTo>
                <a:close/>
              </a:path>
              <a:path fill="darken" w="43784" h="21600">
                <a:moveTo>
                  <a:pt x="43784" y="0"/>
                </a:moveTo>
                <a:lnTo>
                  <a:pt x="43784" y="21600"/>
                </a:lnTo>
                <a:lnTo>
                  <a:pt x="42384" y="20200"/>
                </a:lnTo>
                <a:lnTo>
                  <a:pt x="42384" y="1400"/>
                </a:lnTo>
                <a:close/>
              </a:path>
              <a:path fill="darkenLess" w="43784" h="21600">
                <a:moveTo>
                  <a:pt x="43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84" y="20200"/>
                </a:lnTo>
                <a:close/>
              </a:path>
              <a:path fill="lighten" w="43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84" h="21600">
                <a:moveTo>
                  <a:pt x="14885" y="10800"/>
                </a:moveTo>
                <a:lnTo>
                  <a:pt x="28898" y="3794"/>
                </a:lnTo>
                <a:lnTo>
                  <a:pt x="2889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1"/>
          <p:cNvSpPr/>
          <p:nvPr/>
        </p:nvSpPr>
        <p:spPr>
          <a:xfrm>
            <a:off x="5076720" y="5655960"/>
            <a:ext cx="2089080" cy="368640"/>
          </a:xfrm>
          <a:prstGeom prst="wedgeRectCallout">
            <a:avLst>
              <a:gd name="adj1" fmla="val -85472"/>
              <a:gd name="adj2" fmla="val 75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要求不连排，在此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>
            <a:hlinkClick r:id="" action="ppaction://hlinkshowjump?jump=previousslide"/>
          </p:cNvPr>
          <p:cNvSpPr/>
          <p:nvPr/>
        </p:nvSpPr>
        <p:spPr>
          <a:xfrm>
            <a:off x="7236000" y="623736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72" h="21600">
                <a:moveTo>
                  <a:pt x="14630" y="10800"/>
                </a:moveTo>
                <a:lnTo>
                  <a:pt x="28642" y="3794"/>
                </a:lnTo>
                <a:lnTo>
                  <a:pt x="286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0"/>
                            </p:stCondLst>
                            <p:childTnLst>
                              <p:par>
                                <p:cTn id="41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6915240" cy="51084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6012000" y="18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84720" y="69228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专用教室和作息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2916360" y="3282840"/>
            <a:ext cx="2016000" cy="368640"/>
          </a:xfrm>
          <a:prstGeom prst="wedgeRectCallout">
            <a:avLst>
              <a:gd name="adj1" fmla="val -87310"/>
              <a:gd name="adj2" fmla="val 25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输入教学楼名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3492360" y="4283640"/>
            <a:ext cx="1801800" cy="368640"/>
          </a:xfrm>
          <a:prstGeom prst="wedgeRectCallout">
            <a:avLst>
              <a:gd name="adj1" fmla="val -127342"/>
              <a:gd name="adj2" fmla="val 66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系统自动产生教学楼简称，若不合适可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484360" y="6073560"/>
            <a:ext cx="935280" cy="642600"/>
          </a:xfrm>
          <a:prstGeom prst="wedgeRectCallout">
            <a:avLst>
              <a:gd name="adj1" fmla="val 111597"/>
              <a:gd name="adj2" fmla="val -5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>
            <a:hlinkClick r:id="" action="ppaction://hlinkshowjump?jump=nextslide"/>
          </p:cNvPr>
          <p:cNvSpPr/>
          <p:nvPr/>
        </p:nvSpPr>
        <p:spPr>
          <a:xfrm>
            <a:off x="7764480" y="6008400"/>
            <a:ext cx="1158840" cy="423000"/>
          </a:xfrm>
          <a:custGeom>
            <a:avLst/>
            <a:gdLst>
              <a:gd name="textAreaLeft" fmla="*/ 27360 w 1158840"/>
              <a:gd name="textAreaRight" fmla="*/ 1131480 w 11588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9143" h="21600">
                <a:moveTo>
                  <a:pt x="0" y="0"/>
                </a:moveTo>
                <a:lnTo>
                  <a:pt x="59143" y="0"/>
                </a:lnTo>
                <a:lnTo>
                  <a:pt x="59143" y="21600"/>
                </a:lnTo>
                <a:lnTo>
                  <a:pt x="0" y="21600"/>
                </a:lnTo>
                <a:close/>
              </a:path>
              <a:path fill="lightenLess" w="59143" h="21600">
                <a:moveTo>
                  <a:pt x="0" y="0"/>
                </a:moveTo>
                <a:lnTo>
                  <a:pt x="59143" y="0"/>
                </a:lnTo>
                <a:lnTo>
                  <a:pt x="57743" y="1400"/>
                </a:lnTo>
                <a:lnTo>
                  <a:pt x="1400" y="1400"/>
                </a:lnTo>
                <a:close/>
              </a:path>
              <a:path fill="darken" w="59143" h="21600">
                <a:moveTo>
                  <a:pt x="59143" y="0"/>
                </a:moveTo>
                <a:lnTo>
                  <a:pt x="59143" y="21600"/>
                </a:lnTo>
                <a:lnTo>
                  <a:pt x="57743" y="20200"/>
                </a:lnTo>
                <a:lnTo>
                  <a:pt x="57743" y="1400"/>
                </a:lnTo>
                <a:close/>
              </a:path>
              <a:path fill="darkenLess" w="59143" h="21600">
                <a:moveTo>
                  <a:pt x="5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43" y="20200"/>
                </a:lnTo>
                <a:close/>
              </a:path>
              <a:path fill="lighten" w="5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43" h="21600">
                <a:moveTo>
                  <a:pt x="22565" y="3794"/>
                </a:moveTo>
                <a:lnTo>
                  <a:pt x="36578" y="10800"/>
                </a:lnTo>
                <a:lnTo>
                  <a:pt x="2256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236000" y="2991240"/>
            <a:ext cx="1728720" cy="368640"/>
          </a:xfrm>
          <a:prstGeom prst="wedgeRectCallout">
            <a:avLst>
              <a:gd name="adj1" fmla="val -101134"/>
              <a:gd name="adj2" fmla="val 2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作息时间（如果需要的话），输入完成后按“确定作息时间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719928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普通中小学本页可不做任何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>
            <a:hlinkClick r:id="rId2" action="ppaction://hlinksldjump"/>
          </p:cNvPr>
          <p:cNvSpPr/>
          <p:nvPr/>
        </p:nvSpPr>
        <p:spPr>
          <a:xfrm>
            <a:off x="7740720" y="4724280"/>
            <a:ext cx="1133280" cy="432000"/>
          </a:xfrm>
          <a:custGeom>
            <a:avLst/>
            <a:gdLst>
              <a:gd name="textAreaLeft" fmla="*/ 27720 w 1133280"/>
              <a:gd name="textAreaRight" fmla="*/ 1105560 w 113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6635" h="21600">
                <a:moveTo>
                  <a:pt x="0" y="0"/>
                </a:moveTo>
                <a:lnTo>
                  <a:pt x="56635" y="0"/>
                </a:lnTo>
                <a:lnTo>
                  <a:pt x="56635" y="21600"/>
                </a:lnTo>
                <a:lnTo>
                  <a:pt x="0" y="21600"/>
                </a:lnTo>
                <a:close/>
              </a:path>
              <a:path fill="lightenLess" w="56635" h="21600">
                <a:moveTo>
                  <a:pt x="0" y="0"/>
                </a:moveTo>
                <a:lnTo>
                  <a:pt x="56635" y="0"/>
                </a:lnTo>
                <a:lnTo>
                  <a:pt x="55235" y="1400"/>
                </a:lnTo>
                <a:lnTo>
                  <a:pt x="1400" y="1400"/>
                </a:lnTo>
                <a:close/>
              </a:path>
              <a:path fill="darken" w="56635" h="21600">
                <a:moveTo>
                  <a:pt x="56635" y="0"/>
                </a:moveTo>
                <a:lnTo>
                  <a:pt x="56635" y="21600"/>
                </a:lnTo>
                <a:lnTo>
                  <a:pt x="55235" y="20200"/>
                </a:lnTo>
                <a:lnTo>
                  <a:pt x="55235" y="1400"/>
                </a:lnTo>
                <a:close/>
              </a:path>
              <a:path fill="darkenLess" w="56635" h="21600">
                <a:moveTo>
                  <a:pt x="56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5" y="20200"/>
                </a:lnTo>
                <a:close/>
              </a:path>
              <a:path fill="lighten" w="56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35" h="21600">
                <a:moveTo>
                  <a:pt x="21311" y="10800"/>
                </a:moveTo>
                <a:lnTo>
                  <a:pt x="35324" y="3794"/>
                </a:lnTo>
                <a:lnTo>
                  <a:pt x="353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2050920" y="478440"/>
            <a:ext cx="1441440" cy="642600"/>
          </a:xfrm>
          <a:prstGeom prst="wedgeRectCallout">
            <a:avLst>
              <a:gd name="adj1" fmla="val -82356"/>
              <a:gd name="adj2" fmla="val 3832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用“输入”方式则选择教学楼还是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059280" y="5304240"/>
            <a:ext cx="2665080" cy="368640"/>
          </a:xfrm>
          <a:prstGeom prst="wedgeRectCallout">
            <a:avLst>
              <a:gd name="adj1" fmla="val -89597"/>
              <a:gd name="adj2" fmla="val 19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学楼的层和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250920" y="615600"/>
            <a:ext cx="1584360" cy="368640"/>
          </a:xfrm>
          <a:prstGeom prst="wedgeRectCallout">
            <a:avLst>
              <a:gd name="adj1" fmla="val 31254"/>
              <a:gd name="adj2" fmla="val 514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教室的方式，输入还是剪贴板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8"/>
          <p:cNvSpPr/>
          <p:nvPr/>
        </p:nvSpPr>
        <p:spPr>
          <a:xfrm>
            <a:off x="3708360" y="467640"/>
            <a:ext cx="2087640" cy="642600"/>
          </a:xfrm>
          <a:prstGeom prst="wedgeRectCallout">
            <a:avLst>
              <a:gd name="adj1" fmla="val -10999"/>
              <a:gd name="adj2" fmla="val 231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按“教师特殊要求”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0">
            <a:hlinkClick r:id="" action="ppaction://hlinkshowjump?jump=previousslide"/>
          </p:cNvPr>
          <p:cNvSpPr/>
          <p:nvPr/>
        </p:nvSpPr>
        <p:spPr>
          <a:xfrm>
            <a:off x="7740720" y="5445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25" h="21600">
                <a:moveTo>
                  <a:pt x="27506" y="10800"/>
                </a:moveTo>
                <a:lnTo>
                  <a:pt x="41519" y="3794"/>
                </a:lnTo>
                <a:lnTo>
                  <a:pt x="4151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5000"/>
                            </p:stCondLst>
                            <p:childTnLst>
                              <p:par>
                                <p:cTn id="46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1" descr=""/>
          <p:cNvPicPr/>
          <p:nvPr/>
        </p:nvPicPr>
        <p:blipFill>
          <a:blip r:embed="rId1"/>
          <a:stretch/>
        </p:blipFill>
        <p:spPr>
          <a:xfrm>
            <a:off x="104760" y="1353960"/>
            <a:ext cx="7275600" cy="53755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6102360" y="324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724360" y="86364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7451640" y="1876320"/>
            <a:ext cx="1497240" cy="368640"/>
          </a:xfrm>
          <a:prstGeom prst="wedgeRectCallout">
            <a:avLst>
              <a:gd name="adj1" fmla="val -234490"/>
              <a:gd name="adj2" fmla="val 420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待选教师框中选择教师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7524720" y="3197160"/>
            <a:ext cx="1343160" cy="368640"/>
          </a:xfrm>
          <a:prstGeom prst="wedgeRectCallout">
            <a:avLst>
              <a:gd name="adj1" fmla="val -234509"/>
              <a:gd name="adj2" fmla="val 78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框中选择教师，按“删除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" action="ppaction://hlinkshowjump?jump=nextslide"/>
          </p:cNvPr>
          <p:cNvSpPr/>
          <p:nvPr/>
        </p:nvSpPr>
        <p:spPr>
          <a:xfrm>
            <a:off x="7524720" y="5868720"/>
            <a:ext cx="1341360" cy="423000"/>
          </a:xfrm>
          <a:custGeom>
            <a:avLst/>
            <a:gdLst>
              <a:gd name="textAreaLeft" fmla="*/ 27360 w 1341360"/>
              <a:gd name="textAreaRight" fmla="*/ 1314000 w 1341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8455" h="21600">
                <a:moveTo>
                  <a:pt x="0" y="0"/>
                </a:moveTo>
                <a:lnTo>
                  <a:pt x="68455" y="0"/>
                </a:lnTo>
                <a:lnTo>
                  <a:pt x="68455" y="21600"/>
                </a:lnTo>
                <a:lnTo>
                  <a:pt x="0" y="21600"/>
                </a:lnTo>
                <a:close/>
              </a:path>
              <a:path fill="lightenLess" w="68455" h="21600">
                <a:moveTo>
                  <a:pt x="0" y="0"/>
                </a:moveTo>
                <a:lnTo>
                  <a:pt x="68455" y="0"/>
                </a:lnTo>
                <a:lnTo>
                  <a:pt x="67055" y="1400"/>
                </a:lnTo>
                <a:lnTo>
                  <a:pt x="1400" y="1400"/>
                </a:lnTo>
                <a:close/>
              </a:path>
              <a:path fill="darken" w="68455" h="21600">
                <a:moveTo>
                  <a:pt x="68455" y="0"/>
                </a:moveTo>
                <a:lnTo>
                  <a:pt x="68455" y="21600"/>
                </a:lnTo>
                <a:lnTo>
                  <a:pt x="67055" y="20200"/>
                </a:lnTo>
                <a:lnTo>
                  <a:pt x="67055" y="1400"/>
                </a:lnTo>
                <a:close/>
              </a:path>
              <a:path fill="darkenLess" w="68455" h="21600">
                <a:moveTo>
                  <a:pt x="68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55" y="20200"/>
                </a:lnTo>
                <a:close/>
              </a:path>
              <a:path fill="lighten" w="68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455" h="21600">
                <a:moveTo>
                  <a:pt x="27221" y="3794"/>
                </a:moveTo>
                <a:lnTo>
                  <a:pt x="41234" y="10800"/>
                </a:lnTo>
                <a:lnTo>
                  <a:pt x="272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700360" y="480240"/>
            <a:ext cx="3097080" cy="642600"/>
          </a:xfrm>
          <a:prstGeom prst="wedgeRectCallout">
            <a:avLst>
              <a:gd name="adj1" fmla="val 47578"/>
              <a:gd name="adj2" fmla="val 2097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教师课表指定位置不排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>
            <a:hlinkClick r:id="rId2" action="ppaction://hlinksldjump"/>
          </p:cNvPr>
          <p:cNvSpPr/>
          <p:nvPr/>
        </p:nvSpPr>
        <p:spPr>
          <a:xfrm>
            <a:off x="7524720" y="4365720"/>
            <a:ext cx="1351080" cy="468360"/>
          </a:xfrm>
          <a:custGeom>
            <a:avLst/>
            <a:gdLst>
              <a:gd name="textAreaLeft" fmla="*/ 30240 w 1351080"/>
              <a:gd name="textAreaRight" fmla="*/ 1320840 w 13510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62278" h="21600">
                <a:moveTo>
                  <a:pt x="0" y="0"/>
                </a:moveTo>
                <a:lnTo>
                  <a:pt x="62278" y="0"/>
                </a:lnTo>
                <a:lnTo>
                  <a:pt x="62278" y="21600"/>
                </a:lnTo>
                <a:lnTo>
                  <a:pt x="0" y="21600"/>
                </a:lnTo>
                <a:close/>
              </a:path>
              <a:path fill="lightenLess" w="62278" h="21600">
                <a:moveTo>
                  <a:pt x="0" y="0"/>
                </a:moveTo>
                <a:lnTo>
                  <a:pt x="62278" y="0"/>
                </a:lnTo>
                <a:lnTo>
                  <a:pt x="60878" y="1400"/>
                </a:lnTo>
                <a:lnTo>
                  <a:pt x="1400" y="1400"/>
                </a:lnTo>
                <a:close/>
              </a:path>
              <a:path fill="darken" w="62278" h="21600">
                <a:moveTo>
                  <a:pt x="62278" y="0"/>
                </a:moveTo>
                <a:lnTo>
                  <a:pt x="62278" y="21600"/>
                </a:lnTo>
                <a:lnTo>
                  <a:pt x="60878" y="20200"/>
                </a:lnTo>
                <a:lnTo>
                  <a:pt x="60878" y="1400"/>
                </a:lnTo>
                <a:close/>
              </a:path>
              <a:path fill="darkenLess" w="62278" h="21600">
                <a:moveTo>
                  <a:pt x="6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78" y="20200"/>
                </a:lnTo>
                <a:close/>
              </a:path>
              <a:path fill="lighten" w="6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78" h="21600">
                <a:moveTo>
                  <a:pt x="24133" y="10800"/>
                </a:moveTo>
                <a:lnTo>
                  <a:pt x="38146" y="3794"/>
                </a:lnTo>
                <a:lnTo>
                  <a:pt x="381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>
            <a:hlinkClick r:id="" action="ppaction://hlinkshowjump?jump=previousslide"/>
          </p:cNvPr>
          <p:cNvSpPr/>
          <p:nvPr/>
        </p:nvSpPr>
        <p:spPr>
          <a:xfrm>
            <a:off x="7524720" y="5157720"/>
            <a:ext cx="1368360" cy="43200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79" h="21600">
                <a:moveTo>
                  <a:pt x="27183" y="10800"/>
                </a:moveTo>
                <a:lnTo>
                  <a:pt x="41196" y="3794"/>
                </a:lnTo>
                <a:lnTo>
                  <a:pt x="411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6" descr=""/>
          <p:cNvPicPr/>
          <p:nvPr/>
        </p:nvPicPr>
        <p:blipFill>
          <a:blip r:embed="rId1"/>
          <a:stretch/>
        </p:blipFill>
        <p:spPr>
          <a:xfrm>
            <a:off x="104760" y="1035000"/>
            <a:ext cx="7707240" cy="5694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5580000" y="18900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7164360" y="18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指定位置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79280" y="192960"/>
            <a:ext cx="1368360" cy="642600"/>
          </a:xfrm>
          <a:prstGeom prst="wedgeRectCallout">
            <a:avLst>
              <a:gd name="adj1" fmla="val 11226"/>
              <a:gd name="adj2" fmla="val 2411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3564000" y="3432240"/>
            <a:ext cx="1258920" cy="642600"/>
          </a:xfrm>
          <a:prstGeom prst="wedgeRectCallout">
            <a:avLst>
              <a:gd name="adj1" fmla="val -29592"/>
              <a:gd name="adj2" fmla="val -217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在教师框中选择教师，就在“待选教师”框中选择教师，按“添加教师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>
            <a:hlinkClick r:id="" action="ppaction://hlinkshowjump?jump=nextslide"/>
          </p:cNvPr>
          <p:cNvSpPr/>
          <p:nvPr/>
        </p:nvSpPr>
        <p:spPr>
          <a:xfrm>
            <a:off x="7885080" y="6157440"/>
            <a:ext cx="1079640" cy="423000"/>
          </a:xfrm>
          <a:custGeom>
            <a:avLst/>
            <a:gdLst>
              <a:gd name="textAreaLeft" fmla="*/ 27360 w 1079640"/>
              <a:gd name="textAreaRight" fmla="*/ 1052280 w 1079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102" h="21600">
                <a:moveTo>
                  <a:pt x="0" y="0"/>
                </a:moveTo>
                <a:lnTo>
                  <a:pt x="55102" y="0"/>
                </a:lnTo>
                <a:lnTo>
                  <a:pt x="55102" y="21600"/>
                </a:lnTo>
                <a:lnTo>
                  <a:pt x="0" y="21600"/>
                </a:lnTo>
                <a:close/>
              </a:path>
              <a:path fill="lightenLess" w="55102" h="21600">
                <a:moveTo>
                  <a:pt x="0" y="0"/>
                </a:moveTo>
                <a:lnTo>
                  <a:pt x="55102" y="0"/>
                </a:lnTo>
                <a:lnTo>
                  <a:pt x="53702" y="1400"/>
                </a:lnTo>
                <a:lnTo>
                  <a:pt x="1400" y="1400"/>
                </a:lnTo>
                <a:close/>
              </a:path>
              <a:path fill="darken" w="55102" h="21600">
                <a:moveTo>
                  <a:pt x="55102" y="0"/>
                </a:moveTo>
                <a:lnTo>
                  <a:pt x="55102" y="21600"/>
                </a:lnTo>
                <a:lnTo>
                  <a:pt x="53702" y="20200"/>
                </a:lnTo>
                <a:lnTo>
                  <a:pt x="53702" y="1400"/>
                </a:lnTo>
                <a:close/>
              </a:path>
              <a:path fill="darkenLess" w="55102" h="21600">
                <a:moveTo>
                  <a:pt x="55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02" y="20200"/>
                </a:lnTo>
                <a:close/>
              </a:path>
              <a:path fill="lighten" w="55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02" h="21600">
                <a:moveTo>
                  <a:pt x="20545" y="3794"/>
                </a:moveTo>
                <a:lnTo>
                  <a:pt x="34558" y="10800"/>
                </a:lnTo>
                <a:lnTo>
                  <a:pt x="205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179280" y="5441760"/>
            <a:ext cx="2700360" cy="642600"/>
          </a:xfrm>
          <a:prstGeom prst="wedgeRectCallout">
            <a:avLst>
              <a:gd name="adj1" fmla="val -29847"/>
              <a:gd name="adj2" fmla="val -253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小课表中选择本次“不排”的节次，在已选节次上单击则撤销选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547640" y="4001760"/>
            <a:ext cx="1727280" cy="368640"/>
          </a:xfrm>
          <a:prstGeom prst="wedgeRectCallout">
            <a:avLst>
              <a:gd name="adj1" fmla="val -41000"/>
              <a:gd name="adj2" fmla="val -456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或输入不排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7740720" y="2967120"/>
            <a:ext cx="1403280" cy="917280"/>
          </a:xfrm>
          <a:prstGeom prst="wedgeRectCallout">
            <a:avLst>
              <a:gd name="adj1" fmla="val -161976"/>
              <a:gd name="adj2" fmla="val -42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选某年级某课程教师教师，就在“年级”框中选择年级，在“课程”框中选择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885080" y="1410120"/>
            <a:ext cx="1258920" cy="368640"/>
          </a:xfrm>
          <a:prstGeom prst="wedgeRectCallout">
            <a:avLst>
              <a:gd name="adj1" fmla="val -87305"/>
              <a:gd name="adj2" fmla="val 17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1692360" y="330120"/>
            <a:ext cx="3743280" cy="368640"/>
          </a:xfrm>
          <a:prstGeom prst="wedgeRectCallout">
            <a:avLst>
              <a:gd name="adj1" fmla="val 89222"/>
              <a:gd name="adj2" fmla="val 37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统一课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>
            <a:hlinkClick r:id="rId2" action="ppaction://hlinksldjump"/>
          </p:cNvPr>
          <p:cNvSpPr/>
          <p:nvPr/>
        </p:nvSpPr>
        <p:spPr>
          <a:xfrm>
            <a:off x="7885080" y="4941720"/>
            <a:ext cx="1089000" cy="424080"/>
          </a:xfrm>
          <a:custGeom>
            <a:avLst/>
            <a:gdLst>
              <a:gd name="textAreaLeft" fmla="*/ 27360 w 1089000"/>
              <a:gd name="textAreaRight" fmla="*/ 1061640 w 108900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55438" h="21600">
                <a:moveTo>
                  <a:pt x="0" y="0"/>
                </a:moveTo>
                <a:lnTo>
                  <a:pt x="55438" y="0"/>
                </a:lnTo>
                <a:lnTo>
                  <a:pt x="55438" y="21600"/>
                </a:lnTo>
                <a:lnTo>
                  <a:pt x="0" y="21600"/>
                </a:lnTo>
                <a:close/>
              </a:path>
              <a:path fill="lightenLess" w="55438" h="21600">
                <a:moveTo>
                  <a:pt x="0" y="0"/>
                </a:moveTo>
                <a:lnTo>
                  <a:pt x="55438" y="0"/>
                </a:lnTo>
                <a:lnTo>
                  <a:pt x="54038" y="1400"/>
                </a:lnTo>
                <a:lnTo>
                  <a:pt x="1400" y="1400"/>
                </a:lnTo>
                <a:close/>
              </a:path>
              <a:path fill="darken" w="55438" h="21600">
                <a:moveTo>
                  <a:pt x="55438" y="0"/>
                </a:moveTo>
                <a:lnTo>
                  <a:pt x="55438" y="21600"/>
                </a:lnTo>
                <a:lnTo>
                  <a:pt x="54038" y="20200"/>
                </a:lnTo>
                <a:lnTo>
                  <a:pt x="54038" y="1400"/>
                </a:lnTo>
                <a:close/>
              </a:path>
              <a:path fill="darkenLess" w="55438" h="21600">
                <a:moveTo>
                  <a:pt x="55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38" y="20200"/>
                </a:lnTo>
                <a:close/>
              </a:path>
              <a:path fill="lighten" w="55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438" h="21600">
                <a:moveTo>
                  <a:pt x="20713" y="10800"/>
                </a:moveTo>
                <a:lnTo>
                  <a:pt x="34726" y="3794"/>
                </a:lnTo>
                <a:lnTo>
                  <a:pt x="3472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>
            <a:hlinkClick r:id="" action="ppaction://hlinkshowjump?jump=previousslide"/>
          </p:cNvPr>
          <p:cNvSpPr/>
          <p:nvPr/>
        </p:nvSpPr>
        <p:spPr>
          <a:xfrm>
            <a:off x="7885080" y="5589720"/>
            <a:ext cx="1079640" cy="3585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4995" h="21600">
                <a:moveTo>
                  <a:pt x="0" y="0"/>
                </a:moveTo>
                <a:lnTo>
                  <a:pt x="64995" y="0"/>
                </a:lnTo>
                <a:lnTo>
                  <a:pt x="64995" y="21600"/>
                </a:lnTo>
                <a:lnTo>
                  <a:pt x="0" y="21600"/>
                </a:lnTo>
                <a:close/>
              </a:path>
              <a:path fill="lightenLess" w="64995" h="21600">
                <a:moveTo>
                  <a:pt x="0" y="0"/>
                </a:moveTo>
                <a:lnTo>
                  <a:pt x="64995" y="0"/>
                </a:lnTo>
                <a:lnTo>
                  <a:pt x="63595" y="1400"/>
                </a:lnTo>
                <a:lnTo>
                  <a:pt x="1400" y="1400"/>
                </a:lnTo>
                <a:close/>
              </a:path>
              <a:path fill="darken" w="64995" h="21600">
                <a:moveTo>
                  <a:pt x="64995" y="0"/>
                </a:moveTo>
                <a:lnTo>
                  <a:pt x="64995" y="21600"/>
                </a:lnTo>
                <a:lnTo>
                  <a:pt x="63595" y="20200"/>
                </a:lnTo>
                <a:lnTo>
                  <a:pt x="63595" y="1400"/>
                </a:lnTo>
                <a:close/>
              </a:path>
              <a:path fill="darkenLess" w="64995" h="21600">
                <a:moveTo>
                  <a:pt x="64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95" y="20200"/>
                </a:lnTo>
                <a:close/>
              </a:path>
              <a:path fill="lighten" w="64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95" h="21600">
                <a:moveTo>
                  <a:pt x="25491" y="10800"/>
                </a:moveTo>
                <a:lnTo>
                  <a:pt x="39504" y="3794"/>
                </a:lnTo>
                <a:lnTo>
                  <a:pt x="395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3" descr=""/>
          <p:cNvPicPr/>
          <p:nvPr/>
        </p:nvPicPr>
        <p:blipFill>
          <a:blip r:embed="rId1"/>
          <a:stretch/>
        </p:blipFill>
        <p:spPr>
          <a:xfrm>
            <a:off x="104760" y="1035000"/>
            <a:ext cx="7707240" cy="56944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4140360" y="0"/>
            <a:ext cx="151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508720" y="115920"/>
            <a:ext cx="10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统一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179280" y="192960"/>
            <a:ext cx="1368360" cy="642600"/>
          </a:xfrm>
          <a:prstGeom prst="wedgeRectCallout">
            <a:avLst>
              <a:gd name="adj1" fmla="val 17726"/>
              <a:gd name="adj2" fmla="val 241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4427640" y="5664600"/>
            <a:ext cx="2520720" cy="368640"/>
          </a:xfrm>
          <a:prstGeom prst="wedgeRectCallout">
            <a:avLst>
              <a:gd name="adj1" fmla="val -63847"/>
              <a:gd name="adj2" fmla="val 21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7">
            <a:hlinkClick r:id="" action="ppaction://hlinkshowjump?jump=nextslide"/>
          </p:cNvPr>
          <p:cNvSpPr/>
          <p:nvPr/>
        </p:nvSpPr>
        <p:spPr>
          <a:xfrm>
            <a:off x="8015400" y="6391440"/>
            <a:ext cx="960480" cy="423000"/>
          </a:xfrm>
          <a:custGeom>
            <a:avLst/>
            <a:gdLst>
              <a:gd name="textAreaLeft" fmla="*/ 27360 w 960480"/>
              <a:gd name="textAreaRight" fmla="*/ 933120 w 9604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9022" h="21600">
                <a:moveTo>
                  <a:pt x="0" y="0"/>
                </a:moveTo>
                <a:lnTo>
                  <a:pt x="49022" y="0"/>
                </a:lnTo>
                <a:lnTo>
                  <a:pt x="49022" y="21600"/>
                </a:lnTo>
                <a:lnTo>
                  <a:pt x="0" y="21600"/>
                </a:lnTo>
                <a:close/>
              </a:path>
              <a:path fill="lightenLess" w="49022" h="21600">
                <a:moveTo>
                  <a:pt x="0" y="0"/>
                </a:moveTo>
                <a:lnTo>
                  <a:pt x="49022" y="0"/>
                </a:lnTo>
                <a:lnTo>
                  <a:pt x="47622" y="1400"/>
                </a:lnTo>
                <a:lnTo>
                  <a:pt x="1400" y="1400"/>
                </a:lnTo>
                <a:close/>
              </a:path>
              <a:path fill="darken" w="49022" h="21600">
                <a:moveTo>
                  <a:pt x="49022" y="0"/>
                </a:moveTo>
                <a:lnTo>
                  <a:pt x="49022" y="21600"/>
                </a:lnTo>
                <a:lnTo>
                  <a:pt x="47622" y="20200"/>
                </a:lnTo>
                <a:lnTo>
                  <a:pt x="47622" y="1400"/>
                </a:lnTo>
                <a:close/>
              </a:path>
              <a:path fill="darkenLess" w="49022" h="21600">
                <a:moveTo>
                  <a:pt x="49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22" y="20200"/>
                </a:lnTo>
                <a:close/>
              </a:path>
              <a:path fill="lighten" w="49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22" h="21600">
                <a:moveTo>
                  <a:pt x="17505" y="3794"/>
                </a:moveTo>
                <a:lnTo>
                  <a:pt x="31518" y="10800"/>
                </a:lnTo>
                <a:lnTo>
                  <a:pt x="175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7885080" y="2302560"/>
            <a:ext cx="1116000" cy="1098720"/>
          </a:xfrm>
          <a:prstGeom prst="wedgeRectCallout">
            <a:avLst>
              <a:gd name="adj1" fmla="val -331356"/>
              <a:gd name="adj2" fmla="val -227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自动确定”，就再选择“每周节数”，系统自动在小课表中选择节次。一般选择“人工确定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4427640" y="5232960"/>
            <a:ext cx="1944720" cy="368640"/>
          </a:xfrm>
          <a:prstGeom prst="wedgeRectCallout">
            <a:avLst>
              <a:gd name="adj1" fmla="val -135041"/>
              <a:gd name="adj2" fmla="val -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5003640" y="4722480"/>
            <a:ext cx="1873440" cy="368640"/>
          </a:xfrm>
          <a:prstGeom prst="wedgeRectCallout">
            <a:avLst>
              <a:gd name="adj1" fmla="val -232611"/>
              <a:gd name="adj2" fmla="val -46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年级或班级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6948360" y="4852800"/>
            <a:ext cx="863640" cy="642600"/>
          </a:xfrm>
          <a:prstGeom prst="wedgeRectCallout">
            <a:avLst>
              <a:gd name="adj1" fmla="val -64874"/>
              <a:gd name="adj2" fmla="val 167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5796000" y="1784520"/>
            <a:ext cx="2017800" cy="855360"/>
          </a:xfrm>
          <a:prstGeom prst="wedgeRectCallout">
            <a:avLst>
              <a:gd name="adj1" fmla="val -102314"/>
              <a:gd name="adj2" fmla="val 123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人工确定”，就在小课表中选择节次，在已选节次上单击则撤销选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1692360" y="315000"/>
            <a:ext cx="2374920" cy="368280"/>
          </a:xfrm>
          <a:prstGeom prst="wedgeRectCallout">
            <a:avLst>
              <a:gd name="adj1" fmla="val -27814"/>
              <a:gd name="adj2" fmla="val 304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”下步“按钮进入“编辑班级数据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>
            <a:hlinkClick r:id="rId2" action="ppaction://hlinksldjump"/>
          </p:cNvPr>
          <p:cNvSpPr/>
          <p:nvPr/>
        </p:nvSpPr>
        <p:spPr>
          <a:xfrm>
            <a:off x="7956720" y="5157720"/>
            <a:ext cx="936360" cy="43200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97" h="21600">
                <a:moveTo>
                  <a:pt x="0" y="0"/>
                </a:moveTo>
                <a:lnTo>
                  <a:pt x="46797" y="0"/>
                </a:lnTo>
                <a:lnTo>
                  <a:pt x="46797" y="21600"/>
                </a:lnTo>
                <a:lnTo>
                  <a:pt x="0" y="21600"/>
                </a:lnTo>
                <a:close/>
              </a:path>
              <a:path fill="lightenLess" w="46797" h="21600">
                <a:moveTo>
                  <a:pt x="0" y="0"/>
                </a:moveTo>
                <a:lnTo>
                  <a:pt x="46797" y="0"/>
                </a:lnTo>
                <a:lnTo>
                  <a:pt x="45397" y="1400"/>
                </a:lnTo>
                <a:lnTo>
                  <a:pt x="1400" y="1400"/>
                </a:lnTo>
                <a:close/>
              </a:path>
              <a:path fill="darken" w="46797" h="21600">
                <a:moveTo>
                  <a:pt x="46797" y="0"/>
                </a:moveTo>
                <a:lnTo>
                  <a:pt x="46797" y="21600"/>
                </a:lnTo>
                <a:lnTo>
                  <a:pt x="45397" y="20200"/>
                </a:lnTo>
                <a:lnTo>
                  <a:pt x="45397" y="1400"/>
                </a:lnTo>
                <a:close/>
              </a:path>
              <a:path fill="darkenLess" w="46797" h="21600">
                <a:moveTo>
                  <a:pt x="46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7" y="20200"/>
                </a:lnTo>
                <a:close/>
              </a:path>
              <a:path fill="lighten" w="46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7" h="21600">
                <a:moveTo>
                  <a:pt x="16392" y="10800"/>
                </a:moveTo>
                <a:lnTo>
                  <a:pt x="30405" y="3794"/>
                </a:lnTo>
                <a:lnTo>
                  <a:pt x="304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7"/>
          <p:cNvSpPr/>
          <p:nvPr/>
        </p:nvSpPr>
        <p:spPr>
          <a:xfrm>
            <a:off x="6588000" y="278280"/>
            <a:ext cx="2556000" cy="368640"/>
          </a:xfrm>
          <a:prstGeom prst="wedgeRectCallout">
            <a:avLst>
              <a:gd name="adj1" fmla="val -5782"/>
              <a:gd name="adj2" fmla="val -6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若干个班级在统一时间由统一的教师上统一课程，这样的课叫统一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4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5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80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56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8000"/>
                            </p:stCondLst>
                            <p:childTnLst>
                              <p:par>
                                <p:cTn id="56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272360" cy="47894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5940360" y="189000"/>
            <a:ext cx="266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逐班输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1908000" y="330120"/>
            <a:ext cx="936720" cy="368640"/>
          </a:xfrm>
          <a:prstGeom prst="wedgeRectCallout">
            <a:avLst>
              <a:gd name="adj1" fmla="val -146425"/>
              <a:gd name="adj2" fmla="val 491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1908000" y="5880600"/>
            <a:ext cx="1584360" cy="368640"/>
          </a:xfrm>
          <a:prstGeom prst="wedgeRectCallout">
            <a:avLst>
              <a:gd name="adj1" fmla="val -523"/>
              <a:gd name="adj2" fmla="val -327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>
            <a:hlinkClick r:id="" action="ppaction://hlinkshowjump?jump=nextslide"/>
          </p:cNvPr>
          <p:cNvSpPr/>
          <p:nvPr/>
        </p:nvSpPr>
        <p:spPr>
          <a:xfrm>
            <a:off x="8317080" y="6300360"/>
            <a:ext cx="684000" cy="423000"/>
          </a:xfrm>
          <a:custGeom>
            <a:avLst/>
            <a:gdLst>
              <a:gd name="textAreaLeft" fmla="*/ 27360 w 684000"/>
              <a:gd name="textAreaRight" fmla="*/ 656640 w 684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916" h="21600">
                <a:moveTo>
                  <a:pt x="0" y="0"/>
                </a:moveTo>
                <a:lnTo>
                  <a:pt x="34916" y="0"/>
                </a:lnTo>
                <a:lnTo>
                  <a:pt x="34916" y="21600"/>
                </a:lnTo>
                <a:lnTo>
                  <a:pt x="0" y="21600"/>
                </a:lnTo>
                <a:close/>
              </a:path>
              <a:path fill="lightenLess" w="34916" h="21600">
                <a:moveTo>
                  <a:pt x="0" y="0"/>
                </a:moveTo>
                <a:lnTo>
                  <a:pt x="34916" y="0"/>
                </a:lnTo>
                <a:lnTo>
                  <a:pt x="33516" y="1400"/>
                </a:lnTo>
                <a:lnTo>
                  <a:pt x="1400" y="1400"/>
                </a:lnTo>
                <a:close/>
              </a:path>
              <a:path fill="darken" w="34916" h="21600">
                <a:moveTo>
                  <a:pt x="34916" y="0"/>
                </a:moveTo>
                <a:lnTo>
                  <a:pt x="34916" y="21600"/>
                </a:lnTo>
                <a:lnTo>
                  <a:pt x="33516" y="20200"/>
                </a:lnTo>
                <a:lnTo>
                  <a:pt x="33516" y="1400"/>
                </a:lnTo>
                <a:close/>
              </a:path>
              <a:path fill="darkenLess" w="34916" h="21600">
                <a:moveTo>
                  <a:pt x="34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16" y="20200"/>
                </a:lnTo>
                <a:close/>
              </a:path>
              <a:path fill="lighten" w="34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16" h="21600">
                <a:moveTo>
                  <a:pt x="10452" y="3794"/>
                </a:moveTo>
                <a:lnTo>
                  <a:pt x="24465" y="10800"/>
                </a:lnTo>
                <a:lnTo>
                  <a:pt x="1045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7524720" y="5068800"/>
            <a:ext cx="1440000" cy="642600"/>
          </a:xfrm>
          <a:prstGeom prst="wedgeRectCallout">
            <a:avLst>
              <a:gd name="adj1" fmla="val -278439"/>
              <a:gd name="adj2" fmla="val 40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本班的所有课程，一定要使“未确定节数”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179280" y="5880600"/>
            <a:ext cx="1656000" cy="368640"/>
          </a:xfrm>
          <a:prstGeom prst="wedgeRectCallout">
            <a:avLst>
              <a:gd name="adj1" fmla="val 32828"/>
              <a:gd name="adj2" fmla="val -532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2268360" y="6385320"/>
            <a:ext cx="1943280" cy="368640"/>
          </a:xfrm>
          <a:prstGeom prst="wedgeRectCallout">
            <a:avLst>
              <a:gd name="adj1" fmla="val 89041"/>
              <a:gd name="adj2" fmla="val -374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7524720" y="1534320"/>
            <a:ext cx="1476360" cy="1191600"/>
          </a:xfrm>
          <a:prstGeom prst="wedgeRectCallout">
            <a:avLst>
              <a:gd name="adj1" fmla="val -154606"/>
              <a:gd name="adj2" fmla="val 9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“合教教师”就在“教师”框选择教师，在右边表格中选择需要的位置，再按“修改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1"/>
          <p:cNvSpPr/>
          <p:nvPr/>
        </p:nvSpPr>
        <p:spPr>
          <a:xfrm>
            <a:off x="2916360" y="330120"/>
            <a:ext cx="2808000" cy="368640"/>
          </a:xfrm>
          <a:prstGeom prst="wedgeRectCallout">
            <a:avLst>
              <a:gd name="adj1" fmla="val -89453"/>
              <a:gd name="adj2" fmla="val 266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下步“按钮，进入“排课调课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179280" y="6385320"/>
            <a:ext cx="1944720" cy="368640"/>
          </a:xfrm>
          <a:prstGeom prst="wedgeRectCallout">
            <a:avLst>
              <a:gd name="adj1" fmla="val 23291"/>
              <a:gd name="adj2" fmla="val -295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周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4">
            <a:hlinkClick r:id="rId2" action="ppaction://hlinksldjump"/>
          </p:cNvPr>
          <p:cNvSpPr/>
          <p:nvPr/>
        </p:nvSpPr>
        <p:spPr>
          <a:xfrm>
            <a:off x="6588000" y="6308640"/>
            <a:ext cx="790560" cy="433440"/>
          </a:xfrm>
          <a:custGeom>
            <a:avLst/>
            <a:gdLst>
              <a:gd name="textAreaLeft" fmla="*/ 28080 w 790560"/>
              <a:gd name="textAreaRight" fmla="*/ 762480 w 7905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382" h="21600">
                <a:moveTo>
                  <a:pt x="0" y="0"/>
                </a:moveTo>
                <a:lnTo>
                  <a:pt x="39382" y="0"/>
                </a:lnTo>
                <a:lnTo>
                  <a:pt x="39382" y="21600"/>
                </a:lnTo>
                <a:lnTo>
                  <a:pt x="0" y="21600"/>
                </a:lnTo>
                <a:close/>
              </a:path>
              <a:path fill="lightenLess" w="39382" h="21600">
                <a:moveTo>
                  <a:pt x="0" y="0"/>
                </a:moveTo>
                <a:lnTo>
                  <a:pt x="39382" y="0"/>
                </a:lnTo>
                <a:lnTo>
                  <a:pt x="37982" y="1400"/>
                </a:lnTo>
                <a:lnTo>
                  <a:pt x="1400" y="1400"/>
                </a:lnTo>
                <a:close/>
              </a:path>
              <a:path fill="darken" w="39382" h="21600">
                <a:moveTo>
                  <a:pt x="39382" y="0"/>
                </a:moveTo>
                <a:lnTo>
                  <a:pt x="39382" y="21600"/>
                </a:lnTo>
                <a:lnTo>
                  <a:pt x="37982" y="20200"/>
                </a:lnTo>
                <a:lnTo>
                  <a:pt x="37982" y="1400"/>
                </a:lnTo>
                <a:close/>
              </a:path>
              <a:path fill="darkenLess" w="39382" h="21600">
                <a:moveTo>
                  <a:pt x="39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82" y="20200"/>
                </a:lnTo>
                <a:close/>
              </a:path>
              <a:path fill="lighten" w="39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82" h="21600">
                <a:moveTo>
                  <a:pt x="12684" y="10800"/>
                </a:moveTo>
                <a:lnTo>
                  <a:pt x="26697" y="3794"/>
                </a:lnTo>
                <a:lnTo>
                  <a:pt x="266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5"/>
          <p:cNvSpPr/>
          <p:nvPr/>
        </p:nvSpPr>
        <p:spPr>
          <a:xfrm>
            <a:off x="179280" y="278280"/>
            <a:ext cx="1656000" cy="368640"/>
          </a:xfrm>
          <a:prstGeom prst="wedgeRectCallout">
            <a:avLst>
              <a:gd name="adj1" fmla="val -3425"/>
              <a:gd name="adj2" fmla="val 359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，可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8"/>
          <p:cNvSpPr/>
          <p:nvPr/>
        </p:nvSpPr>
        <p:spPr>
          <a:xfrm>
            <a:off x="7524720" y="3636000"/>
            <a:ext cx="1476360" cy="642600"/>
          </a:xfrm>
          <a:prstGeom prst="wedgeRectCallout">
            <a:avLst>
              <a:gd name="adj1" fmla="val -244925"/>
              <a:gd name="adj2" fmla="val -2411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补课就 用“修改”功能输入补课节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4356000" y="5946480"/>
            <a:ext cx="2087640" cy="642600"/>
          </a:xfrm>
          <a:prstGeom prst="wedgeRectCallout">
            <a:avLst>
              <a:gd name="adj1" fmla="val 49375"/>
              <a:gd name="adj2" fmla="val -165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复制”按钮可以把本班数据复制到其他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0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720720" cy="43344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5904" h="21600">
                <a:moveTo>
                  <a:pt x="0" y="0"/>
                </a:moveTo>
                <a:lnTo>
                  <a:pt x="35904" y="0"/>
                </a:lnTo>
                <a:lnTo>
                  <a:pt x="35904" y="21600"/>
                </a:lnTo>
                <a:lnTo>
                  <a:pt x="0" y="21600"/>
                </a:lnTo>
                <a:close/>
              </a:path>
              <a:path fill="lightenLess" w="35904" h="21600">
                <a:moveTo>
                  <a:pt x="0" y="0"/>
                </a:moveTo>
                <a:lnTo>
                  <a:pt x="35904" y="0"/>
                </a:lnTo>
                <a:lnTo>
                  <a:pt x="34504" y="1400"/>
                </a:lnTo>
                <a:lnTo>
                  <a:pt x="1400" y="1400"/>
                </a:lnTo>
                <a:close/>
              </a:path>
              <a:path fill="darken" w="35904" h="21600">
                <a:moveTo>
                  <a:pt x="35904" y="0"/>
                </a:moveTo>
                <a:lnTo>
                  <a:pt x="35904" y="21600"/>
                </a:lnTo>
                <a:lnTo>
                  <a:pt x="34504" y="20200"/>
                </a:lnTo>
                <a:lnTo>
                  <a:pt x="34504" y="1400"/>
                </a:lnTo>
                <a:close/>
              </a:path>
              <a:path fill="darkenLess" w="35904" h="21600">
                <a:moveTo>
                  <a:pt x="3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4" y="20200"/>
                </a:lnTo>
                <a:close/>
              </a:path>
              <a:path fill="lighten" w="3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4" h="21600">
                <a:moveTo>
                  <a:pt x="10946" y="10800"/>
                </a:moveTo>
                <a:lnTo>
                  <a:pt x="24959" y="3794"/>
                </a:lnTo>
                <a:lnTo>
                  <a:pt x="249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0"/>
                            </p:stCondLst>
                            <p:childTnLst>
                              <p:par>
                                <p:cTn id="60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8000"/>
                            </p:stCondLst>
                            <p:childTnLst>
                              <p:par>
                                <p:cTn id="6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3000"/>
                            </p:stCondLst>
                            <p:childTnLst>
                              <p:par>
                                <p:cTn id="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6000"/>
                            </p:stCondLst>
                            <p:childTnLst>
                              <p:par>
                                <p:cTn id="6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127640" cy="46940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5580000" y="189000"/>
            <a:ext cx="302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导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324000" y="545760"/>
            <a:ext cx="1800000" cy="642600"/>
          </a:xfrm>
          <a:prstGeom prst="wedgeRectCallout">
            <a:avLst>
              <a:gd name="adj1" fmla="val 41879"/>
              <a:gd name="adj2" fmla="val 231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为“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2771640" y="690480"/>
            <a:ext cx="1800360" cy="368640"/>
          </a:xfrm>
          <a:prstGeom prst="wedgeRectCallout">
            <a:avLst>
              <a:gd name="adj1" fmla="val -124847"/>
              <a:gd name="adj2" fmla="val 627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产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样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3419640" y="2778120"/>
            <a:ext cx="1584000" cy="368640"/>
          </a:xfrm>
          <a:prstGeom prst="wedgeRectCallout">
            <a:avLst>
              <a:gd name="adj1" fmla="val -31574"/>
              <a:gd name="adj2" fmla="val 89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要求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3132000" y="4794120"/>
            <a:ext cx="1800360" cy="642600"/>
          </a:xfrm>
          <a:prstGeom prst="wedgeRectCallout">
            <a:avLst>
              <a:gd name="adj1" fmla="val -148037"/>
              <a:gd name="adj2" fmla="val 77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从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班级排课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3132000" y="3930480"/>
            <a:ext cx="2089440" cy="368640"/>
          </a:xfrm>
          <a:prstGeom prst="wedgeRectCallout">
            <a:avLst>
              <a:gd name="adj1" fmla="val -97097"/>
              <a:gd name="adj2" fmla="val -33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需要导入数据的年级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>
            <a:hlinkClick r:id="" action="ppaction://hlinkshowjump?jump=nextslide"/>
          </p:cNvPr>
          <p:cNvSpPr/>
          <p:nvPr/>
        </p:nvSpPr>
        <p:spPr>
          <a:xfrm>
            <a:off x="7697880" y="5757480"/>
            <a:ext cx="1090440" cy="423000"/>
          </a:xfrm>
          <a:custGeom>
            <a:avLst/>
            <a:gdLst>
              <a:gd name="textAreaLeft" fmla="*/ 27360 w 1090440"/>
              <a:gd name="textAreaRight" fmla="*/ 1063080 w 1090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653" h="21600">
                <a:moveTo>
                  <a:pt x="0" y="0"/>
                </a:moveTo>
                <a:lnTo>
                  <a:pt x="55653" y="0"/>
                </a:lnTo>
                <a:lnTo>
                  <a:pt x="55653" y="21600"/>
                </a:lnTo>
                <a:lnTo>
                  <a:pt x="0" y="21600"/>
                </a:lnTo>
                <a:close/>
              </a:path>
              <a:path fill="lightenLess" w="55653" h="21600">
                <a:moveTo>
                  <a:pt x="0" y="0"/>
                </a:moveTo>
                <a:lnTo>
                  <a:pt x="55653" y="0"/>
                </a:lnTo>
                <a:lnTo>
                  <a:pt x="54253" y="1400"/>
                </a:lnTo>
                <a:lnTo>
                  <a:pt x="1400" y="1400"/>
                </a:lnTo>
                <a:close/>
              </a:path>
              <a:path fill="darken" w="55653" h="21600">
                <a:moveTo>
                  <a:pt x="55653" y="0"/>
                </a:moveTo>
                <a:lnTo>
                  <a:pt x="55653" y="21600"/>
                </a:lnTo>
                <a:lnTo>
                  <a:pt x="54253" y="20200"/>
                </a:lnTo>
                <a:lnTo>
                  <a:pt x="54253" y="1400"/>
                </a:lnTo>
                <a:close/>
              </a:path>
              <a:path fill="darkenLess" w="55653" h="21600">
                <a:moveTo>
                  <a:pt x="55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53" y="20200"/>
                </a:lnTo>
                <a:close/>
              </a:path>
              <a:path fill="lighten" w="55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53" h="21600">
                <a:moveTo>
                  <a:pt x="20820" y="3794"/>
                </a:moveTo>
                <a:lnTo>
                  <a:pt x="34833" y="10800"/>
                </a:lnTo>
                <a:lnTo>
                  <a:pt x="208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2">
            <a:hlinkClick r:id="rId2" action="ppaction://hlinksldjump"/>
          </p:cNvPr>
          <p:cNvSpPr/>
          <p:nvPr/>
        </p:nvSpPr>
        <p:spPr>
          <a:xfrm>
            <a:off x="7740720" y="357336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10800"/>
                </a:moveTo>
                <a:lnTo>
                  <a:pt x="23177" y="3794"/>
                </a:lnTo>
                <a:lnTo>
                  <a:pt x="2317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>
            <a:hlinkClick r:id="" action="ppaction://hlinkshowjump?jump=previousslide"/>
          </p:cNvPr>
          <p:cNvSpPr/>
          <p:nvPr/>
        </p:nvSpPr>
        <p:spPr>
          <a:xfrm>
            <a:off x="7740720" y="4869000"/>
            <a:ext cx="1079280" cy="43164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3982" h="21600">
                <a:moveTo>
                  <a:pt x="0" y="0"/>
                </a:moveTo>
                <a:lnTo>
                  <a:pt x="53982" y="0"/>
                </a:lnTo>
                <a:lnTo>
                  <a:pt x="53982" y="21600"/>
                </a:lnTo>
                <a:lnTo>
                  <a:pt x="0" y="21600"/>
                </a:lnTo>
                <a:close/>
              </a:path>
              <a:path fill="lightenLess" w="53982" h="21600">
                <a:moveTo>
                  <a:pt x="0" y="0"/>
                </a:moveTo>
                <a:lnTo>
                  <a:pt x="53982" y="0"/>
                </a:lnTo>
                <a:lnTo>
                  <a:pt x="52582" y="1400"/>
                </a:lnTo>
                <a:lnTo>
                  <a:pt x="1400" y="1400"/>
                </a:lnTo>
                <a:close/>
              </a:path>
              <a:path fill="darken" w="53982" h="21600">
                <a:moveTo>
                  <a:pt x="53982" y="0"/>
                </a:moveTo>
                <a:lnTo>
                  <a:pt x="53982" y="21600"/>
                </a:lnTo>
                <a:lnTo>
                  <a:pt x="52582" y="20200"/>
                </a:lnTo>
                <a:lnTo>
                  <a:pt x="52582" y="1400"/>
                </a:lnTo>
                <a:close/>
              </a:path>
              <a:path fill="darkenLess" w="53982" h="21600">
                <a:moveTo>
                  <a:pt x="53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2" y="20200"/>
                </a:lnTo>
                <a:close/>
              </a:path>
              <a:path fill="lighten" w="53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82" h="21600">
                <a:moveTo>
                  <a:pt x="19985" y="10800"/>
                </a:moveTo>
                <a:lnTo>
                  <a:pt x="33997" y="3794"/>
                </a:lnTo>
                <a:lnTo>
                  <a:pt x="339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4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2" descr="编排查调课表窗体界面"/>
          <p:cNvPicPr/>
          <p:nvPr/>
        </p:nvPicPr>
        <p:blipFill>
          <a:blip r:embed="rId1"/>
          <a:stretch/>
        </p:blipFill>
        <p:spPr>
          <a:xfrm>
            <a:off x="108000" y="1484280"/>
            <a:ext cx="8856720" cy="49737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6156360" y="189000"/>
            <a:ext cx="2663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 课 调 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机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逐班自动排课，是最常用的排课方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2987640" y="2850120"/>
            <a:ext cx="1513080" cy="641520"/>
          </a:xfrm>
          <a:prstGeom prst="wedgeRectCallout">
            <a:avLst>
              <a:gd name="adj1" fmla="val -90078"/>
              <a:gd name="adj2" fmla="val -162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>
            <a:hlinkClick r:id="rId2" action="ppaction://hlinksldjump"/>
          </p:cNvPr>
          <p:cNvSpPr/>
          <p:nvPr/>
        </p:nvSpPr>
        <p:spPr>
          <a:xfrm>
            <a:off x="4572000" y="2849400"/>
            <a:ext cx="2952720" cy="368640"/>
          </a:xfrm>
          <a:prstGeom prst="wedgeRectCallout">
            <a:avLst>
              <a:gd name="adj1" fmla="val -44370"/>
              <a:gd name="adj2" fmla="val -202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左击某教师，再右击，显示该教师的详细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4211640" y="5932440"/>
            <a:ext cx="1925640" cy="368640"/>
          </a:xfrm>
          <a:prstGeom prst="wedgeRectCallout">
            <a:avLst>
              <a:gd name="adj1" fmla="val 4148"/>
              <a:gd name="adj2" fmla="val -419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及其任课情况。在此框左击，显示该教师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1476360" y="275400"/>
            <a:ext cx="1008000" cy="917280"/>
          </a:xfrm>
          <a:prstGeom prst="wedgeRectCallout">
            <a:avLst>
              <a:gd name="adj1" fmla="val -52175"/>
              <a:gd name="adj2" fmla="val 127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机排”按钮，逐班自动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2268360" y="3217320"/>
            <a:ext cx="432000" cy="1191600"/>
          </a:xfrm>
          <a:prstGeom prst="wedgeRectCallout">
            <a:avLst>
              <a:gd name="adj1" fmla="val -252495"/>
              <a:gd name="adj2" fmla="val -1116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">
            <a:hlinkClick r:id="rId3" action="ppaction://hlinksldjump"/>
          </p:cNvPr>
          <p:cNvSpPr/>
          <p:nvPr/>
        </p:nvSpPr>
        <p:spPr>
          <a:xfrm>
            <a:off x="179280" y="330480"/>
            <a:ext cx="1224000" cy="917280"/>
          </a:xfrm>
          <a:prstGeom prst="wedgeRectCallout">
            <a:avLst>
              <a:gd name="adj1" fmla="val 17564"/>
              <a:gd name="adj2" fmla="val 114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下步“按钮，查看打印导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1">
            <a:hlinkClick r:id="rId4" action="ppaction://hlinksldjump"/>
          </p:cNvPr>
          <p:cNvSpPr/>
          <p:nvPr/>
        </p:nvSpPr>
        <p:spPr>
          <a:xfrm>
            <a:off x="179280" y="5932440"/>
            <a:ext cx="1800360" cy="368640"/>
          </a:xfrm>
          <a:prstGeom prst="wedgeRectCallout">
            <a:avLst>
              <a:gd name="adj1" fmla="val -37847"/>
              <a:gd name="adj2" fmla="val -919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班级及其班主任。在此框左击，显示该班级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4643280" y="604800"/>
            <a:ext cx="1297080" cy="368640"/>
          </a:xfrm>
          <a:prstGeom prst="wedgeRectCallout">
            <a:avLst>
              <a:gd name="adj1" fmla="val -131490"/>
              <a:gd name="adj2" fmla="val 379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级的课程及其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2987640" y="3930480"/>
            <a:ext cx="1008000" cy="368640"/>
          </a:xfrm>
          <a:prstGeom prst="wedgeRectCallout">
            <a:avLst>
              <a:gd name="adj1" fmla="val -178342"/>
              <a:gd name="adj2" fmla="val -496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 “未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4">
            <a:hlinkClick r:id="rId5" action="ppaction://hlinksldjump"/>
          </p:cNvPr>
          <p:cNvSpPr/>
          <p:nvPr/>
        </p:nvSpPr>
        <p:spPr>
          <a:xfrm>
            <a:off x="6588000" y="2064600"/>
            <a:ext cx="1764000" cy="642600"/>
          </a:xfrm>
          <a:prstGeom prst="wedgeRectCallout">
            <a:avLst>
              <a:gd name="adj1" fmla="val -116861"/>
              <a:gd name="adj2" fmla="val -749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检查”按钮，检查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5">
            <a:hlinkClick r:id="rId6" action="ppaction://hlinksldjump"/>
          </p:cNvPr>
          <p:cNvSpPr/>
          <p:nvPr/>
        </p:nvSpPr>
        <p:spPr>
          <a:xfrm>
            <a:off x="2843280" y="604800"/>
            <a:ext cx="1657440" cy="368640"/>
          </a:xfrm>
          <a:prstGeom prst="wedgeRectCallout">
            <a:avLst>
              <a:gd name="adj1" fmla="val -87240"/>
              <a:gd name="adj2" fmla="val 31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人工审查课表，不合适的用“调课”功能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6227640" y="5932440"/>
            <a:ext cx="1135080" cy="368640"/>
          </a:xfrm>
          <a:prstGeom prst="wedgeRectCallout">
            <a:avLst>
              <a:gd name="adj1" fmla="val -19120"/>
              <a:gd name="adj2" fmla="val -236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课表。黄底色表示本班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7">
            <a:hlinkClick r:id="rId7" action="ppaction://hlinksldjump"/>
          </p:cNvPr>
          <p:cNvSpPr/>
          <p:nvPr/>
        </p:nvSpPr>
        <p:spPr>
          <a:xfrm>
            <a:off x="8423280" y="20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2050920" y="5932440"/>
            <a:ext cx="2089440" cy="368640"/>
          </a:xfrm>
          <a:prstGeom prst="wedgeRectCallout">
            <a:avLst>
              <a:gd name="adj1" fmla="val -62365"/>
              <a:gd name="adj2" fmla="val -535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排好的班级课表。白底色表示该课该天多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，绿字是统一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3">
            <a:hlinkClick r:id="rId8" action="ppaction://hlinksldjump"/>
          </p:cNvPr>
          <p:cNvSpPr/>
          <p:nvPr/>
        </p:nvSpPr>
        <p:spPr>
          <a:xfrm>
            <a:off x="8440560" y="3857760"/>
            <a:ext cx="703440" cy="423000"/>
          </a:xfrm>
          <a:custGeom>
            <a:avLst/>
            <a:gdLst>
              <a:gd name="textAreaLeft" fmla="*/ 27360 w 703440"/>
              <a:gd name="textAreaRight" fmla="*/ 676080 w 703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5">
            <a:hlinkClick r:id="rId9" action="ppaction://hlinksldjump"/>
          </p:cNvPr>
          <p:cNvSpPr/>
          <p:nvPr/>
        </p:nvSpPr>
        <p:spPr>
          <a:xfrm>
            <a:off x="4500720" y="3538440"/>
            <a:ext cx="4103640" cy="733680"/>
          </a:xfrm>
          <a:prstGeom prst="wedgeRectCallout">
            <a:avLst>
              <a:gd name="adj1" fmla="val -21995"/>
              <a:gd name="adj2" fmla="val 216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快排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快速连续编排班级课表，如果对课表质量没有要求可以用此方式。“人班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班级课表；“人师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教师课表；“人室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教室课表。后三种可用于编排难排的或有特殊要求的课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>
            <a:off x="7667640" y="5271840"/>
            <a:ext cx="1368360" cy="368640"/>
          </a:xfrm>
          <a:prstGeom prst="wedgeRectCallout">
            <a:avLst>
              <a:gd name="adj1" fmla="val -98236"/>
              <a:gd name="adj2" fmla="val -21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此处是红色，表示该教师有进度不一致现象，需要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7">
            <a:hlinkClick r:id="" action="ppaction://hlinkshowjump?jump=previousslide"/>
          </p:cNvPr>
          <p:cNvSpPr/>
          <p:nvPr/>
        </p:nvSpPr>
        <p:spPr>
          <a:xfrm>
            <a:off x="8494560" y="29242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3824" y="10800"/>
                </a:moveTo>
                <a:lnTo>
                  <a:pt x="17836" y="3794"/>
                </a:lnTo>
                <a:lnTo>
                  <a:pt x="178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9000"/>
                            </p:stCondLst>
                            <p:childTnLst>
                              <p:par>
                                <p:cTn id="689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9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40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9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4000"/>
                            </p:stCondLst>
                            <p:childTnLst>
                              <p:par>
                                <p:cTn id="71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0"/>
                            </p:stCondLst>
                            <p:childTnLst>
                              <p:par>
                                <p:cTn id="71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64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69000"/>
                            </p:stCondLst>
                            <p:childTnLst>
                              <p:par>
                                <p:cTn id="7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04036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排课五个基本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>
            <a:hlinkClick r:id="rId1" action="ppaction://hlinksldjump"/>
          </p:cNvPr>
          <p:cNvSpPr/>
          <p:nvPr/>
        </p:nvSpPr>
        <p:spPr>
          <a:xfrm>
            <a:off x="3132000" y="1413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教师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4500720" y="1989000"/>
            <a:ext cx="8632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3132000" y="2421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全校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500720" y="2997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>
            <a:hlinkClick r:id="rId3" action="ppaction://hlinksldjump"/>
          </p:cNvPr>
          <p:cNvSpPr/>
          <p:nvPr/>
        </p:nvSpPr>
        <p:spPr>
          <a:xfrm>
            <a:off x="3132000" y="3429000"/>
            <a:ext cx="345600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班级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4500720" y="4005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>
            <a:hlinkClick r:id="rId4" action="ppaction://hlinksldjump"/>
          </p:cNvPr>
          <p:cNvSpPr/>
          <p:nvPr/>
        </p:nvSpPr>
        <p:spPr>
          <a:xfrm>
            <a:off x="3132000" y="4437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500720" y="5013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>
            <a:hlinkClick r:id="rId5" action="ppaction://hlinksldjump"/>
          </p:cNvPr>
          <p:cNvSpPr/>
          <p:nvPr/>
        </p:nvSpPr>
        <p:spPr>
          <a:xfrm>
            <a:off x="3132000" y="5445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印导出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>
            <a:hlinkClick r:id="" action="ppaction://hlinkshowjump?jump=nextslide"/>
          </p:cNvPr>
          <p:cNvSpPr/>
          <p:nvPr/>
        </p:nvSpPr>
        <p:spPr>
          <a:xfrm>
            <a:off x="6912000" y="545472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>
            <a:hlinkClick r:id="" action="ppaction://hlinkshowjump?jump=previousslide"/>
          </p:cNvPr>
          <p:cNvSpPr/>
          <p:nvPr/>
        </p:nvSpPr>
        <p:spPr>
          <a:xfrm>
            <a:off x="6877080" y="4797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10800"/>
                </a:moveTo>
                <a:lnTo>
                  <a:pt x="50162" y="3794"/>
                </a:lnTo>
                <a:lnTo>
                  <a:pt x="501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3"/>
          <p:cNvSpPr/>
          <p:nvPr/>
        </p:nvSpPr>
        <p:spPr>
          <a:xfrm>
            <a:off x="5508720" y="189000"/>
            <a:ext cx="345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课调课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系统指导下人工编排班级课表，用于排难排的和有特殊要求的班级课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3492360" y="5010120"/>
            <a:ext cx="1575000" cy="642600"/>
          </a:xfrm>
          <a:prstGeom prst="wedgeRectCallout">
            <a:avLst>
              <a:gd name="adj1" fmla="val -110462"/>
              <a:gd name="adj2" fmla="val -503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>
            <a:hlinkClick r:id="" action="ppaction://hlinkshowjump?jump=nextslide"/>
          </p:cNvPr>
          <p:cNvSpPr/>
          <p:nvPr/>
        </p:nvSpPr>
        <p:spPr>
          <a:xfrm>
            <a:off x="826308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547640" y="474480"/>
            <a:ext cx="792360" cy="642600"/>
          </a:xfrm>
          <a:prstGeom prst="wedgeRectCallout">
            <a:avLst>
              <a:gd name="adj1" fmla="val -22574"/>
              <a:gd name="adj2" fmla="val 1564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人班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4000" y="474480"/>
            <a:ext cx="792000" cy="368640"/>
          </a:xfrm>
          <a:prstGeom prst="wedgeRectCallout">
            <a:avLst>
              <a:gd name="adj1" fmla="val 10699"/>
              <a:gd name="adj2" fmla="val 39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2700360" y="603720"/>
            <a:ext cx="2303280" cy="368640"/>
          </a:xfrm>
          <a:prstGeom prst="wedgeRectCallout">
            <a:avLst>
              <a:gd name="adj1" fmla="val -11074"/>
              <a:gd name="adj2" fmla="val 360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需排的课程及其节数，选择其中一个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2195640" y="5010120"/>
            <a:ext cx="1081080" cy="368640"/>
          </a:xfrm>
          <a:prstGeom prst="wedgeRectCallout">
            <a:avLst>
              <a:gd name="adj1" fmla="val -90375"/>
              <a:gd name="adj2" fmla="val -79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 “未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8"/>
          <p:cNvSpPr/>
          <p:nvPr/>
        </p:nvSpPr>
        <p:spPr>
          <a:xfrm>
            <a:off x="250920" y="5408280"/>
            <a:ext cx="1728720" cy="368640"/>
          </a:xfrm>
          <a:prstGeom prst="wedgeRectCallout">
            <a:avLst>
              <a:gd name="adj1" fmla="val -26328"/>
              <a:gd name="adj2" fmla="val -640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选择黄色节次，被选课程排进上面的班级课表和下面的教师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9">
            <a:hlinkClick r:id="rId2" action="ppaction://hlinksldjump"/>
          </p:cNvPr>
          <p:cNvSpPr/>
          <p:nvPr/>
        </p:nvSpPr>
        <p:spPr>
          <a:xfrm>
            <a:off x="8244000" y="6090840"/>
            <a:ext cx="687240" cy="42300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2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2" y="20200"/>
                </a:lnTo>
                <a:lnTo>
                  <a:pt x="33682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2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2" h="21600">
                <a:moveTo>
                  <a:pt x="10534" y="3794"/>
                </a:moveTo>
                <a:lnTo>
                  <a:pt x="24547" y="10800"/>
                </a:lnTo>
                <a:lnTo>
                  <a:pt x="1053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>
            <a:hlinkClick r:id="rId3" action="ppaction://hlinksldjump"/>
          </p:cNvPr>
          <p:cNvSpPr/>
          <p:nvPr/>
        </p:nvSpPr>
        <p:spPr>
          <a:xfrm>
            <a:off x="651672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>
            <a:off x="3203640" y="2849400"/>
            <a:ext cx="4753080" cy="642600"/>
          </a:xfrm>
          <a:prstGeom prst="wedgeRectCallout">
            <a:avLst>
              <a:gd name="adj1" fmla="val -52995"/>
              <a:gd name="adj2" fmla="val -132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“人班”排课结束后，按“退出人排班级课表”按钮。不管该班课表是否全部排好，都可以退出“人班”。可以用其他方式继续排本班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4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6000"/>
                            </p:stCondLst>
                            <p:childTnLst>
                              <p:par>
                                <p:cTn id="7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"/>
          <p:cNvSpPr/>
          <p:nvPr/>
        </p:nvSpPr>
        <p:spPr>
          <a:xfrm>
            <a:off x="4427640" y="115920"/>
            <a:ext cx="453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课调课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系统指导下人工编排教师课表，用于排难排的和有特殊要求的教师课表。“人室”排课方法类似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" action="ppaction://hlinkshowjump?jump=nextslide"/>
          </p:cNvPr>
          <p:cNvSpPr/>
          <p:nvPr/>
        </p:nvSpPr>
        <p:spPr>
          <a:xfrm>
            <a:off x="826308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1403280" y="401400"/>
            <a:ext cx="792360" cy="642600"/>
          </a:xfrm>
          <a:prstGeom prst="wedgeRectCallout">
            <a:avLst>
              <a:gd name="adj1" fmla="val 16300"/>
              <a:gd name="adj2" fmla="val 1545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人师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24000" y="474480"/>
            <a:ext cx="792000" cy="368640"/>
          </a:xfrm>
          <a:prstGeom prst="wedgeRectCallout">
            <a:avLst>
              <a:gd name="adj1" fmla="val 10699"/>
              <a:gd name="adj2" fmla="val 39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2484360" y="474480"/>
            <a:ext cx="1440000" cy="642600"/>
          </a:xfrm>
          <a:prstGeom prst="wedgeRectCallout">
            <a:avLst>
              <a:gd name="adj1" fmla="val 134226"/>
              <a:gd name="adj2" fmla="val 222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教师”框选择一个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1"/>
          <p:cNvSpPr/>
          <p:nvPr/>
        </p:nvSpPr>
        <p:spPr>
          <a:xfrm>
            <a:off x="250920" y="5421960"/>
            <a:ext cx="2376360" cy="368640"/>
          </a:xfrm>
          <a:prstGeom prst="wedgeRectCallout">
            <a:avLst>
              <a:gd name="adj1" fmla="val -36444"/>
              <a:gd name="adj2" fmla="val -653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该教师的课表上选择白色节次，被选课程排进上面的教师课表和下面的班级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2">
            <a:hlinkClick r:id="rId2" action="ppaction://hlinksldjump"/>
          </p:cNvPr>
          <p:cNvSpPr/>
          <p:nvPr/>
        </p:nvSpPr>
        <p:spPr>
          <a:xfrm>
            <a:off x="8244000" y="6090840"/>
            <a:ext cx="687240" cy="42300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2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2" y="20200"/>
                </a:lnTo>
                <a:lnTo>
                  <a:pt x="33682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2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2" h="21600">
                <a:moveTo>
                  <a:pt x="10534" y="3794"/>
                </a:moveTo>
                <a:lnTo>
                  <a:pt x="24547" y="10800"/>
                </a:lnTo>
                <a:lnTo>
                  <a:pt x="1053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3">
            <a:hlinkClick r:id="rId3" action="ppaction://hlinksldjump"/>
          </p:cNvPr>
          <p:cNvSpPr/>
          <p:nvPr/>
        </p:nvSpPr>
        <p:spPr>
          <a:xfrm>
            <a:off x="651672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>
            <a:off x="5651640" y="3327480"/>
            <a:ext cx="2232000" cy="642600"/>
          </a:xfrm>
          <a:prstGeom prst="wedgeRectCallout">
            <a:avLst>
              <a:gd name="adj1" fmla="val -131856"/>
              <a:gd name="adj2" fmla="val -214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“人班”排课结束后，按“退出人排班级课表”按钮。不管该教师课表是否全部排好，都可以退出“人师”。可以用其他方式继续排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6"/>
          <p:cNvSpPr/>
          <p:nvPr/>
        </p:nvSpPr>
        <p:spPr>
          <a:xfrm>
            <a:off x="2484360" y="3276000"/>
            <a:ext cx="1081080" cy="1191600"/>
          </a:xfrm>
          <a:prstGeom prst="wedgeRectCallout">
            <a:avLst>
              <a:gd name="adj1" fmla="val -87712"/>
              <a:gd name="adj2" fmla="val -147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该教师任教的课程”框选择一个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7"/>
          <p:cNvSpPr/>
          <p:nvPr/>
        </p:nvSpPr>
        <p:spPr>
          <a:xfrm>
            <a:off x="3708360" y="3276000"/>
            <a:ext cx="1584360" cy="917280"/>
          </a:xfrm>
          <a:prstGeom prst="wedgeRectCallout">
            <a:avLst>
              <a:gd name="adj1" fmla="val -97273"/>
              <a:gd name="adj2" fmla="val -174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任教的班级及节数”框选择一个未排节数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8"/>
          <p:cNvSpPr/>
          <p:nvPr/>
        </p:nvSpPr>
        <p:spPr>
          <a:xfrm>
            <a:off x="3132000" y="5357160"/>
            <a:ext cx="3527640" cy="642600"/>
          </a:xfrm>
          <a:prstGeom prst="wedgeRectCallout">
            <a:avLst>
              <a:gd name="adj1" fmla="val -21921"/>
              <a:gd name="adj2" fmla="val -49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室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教室课表，方法和“人师”类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9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7000"/>
                            </p:stCondLst>
                            <p:childTnLst>
                              <p:par>
                                <p:cTn id="7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90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5292720" y="33336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详细的班级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>
            <a:hlinkClick r:id="" action="ppaction://hlinkshowjump?jump=nextslide"/>
          </p:cNvPr>
          <p:cNvSpPr/>
          <p:nvPr/>
        </p:nvSpPr>
        <p:spPr>
          <a:xfrm>
            <a:off x="6912000" y="608472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班级详细课表"/>
          <p:cNvPicPr/>
          <p:nvPr/>
        </p:nvPicPr>
        <p:blipFill>
          <a:blip r:embed="rId1"/>
          <a:stretch/>
        </p:blipFill>
        <p:spPr>
          <a:xfrm>
            <a:off x="900000" y="765000"/>
            <a:ext cx="3490920" cy="575964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9"/>
          <p:cNvSpPr/>
          <p:nvPr/>
        </p:nvSpPr>
        <p:spPr>
          <a:xfrm>
            <a:off x="5003640" y="3491280"/>
            <a:ext cx="2016360" cy="368640"/>
          </a:xfrm>
          <a:prstGeom prst="wedgeRectCallout">
            <a:avLst>
              <a:gd name="adj1" fmla="val -109671"/>
              <a:gd name="adj2" fmla="val -21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不同背景色和字的颜色区别不同的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5003640" y="1919880"/>
            <a:ext cx="1584360" cy="368640"/>
          </a:xfrm>
          <a:prstGeom prst="wedgeRectCallout">
            <a:avLst>
              <a:gd name="adj1" fmla="val -243180"/>
              <a:gd name="adj2" fmla="val -155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1">
            <a:hlinkClick r:id="rId2" action="ppaction://hlinksldjump"/>
          </p:cNvPr>
          <p:cNvSpPr/>
          <p:nvPr/>
        </p:nvSpPr>
        <p:spPr>
          <a:xfrm>
            <a:off x="6877080" y="4644720"/>
            <a:ext cx="1724040" cy="423000"/>
          </a:xfrm>
          <a:custGeom>
            <a:avLst/>
            <a:gdLst>
              <a:gd name="textAreaLeft" fmla="*/ 27360 w 1724040"/>
              <a:gd name="textAreaRight" fmla="*/ 1696680 w 17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7980" h="21600">
                <a:moveTo>
                  <a:pt x="0" y="0"/>
                </a:moveTo>
                <a:lnTo>
                  <a:pt x="87980" y="0"/>
                </a:lnTo>
                <a:lnTo>
                  <a:pt x="87980" y="21600"/>
                </a:lnTo>
                <a:lnTo>
                  <a:pt x="0" y="21600"/>
                </a:lnTo>
                <a:close/>
              </a:path>
              <a:path fill="lightenLess" w="87980" h="21600">
                <a:moveTo>
                  <a:pt x="0" y="0"/>
                </a:moveTo>
                <a:lnTo>
                  <a:pt x="87980" y="0"/>
                </a:lnTo>
                <a:lnTo>
                  <a:pt x="86580" y="1400"/>
                </a:lnTo>
                <a:lnTo>
                  <a:pt x="1400" y="1400"/>
                </a:lnTo>
                <a:close/>
              </a:path>
              <a:path fill="darken" w="87980" h="21600">
                <a:moveTo>
                  <a:pt x="87980" y="0"/>
                </a:moveTo>
                <a:lnTo>
                  <a:pt x="87980" y="21600"/>
                </a:lnTo>
                <a:lnTo>
                  <a:pt x="86580" y="20200"/>
                </a:lnTo>
                <a:lnTo>
                  <a:pt x="86580" y="1400"/>
                </a:lnTo>
                <a:close/>
              </a:path>
              <a:path fill="darkenLess" w="87980" h="21600">
                <a:moveTo>
                  <a:pt x="87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80" y="20200"/>
                </a:lnTo>
                <a:close/>
              </a:path>
              <a:path fill="lighten" w="87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80" h="21600">
                <a:moveTo>
                  <a:pt x="36983" y="10800"/>
                </a:moveTo>
                <a:lnTo>
                  <a:pt x="50996" y="3794"/>
                </a:lnTo>
                <a:lnTo>
                  <a:pt x="509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2">
            <a:hlinkClick r:id="" action="ppaction://hlinkshowjump?jump=previousslide"/>
          </p:cNvPr>
          <p:cNvSpPr/>
          <p:nvPr/>
        </p:nvSpPr>
        <p:spPr>
          <a:xfrm>
            <a:off x="6877080" y="537372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10800"/>
                </a:moveTo>
                <a:lnTo>
                  <a:pt x="50197" y="3794"/>
                </a:lnTo>
                <a:lnTo>
                  <a:pt x="501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261040" cy="53276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2"/>
          <p:cNvSpPr/>
          <p:nvPr/>
        </p:nvSpPr>
        <p:spPr>
          <a:xfrm>
            <a:off x="468360" y="324000"/>
            <a:ext cx="81360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详细的教师课表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详细的教室课表的格式与此类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5">
            <a:hlinkClick r:id="rId2" action="ppaction://hlinksldjump"/>
          </p:cNvPr>
          <p:cNvSpPr/>
          <p:nvPr/>
        </p:nvSpPr>
        <p:spPr>
          <a:xfrm>
            <a:off x="7308720" y="396360"/>
            <a:ext cx="1727280" cy="423000"/>
          </a:xfrm>
          <a:custGeom>
            <a:avLst/>
            <a:gdLst>
              <a:gd name="textAreaLeft" fmla="*/ 27360 w 1727280"/>
              <a:gd name="textAreaRight" fmla="*/ 1699920 w 1727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8145" h="21600">
                <a:moveTo>
                  <a:pt x="0" y="0"/>
                </a:moveTo>
                <a:lnTo>
                  <a:pt x="88145" y="0"/>
                </a:lnTo>
                <a:lnTo>
                  <a:pt x="88145" y="21600"/>
                </a:lnTo>
                <a:lnTo>
                  <a:pt x="0" y="21600"/>
                </a:lnTo>
                <a:close/>
              </a:path>
              <a:path fill="lightenLess" w="88145" h="21600">
                <a:moveTo>
                  <a:pt x="0" y="0"/>
                </a:moveTo>
                <a:lnTo>
                  <a:pt x="88145" y="0"/>
                </a:lnTo>
                <a:lnTo>
                  <a:pt x="86745" y="1400"/>
                </a:lnTo>
                <a:lnTo>
                  <a:pt x="1400" y="1400"/>
                </a:lnTo>
                <a:close/>
              </a:path>
              <a:path fill="darken" w="88145" h="21600">
                <a:moveTo>
                  <a:pt x="88145" y="0"/>
                </a:moveTo>
                <a:lnTo>
                  <a:pt x="88145" y="21600"/>
                </a:lnTo>
                <a:lnTo>
                  <a:pt x="86745" y="20200"/>
                </a:lnTo>
                <a:lnTo>
                  <a:pt x="86745" y="1400"/>
                </a:lnTo>
                <a:close/>
              </a:path>
              <a:path fill="darkenLess" w="88145" h="21600">
                <a:moveTo>
                  <a:pt x="88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745" y="20200"/>
                </a:lnTo>
                <a:close/>
              </a:path>
              <a:path fill="lighten" w="88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145" h="21600">
                <a:moveTo>
                  <a:pt x="37066" y="3794"/>
                </a:moveTo>
                <a:lnTo>
                  <a:pt x="51079" y="10800"/>
                </a:lnTo>
                <a:lnTo>
                  <a:pt x="370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>
            <a:hlinkClick r:id="" action="ppaction://hlinkshowjump?jump=nextslide"/>
          </p:cNvPr>
          <p:cNvSpPr/>
          <p:nvPr/>
        </p:nvSpPr>
        <p:spPr>
          <a:xfrm>
            <a:off x="7308720" y="177336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5651640" y="1992600"/>
            <a:ext cx="1584360" cy="368640"/>
          </a:xfrm>
          <a:prstGeom prst="wedgeRectCallout">
            <a:avLst>
              <a:gd name="adj1" fmla="val -107402"/>
              <a:gd name="adj2" fmla="val 1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5651640" y="5645160"/>
            <a:ext cx="3097080" cy="642600"/>
          </a:xfrm>
          <a:prstGeom prst="wedgeRectCallout">
            <a:avLst>
              <a:gd name="adj1" fmla="val -193768"/>
              <a:gd name="adj2" fmla="val -396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不同背景色区别相同课头的不同的课程。本课表中，黄背景色黑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班的审计，白背景色黑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班的审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1">
            <a:hlinkClick r:id="rId3" action="ppaction://hlinksldjump"/>
          </p:cNvPr>
          <p:cNvSpPr/>
          <p:nvPr/>
        </p:nvSpPr>
        <p:spPr>
          <a:xfrm>
            <a:off x="7308720" y="828360"/>
            <a:ext cx="1724040" cy="423000"/>
          </a:xfrm>
          <a:custGeom>
            <a:avLst/>
            <a:gdLst>
              <a:gd name="textAreaLeft" fmla="*/ 27360 w 1724040"/>
              <a:gd name="textAreaRight" fmla="*/ 1696680 w 17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7980" h="21600">
                <a:moveTo>
                  <a:pt x="0" y="0"/>
                </a:moveTo>
                <a:lnTo>
                  <a:pt x="87980" y="0"/>
                </a:lnTo>
                <a:lnTo>
                  <a:pt x="87980" y="21600"/>
                </a:lnTo>
                <a:lnTo>
                  <a:pt x="0" y="21600"/>
                </a:lnTo>
                <a:close/>
              </a:path>
              <a:path fill="lightenLess" w="87980" h="21600">
                <a:moveTo>
                  <a:pt x="0" y="0"/>
                </a:moveTo>
                <a:lnTo>
                  <a:pt x="87980" y="0"/>
                </a:lnTo>
                <a:lnTo>
                  <a:pt x="86580" y="1400"/>
                </a:lnTo>
                <a:lnTo>
                  <a:pt x="1400" y="1400"/>
                </a:lnTo>
                <a:close/>
              </a:path>
              <a:path fill="darken" w="87980" h="21600">
                <a:moveTo>
                  <a:pt x="87980" y="0"/>
                </a:moveTo>
                <a:lnTo>
                  <a:pt x="87980" y="21600"/>
                </a:lnTo>
                <a:lnTo>
                  <a:pt x="86580" y="20200"/>
                </a:lnTo>
                <a:lnTo>
                  <a:pt x="86580" y="1400"/>
                </a:lnTo>
                <a:close/>
              </a:path>
              <a:path fill="darkenLess" w="87980" h="21600">
                <a:moveTo>
                  <a:pt x="87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80" y="20200"/>
                </a:lnTo>
                <a:close/>
              </a:path>
              <a:path fill="lighten" w="87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80" h="21600">
                <a:moveTo>
                  <a:pt x="36983" y="10800"/>
                </a:moveTo>
                <a:lnTo>
                  <a:pt x="50996" y="3794"/>
                </a:lnTo>
                <a:lnTo>
                  <a:pt x="509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3"/>
          <p:cNvSpPr/>
          <p:nvPr/>
        </p:nvSpPr>
        <p:spPr>
          <a:xfrm>
            <a:off x="5651640" y="3334680"/>
            <a:ext cx="3095640" cy="917280"/>
          </a:xfrm>
          <a:prstGeom prst="wedgeRectCallout">
            <a:avLst>
              <a:gd name="adj1" fmla="val -96763"/>
              <a:gd name="adj2" fmla="val -46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不同颜色的字区别不同的课头（“不同的课头”就是课程不同或年级不同）。本课表中，黑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的审计，蓝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的审计，红字表示单招年级的统管基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5">
            <a:hlinkClick r:id="" action="ppaction://hlinkshowjump?jump=previousslide"/>
          </p:cNvPr>
          <p:cNvSpPr/>
          <p:nvPr/>
        </p:nvSpPr>
        <p:spPr>
          <a:xfrm>
            <a:off x="7308720" y="1341360"/>
            <a:ext cx="1727280" cy="360360"/>
          </a:xfrm>
          <a:custGeom>
            <a:avLst/>
            <a:gdLst>
              <a:gd name="textAreaLeft" fmla="*/ 23040 w 1727280"/>
              <a:gd name="textAreaRight" fmla="*/ 1704240 w 1727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451" h="21600">
                <a:moveTo>
                  <a:pt x="0" y="0"/>
                </a:moveTo>
                <a:lnTo>
                  <a:pt x="103451" y="0"/>
                </a:lnTo>
                <a:lnTo>
                  <a:pt x="103451" y="21600"/>
                </a:lnTo>
                <a:lnTo>
                  <a:pt x="0" y="21600"/>
                </a:lnTo>
                <a:close/>
              </a:path>
              <a:path fill="lightenLess" w="103451" h="21600">
                <a:moveTo>
                  <a:pt x="0" y="0"/>
                </a:moveTo>
                <a:lnTo>
                  <a:pt x="103451" y="0"/>
                </a:lnTo>
                <a:lnTo>
                  <a:pt x="102051" y="1400"/>
                </a:lnTo>
                <a:lnTo>
                  <a:pt x="1400" y="1400"/>
                </a:lnTo>
                <a:close/>
              </a:path>
              <a:path fill="darken" w="103451" h="21600">
                <a:moveTo>
                  <a:pt x="103451" y="0"/>
                </a:moveTo>
                <a:lnTo>
                  <a:pt x="103451" y="21600"/>
                </a:lnTo>
                <a:lnTo>
                  <a:pt x="102051" y="20200"/>
                </a:lnTo>
                <a:lnTo>
                  <a:pt x="102051" y="1400"/>
                </a:lnTo>
                <a:close/>
              </a:path>
              <a:path fill="darkenLess" w="103451" h="21600">
                <a:moveTo>
                  <a:pt x="103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51" y="20200"/>
                </a:lnTo>
                <a:close/>
              </a:path>
              <a:path fill="lighten" w="103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3451" h="21600">
                <a:moveTo>
                  <a:pt x="44719" y="10800"/>
                </a:moveTo>
                <a:lnTo>
                  <a:pt x="58732" y="3794"/>
                </a:lnTo>
                <a:lnTo>
                  <a:pt x="5873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6000"/>
                            </p:stCondLst>
                            <p:childTnLst>
                              <p:par>
                                <p:cTn id="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1" descr=""/>
          <p:cNvPicPr/>
          <p:nvPr/>
        </p:nvPicPr>
        <p:blipFill>
          <a:blip r:embed="rId1"/>
          <a:stretch/>
        </p:blipFill>
        <p:spPr>
          <a:xfrm>
            <a:off x="287280" y="1268280"/>
            <a:ext cx="8856720" cy="53326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250920" y="189000"/>
            <a:ext cx="266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排  课  调  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（调整长期课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324000" y="5868000"/>
            <a:ext cx="6192720" cy="368640"/>
          </a:xfrm>
          <a:prstGeom prst="wedgeRectCallout">
            <a:avLst>
              <a:gd name="adj1" fmla="val -19916"/>
              <a:gd name="adj2" fmla="val -746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中选择需调的课，需调的课成白底黑字，在班级课表中自动显示各课状态：蓝：必须调；绿：优先可调；黄：可调；橙：可调但最好不调；红：不可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2"/>
          <p:cNvSpPr/>
          <p:nvPr/>
        </p:nvSpPr>
        <p:spPr>
          <a:xfrm>
            <a:off x="3276720" y="3198600"/>
            <a:ext cx="2879640" cy="642600"/>
          </a:xfrm>
          <a:prstGeom prst="wedgeRectCallout">
            <a:avLst>
              <a:gd name="adj1" fmla="val -80259"/>
              <a:gd name="adj2" fmla="val -96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可调的课，调课成功，可以继续调课，或者按“退调”按钮（也可以在班级框单击某班级），退出调课状态，回到“查班”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3"/>
          <p:cNvSpPr/>
          <p:nvPr/>
        </p:nvSpPr>
        <p:spPr>
          <a:xfrm>
            <a:off x="3276720" y="401400"/>
            <a:ext cx="2374920" cy="642600"/>
          </a:xfrm>
          <a:prstGeom prst="wedgeRectCallout">
            <a:avLst>
              <a:gd name="adj1" fmla="val -79597"/>
              <a:gd name="adj2" fmla="val 146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调课”按钮，进入调课状态，“调课”按钮变成“退调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7">
            <a:hlinkClick r:id="rId2" action="ppaction://hlinksldjump"/>
          </p:cNvPr>
          <p:cNvSpPr/>
          <p:nvPr/>
        </p:nvSpPr>
        <p:spPr>
          <a:xfrm>
            <a:off x="8172360" y="38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>
            <a:hlinkClick r:id="rId3" action="ppaction://hlinksldjump"/>
          </p:cNvPr>
          <p:cNvSpPr/>
          <p:nvPr/>
        </p:nvSpPr>
        <p:spPr>
          <a:xfrm>
            <a:off x="8197920" y="5810760"/>
            <a:ext cx="682560" cy="423000"/>
          </a:xfrm>
          <a:custGeom>
            <a:avLst/>
            <a:gdLst>
              <a:gd name="textAreaLeft" fmla="*/ 27360 w 682560"/>
              <a:gd name="textAreaRight" fmla="*/ 655200 w 6825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843" h="21600">
                <a:moveTo>
                  <a:pt x="0" y="0"/>
                </a:moveTo>
                <a:lnTo>
                  <a:pt x="34843" y="0"/>
                </a:lnTo>
                <a:lnTo>
                  <a:pt x="34843" y="21600"/>
                </a:lnTo>
                <a:lnTo>
                  <a:pt x="0" y="21600"/>
                </a:lnTo>
                <a:close/>
              </a:path>
              <a:path fill="lightenLess" w="34843" h="21600">
                <a:moveTo>
                  <a:pt x="0" y="0"/>
                </a:moveTo>
                <a:lnTo>
                  <a:pt x="34843" y="0"/>
                </a:lnTo>
                <a:lnTo>
                  <a:pt x="33443" y="1400"/>
                </a:lnTo>
                <a:lnTo>
                  <a:pt x="1400" y="1400"/>
                </a:lnTo>
                <a:close/>
              </a:path>
              <a:path fill="darken" w="34843" h="21600">
                <a:moveTo>
                  <a:pt x="34843" y="0"/>
                </a:moveTo>
                <a:lnTo>
                  <a:pt x="34843" y="21600"/>
                </a:lnTo>
                <a:lnTo>
                  <a:pt x="33443" y="20200"/>
                </a:lnTo>
                <a:lnTo>
                  <a:pt x="33443" y="1400"/>
                </a:lnTo>
                <a:close/>
              </a:path>
              <a:path fill="darkenLess" w="34843" h="21600">
                <a:moveTo>
                  <a:pt x="3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43" y="20200"/>
                </a:lnTo>
                <a:close/>
              </a:path>
              <a:path fill="lighten" w="3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43" h="21600">
                <a:moveTo>
                  <a:pt x="10415" y="3794"/>
                </a:moveTo>
                <a:lnTo>
                  <a:pt x="24428" y="10800"/>
                </a:lnTo>
                <a:lnTo>
                  <a:pt x="104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4"/>
          <p:cNvSpPr/>
          <p:nvPr/>
        </p:nvSpPr>
        <p:spPr>
          <a:xfrm>
            <a:off x="5867280" y="538560"/>
            <a:ext cx="936720" cy="368640"/>
          </a:xfrm>
          <a:prstGeom prst="wedgeRectCallout">
            <a:avLst>
              <a:gd name="adj1" fmla="val -342699"/>
              <a:gd name="adj2" fmla="val 368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长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5"/>
          <p:cNvSpPr/>
          <p:nvPr/>
        </p:nvSpPr>
        <p:spPr>
          <a:xfrm>
            <a:off x="6659640" y="2628360"/>
            <a:ext cx="1441440" cy="1191600"/>
          </a:xfrm>
          <a:prstGeom prst="wedgeRectCallout">
            <a:avLst>
              <a:gd name="adj1" fmla="val -315388"/>
              <a:gd name="adj2" fmla="val -122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退调后可以按“撤调”按钮，撤销已进行的调课（最多撤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步调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>
            <a:hlinkClick r:id="" action="ppaction://hlinkshowjump?jump=previousslide"/>
          </p:cNvPr>
          <p:cNvSpPr/>
          <p:nvPr/>
        </p:nvSpPr>
        <p:spPr>
          <a:xfrm>
            <a:off x="8172360" y="4797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0"/>
                            </p:stCondLst>
                            <p:childTnLst>
                              <p:par>
                                <p:cTn id="85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4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60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1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250920" y="189000"/>
            <a:ext cx="252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排 课 调 课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临时调课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3059280" y="3268440"/>
            <a:ext cx="1079280" cy="368640"/>
          </a:xfrm>
          <a:prstGeom prst="wedgeRectCallout">
            <a:avLst>
              <a:gd name="adj1" fmla="val -114986"/>
              <a:gd name="adj2" fmla="val -891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可调的课，调课成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771640" y="438840"/>
            <a:ext cx="2374920" cy="642600"/>
          </a:xfrm>
          <a:prstGeom prst="wedgeRectCallout">
            <a:avLst>
              <a:gd name="adj1" fmla="val -66231"/>
              <a:gd name="adj2" fmla="val 187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调课”按钮，进入调课状态，“调课”按钮变成“退调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7">
            <a:hlinkClick r:id="rId2" action="ppaction://hlinksldjump"/>
          </p:cNvPr>
          <p:cNvSpPr/>
          <p:nvPr/>
        </p:nvSpPr>
        <p:spPr>
          <a:xfrm>
            <a:off x="6732720" y="476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">
            <a:hlinkClick r:id="" action="ppaction://hlinkshowjump?jump=nextslide"/>
          </p:cNvPr>
          <p:cNvSpPr/>
          <p:nvPr/>
        </p:nvSpPr>
        <p:spPr>
          <a:xfrm>
            <a:off x="8172360" y="616680"/>
            <a:ext cx="682560" cy="422280"/>
          </a:xfrm>
          <a:custGeom>
            <a:avLst/>
            <a:gdLst>
              <a:gd name="textAreaLeft" fmla="*/ 27360 w 682560"/>
              <a:gd name="textAreaRight" fmla="*/ 655200 w 682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4902" h="21600">
                <a:moveTo>
                  <a:pt x="0" y="0"/>
                </a:moveTo>
                <a:lnTo>
                  <a:pt x="34902" y="0"/>
                </a:lnTo>
                <a:lnTo>
                  <a:pt x="34902" y="21600"/>
                </a:lnTo>
                <a:lnTo>
                  <a:pt x="0" y="21600"/>
                </a:lnTo>
                <a:close/>
              </a:path>
              <a:path fill="lightenLess" w="34902" h="21600">
                <a:moveTo>
                  <a:pt x="0" y="0"/>
                </a:moveTo>
                <a:lnTo>
                  <a:pt x="34902" y="0"/>
                </a:lnTo>
                <a:lnTo>
                  <a:pt x="33502" y="1400"/>
                </a:lnTo>
                <a:lnTo>
                  <a:pt x="1400" y="1400"/>
                </a:lnTo>
                <a:close/>
              </a:path>
              <a:path fill="darken" w="34902" h="21600">
                <a:moveTo>
                  <a:pt x="34902" y="0"/>
                </a:moveTo>
                <a:lnTo>
                  <a:pt x="34902" y="21600"/>
                </a:lnTo>
                <a:lnTo>
                  <a:pt x="33502" y="20200"/>
                </a:lnTo>
                <a:lnTo>
                  <a:pt x="33502" y="1400"/>
                </a:lnTo>
                <a:close/>
              </a:path>
              <a:path fill="darkenLess" w="34902" h="21600">
                <a:moveTo>
                  <a:pt x="34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02" y="20200"/>
                </a:lnTo>
                <a:close/>
              </a:path>
              <a:path fill="lighten" w="34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02" h="21600">
                <a:moveTo>
                  <a:pt x="10445" y="3794"/>
                </a:moveTo>
                <a:lnTo>
                  <a:pt x="24458" y="10800"/>
                </a:lnTo>
                <a:lnTo>
                  <a:pt x="104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5292720" y="467640"/>
            <a:ext cx="1225440" cy="642600"/>
          </a:xfrm>
          <a:prstGeom prst="wedgeRectCallout">
            <a:avLst>
              <a:gd name="adj1" fmla="val -241685"/>
              <a:gd name="adj2" fmla="val 2356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临时”，出现“日历”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2" descr=""/>
          <p:cNvPicPr/>
          <p:nvPr/>
        </p:nvPicPr>
        <p:blipFill>
          <a:blip r:embed="rId3"/>
          <a:stretch/>
        </p:blipFill>
        <p:spPr>
          <a:xfrm>
            <a:off x="6732720" y="1916280"/>
            <a:ext cx="2155680" cy="1203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6766200" cy="99072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13"/>
          <p:cNvSpPr/>
          <p:nvPr/>
        </p:nvSpPr>
        <p:spPr>
          <a:xfrm>
            <a:off x="6300720" y="3425760"/>
            <a:ext cx="2521080" cy="642600"/>
          </a:xfrm>
          <a:prstGeom prst="wedgeRectCallout">
            <a:avLst>
              <a:gd name="adj1" fmla="val 11875"/>
              <a:gd name="adj2" fmla="val -2116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日历”框选择“开始日期”和“结束日期”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>
            <a:off x="6588000" y="5868000"/>
            <a:ext cx="2232000" cy="368640"/>
          </a:xfrm>
          <a:prstGeom prst="wedgeRectCallout">
            <a:avLst>
              <a:gd name="adj1" fmla="val -162787"/>
              <a:gd name="adj2" fmla="val -17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出现打印“临时调课通知单”的对话框，按“是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0"/>
          <p:cNvSpPr/>
          <p:nvPr/>
        </p:nvSpPr>
        <p:spPr>
          <a:xfrm>
            <a:off x="4500720" y="3189960"/>
            <a:ext cx="1584000" cy="642600"/>
          </a:xfrm>
          <a:prstGeom prst="wedgeRectCallout">
            <a:avLst>
              <a:gd name="adj1" fmla="val -190078"/>
              <a:gd name="adj2" fmla="val -258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继续在班级课表上选择需调的课或者按“退调”按钮退出调课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324000" y="5868000"/>
            <a:ext cx="6192720" cy="368640"/>
          </a:xfrm>
          <a:prstGeom prst="wedgeRectCallout">
            <a:avLst>
              <a:gd name="adj1" fmla="val -43546"/>
              <a:gd name="adj2" fmla="val -723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中选择需调的课，需调的课成白底黑字，在班级课表中自动显示各课状态：蓝：必须调；绿：优先可调；黄：可调；橙：可调但最好不调；红：不可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6">
            <a:hlinkClick r:id="" action="ppaction://hlinkshowjump?jump=previousslide"/>
          </p:cNvPr>
          <p:cNvSpPr/>
          <p:nvPr/>
        </p:nvSpPr>
        <p:spPr>
          <a:xfrm>
            <a:off x="7451640" y="476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900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1000"/>
                            </p:stCondLst>
                            <p:childTnLst>
                              <p:par>
                                <p:cTn id="9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1000"/>
                            </p:stCondLst>
                            <p:childTnLst>
                              <p:par>
                                <p:cTn id="90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9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77440" cy="5224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9" descr=""/>
          <p:cNvPicPr/>
          <p:nvPr/>
        </p:nvPicPr>
        <p:blipFill>
          <a:blip r:embed="rId2"/>
          <a:stretch/>
        </p:blipFill>
        <p:spPr>
          <a:xfrm>
            <a:off x="6988320" y="836640"/>
            <a:ext cx="2155680" cy="22636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7812000" y="260280"/>
            <a:ext cx="10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4067280" y="330120"/>
            <a:ext cx="1800000" cy="368640"/>
          </a:xfrm>
          <a:prstGeom prst="wedgeRectCallout">
            <a:avLst>
              <a:gd name="adj1" fmla="val -17111"/>
              <a:gd name="adj2" fmla="val 315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教师框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名请假教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1763640" y="330120"/>
            <a:ext cx="2106720" cy="368640"/>
          </a:xfrm>
          <a:prstGeom prst="wedgeRectCallout">
            <a:avLst>
              <a:gd name="adj1" fmla="val -1703"/>
              <a:gd name="adj2" fmla="val 227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代课”按钮，进入代课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3059280" y="2346840"/>
            <a:ext cx="3313080" cy="368640"/>
          </a:xfrm>
          <a:prstGeom prst="wedgeRectCallout">
            <a:avLst>
              <a:gd name="adj1" fmla="val -121000"/>
              <a:gd name="adj2" fmla="val 491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出现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张教师课表是请假教师的课表。其他教师课表是可以代课的教师的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3059280" y="3346920"/>
            <a:ext cx="3889080" cy="368640"/>
          </a:xfrm>
          <a:prstGeom prst="wedgeRectCallout">
            <a:avLst>
              <a:gd name="adj1" fmla="val 73787"/>
              <a:gd name="adj2" fmla="val -56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自动出现的“日历”框里选择开始日期、结束日期、请假原因和什么样的教师优先代课，按“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1">
            <a:hlinkClick r:id="" action="ppaction://hlinkshowjump?jump=nextslide"/>
          </p:cNvPr>
          <p:cNvSpPr/>
          <p:nvPr/>
        </p:nvSpPr>
        <p:spPr>
          <a:xfrm>
            <a:off x="7093080" y="6237360"/>
            <a:ext cx="1879560" cy="396720"/>
          </a:xfrm>
          <a:custGeom>
            <a:avLst/>
            <a:gdLst>
              <a:gd name="textAreaLeft" fmla="*/ 25560 w 1879560"/>
              <a:gd name="textAreaRight" fmla="*/ 1854000 w 1879560"/>
              <a:gd name="textAreaTop" fmla="*/ 25560 h 396720"/>
              <a:gd name="textAreaBottom" fmla="*/ 371160 h 396720"/>
            </a:gdLst>
            <a:ahLst/>
            <a:rect l="textAreaLeft" t="textAreaTop" r="textAreaRight" b="textAreaBottom"/>
            <a:pathLst>
              <a:path w="102262" h="21600">
                <a:moveTo>
                  <a:pt x="0" y="0"/>
                </a:moveTo>
                <a:lnTo>
                  <a:pt x="102262" y="0"/>
                </a:lnTo>
                <a:lnTo>
                  <a:pt x="102262" y="21600"/>
                </a:lnTo>
                <a:lnTo>
                  <a:pt x="0" y="21600"/>
                </a:lnTo>
                <a:close/>
              </a:path>
              <a:path fill="lightenLess" w="102262" h="21600">
                <a:moveTo>
                  <a:pt x="0" y="0"/>
                </a:moveTo>
                <a:lnTo>
                  <a:pt x="102262" y="0"/>
                </a:lnTo>
                <a:lnTo>
                  <a:pt x="100862" y="1400"/>
                </a:lnTo>
                <a:lnTo>
                  <a:pt x="1400" y="1400"/>
                </a:lnTo>
                <a:close/>
              </a:path>
              <a:path fill="darken" w="102262" h="21600">
                <a:moveTo>
                  <a:pt x="102262" y="0"/>
                </a:moveTo>
                <a:lnTo>
                  <a:pt x="102262" y="21600"/>
                </a:lnTo>
                <a:lnTo>
                  <a:pt x="100862" y="20200"/>
                </a:lnTo>
                <a:lnTo>
                  <a:pt x="100862" y="1400"/>
                </a:lnTo>
                <a:close/>
              </a:path>
              <a:path fill="darkenLess" w="102262" h="21600">
                <a:moveTo>
                  <a:pt x="102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62" y="20200"/>
                </a:lnTo>
                <a:close/>
              </a:path>
              <a:path fill="lighten" w="102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262" h="21600">
                <a:moveTo>
                  <a:pt x="44125" y="3794"/>
                </a:moveTo>
                <a:lnTo>
                  <a:pt x="58138" y="10800"/>
                </a:lnTo>
                <a:lnTo>
                  <a:pt x="4412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2">
            <a:hlinkClick r:id="rId3" action="ppaction://hlinksldjump"/>
          </p:cNvPr>
          <p:cNvSpPr/>
          <p:nvPr/>
        </p:nvSpPr>
        <p:spPr>
          <a:xfrm>
            <a:off x="1403280" y="6228360"/>
            <a:ext cx="1800360" cy="423000"/>
          </a:xfrm>
          <a:custGeom>
            <a:avLst/>
            <a:gdLst>
              <a:gd name="textAreaLeft" fmla="*/ 27360 w 1800360"/>
              <a:gd name="textAreaRight" fmla="*/ 1773000 w 1800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91873" h="21600">
                <a:moveTo>
                  <a:pt x="0" y="0"/>
                </a:moveTo>
                <a:lnTo>
                  <a:pt x="91873" y="0"/>
                </a:lnTo>
                <a:lnTo>
                  <a:pt x="91873" y="21600"/>
                </a:lnTo>
                <a:lnTo>
                  <a:pt x="0" y="21600"/>
                </a:lnTo>
                <a:close/>
              </a:path>
              <a:path fill="lightenLess" w="91873" h="21600">
                <a:moveTo>
                  <a:pt x="0" y="0"/>
                </a:moveTo>
                <a:lnTo>
                  <a:pt x="91873" y="0"/>
                </a:lnTo>
                <a:lnTo>
                  <a:pt x="90473" y="1400"/>
                </a:lnTo>
                <a:lnTo>
                  <a:pt x="1400" y="1400"/>
                </a:lnTo>
                <a:close/>
              </a:path>
              <a:path fill="darken" w="91873" h="21600">
                <a:moveTo>
                  <a:pt x="91873" y="0"/>
                </a:moveTo>
                <a:lnTo>
                  <a:pt x="91873" y="21600"/>
                </a:lnTo>
                <a:lnTo>
                  <a:pt x="90473" y="20200"/>
                </a:lnTo>
                <a:lnTo>
                  <a:pt x="90473" y="1400"/>
                </a:lnTo>
                <a:close/>
              </a:path>
              <a:path fill="darkenLess" w="91873" h="21600">
                <a:moveTo>
                  <a:pt x="91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473" y="20200"/>
                </a:lnTo>
                <a:close/>
              </a:path>
              <a:path fill="lighten" w="91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873" h="21600">
                <a:moveTo>
                  <a:pt x="38930" y="3794"/>
                </a:moveTo>
                <a:lnTo>
                  <a:pt x="52943" y="10800"/>
                </a:lnTo>
                <a:lnTo>
                  <a:pt x="389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检查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6">
            <a:hlinkClick r:id="rId4" action="ppaction://hlinksldjump"/>
          </p:cNvPr>
          <p:cNvSpPr/>
          <p:nvPr/>
        </p:nvSpPr>
        <p:spPr>
          <a:xfrm>
            <a:off x="3276720" y="6229080"/>
            <a:ext cx="1724040" cy="423000"/>
          </a:xfrm>
          <a:custGeom>
            <a:avLst/>
            <a:gdLst>
              <a:gd name="textAreaLeft" fmla="*/ 27360 w 1724040"/>
              <a:gd name="textAreaRight" fmla="*/ 1696680 w 17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7980" h="21600">
                <a:moveTo>
                  <a:pt x="0" y="0"/>
                </a:moveTo>
                <a:lnTo>
                  <a:pt x="87980" y="0"/>
                </a:lnTo>
                <a:lnTo>
                  <a:pt x="87980" y="21600"/>
                </a:lnTo>
                <a:lnTo>
                  <a:pt x="0" y="21600"/>
                </a:lnTo>
                <a:close/>
              </a:path>
              <a:path fill="lightenLess" w="87980" h="21600">
                <a:moveTo>
                  <a:pt x="0" y="0"/>
                </a:moveTo>
                <a:lnTo>
                  <a:pt x="87980" y="0"/>
                </a:lnTo>
                <a:lnTo>
                  <a:pt x="86580" y="1400"/>
                </a:lnTo>
                <a:lnTo>
                  <a:pt x="1400" y="1400"/>
                </a:lnTo>
                <a:close/>
              </a:path>
              <a:path fill="darken" w="87980" h="21600">
                <a:moveTo>
                  <a:pt x="87980" y="0"/>
                </a:moveTo>
                <a:lnTo>
                  <a:pt x="87980" y="21600"/>
                </a:lnTo>
                <a:lnTo>
                  <a:pt x="86580" y="20200"/>
                </a:lnTo>
                <a:lnTo>
                  <a:pt x="86580" y="1400"/>
                </a:lnTo>
                <a:close/>
              </a:path>
              <a:path fill="darkenLess" w="87980" h="21600">
                <a:moveTo>
                  <a:pt x="87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80" y="20200"/>
                </a:lnTo>
                <a:close/>
              </a:path>
              <a:path fill="lighten" w="87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80" h="21600">
                <a:moveTo>
                  <a:pt x="36983" y="10800"/>
                </a:moveTo>
                <a:lnTo>
                  <a:pt x="50996" y="3794"/>
                </a:lnTo>
                <a:lnTo>
                  <a:pt x="509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8"/>
          <p:cNvSpPr/>
          <p:nvPr/>
        </p:nvSpPr>
        <p:spPr>
          <a:xfrm>
            <a:off x="1763640" y="5436000"/>
            <a:ext cx="2879640" cy="368640"/>
          </a:xfrm>
          <a:prstGeom prst="wedgeRectCallout">
            <a:avLst>
              <a:gd name="adj1" fmla="val -96898"/>
              <a:gd name="adj2" fmla="val -310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请假教师课表上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需代的课，自动出现可以代这节课的教师的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20"/>
          <p:cNvSpPr/>
          <p:nvPr/>
        </p:nvSpPr>
        <p:spPr>
          <a:xfrm>
            <a:off x="4788000" y="5436000"/>
            <a:ext cx="1368360" cy="368640"/>
          </a:xfrm>
          <a:prstGeom prst="wedgeRectCallout">
            <a:avLst>
              <a:gd name="adj1" fmla="val -317041"/>
              <a:gd name="adj2" fmla="val -316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代课教师课表上选择代的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2"/>
          <p:cNvSpPr/>
          <p:nvPr/>
        </p:nvSpPr>
        <p:spPr>
          <a:xfrm>
            <a:off x="179280" y="330120"/>
            <a:ext cx="1008000" cy="368640"/>
          </a:xfrm>
          <a:prstGeom prst="wedgeRectCallout">
            <a:avLst>
              <a:gd name="adj1" fmla="val 21615"/>
              <a:gd name="adj2" fmla="val 305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提示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3"/>
          <p:cNvSpPr/>
          <p:nvPr/>
        </p:nvSpPr>
        <p:spPr>
          <a:xfrm>
            <a:off x="6227640" y="5298840"/>
            <a:ext cx="2232000" cy="642600"/>
          </a:xfrm>
          <a:prstGeom prst="wedgeRectCallout">
            <a:avLst>
              <a:gd name="adj1" fmla="val -195231"/>
              <a:gd name="adj2" fmla="val -5928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代课结束后按“代课确定”、“打印代课通知单”、“退出代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4">
            <a:hlinkClick r:id="" action="ppaction://hlinkshowjump?jump=previousslide"/>
          </p:cNvPr>
          <p:cNvSpPr/>
          <p:nvPr/>
        </p:nvSpPr>
        <p:spPr>
          <a:xfrm>
            <a:off x="5076720" y="6237360"/>
            <a:ext cx="1944720" cy="43164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7254" h="21600">
                <a:moveTo>
                  <a:pt x="0" y="0"/>
                </a:moveTo>
                <a:lnTo>
                  <a:pt x="97254" y="0"/>
                </a:lnTo>
                <a:lnTo>
                  <a:pt x="97254" y="21600"/>
                </a:lnTo>
                <a:lnTo>
                  <a:pt x="0" y="21600"/>
                </a:lnTo>
                <a:close/>
              </a:path>
              <a:path fill="lightenLess" w="97254" h="21600">
                <a:moveTo>
                  <a:pt x="0" y="0"/>
                </a:moveTo>
                <a:lnTo>
                  <a:pt x="97254" y="0"/>
                </a:lnTo>
                <a:lnTo>
                  <a:pt x="95854" y="1400"/>
                </a:lnTo>
                <a:lnTo>
                  <a:pt x="1400" y="1400"/>
                </a:lnTo>
                <a:close/>
              </a:path>
              <a:path fill="darken" w="97254" h="21600">
                <a:moveTo>
                  <a:pt x="97254" y="0"/>
                </a:moveTo>
                <a:lnTo>
                  <a:pt x="97254" y="21600"/>
                </a:lnTo>
                <a:lnTo>
                  <a:pt x="95854" y="20200"/>
                </a:lnTo>
                <a:lnTo>
                  <a:pt x="95854" y="1400"/>
                </a:lnTo>
                <a:close/>
              </a:path>
              <a:path fill="darkenLess" w="97254" h="21600">
                <a:moveTo>
                  <a:pt x="97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854" y="20200"/>
                </a:lnTo>
                <a:close/>
              </a:path>
              <a:path fill="lighten" w="97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254" h="21600">
                <a:moveTo>
                  <a:pt x="41621" y="10800"/>
                </a:moveTo>
                <a:lnTo>
                  <a:pt x="55633" y="3794"/>
                </a:lnTo>
                <a:lnTo>
                  <a:pt x="556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000"/>
                            </p:stCondLst>
                            <p:childTnLst>
                              <p:par>
                                <p:cTn id="92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000"/>
                            </p:stCondLst>
                            <p:childTnLst>
                              <p:par>
                                <p:cTn id="9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400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29000"/>
                            </p:stCondLst>
                            <p:childTnLst>
                              <p:par>
                                <p:cTn id="9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6616800" cy="51120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5"/>
          <p:cNvSpPr/>
          <p:nvPr/>
        </p:nvSpPr>
        <p:spPr>
          <a:xfrm>
            <a:off x="179280" y="189000"/>
            <a:ext cx="604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查课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例：检查一周内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节过多的教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6948360" y="439560"/>
            <a:ext cx="2016360" cy="642600"/>
          </a:xfrm>
          <a:prstGeom prst="wedgeRectCallout">
            <a:avLst>
              <a:gd name="adj1" fmla="val -49074"/>
              <a:gd name="adj2" fmla="val 535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主窗体”按“检查”按钮，出现“检查”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948360" y="1553040"/>
            <a:ext cx="2016360" cy="368640"/>
          </a:xfrm>
          <a:prstGeom prst="wedgeRectCallout">
            <a:avLst>
              <a:gd name="adj1" fmla="val -304175"/>
              <a:gd name="adj2" fmla="val 174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检查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6948360" y="3354120"/>
            <a:ext cx="2016360" cy="642600"/>
          </a:xfrm>
          <a:prstGeom prst="wedgeRectCallout">
            <a:avLst>
              <a:gd name="adj1" fmla="val -157620"/>
              <a:gd name="adj2" fmla="val 358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检查”按钮，蓝色框出现检查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6948360" y="4715280"/>
            <a:ext cx="1944720" cy="368640"/>
          </a:xfrm>
          <a:prstGeom prst="wedgeRectCallout">
            <a:avLst>
              <a:gd name="adj1" fmla="val -253791"/>
              <a:gd name="adj2" fmla="val -565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某行上单击，出现该教师的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>
            <a:off x="6948360" y="2338920"/>
            <a:ext cx="1944720" cy="368640"/>
          </a:xfrm>
          <a:prstGeom prst="wedgeRectCallout">
            <a:avLst>
              <a:gd name="adj1" fmla="val -361601"/>
              <a:gd name="adj2" fmla="val 651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有的检查项目需要选择适当的检查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>
            <a:hlinkClick r:id="rId2" action="ppaction://hlinksldjump"/>
          </p:cNvPr>
          <p:cNvSpPr/>
          <p:nvPr/>
        </p:nvSpPr>
        <p:spPr>
          <a:xfrm>
            <a:off x="6948360" y="5445000"/>
            <a:ext cx="1944720" cy="43200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7173" h="21600">
                <a:moveTo>
                  <a:pt x="0" y="0"/>
                </a:moveTo>
                <a:lnTo>
                  <a:pt x="97173" y="0"/>
                </a:lnTo>
                <a:lnTo>
                  <a:pt x="97173" y="21600"/>
                </a:lnTo>
                <a:lnTo>
                  <a:pt x="0" y="21600"/>
                </a:lnTo>
                <a:close/>
              </a:path>
              <a:path fill="lightenLess" w="97173" h="21600">
                <a:moveTo>
                  <a:pt x="0" y="0"/>
                </a:moveTo>
                <a:lnTo>
                  <a:pt x="97173" y="0"/>
                </a:lnTo>
                <a:lnTo>
                  <a:pt x="95773" y="1400"/>
                </a:lnTo>
                <a:lnTo>
                  <a:pt x="1400" y="1400"/>
                </a:lnTo>
                <a:close/>
              </a:path>
              <a:path fill="darken" w="97173" h="21600">
                <a:moveTo>
                  <a:pt x="97173" y="0"/>
                </a:moveTo>
                <a:lnTo>
                  <a:pt x="97173" y="21600"/>
                </a:lnTo>
                <a:lnTo>
                  <a:pt x="95773" y="20200"/>
                </a:lnTo>
                <a:lnTo>
                  <a:pt x="95773" y="1400"/>
                </a:lnTo>
                <a:close/>
              </a:path>
              <a:path fill="darkenLess" w="97173" h="21600">
                <a:moveTo>
                  <a:pt x="9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3" y="20200"/>
                </a:lnTo>
                <a:close/>
              </a:path>
              <a:path fill="lighten" w="9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173" h="21600">
                <a:moveTo>
                  <a:pt x="41580" y="10800"/>
                </a:moveTo>
                <a:lnTo>
                  <a:pt x="55593" y="3794"/>
                </a:lnTo>
                <a:lnTo>
                  <a:pt x="5559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4">
            <a:hlinkClick r:id="rId3" action="ppaction://hlinksldjump"/>
          </p:cNvPr>
          <p:cNvSpPr/>
          <p:nvPr/>
        </p:nvSpPr>
        <p:spPr>
          <a:xfrm>
            <a:off x="6948360" y="6300360"/>
            <a:ext cx="1944720" cy="423000"/>
          </a:xfrm>
          <a:custGeom>
            <a:avLst/>
            <a:gdLst>
              <a:gd name="textAreaLeft" fmla="*/ 27360 w 1944720"/>
              <a:gd name="textAreaRight" fmla="*/ 1917360 w 19447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99239" h="21600">
                <a:moveTo>
                  <a:pt x="0" y="0"/>
                </a:moveTo>
                <a:lnTo>
                  <a:pt x="99239" y="0"/>
                </a:lnTo>
                <a:lnTo>
                  <a:pt x="99239" y="21600"/>
                </a:lnTo>
                <a:lnTo>
                  <a:pt x="0" y="21600"/>
                </a:lnTo>
                <a:close/>
              </a:path>
              <a:path fill="lightenLess" w="99239" h="21600">
                <a:moveTo>
                  <a:pt x="0" y="0"/>
                </a:moveTo>
                <a:lnTo>
                  <a:pt x="99239" y="0"/>
                </a:lnTo>
                <a:lnTo>
                  <a:pt x="97839" y="1400"/>
                </a:lnTo>
                <a:lnTo>
                  <a:pt x="1400" y="1400"/>
                </a:lnTo>
                <a:close/>
              </a:path>
              <a:path fill="darken" w="99239" h="21600">
                <a:moveTo>
                  <a:pt x="99239" y="0"/>
                </a:moveTo>
                <a:lnTo>
                  <a:pt x="99239" y="21600"/>
                </a:lnTo>
                <a:lnTo>
                  <a:pt x="97839" y="20200"/>
                </a:lnTo>
                <a:lnTo>
                  <a:pt x="97839" y="1400"/>
                </a:lnTo>
                <a:close/>
              </a:path>
              <a:path fill="darkenLess" w="99239" h="21600">
                <a:moveTo>
                  <a:pt x="99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39" y="20200"/>
                </a:lnTo>
                <a:close/>
              </a:path>
              <a:path fill="lighten" w="99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239" h="21600">
                <a:moveTo>
                  <a:pt x="42613" y="3794"/>
                </a:moveTo>
                <a:lnTo>
                  <a:pt x="56626" y="10800"/>
                </a:lnTo>
                <a:lnTo>
                  <a:pt x="4261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5">
            <a:hlinkClick r:id="" action="ppaction://hlinkshowjump?jump=previousslide"/>
          </p:cNvPr>
          <p:cNvSpPr/>
          <p:nvPr/>
        </p:nvSpPr>
        <p:spPr>
          <a:xfrm>
            <a:off x="6948360" y="5877000"/>
            <a:ext cx="1944720" cy="43164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7254" h="21600">
                <a:moveTo>
                  <a:pt x="0" y="0"/>
                </a:moveTo>
                <a:lnTo>
                  <a:pt x="97254" y="0"/>
                </a:lnTo>
                <a:lnTo>
                  <a:pt x="97254" y="21600"/>
                </a:lnTo>
                <a:lnTo>
                  <a:pt x="0" y="21600"/>
                </a:lnTo>
                <a:close/>
              </a:path>
              <a:path fill="lightenLess" w="97254" h="21600">
                <a:moveTo>
                  <a:pt x="0" y="0"/>
                </a:moveTo>
                <a:lnTo>
                  <a:pt x="97254" y="0"/>
                </a:lnTo>
                <a:lnTo>
                  <a:pt x="95854" y="1400"/>
                </a:lnTo>
                <a:lnTo>
                  <a:pt x="1400" y="1400"/>
                </a:lnTo>
                <a:close/>
              </a:path>
              <a:path fill="darken" w="97254" h="21600">
                <a:moveTo>
                  <a:pt x="97254" y="0"/>
                </a:moveTo>
                <a:lnTo>
                  <a:pt x="97254" y="21600"/>
                </a:lnTo>
                <a:lnTo>
                  <a:pt x="95854" y="20200"/>
                </a:lnTo>
                <a:lnTo>
                  <a:pt x="95854" y="1400"/>
                </a:lnTo>
                <a:close/>
              </a:path>
              <a:path fill="darkenLess" w="97254" h="21600">
                <a:moveTo>
                  <a:pt x="97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854" y="20200"/>
                </a:lnTo>
                <a:close/>
              </a:path>
              <a:path fill="lighten" w="97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254" h="21600">
                <a:moveTo>
                  <a:pt x="41621" y="10800"/>
                </a:moveTo>
                <a:lnTo>
                  <a:pt x="55633" y="3794"/>
                </a:lnTo>
                <a:lnTo>
                  <a:pt x="556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3" descr=""/>
          <p:cNvPicPr/>
          <p:nvPr/>
        </p:nvPicPr>
        <p:blipFill>
          <a:blip r:embed="rId4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"/>
          <p:cNvPicPr/>
          <p:nvPr/>
        </p:nvPicPr>
        <p:blipFill>
          <a:blip r:embed="rId6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97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98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8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7848720" cy="55069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8101080" y="1341360"/>
            <a:ext cx="10429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8209080" y="3141720"/>
            <a:ext cx="9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7093080" y="330120"/>
            <a:ext cx="1906560" cy="642600"/>
          </a:xfrm>
          <a:prstGeom prst="wedgeRectCallout">
            <a:avLst>
              <a:gd name="adj1" fmla="val -88870"/>
              <a:gd name="adj2" fmla="val 172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绿色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>
            <a:hlinkClick r:id="rId2" action="ppaction://hlinksldjump"/>
          </p:cNvPr>
          <p:cNvSpPr/>
          <p:nvPr/>
        </p:nvSpPr>
        <p:spPr>
          <a:xfrm>
            <a:off x="3132000" y="330120"/>
            <a:ext cx="1952640" cy="642600"/>
          </a:xfrm>
          <a:prstGeom prst="wedgeRectCallout">
            <a:avLst>
              <a:gd name="adj1" fmla="val -144060"/>
              <a:gd name="adj2" fmla="val 135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附加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9"/>
          <p:cNvSpPr/>
          <p:nvPr/>
        </p:nvSpPr>
        <p:spPr>
          <a:xfrm>
            <a:off x="5219640" y="277560"/>
            <a:ext cx="1800360" cy="642600"/>
          </a:xfrm>
          <a:prstGeom prst="wedgeRectCallout">
            <a:avLst>
              <a:gd name="adj1" fmla="val 10212"/>
              <a:gd name="adj2" fmla="val 142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绿色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1"/>
          <p:cNvSpPr/>
          <p:nvPr/>
        </p:nvSpPr>
        <p:spPr>
          <a:xfrm>
            <a:off x="6588000" y="1762920"/>
            <a:ext cx="1297080" cy="917280"/>
          </a:xfrm>
          <a:prstGeom prst="wedgeRectCallout">
            <a:avLst>
              <a:gd name="adj1" fmla="val -67004"/>
              <a:gd name="adj2" fmla="val -2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把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2">
            <a:hlinkClick r:id="rId3" action="ppaction://hlinksldjump"/>
          </p:cNvPr>
          <p:cNvSpPr/>
          <p:nvPr/>
        </p:nvSpPr>
        <p:spPr>
          <a:xfrm>
            <a:off x="179280" y="467280"/>
            <a:ext cx="1351080" cy="368640"/>
          </a:xfrm>
          <a:prstGeom prst="wedgeRectCallout">
            <a:avLst>
              <a:gd name="adj1" fmla="val -42837"/>
              <a:gd name="adj2" fmla="val 276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3">
            <a:hlinkClick r:id="rId4" action="ppaction://hlinksldjump"/>
          </p:cNvPr>
          <p:cNvSpPr/>
          <p:nvPr/>
        </p:nvSpPr>
        <p:spPr>
          <a:xfrm>
            <a:off x="1619280" y="330120"/>
            <a:ext cx="1351080" cy="642600"/>
          </a:xfrm>
          <a:prstGeom prst="wedgeRectCallout">
            <a:avLst>
              <a:gd name="adj1" fmla="val -147624"/>
              <a:gd name="adj2" fmla="val 221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5">
            <a:hlinkClick r:id="rId5" action="ppaction://hlinksldjump"/>
          </p:cNvPr>
          <p:cNvSpPr/>
          <p:nvPr/>
        </p:nvSpPr>
        <p:spPr>
          <a:xfrm>
            <a:off x="8172360" y="4584960"/>
            <a:ext cx="824040" cy="423000"/>
          </a:xfrm>
          <a:custGeom>
            <a:avLst/>
            <a:gdLst>
              <a:gd name="textAreaLeft" fmla="*/ 27360 w 824040"/>
              <a:gd name="textAreaRight" fmla="*/ 796680 w 8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061" h="21600">
                <a:moveTo>
                  <a:pt x="0" y="0"/>
                </a:moveTo>
                <a:lnTo>
                  <a:pt x="42061" y="0"/>
                </a:lnTo>
                <a:lnTo>
                  <a:pt x="42061" y="21600"/>
                </a:lnTo>
                <a:lnTo>
                  <a:pt x="0" y="21600"/>
                </a:lnTo>
                <a:close/>
              </a:path>
              <a:path fill="lightenLess" w="42061" h="21600">
                <a:moveTo>
                  <a:pt x="0" y="0"/>
                </a:moveTo>
                <a:lnTo>
                  <a:pt x="42061" y="0"/>
                </a:lnTo>
                <a:lnTo>
                  <a:pt x="40661" y="1400"/>
                </a:lnTo>
                <a:lnTo>
                  <a:pt x="1400" y="1400"/>
                </a:lnTo>
                <a:close/>
              </a:path>
              <a:path fill="darken" w="42061" h="21600">
                <a:moveTo>
                  <a:pt x="42061" y="0"/>
                </a:moveTo>
                <a:lnTo>
                  <a:pt x="42061" y="21600"/>
                </a:lnTo>
                <a:lnTo>
                  <a:pt x="40661" y="20200"/>
                </a:lnTo>
                <a:lnTo>
                  <a:pt x="40661" y="1400"/>
                </a:lnTo>
                <a:close/>
              </a:path>
              <a:path fill="darkenLess" w="42061" h="21600">
                <a:moveTo>
                  <a:pt x="4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61" y="20200"/>
                </a:lnTo>
                <a:close/>
              </a:path>
              <a:path fill="lighten" w="4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61" h="21600">
                <a:moveTo>
                  <a:pt x="14024" y="10800"/>
                </a:moveTo>
                <a:lnTo>
                  <a:pt x="28037" y="3794"/>
                </a:lnTo>
                <a:lnTo>
                  <a:pt x="280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7"/>
          <p:cNvSpPr/>
          <p:nvPr/>
        </p:nvSpPr>
        <p:spPr>
          <a:xfrm>
            <a:off x="5148360" y="5795640"/>
            <a:ext cx="2087640" cy="368640"/>
          </a:xfrm>
          <a:prstGeom prst="wedgeRectCallout">
            <a:avLst>
              <a:gd name="adj1" fmla="val -168240"/>
              <a:gd name="adj2" fmla="val -104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可在绿色框中编辑。在框中单击右键，出现编辑快捷菜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148360" y="3361680"/>
            <a:ext cx="2736720" cy="642600"/>
          </a:xfrm>
          <a:prstGeom prst="wedgeRectCallout">
            <a:avLst>
              <a:gd name="adj1" fmla="val -181314"/>
              <a:gd name="adj2" fmla="val -288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项目种类”框右边的下拉箭头，选择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5148360" y="4362120"/>
            <a:ext cx="2232000" cy="642600"/>
          </a:xfrm>
          <a:prstGeom prst="wedgeRectCallout">
            <a:avLst>
              <a:gd name="adj1" fmla="val -223032"/>
              <a:gd name="adj2" fmla="val -366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课表种类”框右边的下拉箭头，选择课表种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6">
            <a:hlinkClick r:id="" action="ppaction://hlinkshowjump?jump=nextslide"/>
          </p:cNvPr>
          <p:cNvSpPr/>
          <p:nvPr/>
        </p:nvSpPr>
        <p:spPr>
          <a:xfrm>
            <a:off x="8174160" y="5738400"/>
            <a:ext cx="788760" cy="423000"/>
          </a:xfrm>
          <a:custGeom>
            <a:avLst/>
            <a:gdLst>
              <a:gd name="textAreaLeft" fmla="*/ 27360 w 788760"/>
              <a:gd name="textAreaRight" fmla="*/ 761400 w 788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261" h="21600">
                <a:moveTo>
                  <a:pt x="0" y="0"/>
                </a:moveTo>
                <a:lnTo>
                  <a:pt x="40261" y="0"/>
                </a:lnTo>
                <a:lnTo>
                  <a:pt x="40261" y="21600"/>
                </a:lnTo>
                <a:lnTo>
                  <a:pt x="0" y="21600"/>
                </a:lnTo>
                <a:close/>
              </a:path>
              <a:path fill="lightenLess" w="40261" h="21600">
                <a:moveTo>
                  <a:pt x="0" y="0"/>
                </a:moveTo>
                <a:lnTo>
                  <a:pt x="40261" y="0"/>
                </a:lnTo>
                <a:lnTo>
                  <a:pt x="38861" y="1400"/>
                </a:lnTo>
                <a:lnTo>
                  <a:pt x="1400" y="1400"/>
                </a:lnTo>
                <a:close/>
              </a:path>
              <a:path fill="darken" w="40261" h="21600">
                <a:moveTo>
                  <a:pt x="40261" y="0"/>
                </a:moveTo>
                <a:lnTo>
                  <a:pt x="40261" y="21600"/>
                </a:lnTo>
                <a:lnTo>
                  <a:pt x="38861" y="20200"/>
                </a:lnTo>
                <a:lnTo>
                  <a:pt x="38861" y="1400"/>
                </a:lnTo>
                <a:close/>
              </a:path>
              <a:path fill="darkenLess" w="40261" h="21600">
                <a:moveTo>
                  <a:pt x="40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1" y="20200"/>
                </a:lnTo>
                <a:close/>
              </a:path>
              <a:path fill="lighten" w="40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1" h="21600">
                <a:moveTo>
                  <a:pt x="13124" y="3794"/>
                </a:moveTo>
                <a:lnTo>
                  <a:pt x="27137" y="10800"/>
                </a:lnTo>
                <a:lnTo>
                  <a:pt x="131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7">
            <a:hlinkClick r:id="" action="ppaction://hlinkshowjump?jump=previousslide"/>
          </p:cNvPr>
          <p:cNvSpPr/>
          <p:nvPr/>
        </p:nvSpPr>
        <p:spPr>
          <a:xfrm>
            <a:off x="8172360" y="5229360"/>
            <a:ext cx="792360" cy="43308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504" h="21600">
                <a:moveTo>
                  <a:pt x="0" y="0"/>
                </a:moveTo>
                <a:lnTo>
                  <a:pt x="39504" y="0"/>
                </a:lnTo>
                <a:lnTo>
                  <a:pt x="39504" y="21600"/>
                </a:lnTo>
                <a:lnTo>
                  <a:pt x="0" y="21600"/>
                </a:lnTo>
                <a:close/>
              </a:path>
              <a:path fill="lightenLess" w="39504" h="21600">
                <a:moveTo>
                  <a:pt x="0" y="0"/>
                </a:moveTo>
                <a:lnTo>
                  <a:pt x="39504" y="0"/>
                </a:lnTo>
                <a:lnTo>
                  <a:pt x="38104" y="1400"/>
                </a:lnTo>
                <a:lnTo>
                  <a:pt x="1400" y="1400"/>
                </a:lnTo>
                <a:close/>
              </a:path>
              <a:path fill="darken" w="39504" h="21600">
                <a:moveTo>
                  <a:pt x="39504" y="0"/>
                </a:moveTo>
                <a:lnTo>
                  <a:pt x="39504" y="21600"/>
                </a:lnTo>
                <a:lnTo>
                  <a:pt x="38104" y="20200"/>
                </a:lnTo>
                <a:lnTo>
                  <a:pt x="38104" y="1400"/>
                </a:lnTo>
                <a:close/>
              </a:path>
              <a:path fill="darkenLess" w="39504" h="21600">
                <a:moveTo>
                  <a:pt x="39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04" y="20200"/>
                </a:lnTo>
                <a:close/>
              </a:path>
              <a:path fill="lighten" w="39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04" h="21600">
                <a:moveTo>
                  <a:pt x="12746" y="10800"/>
                </a:moveTo>
                <a:lnTo>
                  <a:pt x="26759" y="3794"/>
                </a:lnTo>
                <a:lnTo>
                  <a:pt x="267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3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3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0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7775640" cy="54547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8028000" y="1557360"/>
            <a:ext cx="111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6659640" y="1974240"/>
            <a:ext cx="1081080" cy="917280"/>
          </a:xfrm>
          <a:prstGeom prst="wedgeRectCallout">
            <a:avLst>
              <a:gd name="adj1" fmla="val -78162"/>
              <a:gd name="adj2" fmla="val -65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绿色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">
            <a:hlinkClick r:id="rId2" action="ppaction://hlinksldjump"/>
          </p:cNvPr>
          <p:cNvSpPr/>
          <p:nvPr/>
        </p:nvSpPr>
        <p:spPr>
          <a:xfrm>
            <a:off x="1619280" y="393480"/>
            <a:ext cx="2089080" cy="642600"/>
          </a:xfrm>
          <a:prstGeom prst="wedgeRectCallout">
            <a:avLst>
              <a:gd name="adj1" fmla="val -42712"/>
              <a:gd name="adj2" fmla="val 131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格式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7380360" y="330840"/>
            <a:ext cx="1582560" cy="642600"/>
          </a:xfrm>
          <a:prstGeom prst="wedgeRectCallout">
            <a:avLst>
              <a:gd name="adj1" fmla="val -119592"/>
              <a:gd name="adj2" fmla="val 144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绿色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9"/>
          <p:cNvSpPr/>
          <p:nvPr/>
        </p:nvSpPr>
        <p:spPr>
          <a:xfrm>
            <a:off x="5148360" y="3065400"/>
            <a:ext cx="1439640" cy="917280"/>
          </a:xfrm>
          <a:prstGeom prst="wedgeRectCallout">
            <a:avLst>
              <a:gd name="adj1" fmla="val 26722"/>
              <a:gd name="adj2" fmla="val -157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8172360" y="3357720"/>
            <a:ext cx="8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附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292720" y="5272560"/>
            <a:ext cx="1150920" cy="368640"/>
          </a:xfrm>
          <a:prstGeom prst="wedgeRectCallout">
            <a:avLst>
              <a:gd name="adj1" fmla="val -195902"/>
              <a:gd name="adj2" fmla="val -159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可在绿色框中编辑。在框中单击右键，出现编辑快捷菜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3">
            <a:hlinkClick r:id="rId3" action="ppaction://hlinksldjump"/>
          </p:cNvPr>
          <p:cNvSpPr/>
          <p:nvPr/>
        </p:nvSpPr>
        <p:spPr>
          <a:xfrm>
            <a:off x="8101080" y="4584960"/>
            <a:ext cx="857160" cy="423000"/>
          </a:xfrm>
          <a:custGeom>
            <a:avLst/>
            <a:gdLst>
              <a:gd name="textAreaLeft" fmla="*/ 27360 w 857160"/>
              <a:gd name="textAreaRight" fmla="*/ 829800 w 8571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3751" h="21600">
                <a:moveTo>
                  <a:pt x="0" y="0"/>
                </a:moveTo>
                <a:lnTo>
                  <a:pt x="43751" y="0"/>
                </a:lnTo>
                <a:lnTo>
                  <a:pt x="43751" y="21600"/>
                </a:lnTo>
                <a:lnTo>
                  <a:pt x="0" y="21600"/>
                </a:lnTo>
                <a:close/>
              </a:path>
              <a:path fill="lightenLess" w="43751" h="21600">
                <a:moveTo>
                  <a:pt x="0" y="0"/>
                </a:moveTo>
                <a:lnTo>
                  <a:pt x="43751" y="0"/>
                </a:lnTo>
                <a:lnTo>
                  <a:pt x="42351" y="1400"/>
                </a:lnTo>
                <a:lnTo>
                  <a:pt x="1400" y="1400"/>
                </a:lnTo>
                <a:close/>
              </a:path>
              <a:path fill="darken" w="43751" h="21600">
                <a:moveTo>
                  <a:pt x="43751" y="0"/>
                </a:moveTo>
                <a:lnTo>
                  <a:pt x="43751" y="21600"/>
                </a:lnTo>
                <a:lnTo>
                  <a:pt x="42351" y="20200"/>
                </a:lnTo>
                <a:lnTo>
                  <a:pt x="42351" y="1400"/>
                </a:lnTo>
                <a:close/>
              </a:path>
              <a:path fill="darkenLess" w="43751" h="21600">
                <a:moveTo>
                  <a:pt x="43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51" y="20200"/>
                </a:lnTo>
                <a:close/>
              </a:path>
              <a:path fill="lighten" w="43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51" h="21600">
                <a:moveTo>
                  <a:pt x="14869" y="10800"/>
                </a:moveTo>
                <a:lnTo>
                  <a:pt x="28882" y="3794"/>
                </a:lnTo>
                <a:lnTo>
                  <a:pt x="2888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4">
            <a:hlinkClick r:id="rId4" action="ppaction://hlinksldjump"/>
          </p:cNvPr>
          <p:cNvSpPr/>
          <p:nvPr/>
        </p:nvSpPr>
        <p:spPr>
          <a:xfrm>
            <a:off x="179280" y="538560"/>
            <a:ext cx="1351080" cy="368640"/>
          </a:xfrm>
          <a:prstGeom prst="wedgeRectCallout">
            <a:avLst>
              <a:gd name="adj1" fmla="val -39560"/>
              <a:gd name="adj2" fmla="val 278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5">
            <a:hlinkClick r:id="rId5" action="ppaction://hlinksldjump"/>
          </p:cNvPr>
          <p:cNvSpPr/>
          <p:nvPr/>
        </p:nvSpPr>
        <p:spPr>
          <a:xfrm>
            <a:off x="324000" y="3210840"/>
            <a:ext cx="1223640" cy="642600"/>
          </a:xfrm>
          <a:prstGeom prst="wedgeRectCallout">
            <a:avLst>
              <a:gd name="adj1" fmla="val -51027"/>
              <a:gd name="adj2" fmla="val -212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7">
            <a:hlinkClick r:id="rId6" action="ppaction://hlinksldjump"/>
          </p:cNvPr>
          <p:cNvSpPr/>
          <p:nvPr/>
        </p:nvSpPr>
        <p:spPr>
          <a:xfrm>
            <a:off x="3780000" y="467280"/>
            <a:ext cx="1657080" cy="368640"/>
          </a:xfrm>
          <a:prstGeom prst="wedgeRectCallout">
            <a:avLst>
              <a:gd name="adj1" fmla="val -104578"/>
              <a:gd name="adj2" fmla="val 31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格内增加空行可以增大表格高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8">
            <a:hlinkClick r:id="rId7" action="ppaction://hlinksldjump"/>
          </p:cNvPr>
          <p:cNvSpPr/>
          <p:nvPr/>
        </p:nvSpPr>
        <p:spPr>
          <a:xfrm>
            <a:off x="324000" y="5134680"/>
            <a:ext cx="1152360" cy="642600"/>
          </a:xfrm>
          <a:prstGeom prst="wedgeRectCallout">
            <a:avLst>
              <a:gd name="adj1" fmla="val 181509"/>
              <a:gd name="adj2" fmla="val -5066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增加每格宽度字数”可以增大表格宽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5508720" y="394560"/>
            <a:ext cx="1727280" cy="642600"/>
          </a:xfrm>
          <a:prstGeom prst="wedgeRectCallout">
            <a:avLst>
              <a:gd name="adj1" fmla="val -90337"/>
              <a:gd name="adj2" fmla="val 125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隐藏选项”按钮，绿色框上移至屏幕顶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5">
            <a:hlinkClick r:id="" action="ppaction://hlinkshowjump?jump=nextslide"/>
          </p:cNvPr>
          <p:cNvSpPr/>
          <p:nvPr/>
        </p:nvSpPr>
        <p:spPr>
          <a:xfrm>
            <a:off x="8101080" y="6013080"/>
            <a:ext cx="836640" cy="423000"/>
          </a:xfrm>
          <a:custGeom>
            <a:avLst/>
            <a:gdLst>
              <a:gd name="textAreaLeft" fmla="*/ 27360 w 836640"/>
              <a:gd name="textAreaRight" fmla="*/ 809280 w 836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704" h="21600">
                <a:moveTo>
                  <a:pt x="0" y="0"/>
                </a:moveTo>
                <a:lnTo>
                  <a:pt x="42704" y="0"/>
                </a:lnTo>
                <a:lnTo>
                  <a:pt x="42704" y="21600"/>
                </a:lnTo>
                <a:lnTo>
                  <a:pt x="0" y="21600"/>
                </a:lnTo>
                <a:close/>
              </a:path>
              <a:path fill="lightenLess" w="42704" h="21600">
                <a:moveTo>
                  <a:pt x="0" y="0"/>
                </a:moveTo>
                <a:lnTo>
                  <a:pt x="42704" y="0"/>
                </a:lnTo>
                <a:lnTo>
                  <a:pt x="41304" y="1400"/>
                </a:lnTo>
                <a:lnTo>
                  <a:pt x="1400" y="1400"/>
                </a:lnTo>
                <a:close/>
              </a:path>
              <a:path fill="darken" w="42704" h="21600">
                <a:moveTo>
                  <a:pt x="42704" y="0"/>
                </a:moveTo>
                <a:lnTo>
                  <a:pt x="42704" y="21600"/>
                </a:lnTo>
                <a:lnTo>
                  <a:pt x="41304" y="20200"/>
                </a:lnTo>
                <a:lnTo>
                  <a:pt x="41304" y="1400"/>
                </a:lnTo>
                <a:close/>
              </a:path>
              <a:path fill="darkenLess" w="42704" h="21600">
                <a:moveTo>
                  <a:pt x="42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304" y="20200"/>
                </a:lnTo>
                <a:close/>
              </a:path>
              <a:path fill="lighten" w="42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704" h="21600">
                <a:moveTo>
                  <a:pt x="14346" y="3794"/>
                </a:moveTo>
                <a:lnTo>
                  <a:pt x="28359" y="10800"/>
                </a:lnTo>
                <a:lnTo>
                  <a:pt x="143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6">
            <a:hlinkClick r:id="" action="ppaction://hlinkshowjump?jump=previousslide"/>
          </p:cNvPr>
          <p:cNvSpPr/>
          <p:nvPr/>
        </p:nvSpPr>
        <p:spPr>
          <a:xfrm>
            <a:off x="8101080" y="5373720"/>
            <a:ext cx="863640" cy="4348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42878" h="21600">
                <a:moveTo>
                  <a:pt x="0" y="0"/>
                </a:moveTo>
                <a:lnTo>
                  <a:pt x="42878" y="0"/>
                </a:lnTo>
                <a:lnTo>
                  <a:pt x="42878" y="21600"/>
                </a:lnTo>
                <a:lnTo>
                  <a:pt x="0" y="21600"/>
                </a:lnTo>
                <a:close/>
              </a:path>
              <a:path fill="lightenLess" w="42878" h="21600">
                <a:moveTo>
                  <a:pt x="0" y="0"/>
                </a:moveTo>
                <a:lnTo>
                  <a:pt x="42878" y="0"/>
                </a:lnTo>
                <a:lnTo>
                  <a:pt x="41478" y="1400"/>
                </a:lnTo>
                <a:lnTo>
                  <a:pt x="1400" y="1400"/>
                </a:lnTo>
                <a:close/>
              </a:path>
              <a:path fill="darken" w="42878" h="21600">
                <a:moveTo>
                  <a:pt x="42878" y="0"/>
                </a:moveTo>
                <a:lnTo>
                  <a:pt x="42878" y="21600"/>
                </a:lnTo>
                <a:lnTo>
                  <a:pt x="41478" y="20200"/>
                </a:lnTo>
                <a:lnTo>
                  <a:pt x="41478" y="1400"/>
                </a:lnTo>
                <a:close/>
              </a:path>
              <a:path fill="darkenLess" w="42878" h="21600">
                <a:moveTo>
                  <a:pt x="42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78" y="20200"/>
                </a:lnTo>
                <a:close/>
              </a:path>
              <a:path fill="lighten" w="42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78" h="21600">
                <a:moveTo>
                  <a:pt x="14433" y="10800"/>
                </a:moveTo>
                <a:lnTo>
                  <a:pt x="28446" y="3794"/>
                </a:lnTo>
                <a:lnTo>
                  <a:pt x="284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3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3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8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8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33800" cy="5545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645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欢迎使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排课高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>
            <a:hlinkClick r:id="" action="ppaction://hlinkshowjump?jump=nextslide"/>
          </p:cNvPr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3794"/>
                </a:moveTo>
                <a:lnTo>
                  <a:pt x="33975" y="10800"/>
                </a:lnTo>
                <a:lnTo>
                  <a:pt x="199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7"/>
          <p:cNvSpPr/>
          <p:nvPr/>
        </p:nvSpPr>
        <p:spPr>
          <a:xfrm>
            <a:off x="4140360" y="3213000"/>
            <a:ext cx="21564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8"/>
          <p:cNvSpPr/>
          <p:nvPr/>
        </p:nvSpPr>
        <p:spPr>
          <a:xfrm>
            <a:off x="5867280" y="3213000"/>
            <a:ext cx="414360" cy="523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9"/>
          <p:cNvSpPr/>
          <p:nvPr/>
        </p:nvSpPr>
        <p:spPr>
          <a:xfrm>
            <a:off x="5003640" y="3213000"/>
            <a:ext cx="21600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2"/>
          <p:cNvSpPr/>
          <p:nvPr/>
        </p:nvSpPr>
        <p:spPr>
          <a:xfrm>
            <a:off x="5292720" y="2276640"/>
            <a:ext cx="43164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初级或高级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3"/>
          <p:cNvSpPr/>
          <p:nvPr/>
        </p:nvSpPr>
        <p:spPr>
          <a:xfrm>
            <a:off x="4427640" y="2276640"/>
            <a:ext cx="43164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简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4"/>
          <p:cNvSpPr/>
          <p:nvPr/>
        </p:nvSpPr>
        <p:spPr>
          <a:xfrm>
            <a:off x="3564000" y="2276640"/>
            <a:ext cx="42228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全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3"/>
          <p:cNvGrpSpPr/>
          <p:nvPr/>
        </p:nvGrpSpPr>
        <p:grpSpPr>
          <a:xfrm>
            <a:off x="6300720" y="907920"/>
            <a:ext cx="2662200" cy="4741920"/>
            <a:chOff x="6300720" y="907920"/>
            <a:chExt cx="2662200" cy="4741920"/>
          </a:xfrm>
        </p:grpSpPr>
        <p:grpSp>
          <p:nvGrpSpPr>
            <p:cNvPr id="69" name="组合 22"/>
            <p:cNvGrpSpPr/>
            <p:nvPr/>
          </p:nvGrpSpPr>
          <p:grpSpPr>
            <a:xfrm>
              <a:off x="6372000" y="907920"/>
              <a:ext cx="2590920" cy="4741920"/>
              <a:chOff x="6372000" y="907920"/>
              <a:chExt cx="2590920" cy="4741920"/>
            </a:xfrm>
          </p:grpSpPr>
          <p:sp>
            <p:nvSpPr>
              <p:cNvPr id="70" name="AutoShape 128"/>
              <p:cNvSpPr/>
              <p:nvPr/>
            </p:nvSpPr>
            <p:spPr>
              <a:xfrm>
                <a:off x="6372000" y="1698120"/>
                <a:ext cx="2590920" cy="978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帮助”按钮，看“用户手册”，可以掌握高级使用方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27">
                <a:hlinkClick r:id="rId2" action="ppaction://hlinksldjump"/>
              </p:cNvPr>
              <p:cNvSpPr/>
              <p:nvPr/>
            </p:nvSpPr>
            <p:spPr>
              <a:xfrm>
                <a:off x="6372000" y="907920"/>
                <a:ext cx="2369160" cy="627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下步”按钮，进入主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129">
                <a:hlinkClick r:id="rId3" action="ppaction://hlinksldjump"/>
              </p:cNvPr>
              <p:cNvSpPr/>
              <p:nvPr/>
            </p:nvSpPr>
            <p:spPr>
              <a:xfrm>
                <a:off x="6372000" y="2847960"/>
                <a:ext cx="2305440" cy="638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注册”按钮，用户注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130"/>
              <p:cNvSpPr/>
              <p:nvPr/>
            </p:nvSpPr>
            <p:spPr>
              <a:xfrm>
                <a:off x="6372000" y="5002200"/>
                <a:ext cx="2382840" cy="64764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退出”按钮，退出系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31"/>
              <p:cNvSpPr/>
              <p:nvPr/>
            </p:nvSpPr>
            <p:spPr>
              <a:xfrm>
                <a:off x="6372000" y="3638520"/>
                <a:ext cx="2367720" cy="122112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撤销”按钮，删除学校全称、学校简称和注册（修改校名时可用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AutoShape 132"/>
            <p:cNvSpPr/>
            <p:nvPr/>
          </p:nvSpPr>
          <p:spPr>
            <a:xfrm>
              <a:off x="6300720" y="1399320"/>
              <a:ext cx="71280" cy="403380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170640 h 4033800"/>
                <a:gd name="textAreaBottom" fmla="*/ 3863160 h 40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16"/>
                    <a:pt x="0" y="1831"/>
                  </a:cubicBezTo>
                  <a:lnTo>
                    <a:pt x="0" y="19769"/>
                  </a:lnTo>
                  <a:cubicBezTo>
                    <a:pt x="0" y="2068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135"/>
          <p:cNvSpPr/>
          <p:nvPr/>
        </p:nvSpPr>
        <p:spPr>
          <a:xfrm>
            <a:off x="3492360" y="907920"/>
            <a:ext cx="2735280" cy="10098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建议初次使用的用户选择“初级用户”以减少困难，以后可以随时改为“高级用户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7"/>
          <p:cNvSpPr/>
          <p:nvPr/>
        </p:nvSpPr>
        <p:spPr>
          <a:xfrm>
            <a:off x="3492360" y="6089400"/>
            <a:ext cx="2951280" cy="368640"/>
          </a:xfrm>
          <a:prstGeom prst="wedgeRectCallout">
            <a:avLst>
              <a:gd name="adj1" fmla="val -67925"/>
              <a:gd name="adj2" fmla="val -255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下载排课高手新版本和用户手册、幻灯演示、操作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8">
            <a:hlinkClick r:id="" action="ppaction://hlinkshowjump?jump=previousslide"/>
          </p:cNvPr>
          <p:cNvSpPr/>
          <p:nvPr/>
        </p:nvSpPr>
        <p:spPr>
          <a:xfrm>
            <a:off x="651672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6"/>
          <p:cNvSpPr/>
          <p:nvPr/>
        </p:nvSpPr>
        <p:spPr>
          <a:xfrm>
            <a:off x="3780000" y="4945680"/>
            <a:ext cx="1368360" cy="642600"/>
          </a:xfrm>
          <a:prstGeom prst="wedgeRectCallout">
            <a:avLst>
              <a:gd name="adj1" fmla="val -143814"/>
              <a:gd name="adj2" fmla="val -23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50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0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7772400" cy="409284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7451640" y="4365720"/>
            <a:ext cx="1692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451640" y="5194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5219640" y="394560"/>
            <a:ext cx="1728720" cy="642600"/>
          </a:xfrm>
          <a:prstGeom prst="wedgeRectCallout">
            <a:avLst>
              <a:gd name="adj1" fmla="val 93138"/>
              <a:gd name="adj2" fmla="val 150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显示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>
            <a:off x="7093080" y="277560"/>
            <a:ext cx="1800000" cy="642600"/>
          </a:xfrm>
          <a:prstGeom prst="wedgeRectCallout">
            <a:avLst>
              <a:gd name="adj1" fmla="val -11587"/>
              <a:gd name="adj2" fmla="val 115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显示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2"/>
          <p:cNvSpPr/>
          <p:nvPr/>
        </p:nvSpPr>
        <p:spPr>
          <a:xfrm>
            <a:off x="7956720" y="1475640"/>
            <a:ext cx="1015920" cy="1191600"/>
          </a:xfrm>
          <a:prstGeom prst="wedgeRectCallout">
            <a:avLst>
              <a:gd name="adj1" fmla="val -59986"/>
              <a:gd name="adj2" fmla="val -1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4">
            <a:hlinkClick r:id="rId2" action="ppaction://hlinksldjump"/>
          </p:cNvPr>
          <p:cNvSpPr/>
          <p:nvPr/>
        </p:nvSpPr>
        <p:spPr>
          <a:xfrm>
            <a:off x="179280" y="467280"/>
            <a:ext cx="1351080" cy="368640"/>
          </a:xfrm>
          <a:prstGeom prst="wedgeRectCallout">
            <a:avLst>
              <a:gd name="adj1" fmla="val -41796"/>
              <a:gd name="adj2" fmla="val 255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5">
            <a:hlinkClick r:id="rId3" action="ppaction://hlinksldjump"/>
          </p:cNvPr>
          <p:cNvSpPr/>
          <p:nvPr/>
        </p:nvSpPr>
        <p:spPr>
          <a:xfrm>
            <a:off x="1619280" y="330120"/>
            <a:ext cx="1351080" cy="642600"/>
          </a:xfrm>
          <a:prstGeom prst="wedgeRectCallout">
            <a:avLst>
              <a:gd name="adj1" fmla="val -146694"/>
              <a:gd name="adj2" fmla="val 22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9">
            <a:hlinkClick r:id="rId4" action="ppaction://hlinksldjump"/>
          </p:cNvPr>
          <p:cNvSpPr/>
          <p:nvPr/>
        </p:nvSpPr>
        <p:spPr>
          <a:xfrm>
            <a:off x="7093080" y="5724000"/>
            <a:ext cx="792000" cy="737640"/>
          </a:xfrm>
          <a:custGeom>
            <a:avLst/>
            <a:gdLst>
              <a:gd name="textAreaLeft" fmla="*/ 47520 w 792000"/>
              <a:gd name="textAreaRight" fmla="*/ 744480 w 79200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23191" h="21600">
                <a:moveTo>
                  <a:pt x="0" y="0"/>
                </a:moveTo>
                <a:lnTo>
                  <a:pt x="23191" y="0"/>
                </a:lnTo>
                <a:lnTo>
                  <a:pt x="23191" y="21600"/>
                </a:lnTo>
                <a:lnTo>
                  <a:pt x="0" y="21600"/>
                </a:lnTo>
                <a:close/>
              </a:path>
              <a:path fill="lightenLess" w="23191" h="21600">
                <a:moveTo>
                  <a:pt x="0" y="0"/>
                </a:moveTo>
                <a:lnTo>
                  <a:pt x="23191" y="0"/>
                </a:lnTo>
                <a:lnTo>
                  <a:pt x="21791" y="1400"/>
                </a:lnTo>
                <a:lnTo>
                  <a:pt x="1400" y="1400"/>
                </a:lnTo>
                <a:close/>
              </a:path>
              <a:path fill="darken" w="23191" h="21600">
                <a:moveTo>
                  <a:pt x="23191" y="0"/>
                </a:moveTo>
                <a:lnTo>
                  <a:pt x="23191" y="21600"/>
                </a:lnTo>
                <a:lnTo>
                  <a:pt x="21791" y="20200"/>
                </a:lnTo>
                <a:lnTo>
                  <a:pt x="21791" y="1400"/>
                </a:lnTo>
                <a:close/>
              </a:path>
              <a:path fill="darkenLess" w="23191" h="21600">
                <a:moveTo>
                  <a:pt x="2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91" y="20200"/>
                </a:lnTo>
                <a:close/>
              </a:path>
              <a:path fill="lighten" w="2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91" h="21600">
                <a:moveTo>
                  <a:pt x="4589" y="10800"/>
                </a:moveTo>
                <a:lnTo>
                  <a:pt x="18602" y="3794"/>
                </a:lnTo>
                <a:lnTo>
                  <a:pt x="1860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>
            <a:hlinkClick r:id="rId5" action="ppaction://hlinksldjump"/>
          </p:cNvPr>
          <p:cNvSpPr/>
          <p:nvPr/>
        </p:nvSpPr>
        <p:spPr>
          <a:xfrm>
            <a:off x="3132000" y="401400"/>
            <a:ext cx="1979640" cy="642600"/>
          </a:xfrm>
          <a:prstGeom prst="wedgeRectCallout">
            <a:avLst>
              <a:gd name="adj1" fmla="val -74453"/>
              <a:gd name="adj2" fmla="val 99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页面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3" descr=""/>
          <p:cNvPicPr/>
          <p:nvPr/>
        </p:nvPicPr>
        <p:blipFill>
          <a:blip r:embed="rId6"/>
          <a:stretch/>
        </p:blipFill>
        <p:spPr>
          <a:xfrm>
            <a:off x="179280" y="2852640"/>
            <a:ext cx="6715080" cy="427680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22"/>
          <p:cNvSpPr/>
          <p:nvPr/>
        </p:nvSpPr>
        <p:spPr>
          <a:xfrm flipV="1" rot="10800000">
            <a:off x="900000" y="2207880"/>
            <a:ext cx="3818160" cy="368640"/>
          </a:xfrm>
          <a:prstGeom prst="wedgeRectCallout">
            <a:avLst>
              <a:gd name="adj1" fmla="val -35162"/>
              <a:gd name="adj2" fmla="val -1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表格宽度太大，可选择简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4"/>
          <p:cNvSpPr/>
          <p:nvPr/>
        </p:nvSpPr>
        <p:spPr>
          <a:xfrm>
            <a:off x="7093080" y="3275640"/>
            <a:ext cx="1512720" cy="642600"/>
          </a:xfrm>
          <a:prstGeom prst="wedgeRectCallout">
            <a:avLst>
              <a:gd name="adj1" fmla="val -115879"/>
              <a:gd name="adj2" fmla="val -253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假期连续上课，“首列”选择“连续日期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5"/>
          <p:cNvSpPr/>
          <p:nvPr/>
        </p:nvSpPr>
        <p:spPr>
          <a:xfrm>
            <a:off x="6012000" y="4938480"/>
            <a:ext cx="1439640" cy="368640"/>
          </a:xfrm>
          <a:prstGeom prst="wedgeRectCallout">
            <a:avLst>
              <a:gd name="adj1" fmla="val -124296"/>
              <a:gd name="adj2" fmla="val 61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导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6">
            <a:hlinkClick r:id="" action="ppaction://hlinkshowjump?jump=nextslide"/>
          </p:cNvPr>
          <p:cNvSpPr/>
          <p:nvPr/>
        </p:nvSpPr>
        <p:spPr>
          <a:xfrm>
            <a:off x="8459640" y="5873400"/>
            <a:ext cx="541440" cy="423000"/>
          </a:xfrm>
          <a:custGeom>
            <a:avLst/>
            <a:gdLst>
              <a:gd name="textAreaLeft" fmla="*/ 27360 w 541440"/>
              <a:gd name="textAreaRight" fmla="*/ 514080 w 541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27643" h="21600">
                <a:moveTo>
                  <a:pt x="0" y="0"/>
                </a:moveTo>
                <a:lnTo>
                  <a:pt x="27643" y="0"/>
                </a:lnTo>
                <a:lnTo>
                  <a:pt x="27643" y="21600"/>
                </a:lnTo>
                <a:lnTo>
                  <a:pt x="0" y="21600"/>
                </a:lnTo>
                <a:close/>
              </a:path>
              <a:path fill="lightenLess" w="27643" h="21600">
                <a:moveTo>
                  <a:pt x="0" y="0"/>
                </a:moveTo>
                <a:lnTo>
                  <a:pt x="27643" y="0"/>
                </a:lnTo>
                <a:lnTo>
                  <a:pt x="26243" y="1400"/>
                </a:lnTo>
                <a:lnTo>
                  <a:pt x="1400" y="1400"/>
                </a:lnTo>
                <a:close/>
              </a:path>
              <a:path fill="darken" w="27643" h="21600">
                <a:moveTo>
                  <a:pt x="27643" y="0"/>
                </a:moveTo>
                <a:lnTo>
                  <a:pt x="27643" y="21600"/>
                </a:lnTo>
                <a:lnTo>
                  <a:pt x="26243" y="20200"/>
                </a:lnTo>
                <a:lnTo>
                  <a:pt x="26243" y="1400"/>
                </a:lnTo>
                <a:close/>
              </a:path>
              <a:path fill="darkenLess" w="27643" h="21600">
                <a:moveTo>
                  <a:pt x="27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3" y="20200"/>
                </a:lnTo>
                <a:close/>
              </a:path>
              <a:path fill="lighten" w="27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43" h="21600">
                <a:moveTo>
                  <a:pt x="6815" y="3794"/>
                </a:moveTo>
                <a:lnTo>
                  <a:pt x="20828" y="10800"/>
                </a:lnTo>
                <a:lnTo>
                  <a:pt x="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3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574560" cy="72072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91">
                <a:moveTo>
                  <a:pt x="0" y="0"/>
                </a:moveTo>
                <a:lnTo>
                  <a:pt x="21600" y="0"/>
                </a:lnTo>
                <a:lnTo>
                  <a:pt x="21600" y="27091"/>
                </a:lnTo>
                <a:lnTo>
                  <a:pt x="0" y="27091"/>
                </a:lnTo>
                <a:close/>
              </a:path>
              <a:path fill="lightenLess" w="21600" h="270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91">
                <a:moveTo>
                  <a:pt x="21600" y="0"/>
                </a:moveTo>
                <a:lnTo>
                  <a:pt x="21600" y="27091"/>
                </a:lnTo>
                <a:lnTo>
                  <a:pt x="20200" y="25691"/>
                </a:lnTo>
                <a:lnTo>
                  <a:pt x="20200" y="1400"/>
                </a:lnTo>
                <a:close/>
              </a:path>
              <a:path fill="darkenLess" w="21600" h="27091">
                <a:moveTo>
                  <a:pt x="21600" y="27091"/>
                </a:moveTo>
                <a:lnTo>
                  <a:pt x="0" y="27091"/>
                </a:lnTo>
                <a:lnTo>
                  <a:pt x="1400" y="25691"/>
                </a:lnTo>
                <a:lnTo>
                  <a:pt x="20200" y="25691"/>
                </a:lnTo>
                <a:close/>
              </a:path>
              <a:path fill="lighten" w="21600" h="27091">
                <a:moveTo>
                  <a:pt x="0" y="270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91"/>
                </a:lnTo>
                <a:close/>
              </a:path>
              <a:path fill="darken" w="21600" h="27091">
                <a:moveTo>
                  <a:pt x="3794" y="13546"/>
                </a:moveTo>
                <a:lnTo>
                  <a:pt x="17806" y="6539"/>
                </a:lnTo>
                <a:lnTo>
                  <a:pt x="17806" y="2055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2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3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18352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6732720" y="4365720"/>
            <a:ext cx="21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7093080" y="48690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页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5796000" y="192240"/>
            <a:ext cx="1368360" cy="917280"/>
          </a:xfrm>
          <a:prstGeom prst="wedgeRectCallout">
            <a:avLst>
              <a:gd name="adj1" fmla="val 165175"/>
              <a:gd name="adj2" fmla="val 98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显示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8"/>
          <p:cNvSpPr/>
          <p:nvPr/>
        </p:nvSpPr>
        <p:spPr>
          <a:xfrm>
            <a:off x="7451640" y="278640"/>
            <a:ext cx="1511280" cy="642600"/>
          </a:xfrm>
          <a:prstGeom prst="wedgeRectCallout">
            <a:avLst>
              <a:gd name="adj1" fmla="val 32018"/>
              <a:gd name="adj2" fmla="val 1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显示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7524720" y="3073680"/>
            <a:ext cx="1440000" cy="917280"/>
          </a:xfrm>
          <a:prstGeom prst="wedgeRectCallout">
            <a:avLst>
              <a:gd name="adj1" fmla="val 38749"/>
              <a:gd name="adj2" fmla="val -1824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0">
            <a:hlinkClick r:id="rId2" action="ppaction://hlinksldjump"/>
          </p:cNvPr>
          <p:cNvSpPr/>
          <p:nvPr/>
        </p:nvSpPr>
        <p:spPr>
          <a:xfrm>
            <a:off x="179280" y="394200"/>
            <a:ext cx="1351080" cy="368640"/>
          </a:xfrm>
          <a:prstGeom prst="wedgeRectCallout">
            <a:avLst>
              <a:gd name="adj1" fmla="val -37083"/>
              <a:gd name="adj2" fmla="val 28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>
            <a:hlinkClick r:id="rId3" action="ppaction://hlinksldjump"/>
          </p:cNvPr>
          <p:cNvSpPr/>
          <p:nvPr/>
        </p:nvSpPr>
        <p:spPr>
          <a:xfrm>
            <a:off x="1619280" y="257040"/>
            <a:ext cx="1351080" cy="642600"/>
          </a:xfrm>
          <a:prstGeom prst="wedgeRectCallout">
            <a:avLst>
              <a:gd name="adj1" fmla="val -141180"/>
              <a:gd name="adj2" fmla="val 232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2"/>
          <p:cNvSpPr/>
          <p:nvPr/>
        </p:nvSpPr>
        <p:spPr>
          <a:xfrm>
            <a:off x="3059280" y="552240"/>
            <a:ext cx="1225440" cy="368640"/>
          </a:xfrm>
          <a:prstGeom prst="wedgeRectCallout">
            <a:avLst>
              <a:gd name="adj1" fmla="val -120333"/>
              <a:gd name="adj2" fmla="val 25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正文字号可以控制表格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3"/>
          <p:cNvSpPr/>
          <p:nvPr/>
        </p:nvSpPr>
        <p:spPr>
          <a:xfrm>
            <a:off x="6516720" y="3339720"/>
            <a:ext cx="934920" cy="368640"/>
          </a:xfrm>
          <a:prstGeom prst="wedgeRectCallout">
            <a:avLst>
              <a:gd name="adj1" fmla="val -74439"/>
              <a:gd name="adj2" fmla="val -5051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排课表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4">
            <a:hlinkClick r:id="rId4" action="ppaction://hlinksldjump"/>
          </p:cNvPr>
          <p:cNvSpPr/>
          <p:nvPr/>
        </p:nvSpPr>
        <p:spPr>
          <a:xfrm>
            <a:off x="7380360" y="5581440"/>
            <a:ext cx="1584360" cy="423000"/>
          </a:xfrm>
          <a:custGeom>
            <a:avLst/>
            <a:gdLst>
              <a:gd name="textAreaLeft" fmla="*/ 27360 w 1584360"/>
              <a:gd name="textAreaRight" fmla="*/ 1557000 w 1584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0853" h="21600">
                <a:moveTo>
                  <a:pt x="0" y="0"/>
                </a:moveTo>
                <a:lnTo>
                  <a:pt x="80853" y="0"/>
                </a:lnTo>
                <a:lnTo>
                  <a:pt x="80853" y="21600"/>
                </a:lnTo>
                <a:lnTo>
                  <a:pt x="0" y="21600"/>
                </a:lnTo>
                <a:close/>
              </a:path>
              <a:path fill="lightenLess" w="80853" h="21600">
                <a:moveTo>
                  <a:pt x="0" y="0"/>
                </a:moveTo>
                <a:lnTo>
                  <a:pt x="80853" y="0"/>
                </a:lnTo>
                <a:lnTo>
                  <a:pt x="79453" y="1400"/>
                </a:lnTo>
                <a:lnTo>
                  <a:pt x="1400" y="1400"/>
                </a:lnTo>
                <a:close/>
              </a:path>
              <a:path fill="darken" w="80853" h="21600">
                <a:moveTo>
                  <a:pt x="80853" y="0"/>
                </a:moveTo>
                <a:lnTo>
                  <a:pt x="80853" y="21600"/>
                </a:lnTo>
                <a:lnTo>
                  <a:pt x="79453" y="20200"/>
                </a:lnTo>
                <a:lnTo>
                  <a:pt x="79453" y="1400"/>
                </a:lnTo>
                <a:close/>
              </a:path>
              <a:path fill="darkenLess" w="80853" h="21600">
                <a:moveTo>
                  <a:pt x="80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53" y="20200"/>
                </a:lnTo>
                <a:close/>
              </a:path>
              <a:path fill="lighten" w="80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53" h="21600">
                <a:moveTo>
                  <a:pt x="33420" y="10800"/>
                </a:moveTo>
                <a:lnTo>
                  <a:pt x="47433" y="3794"/>
                </a:lnTo>
                <a:lnTo>
                  <a:pt x="474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21"/>
          <p:cNvSpPr/>
          <p:nvPr/>
        </p:nvSpPr>
        <p:spPr>
          <a:xfrm>
            <a:off x="4356000" y="485640"/>
            <a:ext cx="1368360" cy="368640"/>
          </a:xfrm>
          <a:prstGeom prst="wedgeRectCallout">
            <a:avLst>
              <a:gd name="adj1" fmla="val -168305"/>
              <a:gd name="adj2" fmla="val 297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课表内附的教师姓名的字体就是附加字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6516720" y="5515200"/>
            <a:ext cx="792000" cy="917280"/>
          </a:xfrm>
          <a:prstGeom prst="wedgeRectCallout">
            <a:avLst>
              <a:gd name="adj1" fmla="val -152361"/>
              <a:gd name="adj2" fmla="val -29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导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5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6264360" cy="386388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26">
            <a:hlinkClick r:id="" action="ppaction://hlinkshowjump?jump=nextslide"/>
          </p:cNvPr>
          <p:cNvSpPr/>
          <p:nvPr/>
        </p:nvSpPr>
        <p:spPr>
          <a:xfrm>
            <a:off x="8172360" y="6013080"/>
            <a:ext cx="792360" cy="42300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45" h="21600">
                <a:moveTo>
                  <a:pt x="0" y="0"/>
                </a:moveTo>
                <a:lnTo>
                  <a:pt x="40445" y="0"/>
                </a:lnTo>
                <a:lnTo>
                  <a:pt x="40445" y="21600"/>
                </a:lnTo>
                <a:lnTo>
                  <a:pt x="0" y="21600"/>
                </a:lnTo>
                <a:close/>
              </a:path>
              <a:path fill="lightenLess" w="40445" h="21600">
                <a:moveTo>
                  <a:pt x="0" y="0"/>
                </a:moveTo>
                <a:lnTo>
                  <a:pt x="40445" y="0"/>
                </a:lnTo>
                <a:lnTo>
                  <a:pt x="39045" y="1400"/>
                </a:lnTo>
                <a:lnTo>
                  <a:pt x="1400" y="1400"/>
                </a:lnTo>
                <a:close/>
              </a:path>
              <a:path fill="darken" w="40445" h="21600">
                <a:moveTo>
                  <a:pt x="40445" y="0"/>
                </a:moveTo>
                <a:lnTo>
                  <a:pt x="40445" y="21600"/>
                </a:lnTo>
                <a:lnTo>
                  <a:pt x="39045" y="20200"/>
                </a:lnTo>
                <a:lnTo>
                  <a:pt x="39045" y="1400"/>
                </a:lnTo>
                <a:close/>
              </a:path>
              <a:path fill="darkenLess" w="40445" h="21600">
                <a:moveTo>
                  <a:pt x="4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5" y="20200"/>
                </a:lnTo>
                <a:close/>
              </a:path>
              <a:path fill="lighten" w="4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5" h="21600">
                <a:moveTo>
                  <a:pt x="13216" y="3794"/>
                </a:moveTo>
                <a:lnTo>
                  <a:pt x="27229" y="10800"/>
                </a:lnTo>
                <a:lnTo>
                  <a:pt x="132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7">
            <a:hlinkClick r:id="" action="ppaction://hlinkshowjump?jump=previousslide"/>
          </p:cNvPr>
          <p:cNvSpPr/>
          <p:nvPr/>
        </p:nvSpPr>
        <p:spPr>
          <a:xfrm>
            <a:off x="7380360" y="602136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3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3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6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3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3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7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7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8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9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3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3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导出的班级课程情况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42520" cy="4608360"/>
          </a:xfrm>
          <a:prstGeom prst="rect">
            <a:avLst/>
          </a:prstGeom>
          <a:ln w="0">
            <a:noFill/>
          </a:ln>
        </p:spPr>
      </p:pic>
      <p:sp>
        <p:nvSpPr>
          <p:cNvPr id="456" name="AutoShape 7">
            <a:hlinkClick r:id="rId2" action="ppaction://hlinksldjump"/>
          </p:cNvPr>
          <p:cNvSpPr/>
          <p:nvPr/>
        </p:nvSpPr>
        <p:spPr>
          <a:xfrm>
            <a:off x="3132000" y="609300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3794"/>
                </a:moveTo>
                <a:lnTo>
                  <a:pt x="56598" y="10800"/>
                </a:lnTo>
                <a:lnTo>
                  <a:pt x="425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8">
            <a:hlinkClick r:id="" action="ppaction://hlinkshowjump?jump=nextslide"/>
          </p:cNvPr>
          <p:cNvSpPr/>
          <p:nvPr/>
        </p:nvSpPr>
        <p:spPr>
          <a:xfrm>
            <a:off x="7236000" y="609300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9">
            <a:hlinkClick r:id="" action="ppaction://hlinkshowjump?jump=previousslide"/>
          </p:cNvPr>
          <p:cNvSpPr/>
          <p:nvPr/>
        </p:nvSpPr>
        <p:spPr>
          <a:xfrm>
            <a:off x="5219640" y="6093000"/>
            <a:ext cx="1657440" cy="360360"/>
          </a:xfrm>
          <a:custGeom>
            <a:avLst/>
            <a:gdLst>
              <a:gd name="textAreaLeft" fmla="*/ 23040 w 1657440"/>
              <a:gd name="textAreaRight" fmla="*/ 1634400 w 1657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269" h="21600">
                <a:moveTo>
                  <a:pt x="0" y="0"/>
                </a:moveTo>
                <a:lnTo>
                  <a:pt x="99269" y="0"/>
                </a:lnTo>
                <a:lnTo>
                  <a:pt x="99269" y="21600"/>
                </a:lnTo>
                <a:lnTo>
                  <a:pt x="0" y="21600"/>
                </a:lnTo>
                <a:close/>
              </a:path>
              <a:path fill="lightenLess" w="99269" h="21600">
                <a:moveTo>
                  <a:pt x="0" y="0"/>
                </a:moveTo>
                <a:lnTo>
                  <a:pt x="99269" y="0"/>
                </a:lnTo>
                <a:lnTo>
                  <a:pt x="97869" y="1400"/>
                </a:lnTo>
                <a:lnTo>
                  <a:pt x="1400" y="1400"/>
                </a:lnTo>
                <a:close/>
              </a:path>
              <a:path fill="darken" w="99269" h="21600">
                <a:moveTo>
                  <a:pt x="99269" y="0"/>
                </a:moveTo>
                <a:lnTo>
                  <a:pt x="99269" y="21600"/>
                </a:lnTo>
                <a:lnTo>
                  <a:pt x="97869" y="20200"/>
                </a:lnTo>
                <a:lnTo>
                  <a:pt x="97869" y="1400"/>
                </a:lnTo>
                <a:close/>
              </a:path>
              <a:path fill="darkenLess" w="99269" h="21600">
                <a:moveTo>
                  <a:pt x="99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69" y="20200"/>
                </a:lnTo>
                <a:close/>
              </a:path>
              <a:path fill="lighten" w="99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269" h="21600">
                <a:moveTo>
                  <a:pt x="42628" y="10800"/>
                </a:moveTo>
                <a:lnTo>
                  <a:pt x="56641" y="3794"/>
                </a:lnTo>
                <a:lnTo>
                  <a:pt x="5664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250920" y="210960"/>
            <a:ext cx="8564400" cy="664704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164000" y="2420640"/>
            <a:ext cx="16923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教师任课情况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">
            <a:hlinkClick r:id="rId2" action="ppaction://hlinksldjump"/>
          </p:cNvPr>
          <p:cNvSpPr/>
          <p:nvPr/>
        </p:nvSpPr>
        <p:spPr>
          <a:xfrm>
            <a:off x="7164360" y="522936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3794"/>
                </a:moveTo>
                <a:lnTo>
                  <a:pt x="56587" y="10800"/>
                </a:lnTo>
                <a:lnTo>
                  <a:pt x="4257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>
            <a:hlinkClick r:id="rId3" action="ppaction://hlinksldjump"/>
          </p:cNvPr>
          <p:cNvSpPr/>
          <p:nvPr/>
        </p:nvSpPr>
        <p:spPr>
          <a:xfrm>
            <a:off x="7164360" y="623736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7">
            <a:hlinkClick r:id="" action="ppaction://hlinkshowjump?jump=previousslide"/>
          </p:cNvPr>
          <p:cNvSpPr/>
          <p:nvPr/>
        </p:nvSpPr>
        <p:spPr>
          <a:xfrm>
            <a:off x="7164360" y="573408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10800"/>
                </a:moveTo>
                <a:lnTo>
                  <a:pt x="56587" y="3794"/>
                </a:lnTo>
                <a:lnTo>
                  <a:pt x="565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207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导出的校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6985080" cy="655308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5">
            <a:hlinkClick r:id="rId2" action="ppaction://hlinksldjump"/>
          </p:cNvPr>
          <p:cNvSpPr/>
          <p:nvPr/>
        </p:nvSpPr>
        <p:spPr>
          <a:xfrm>
            <a:off x="7956720" y="414972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81" h="21600">
                <a:moveTo>
                  <a:pt x="23184" y="3794"/>
                </a:moveTo>
                <a:lnTo>
                  <a:pt x="37197" y="10800"/>
                </a:lnTo>
                <a:lnTo>
                  <a:pt x="2318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6">
            <a:hlinkClick r:id="" action="ppaction://hlinkshowjump?jump=nextslide"/>
          </p:cNvPr>
          <p:cNvSpPr/>
          <p:nvPr/>
        </p:nvSpPr>
        <p:spPr>
          <a:xfrm>
            <a:off x="7956720" y="5084640"/>
            <a:ext cx="1008000" cy="385920"/>
          </a:xfrm>
          <a:custGeom>
            <a:avLst/>
            <a:gdLst>
              <a:gd name="textAreaLeft" fmla="*/ 24840 w 1008000"/>
              <a:gd name="textAreaRight" fmla="*/ 983160 w 100800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56385" h="21600">
                <a:moveTo>
                  <a:pt x="0" y="0"/>
                </a:moveTo>
                <a:lnTo>
                  <a:pt x="56385" y="0"/>
                </a:lnTo>
                <a:lnTo>
                  <a:pt x="56385" y="21600"/>
                </a:lnTo>
                <a:lnTo>
                  <a:pt x="0" y="21600"/>
                </a:lnTo>
                <a:close/>
              </a:path>
              <a:path fill="lightenLess" w="56385" h="21600">
                <a:moveTo>
                  <a:pt x="0" y="0"/>
                </a:moveTo>
                <a:lnTo>
                  <a:pt x="56385" y="0"/>
                </a:lnTo>
                <a:lnTo>
                  <a:pt x="54985" y="1400"/>
                </a:lnTo>
                <a:lnTo>
                  <a:pt x="1400" y="1400"/>
                </a:lnTo>
                <a:close/>
              </a:path>
              <a:path fill="darken" w="56385" h="21600">
                <a:moveTo>
                  <a:pt x="56385" y="0"/>
                </a:moveTo>
                <a:lnTo>
                  <a:pt x="56385" y="21600"/>
                </a:lnTo>
                <a:lnTo>
                  <a:pt x="54985" y="20200"/>
                </a:lnTo>
                <a:lnTo>
                  <a:pt x="54985" y="1400"/>
                </a:lnTo>
                <a:close/>
              </a:path>
              <a:path fill="darkenLess" w="56385" h="21600">
                <a:moveTo>
                  <a:pt x="5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85" y="20200"/>
                </a:lnTo>
                <a:close/>
              </a:path>
              <a:path fill="lighten" w="5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85" h="21600">
                <a:moveTo>
                  <a:pt x="21186" y="3794"/>
                </a:moveTo>
                <a:lnTo>
                  <a:pt x="35199" y="10800"/>
                </a:lnTo>
                <a:lnTo>
                  <a:pt x="211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7">
            <a:hlinkClick r:id="" action="ppaction://hlinkshowjump?jump=previousslide"/>
          </p:cNvPr>
          <p:cNvSpPr/>
          <p:nvPr/>
        </p:nvSpPr>
        <p:spPr>
          <a:xfrm>
            <a:off x="7956720" y="4653000"/>
            <a:ext cx="1008000" cy="28872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75344" h="21600">
                <a:moveTo>
                  <a:pt x="0" y="0"/>
                </a:moveTo>
                <a:lnTo>
                  <a:pt x="75344" y="0"/>
                </a:lnTo>
                <a:lnTo>
                  <a:pt x="75344" y="21600"/>
                </a:lnTo>
                <a:lnTo>
                  <a:pt x="0" y="21600"/>
                </a:lnTo>
                <a:close/>
              </a:path>
              <a:path fill="lightenLess" w="75344" h="21600">
                <a:moveTo>
                  <a:pt x="0" y="0"/>
                </a:moveTo>
                <a:lnTo>
                  <a:pt x="75344" y="0"/>
                </a:lnTo>
                <a:lnTo>
                  <a:pt x="73944" y="1400"/>
                </a:lnTo>
                <a:lnTo>
                  <a:pt x="1400" y="1400"/>
                </a:lnTo>
                <a:close/>
              </a:path>
              <a:path fill="darken" w="75344" h="21600">
                <a:moveTo>
                  <a:pt x="75344" y="0"/>
                </a:moveTo>
                <a:lnTo>
                  <a:pt x="75344" y="21600"/>
                </a:lnTo>
                <a:lnTo>
                  <a:pt x="73944" y="20200"/>
                </a:lnTo>
                <a:lnTo>
                  <a:pt x="73944" y="1400"/>
                </a:lnTo>
                <a:close/>
              </a:path>
              <a:path fill="darkenLess" w="75344" h="21600">
                <a:moveTo>
                  <a:pt x="75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44" y="20200"/>
                </a:lnTo>
                <a:close/>
              </a:path>
              <a:path fill="lighten" w="75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44" h="21600">
                <a:moveTo>
                  <a:pt x="30666" y="10800"/>
                </a:moveTo>
                <a:lnTo>
                  <a:pt x="44679" y="3794"/>
                </a:lnTo>
                <a:lnTo>
                  <a:pt x="4467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10080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导出的年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5740200" cy="633708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5">
            <a:hlinkClick r:id="rId2" action="ppaction://hlinksldjump"/>
          </p:cNvPr>
          <p:cNvSpPr/>
          <p:nvPr/>
        </p:nvSpPr>
        <p:spPr>
          <a:xfrm>
            <a:off x="7308720" y="407664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3794"/>
                </a:moveTo>
                <a:lnTo>
                  <a:pt x="56598" y="10800"/>
                </a:lnTo>
                <a:lnTo>
                  <a:pt x="425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6">
            <a:hlinkClick r:id="rId3" action="ppaction://hlinksldjump"/>
          </p:cNvPr>
          <p:cNvSpPr/>
          <p:nvPr/>
        </p:nvSpPr>
        <p:spPr>
          <a:xfrm>
            <a:off x="7308720" y="5084640"/>
            <a:ext cx="1656000" cy="385920"/>
          </a:xfrm>
          <a:custGeom>
            <a:avLst/>
            <a:gdLst>
              <a:gd name="textAreaLeft" fmla="*/ 24840 w 1656000"/>
              <a:gd name="textAreaRight" fmla="*/ 1631160 w 165600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92620" h="21600">
                <a:moveTo>
                  <a:pt x="0" y="0"/>
                </a:moveTo>
                <a:lnTo>
                  <a:pt x="92620" y="0"/>
                </a:lnTo>
                <a:lnTo>
                  <a:pt x="92620" y="21600"/>
                </a:lnTo>
                <a:lnTo>
                  <a:pt x="0" y="21600"/>
                </a:lnTo>
                <a:close/>
              </a:path>
              <a:path fill="lightenLess" w="92620" h="21600">
                <a:moveTo>
                  <a:pt x="0" y="0"/>
                </a:moveTo>
                <a:lnTo>
                  <a:pt x="92620" y="0"/>
                </a:lnTo>
                <a:lnTo>
                  <a:pt x="91220" y="1400"/>
                </a:lnTo>
                <a:lnTo>
                  <a:pt x="1400" y="1400"/>
                </a:lnTo>
                <a:close/>
              </a:path>
              <a:path fill="darken" w="92620" h="21600">
                <a:moveTo>
                  <a:pt x="92620" y="0"/>
                </a:moveTo>
                <a:lnTo>
                  <a:pt x="92620" y="21600"/>
                </a:lnTo>
                <a:lnTo>
                  <a:pt x="91220" y="20200"/>
                </a:lnTo>
                <a:lnTo>
                  <a:pt x="91220" y="1400"/>
                </a:lnTo>
                <a:close/>
              </a:path>
              <a:path fill="darkenLess" w="92620" h="21600">
                <a:moveTo>
                  <a:pt x="92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20" y="20200"/>
                </a:lnTo>
                <a:close/>
              </a:path>
              <a:path fill="lighten" w="92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20" h="21600">
                <a:moveTo>
                  <a:pt x="39304" y="3794"/>
                </a:moveTo>
                <a:lnTo>
                  <a:pt x="53317" y="10800"/>
                </a:lnTo>
                <a:lnTo>
                  <a:pt x="393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7">
            <a:hlinkClick r:id="" action="ppaction://hlinkshowjump?jump=previousslide"/>
          </p:cNvPr>
          <p:cNvSpPr/>
          <p:nvPr/>
        </p:nvSpPr>
        <p:spPr>
          <a:xfrm>
            <a:off x="7308720" y="458136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10800"/>
                </a:moveTo>
                <a:lnTo>
                  <a:pt x="56598" y="3794"/>
                </a:lnTo>
                <a:lnTo>
                  <a:pt x="5659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0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8856720" cy="52056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2700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统计教师工作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2124000" y="754560"/>
            <a:ext cx="1368360" cy="368640"/>
          </a:xfrm>
          <a:prstGeom prst="wedgeRectCallout">
            <a:avLst>
              <a:gd name="adj1" fmla="val 10310"/>
              <a:gd name="adj2" fmla="val 43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修改各课程的分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8"/>
          <p:cNvSpPr/>
          <p:nvPr/>
        </p:nvSpPr>
        <p:spPr>
          <a:xfrm>
            <a:off x="4932360" y="330480"/>
            <a:ext cx="1655640" cy="917280"/>
          </a:xfrm>
          <a:prstGeom prst="wedgeRectCallout">
            <a:avLst>
              <a:gd name="adj1" fmla="val 168018"/>
              <a:gd name="adj2" fmla="val 365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统计”按钮右边的下拉箭头，选择“工作量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9"/>
          <p:cNvSpPr/>
          <p:nvPr/>
        </p:nvSpPr>
        <p:spPr>
          <a:xfrm>
            <a:off x="6732720" y="611640"/>
            <a:ext cx="1079280" cy="368640"/>
          </a:xfrm>
          <a:prstGeom prst="wedgeRectCallout">
            <a:avLst>
              <a:gd name="adj1" fmla="val 97615"/>
              <a:gd name="adj2" fmla="val 590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全校总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1"/>
          <p:cNvSpPr/>
          <p:nvPr/>
        </p:nvSpPr>
        <p:spPr>
          <a:xfrm>
            <a:off x="5148360" y="4440600"/>
            <a:ext cx="3457440" cy="368640"/>
          </a:xfrm>
          <a:prstGeom prst="wedgeRectCallout">
            <a:avLst>
              <a:gd name="adj1" fmla="val -78370"/>
              <a:gd name="adj2" fmla="val 1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输入或粘贴“其他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2"/>
          <p:cNvSpPr/>
          <p:nvPr/>
        </p:nvSpPr>
        <p:spPr>
          <a:xfrm>
            <a:off x="7308720" y="5147640"/>
            <a:ext cx="1619280" cy="917280"/>
          </a:xfrm>
          <a:prstGeom prst="wedgeRectCallout">
            <a:avLst>
              <a:gd name="adj1" fmla="val 26259"/>
              <a:gd name="adj2" fmla="val -1405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统计”按钮右边的下拉箭头，选择“分津贴和人津贴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219640" y="5421960"/>
            <a:ext cx="2016360" cy="368640"/>
          </a:xfrm>
          <a:prstGeom prst="wedgeRectCallout">
            <a:avLst>
              <a:gd name="adj1" fmla="val -216296"/>
              <a:gd name="adj2" fmla="val -159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某教师，在下面绿色框出现该教师的工作量分和津贴的计算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4"/>
          <p:cNvSpPr/>
          <p:nvPr/>
        </p:nvSpPr>
        <p:spPr>
          <a:xfrm>
            <a:off x="179280" y="394560"/>
            <a:ext cx="1800360" cy="642600"/>
          </a:xfrm>
          <a:prstGeom prst="wedgeRectCallout">
            <a:avLst>
              <a:gd name="adj1" fmla="val 4837"/>
              <a:gd name="adj2" fmla="val 1815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导出”按钮右边的下拉箭头，选择需要导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5">
            <a:hlinkClick r:id="rId2" action="ppaction://hlinksldjump"/>
          </p:cNvPr>
          <p:cNvSpPr/>
          <p:nvPr/>
        </p:nvSpPr>
        <p:spPr>
          <a:xfrm>
            <a:off x="8101080" y="11592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6">
            <a:hlinkClick r:id="" action="ppaction://hlinkshowjump?jump=nextslide"/>
          </p:cNvPr>
          <p:cNvSpPr/>
          <p:nvPr/>
        </p:nvSpPr>
        <p:spPr>
          <a:xfrm>
            <a:off x="8101080" y="899640"/>
            <a:ext cx="792000" cy="423000"/>
          </a:xfrm>
          <a:custGeom>
            <a:avLst/>
            <a:gdLst>
              <a:gd name="textAreaLeft" fmla="*/ 27360 w 792000"/>
              <a:gd name="textAreaRight" fmla="*/ 764640 w 792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27" h="21600">
                <a:moveTo>
                  <a:pt x="0" y="0"/>
                </a:moveTo>
                <a:lnTo>
                  <a:pt x="40427" y="0"/>
                </a:lnTo>
                <a:lnTo>
                  <a:pt x="40427" y="21600"/>
                </a:lnTo>
                <a:lnTo>
                  <a:pt x="0" y="21600"/>
                </a:lnTo>
                <a:close/>
              </a:path>
              <a:path fill="lightenLess" w="40427" h="21600">
                <a:moveTo>
                  <a:pt x="0" y="0"/>
                </a:moveTo>
                <a:lnTo>
                  <a:pt x="40427" y="0"/>
                </a:lnTo>
                <a:lnTo>
                  <a:pt x="39027" y="1400"/>
                </a:lnTo>
                <a:lnTo>
                  <a:pt x="1400" y="1400"/>
                </a:lnTo>
                <a:close/>
              </a:path>
              <a:path fill="darken" w="40427" h="21600">
                <a:moveTo>
                  <a:pt x="40427" y="0"/>
                </a:moveTo>
                <a:lnTo>
                  <a:pt x="40427" y="21600"/>
                </a:lnTo>
                <a:lnTo>
                  <a:pt x="39027" y="20200"/>
                </a:lnTo>
                <a:lnTo>
                  <a:pt x="39027" y="1400"/>
                </a:lnTo>
                <a:close/>
              </a:path>
              <a:path fill="darkenLess" w="40427" h="21600">
                <a:moveTo>
                  <a:pt x="4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27" y="20200"/>
                </a:lnTo>
                <a:close/>
              </a:path>
              <a:path fill="lighten" w="4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27" h="21600">
                <a:moveTo>
                  <a:pt x="13207" y="3794"/>
                </a:moveTo>
                <a:lnTo>
                  <a:pt x="27220" y="10800"/>
                </a:lnTo>
                <a:lnTo>
                  <a:pt x="1320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3564000" y="617400"/>
            <a:ext cx="1295280" cy="642600"/>
          </a:xfrm>
          <a:prstGeom prst="wedgeRectCallout">
            <a:avLst>
              <a:gd name="adj1" fmla="val 285287"/>
              <a:gd name="adj2" fmla="val 451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显示教师任课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9"/>
          <p:cNvSpPr/>
          <p:nvPr/>
        </p:nvSpPr>
        <p:spPr>
          <a:xfrm>
            <a:off x="3635280" y="1914480"/>
            <a:ext cx="1513080" cy="917280"/>
          </a:xfrm>
          <a:prstGeom prst="wedgeRectCallout">
            <a:avLst>
              <a:gd name="adj1" fmla="val 92481"/>
              <a:gd name="adj2" fmla="val 158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“每多一课头增加的分”和“班主任增加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1">
            <a:hlinkClick r:id="" action="ppaction://hlinkshowjump?jump=previousslide"/>
          </p:cNvPr>
          <p:cNvSpPr/>
          <p:nvPr/>
        </p:nvSpPr>
        <p:spPr>
          <a:xfrm>
            <a:off x="8101080" y="549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3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3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2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2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3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01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监考表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5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7780320" cy="544032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6"/>
          <p:cNvSpPr/>
          <p:nvPr/>
        </p:nvSpPr>
        <p:spPr>
          <a:xfrm>
            <a:off x="2484360" y="467280"/>
            <a:ext cx="1368360" cy="368640"/>
          </a:xfrm>
          <a:prstGeom prst="wedgeRectCallout">
            <a:avLst>
              <a:gd name="adj1" fmla="val -153337"/>
              <a:gd name="adj2" fmla="val 52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或选择考试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3995640" y="401400"/>
            <a:ext cx="1368360" cy="368640"/>
          </a:xfrm>
          <a:prstGeom prst="wedgeRectCallout">
            <a:avLst>
              <a:gd name="adj1" fmla="val -105310"/>
              <a:gd name="adj2" fmla="val 57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各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8">
            <a:hlinkClick r:id="rId2" action="ppaction://hlinksldjump"/>
          </p:cNvPr>
          <p:cNvSpPr/>
          <p:nvPr/>
        </p:nvSpPr>
        <p:spPr>
          <a:xfrm>
            <a:off x="5651640" y="47628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72" h="21600">
                <a:moveTo>
                  <a:pt x="20030" y="10800"/>
                </a:moveTo>
                <a:lnTo>
                  <a:pt x="34042" y="3794"/>
                </a:lnTo>
                <a:lnTo>
                  <a:pt x="340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9">
            <a:hlinkClick r:id="rId3" action="ppaction://hlinksldjump"/>
          </p:cNvPr>
          <p:cNvSpPr/>
          <p:nvPr/>
        </p:nvSpPr>
        <p:spPr>
          <a:xfrm>
            <a:off x="7812000" y="468000"/>
            <a:ext cx="949320" cy="423000"/>
          </a:xfrm>
          <a:custGeom>
            <a:avLst/>
            <a:gdLst>
              <a:gd name="textAreaLeft" fmla="*/ 27360 w 949320"/>
              <a:gd name="textAreaRight" fmla="*/ 921960 w 9493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8453" h="21600">
                <a:moveTo>
                  <a:pt x="0" y="0"/>
                </a:moveTo>
                <a:lnTo>
                  <a:pt x="48453" y="0"/>
                </a:lnTo>
                <a:lnTo>
                  <a:pt x="48453" y="21600"/>
                </a:lnTo>
                <a:lnTo>
                  <a:pt x="0" y="21600"/>
                </a:lnTo>
                <a:close/>
              </a:path>
              <a:path fill="lightenLess" w="48453" h="21600">
                <a:moveTo>
                  <a:pt x="0" y="0"/>
                </a:moveTo>
                <a:lnTo>
                  <a:pt x="48453" y="0"/>
                </a:lnTo>
                <a:lnTo>
                  <a:pt x="47053" y="1400"/>
                </a:lnTo>
                <a:lnTo>
                  <a:pt x="1400" y="1400"/>
                </a:lnTo>
                <a:close/>
              </a:path>
              <a:path fill="darken" w="48453" h="21600">
                <a:moveTo>
                  <a:pt x="48453" y="0"/>
                </a:moveTo>
                <a:lnTo>
                  <a:pt x="48453" y="21600"/>
                </a:lnTo>
                <a:lnTo>
                  <a:pt x="47053" y="20200"/>
                </a:lnTo>
                <a:lnTo>
                  <a:pt x="47053" y="1400"/>
                </a:lnTo>
                <a:close/>
              </a:path>
              <a:path fill="darkenLess" w="48453" h="21600">
                <a:moveTo>
                  <a:pt x="48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53" y="20200"/>
                </a:lnTo>
                <a:close/>
              </a:path>
              <a:path fill="lighten" w="48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53" h="21600">
                <a:moveTo>
                  <a:pt x="17220" y="3794"/>
                </a:moveTo>
                <a:lnTo>
                  <a:pt x="31233" y="10800"/>
                </a:lnTo>
                <a:lnTo>
                  <a:pt x="172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0">
            <a:hlinkClick r:id="" action="ppaction://hlinkshowjump?jump=previousslide"/>
          </p:cNvPr>
          <p:cNvSpPr/>
          <p:nvPr/>
        </p:nvSpPr>
        <p:spPr>
          <a:xfrm>
            <a:off x="6804000" y="476280"/>
            <a:ext cx="936720" cy="433440"/>
          </a:xfrm>
          <a:custGeom>
            <a:avLst/>
            <a:gdLst>
              <a:gd name="textAreaLeft" fmla="*/ 28080 w 936720"/>
              <a:gd name="textAreaRight" fmla="*/ 908640 w 936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60" h="21600">
                <a:moveTo>
                  <a:pt x="0" y="0"/>
                </a:moveTo>
                <a:lnTo>
                  <a:pt x="46660" y="0"/>
                </a:lnTo>
                <a:lnTo>
                  <a:pt x="46660" y="21600"/>
                </a:lnTo>
                <a:lnTo>
                  <a:pt x="0" y="21600"/>
                </a:lnTo>
                <a:close/>
              </a:path>
              <a:path fill="lightenLess" w="46660" h="21600">
                <a:moveTo>
                  <a:pt x="0" y="0"/>
                </a:moveTo>
                <a:lnTo>
                  <a:pt x="46660" y="0"/>
                </a:lnTo>
                <a:lnTo>
                  <a:pt x="45260" y="1400"/>
                </a:lnTo>
                <a:lnTo>
                  <a:pt x="1400" y="1400"/>
                </a:lnTo>
                <a:close/>
              </a:path>
              <a:path fill="darken" w="46660" h="21600">
                <a:moveTo>
                  <a:pt x="46660" y="0"/>
                </a:moveTo>
                <a:lnTo>
                  <a:pt x="46660" y="21600"/>
                </a:lnTo>
                <a:lnTo>
                  <a:pt x="45260" y="20200"/>
                </a:lnTo>
                <a:lnTo>
                  <a:pt x="45260" y="1400"/>
                </a:lnTo>
                <a:close/>
              </a:path>
              <a:path fill="darkenLess" w="46660" h="21600">
                <a:moveTo>
                  <a:pt x="46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0" y="20200"/>
                </a:lnTo>
                <a:close/>
              </a:path>
              <a:path fill="lighten" w="46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0" h="21600">
                <a:moveTo>
                  <a:pt x="16323" y="10800"/>
                </a:moveTo>
                <a:lnTo>
                  <a:pt x="30336" y="3794"/>
                </a:lnTo>
                <a:lnTo>
                  <a:pt x="303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3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3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780320" cy="54403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233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编排工作人员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2484360" y="401400"/>
            <a:ext cx="1368360" cy="368640"/>
          </a:xfrm>
          <a:prstGeom prst="wedgeRectCallout">
            <a:avLst>
              <a:gd name="adj1" fmla="val -174694"/>
              <a:gd name="adj2" fmla="val 705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新的项目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3995640" y="401400"/>
            <a:ext cx="1368360" cy="368640"/>
          </a:xfrm>
          <a:prstGeom prst="wedgeRectCallout">
            <a:avLst>
              <a:gd name="adj1" fmla="val -122037"/>
              <a:gd name="adj2" fmla="val 48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某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7"/>
          <p:cNvSpPr/>
          <p:nvPr/>
        </p:nvSpPr>
        <p:spPr>
          <a:xfrm>
            <a:off x="5508720" y="401400"/>
            <a:ext cx="1368360" cy="368640"/>
          </a:xfrm>
          <a:prstGeom prst="wedgeRectCallout">
            <a:avLst>
              <a:gd name="adj1" fmla="val -60412"/>
              <a:gd name="adj2" fmla="val 1398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某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8"/>
          <p:cNvSpPr/>
          <p:nvPr/>
        </p:nvSpPr>
        <p:spPr>
          <a:xfrm>
            <a:off x="7020000" y="401400"/>
            <a:ext cx="1368360" cy="368640"/>
          </a:xfrm>
          <a:prstGeom prst="wedgeRectCallout">
            <a:avLst>
              <a:gd name="adj1" fmla="val -4078"/>
              <a:gd name="adj2" fmla="val 473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修改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9">
            <a:hlinkClick r:id="rId2" action="ppaction://hlinksldjump"/>
          </p:cNvPr>
          <p:cNvSpPr/>
          <p:nvPr/>
        </p:nvSpPr>
        <p:spPr>
          <a:xfrm>
            <a:off x="8172360" y="479736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10800"/>
                </a:moveTo>
                <a:lnTo>
                  <a:pt x="26808" y="3794"/>
                </a:lnTo>
                <a:lnTo>
                  <a:pt x="2680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0">
            <a:hlinkClick r:id="" action="ppaction://hlinkshowjump?jump=nextslide"/>
          </p:cNvPr>
          <p:cNvSpPr/>
          <p:nvPr/>
        </p:nvSpPr>
        <p:spPr>
          <a:xfrm>
            <a:off x="8172360" y="6129000"/>
            <a:ext cx="792360" cy="42300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45" h="21600">
                <a:moveTo>
                  <a:pt x="0" y="0"/>
                </a:moveTo>
                <a:lnTo>
                  <a:pt x="40445" y="0"/>
                </a:lnTo>
                <a:lnTo>
                  <a:pt x="40445" y="21600"/>
                </a:lnTo>
                <a:lnTo>
                  <a:pt x="0" y="21600"/>
                </a:lnTo>
                <a:close/>
              </a:path>
              <a:path fill="lightenLess" w="40445" h="21600">
                <a:moveTo>
                  <a:pt x="0" y="0"/>
                </a:moveTo>
                <a:lnTo>
                  <a:pt x="40445" y="0"/>
                </a:lnTo>
                <a:lnTo>
                  <a:pt x="39045" y="1400"/>
                </a:lnTo>
                <a:lnTo>
                  <a:pt x="1400" y="1400"/>
                </a:lnTo>
                <a:close/>
              </a:path>
              <a:path fill="darken" w="40445" h="21600">
                <a:moveTo>
                  <a:pt x="40445" y="0"/>
                </a:moveTo>
                <a:lnTo>
                  <a:pt x="40445" y="21600"/>
                </a:lnTo>
                <a:lnTo>
                  <a:pt x="39045" y="20200"/>
                </a:lnTo>
                <a:lnTo>
                  <a:pt x="39045" y="1400"/>
                </a:lnTo>
                <a:close/>
              </a:path>
              <a:path fill="darkenLess" w="40445" h="21600">
                <a:moveTo>
                  <a:pt x="4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5" y="20200"/>
                </a:lnTo>
                <a:close/>
              </a:path>
              <a:path fill="lighten" w="4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5" h="21600">
                <a:moveTo>
                  <a:pt x="13216" y="3794"/>
                </a:moveTo>
                <a:lnTo>
                  <a:pt x="27229" y="10800"/>
                </a:lnTo>
                <a:lnTo>
                  <a:pt x="132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1">
            <a:hlinkClick r:id="" action="ppaction://hlinkshowjump?jump=previousslide"/>
          </p:cNvPr>
          <p:cNvSpPr/>
          <p:nvPr/>
        </p:nvSpPr>
        <p:spPr>
          <a:xfrm>
            <a:off x="8172360" y="551664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68" h="21600">
                <a:moveTo>
                  <a:pt x="16728" y="10800"/>
                </a:moveTo>
                <a:lnTo>
                  <a:pt x="30741" y="3794"/>
                </a:lnTo>
                <a:lnTo>
                  <a:pt x="3074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7780320" cy="54406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208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编排监考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2268360" y="467280"/>
            <a:ext cx="935280" cy="368640"/>
          </a:xfrm>
          <a:prstGeom prst="wedgeRectCallout">
            <a:avLst>
              <a:gd name="adj1" fmla="val -114828"/>
              <a:gd name="adj2" fmla="val 44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考试总次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3276720" y="467280"/>
            <a:ext cx="1008000" cy="368640"/>
          </a:xfrm>
          <a:prstGeom prst="wedgeRectCallout">
            <a:avLst>
              <a:gd name="adj1" fmla="val -138500"/>
              <a:gd name="adj2" fmla="val 44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全校总考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4356000" y="467280"/>
            <a:ext cx="1008000" cy="368640"/>
          </a:xfrm>
          <a:prstGeom prst="wedgeRectCallout">
            <a:avLst>
              <a:gd name="adj1" fmla="val -175023"/>
              <a:gd name="adj2" fmla="val 449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考试总场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7"/>
          <p:cNvSpPr/>
          <p:nvPr/>
        </p:nvSpPr>
        <p:spPr>
          <a:xfrm>
            <a:off x="5435640" y="330120"/>
            <a:ext cx="1225440" cy="642600"/>
          </a:xfrm>
          <a:prstGeom prst="wedgeRectCallout">
            <a:avLst>
              <a:gd name="adj1" fmla="val -181333"/>
              <a:gd name="adj2" fmla="val 249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考试总场次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732720" y="467280"/>
            <a:ext cx="1726920" cy="368640"/>
          </a:xfrm>
          <a:prstGeom prst="wedgeRectCallout">
            <a:avLst>
              <a:gd name="adj1" fmla="val 166"/>
              <a:gd name="adj2" fmla="val 43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教师需监考的场次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0"/>
          <p:cNvSpPr/>
          <p:nvPr/>
        </p:nvSpPr>
        <p:spPr>
          <a:xfrm>
            <a:off x="4932360" y="1482480"/>
            <a:ext cx="1295280" cy="368640"/>
          </a:xfrm>
          <a:prstGeom prst="wedgeRectCallout">
            <a:avLst>
              <a:gd name="adj1" fmla="val -272282"/>
              <a:gd name="adj2" fmla="val 272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编排第几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1"/>
          <p:cNvSpPr/>
          <p:nvPr/>
        </p:nvSpPr>
        <p:spPr>
          <a:xfrm>
            <a:off x="6300720" y="1482480"/>
            <a:ext cx="1295640" cy="368640"/>
          </a:xfrm>
          <a:prstGeom prst="wedgeRectCallout">
            <a:avLst>
              <a:gd name="adj1" fmla="val -239083"/>
              <a:gd name="adj2" fmla="val 26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日期和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2"/>
          <p:cNvSpPr/>
          <p:nvPr/>
        </p:nvSpPr>
        <p:spPr>
          <a:xfrm>
            <a:off x="8028000" y="3765960"/>
            <a:ext cx="934920" cy="368640"/>
          </a:xfrm>
          <a:prstGeom prst="wedgeRectCallout">
            <a:avLst>
              <a:gd name="adj1" fmla="val -676287"/>
              <a:gd name="adj2" fmla="val -273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或输入和考生有关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3"/>
          <p:cNvSpPr/>
          <p:nvPr/>
        </p:nvSpPr>
        <p:spPr>
          <a:xfrm>
            <a:off x="8028000" y="4938480"/>
            <a:ext cx="1008000" cy="642600"/>
          </a:xfrm>
          <a:prstGeom prst="wedgeRectCallout">
            <a:avLst>
              <a:gd name="adj1" fmla="val -411870"/>
              <a:gd name="adj2" fmla="val -297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自动编排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4"/>
          <p:cNvSpPr/>
          <p:nvPr/>
        </p:nvSpPr>
        <p:spPr>
          <a:xfrm>
            <a:off x="8028000" y="5946480"/>
            <a:ext cx="934920" cy="642600"/>
          </a:xfrm>
          <a:prstGeom prst="wedgeRectCallout">
            <a:avLst>
              <a:gd name="adj1" fmla="val -70703"/>
              <a:gd name="adj2" fmla="val -12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5">
            <a:hlinkClick r:id="rId2" action="ppaction://hlinksldjump"/>
          </p:cNvPr>
          <p:cNvSpPr/>
          <p:nvPr/>
        </p:nvSpPr>
        <p:spPr>
          <a:xfrm>
            <a:off x="8172360" y="119700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6">
            <a:hlinkClick r:id="" action="ppaction://hlinkshowjump?jump=nextslide"/>
          </p:cNvPr>
          <p:cNvSpPr/>
          <p:nvPr/>
        </p:nvSpPr>
        <p:spPr>
          <a:xfrm>
            <a:off x="8172360" y="2550600"/>
            <a:ext cx="709560" cy="423000"/>
          </a:xfrm>
          <a:custGeom>
            <a:avLst/>
            <a:gdLst>
              <a:gd name="textAreaLeft" fmla="*/ 27360 w 709560"/>
              <a:gd name="textAreaRight" fmla="*/ 682200 w 7095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6220" h="21600">
                <a:moveTo>
                  <a:pt x="0" y="0"/>
                </a:moveTo>
                <a:lnTo>
                  <a:pt x="36220" y="0"/>
                </a:lnTo>
                <a:lnTo>
                  <a:pt x="36220" y="21600"/>
                </a:lnTo>
                <a:lnTo>
                  <a:pt x="0" y="21600"/>
                </a:lnTo>
                <a:close/>
              </a:path>
              <a:path fill="lightenLess" w="36220" h="21600">
                <a:moveTo>
                  <a:pt x="0" y="0"/>
                </a:moveTo>
                <a:lnTo>
                  <a:pt x="36220" y="0"/>
                </a:lnTo>
                <a:lnTo>
                  <a:pt x="34820" y="1400"/>
                </a:lnTo>
                <a:lnTo>
                  <a:pt x="1400" y="1400"/>
                </a:lnTo>
                <a:close/>
              </a:path>
              <a:path fill="darken" w="36220" h="21600">
                <a:moveTo>
                  <a:pt x="36220" y="0"/>
                </a:moveTo>
                <a:lnTo>
                  <a:pt x="36220" y="21600"/>
                </a:lnTo>
                <a:lnTo>
                  <a:pt x="34820" y="20200"/>
                </a:lnTo>
                <a:lnTo>
                  <a:pt x="34820" y="1400"/>
                </a:lnTo>
                <a:close/>
              </a:path>
              <a:path fill="darkenLess" w="36220" h="21600">
                <a:moveTo>
                  <a:pt x="36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20" y="20200"/>
                </a:lnTo>
                <a:close/>
              </a:path>
              <a:path fill="lighten" w="36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20" h="21600">
                <a:moveTo>
                  <a:pt x="11104" y="3794"/>
                </a:moveTo>
                <a:lnTo>
                  <a:pt x="25117" y="10800"/>
                </a:lnTo>
                <a:lnTo>
                  <a:pt x="111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7">
            <a:hlinkClick r:id="" action="ppaction://hlinkshowjump?jump=previousslide"/>
          </p:cNvPr>
          <p:cNvSpPr/>
          <p:nvPr/>
        </p:nvSpPr>
        <p:spPr>
          <a:xfrm>
            <a:off x="8172360" y="191628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3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3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3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3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0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0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2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2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8037360" cy="4924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1989000"/>
            <a:ext cx="72072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主窗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rId2" action="ppaction://hlinksldjump"/>
          </p:cNvPr>
          <p:cNvSpPr/>
          <p:nvPr/>
        </p:nvSpPr>
        <p:spPr>
          <a:xfrm>
            <a:off x="108000" y="5589720"/>
            <a:ext cx="711000" cy="1089000"/>
          </a:xfrm>
          <a:custGeom>
            <a:avLst/>
            <a:gdLst>
              <a:gd name="textAreaLeft" fmla="*/ 46080 w 711000"/>
              <a:gd name="textAreaRight" fmla="*/ 664920 w 711000"/>
              <a:gd name="textAreaTop" fmla="*/ 46080 h 1089000"/>
              <a:gd name="textAreaBottom" fmla="*/ 1042920 h 1089000"/>
            </a:gdLst>
            <a:ahLst/>
            <a:rect l="textAreaLeft" t="textAreaTop" r="textAreaRight" b="textAreaBottom"/>
            <a:pathLst>
              <a:path w="21600" h="33078">
                <a:moveTo>
                  <a:pt x="0" y="0"/>
                </a:moveTo>
                <a:lnTo>
                  <a:pt x="21600" y="0"/>
                </a:lnTo>
                <a:lnTo>
                  <a:pt x="21600" y="33078"/>
                </a:lnTo>
                <a:lnTo>
                  <a:pt x="0" y="33078"/>
                </a:lnTo>
                <a:close/>
              </a:path>
              <a:path fill="lightenLess" w="21600" h="33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078">
                <a:moveTo>
                  <a:pt x="21600" y="0"/>
                </a:moveTo>
                <a:lnTo>
                  <a:pt x="21600" y="33078"/>
                </a:lnTo>
                <a:lnTo>
                  <a:pt x="20200" y="31678"/>
                </a:lnTo>
                <a:lnTo>
                  <a:pt x="20200" y="1400"/>
                </a:lnTo>
                <a:close/>
              </a:path>
              <a:path fill="darkenLess" w="21600" h="33078">
                <a:moveTo>
                  <a:pt x="21600" y="33078"/>
                </a:moveTo>
                <a:lnTo>
                  <a:pt x="0" y="33078"/>
                </a:lnTo>
                <a:lnTo>
                  <a:pt x="1400" y="31678"/>
                </a:lnTo>
                <a:lnTo>
                  <a:pt x="20200" y="31678"/>
                </a:lnTo>
                <a:close/>
              </a:path>
              <a:path fill="lighten" w="21600" h="33078">
                <a:moveTo>
                  <a:pt x="0" y="33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678"/>
                </a:lnTo>
                <a:close/>
              </a:path>
              <a:path fill="darken" w="21600" h="33078">
                <a:moveTo>
                  <a:pt x="3794" y="9532"/>
                </a:moveTo>
                <a:lnTo>
                  <a:pt x="17806" y="16539"/>
                </a:lnTo>
                <a:lnTo>
                  <a:pt x="3794" y="23545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108000" y="0"/>
            <a:ext cx="1727280" cy="1628640"/>
          </a:xfrm>
          <a:prstGeom prst="wedgeRoundRectCallout">
            <a:avLst>
              <a:gd name="adj1" fmla="val 26078"/>
              <a:gd name="adj2" fmla="val 9493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新建”按钮右边的下拉箭头，选择新建文件的方式，新建一个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979640" y="0"/>
            <a:ext cx="1224000" cy="1557360"/>
          </a:xfrm>
          <a:prstGeom prst="wedgeRoundRectCallout">
            <a:avLst>
              <a:gd name="adj1" fmla="val -67736"/>
              <a:gd name="adj2" fmla="val 10731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打开”按钮，打开一个已有的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804000" y="115920"/>
            <a:ext cx="1008000" cy="1557360"/>
          </a:xfrm>
          <a:prstGeom prst="wedgeRoundRectCallout">
            <a:avLst>
              <a:gd name="adj1" fmla="val -357532"/>
              <a:gd name="adj2" fmla="val 93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选项”按钮，修改系统选项（可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7885080" y="115920"/>
            <a:ext cx="1258920" cy="1584360"/>
          </a:xfrm>
          <a:prstGeom prst="wedgeRoundRectCallout">
            <a:avLst>
              <a:gd name="adj1" fmla="val -14523"/>
              <a:gd name="adj2" fmla="val 9279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帮助”按钮右边的下拉箭头，看版本信息（可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5148360" y="0"/>
            <a:ext cx="1511280" cy="1700280"/>
          </a:xfrm>
          <a:prstGeom prst="wedgeRoundRectCallout">
            <a:avLst>
              <a:gd name="adj1" fmla="val -226125"/>
              <a:gd name="adj2" fmla="val 89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开某排课文件后按“还原”按钮，还原损坏的排课数据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7"/>
          <p:cNvSpPr/>
          <p:nvPr/>
        </p:nvSpPr>
        <p:spPr>
          <a:xfrm>
            <a:off x="3348000" y="0"/>
            <a:ext cx="1728720" cy="1557360"/>
          </a:xfrm>
          <a:prstGeom prst="wedgeRoundRectCallout">
            <a:avLst>
              <a:gd name="adj1" fmla="val -121060"/>
              <a:gd name="adj2" fmla="val 10870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开某排课文件后按“另存”按钮，保存备份的排课数据文件（可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>
            <a:hlinkClick r:id="" action="ppaction://hlinkshowjump?jump=previousslide"/>
          </p:cNvPr>
          <p:cNvSpPr/>
          <p:nvPr/>
        </p:nvSpPr>
        <p:spPr>
          <a:xfrm>
            <a:off x="108000" y="4221000"/>
            <a:ext cx="720720" cy="1152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1152720"/>
              <a:gd name="textAreaBottom" fmla="*/ 1106280 h 1152720"/>
            </a:gdLst>
            <a:ahLst/>
            <a:rect l="textAreaLeft" t="textAreaTop" r="textAreaRight" b="textAreaBottom"/>
            <a:pathLst>
              <a:path w="21600" h="34541">
                <a:moveTo>
                  <a:pt x="0" y="0"/>
                </a:moveTo>
                <a:lnTo>
                  <a:pt x="21600" y="0"/>
                </a:lnTo>
                <a:lnTo>
                  <a:pt x="21600" y="34541"/>
                </a:lnTo>
                <a:lnTo>
                  <a:pt x="0" y="34541"/>
                </a:lnTo>
                <a:close/>
              </a:path>
              <a:path fill="lightenLess" w="21600" h="34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1">
                <a:moveTo>
                  <a:pt x="21600" y="0"/>
                </a:moveTo>
                <a:lnTo>
                  <a:pt x="21600" y="34541"/>
                </a:lnTo>
                <a:lnTo>
                  <a:pt x="20200" y="33141"/>
                </a:lnTo>
                <a:lnTo>
                  <a:pt x="20200" y="1400"/>
                </a:lnTo>
                <a:close/>
              </a:path>
              <a:path fill="darkenLess" w="21600" h="34541">
                <a:moveTo>
                  <a:pt x="21600" y="34541"/>
                </a:moveTo>
                <a:lnTo>
                  <a:pt x="0" y="34541"/>
                </a:lnTo>
                <a:lnTo>
                  <a:pt x="1400" y="33141"/>
                </a:lnTo>
                <a:lnTo>
                  <a:pt x="20200" y="33141"/>
                </a:lnTo>
                <a:close/>
              </a:path>
              <a:path fill="lighten" w="21600" h="34541">
                <a:moveTo>
                  <a:pt x="0" y="34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1"/>
                </a:lnTo>
                <a:close/>
              </a:path>
              <a:path fill="darken" w="21600" h="34541">
                <a:moveTo>
                  <a:pt x="3794" y="17270"/>
                </a:moveTo>
                <a:lnTo>
                  <a:pt x="17806" y="10264"/>
                </a:lnTo>
                <a:lnTo>
                  <a:pt x="17806" y="242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8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7780320" cy="544032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223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④考场考号互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539640" y="5225760"/>
            <a:ext cx="935280" cy="368640"/>
          </a:xfrm>
          <a:prstGeom prst="wedgeRectCallout">
            <a:avLst>
              <a:gd name="adj1" fmla="val 118407"/>
              <a:gd name="adj2" fmla="val -49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考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2484360" y="330120"/>
            <a:ext cx="1584360" cy="642600"/>
          </a:xfrm>
          <a:prstGeom prst="wedgeRectCallout">
            <a:avLst>
              <a:gd name="adj1" fmla="val -46208"/>
              <a:gd name="adj2" fmla="val 280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考号”按钮和“导出考号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6"/>
          <p:cNvSpPr/>
          <p:nvPr/>
        </p:nvSpPr>
        <p:spPr>
          <a:xfrm>
            <a:off x="4356000" y="401400"/>
            <a:ext cx="1008000" cy="368640"/>
          </a:xfrm>
          <a:prstGeom prst="wedgeRectCallout">
            <a:avLst>
              <a:gd name="adj1" fmla="val -33328"/>
              <a:gd name="adj2" fmla="val 567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考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9"/>
          <p:cNvSpPr/>
          <p:nvPr/>
        </p:nvSpPr>
        <p:spPr>
          <a:xfrm>
            <a:off x="5651640" y="330120"/>
            <a:ext cx="1584360" cy="642600"/>
          </a:xfrm>
          <a:prstGeom prst="wedgeRectCallout">
            <a:avLst>
              <a:gd name="adj1" fmla="val -56199"/>
              <a:gd name="adj2" fmla="val 321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考场”按钮和“导出考场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4">
            <a:hlinkClick r:id="rId2" action="ppaction://hlinksldjump"/>
          </p:cNvPr>
          <p:cNvSpPr/>
          <p:nvPr/>
        </p:nvSpPr>
        <p:spPr>
          <a:xfrm>
            <a:off x="8244000" y="69228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5">
            <a:hlinkClick r:id="" action="ppaction://hlinkshowjump?jump=nextslide"/>
          </p:cNvPr>
          <p:cNvSpPr/>
          <p:nvPr/>
        </p:nvSpPr>
        <p:spPr>
          <a:xfrm>
            <a:off x="8244000" y="2268720"/>
            <a:ext cx="809640" cy="423000"/>
          </a:xfrm>
          <a:custGeom>
            <a:avLst/>
            <a:gdLst>
              <a:gd name="textAreaLeft" fmla="*/ 27360 w 809640"/>
              <a:gd name="textAreaRight" fmla="*/ 782280 w 809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1327" h="21600">
                <a:moveTo>
                  <a:pt x="0" y="0"/>
                </a:moveTo>
                <a:lnTo>
                  <a:pt x="41327" y="0"/>
                </a:lnTo>
                <a:lnTo>
                  <a:pt x="41327" y="21600"/>
                </a:lnTo>
                <a:lnTo>
                  <a:pt x="0" y="21600"/>
                </a:lnTo>
                <a:close/>
              </a:path>
              <a:path fill="lightenLess" w="41327" h="21600">
                <a:moveTo>
                  <a:pt x="0" y="0"/>
                </a:moveTo>
                <a:lnTo>
                  <a:pt x="41327" y="0"/>
                </a:lnTo>
                <a:lnTo>
                  <a:pt x="39927" y="1400"/>
                </a:lnTo>
                <a:lnTo>
                  <a:pt x="1400" y="1400"/>
                </a:lnTo>
                <a:close/>
              </a:path>
              <a:path fill="darken" w="41327" h="21600">
                <a:moveTo>
                  <a:pt x="41327" y="0"/>
                </a:moveTo>
                <a:lnTo>
                  <a:pt x="41327" y="21600"/>
                </a:lnTo>
                <a:lnTo>
                  <a:pt x="39927" y="20200"/>
                </a:lnTo>
                <a:lnTo>
                  <a:pt x="39927" y="1400"/>
                </a:lnTo>
                <a:close/>
              </a:path>
              <a:path fill="darkenLess" w="41327" h="21600">
                <a:moveTo>
                  <a:pt x="41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27" y="20200"/>
                </a:lnTo>
                <a:close/>
              </a:path>
              <a:path fill="lighten" w="41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27" h="21600">
                <a:moveTo>
                  <a:pt x="13657" y="3794"/>
                </a:moveTo>
                <a:lnTo>
                  <a:pt x="27670" y="10800"/>
                </a:lnTo>
                <a:lnTo>
                  <a:pt x="1365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6">
            <a:hlinkClick r:id="" action="ppaction://hlinkshowjump?jump=previousslide"/>
          </p:cNvPr>
          <p:cNvSpPr/>
          <p:nvPr/>
        </p:nvSpPr>
        <p:spPr>
          <a:xfrm>
            <a:off x="8244000" y="148428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3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3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3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3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3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3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13800" cy="3430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376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统计学生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2700360" y="260280"/>
            <a:ext cx="28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主窗体按“计分”按钮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8">
            <a:hlinkClick r:id="rId2" action="ppaction://hlinksldjump"/>
          </p:cNvPr>
          <p:cNvSpPr/>
          <p:nvPr/>
        </p:nvSpPr>
        <p:spPr>
          <a:xfrm>
            <a:off x="4859280" y="436572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23603" y="10800"/>
                </a:moveTo>
                <a:lnTo>
                  <a:pt x="37615" y="3794"/>
                </a:lnTo>
                <a:lnTo>
                  <a:pt x="37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9">
            <a:hlinkClick r:id="" action="ppaction://hlinkshowjump?jump=nextslide"/>
          </p:cNvPr>
          <p:cNvSpPr/>
          <p:nvPr/>
        </p:nvSpPr>
        <p:spPr>
          <a:xfrm>
            <a:off x="7524720" y="435744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0">
            <a:hlinkClick r:id="" action="ppaction://hlinkshowjump?jump=previousslide"/>
          </p:cNvPr>
          <p:cNvSpPr/>
          <p:nvPr/>
        </p:nvSpPr>
        <p:spPr>
          <a:xfrm>
            <a:off x="6227640" y="4365720"/>
            <a:ext cx="1152720" cy="43164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54" h="21600">
                <a:moveTo>
                  <a:pt x="0" y="0"/>
                </a:moveTo>
                <a:lnTo>
                  <a:pt x="57654" y="0"/>
                </a:lnTo>
                <a:lnTo>
                  <a:pt x="57654" y="21600"/>
                </a:lnTo>
                <a:lnTo>
                  <a:pt x="0" y="21600"/>
                </a:lnTo>
                <a:close/>
              </a:path>
              <a:path fill="lightenLess" w="57654" h="21600">
                <a:moveTo>
                  <a:pt x="0" y="0"/>
                </a:moveTo>
                <a:lnTo>
                  <a:pt x="57654" y="0"/>
                </a:lnTo>
                <a:lnTo>
                  <a:pt x="56254" y="1400"/>
                </a:lnTo>
                <a:lnTo>
                  <a:pt x="1400" y="1400"/>
                </a:lnTo>
                <a:close/>
              </a:path>
              <a:path fill="darken" w="57654" h="21600">
                <a:moveTo>
                  <a:pt x="57654" y="0"/>
                </a:moveTo>
                <a:lnTo>
                  <a:pt x="57654" y="21600"/>
                </a:lnTo>
                <a:lnTo>
                  <a:pt x="56254" y="20200"/>
                </a:lnTo>
                <a:lnTo>
                  <a:pt x="56254" y="1400"/>
                </a:lnTo>
                <a:close/>
              </a:path>
              <a:path fill="darkenLess" w="57654" h="21600">
                <a:moveTo>
                  <a:pt x="57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54" y="20200"/>
                </a:lnTo>
                <a:close/>
              </a:path>
              <a:path fill="lighten" w="57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54" h="21600">
                <a:moveTo>
                  <a:pt x="21821" y="10800"/>
                </a:moveTo>
                <a:lnTo>
                  <a:pt x="35833" y="3794"/>
                </a:lnTo>
                <a:lnTo>
                  <a:pt x="358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拟班级成绩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30568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5">
            <a:hlinkClick r:id="rId2" action="ppaction://hlinksldjump"/>
          </p:cNvPr>
          <p:cNvSpPr/>
          <p:nvPr/>
        </p:nvSpPr>
        <p:spPr>
          <a:xfrm>
            <a:off x="4788000" y="18900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23603" y="10800"/>
                </a:moveTo>
                <a:lnTo>
                  <a:pt x="37615" y="3794"/>
                </a:lnTo>
                <a:lnTo>
                  <a:pt x="37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">
            <a:hlinkClick r:id="" action="ppaction://hlinkshowjump?jump=nextslide"/>
          </p:cNvPr>
          <p:cNvSpPr/>
          <p:nvPr/>
        </p:nvSpPr>
        <p:spPr>
          <a:xfrm>
            <a:off x="7596360" y="18072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7">
            <a:hlinkClick r:id="" action="ppaction://hlinkshowjump?jump=previousslide"/>
          </p:cNvPr>
          <p:cNvSpPr/>
          <p:nvPr/>
        </p:nvSpPr>
        <p:spPr>
          <a:xfrm>
            <a:off x="6227640" y="189000"/>
            <a:ext cx="1152720" cy="43164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54" h="21600">
                <a:moveTo>
                  <a:pt x="0" y="0"/>
                </a:moveTo>
                <a:lnTo>
                  <a:pt x="57654" y="0"/>
                </a:lnTo>
                <a:lnTo>
                  <a:pt x="57654" y="21600"/>
                </a:lnTo>
                <a:lnTo>
                  <a:pt x="0" y="21600"/>
                </a:lnTo>
                <a:close/>
              </a:path>
              <a:path fill="lightenLess" w="57654" h="21600">
                <a:moveTo>
                  <a:pt x="0" y="0"/>
                </a:moveTo>
                <a:lnTo>
                  <a:pt x="57654" y="0"/>
                </a:lnTo>
                <a:lnTo>
                  <a:pt x="56254" y="1400"/>
                </a:lnTo>
                <a:lnTo>
                  <a:pt x="1400" y="1400"/>
                </a:lnTo>
                <a:close/>
              </a:path>
              <a:path fill="darken" w="57654" h="21600">
                <a:moveTo>
                  <a:pt x="57654" y="0"/>
                </a:moveTo>
                <a:lnTo>
                  <a:pt x="57654" y="21600"/>
                </a:lnTo>
                <a:lnTo>
                  <a:pt x="56254" y="20200"/>
                </a:lnTo>
                <a:lnTo>
                  <a:pt x="56254" y="1400"/>
                </a:lnTo>
                <a:close/>
              </a:path>
              <a:path fill="darkenLess" w="57654" h="21600">
                <a:moveTo>
                  <a:pt x="57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54" y="20200"/>
                </a:lnTo>
                <a:close/>
              </a:path>
              <a:path fill="lighten" w="57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54" h="21600">
                <a:moveTo>
                  <a:pt x="21821" y="10800"/>
                </a:moveTo>
                <a:lnTo>
                  <a:pt x="35833" y="3794"/>
                </a:lnTo>
                <a:lnTo>
                  <a:pt x="358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拟年级成绩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416720" cy="594036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5">
            <a:hlinkClick r:id="rId2" action="ppaction://hlinksldjump"/>
          </p:cNvPr>
          <p:cNvSpPr/>
          <p:nvPr/>
        </p:nvSpPr>
        <p:spPr>
          <a:xfrm>
            <a:off x="4859280" y="18900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23603" y="10800"/>
                </a:moveTo>
                <a:lnTo>
                  <a:pt x="37615" y="3794"/>
                </a:lnTo>
                <a:lnTo>
                  <a:pt x="37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>
            <a:hlinkClick r:id="" action="ppaction://hlinkshowjump?jump=nextslide"/>
          </p:cNvPr>
          <p:cNvSpPr/>
          <p:nvPr/>
        </p:nvSpPr>
        <p:spPr>
          <a:xfrm>
            <a:off x="7524720" y="18072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" action="ppaction://hlinkshowjump?jump=previousslide"/>
          </p:cNvPr>
          <p:cNvSpPr/>
          <p:nvPr/>
        </p:nvSpPr>
        <p:spPr>
          <a:xfrm>
            <a:off x="6227640" y="189000"/>
            <a:ext cx="1152720" cy="43164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54" h="21600">
                <a:moveTo>
                  <a:pt x="0" y="0"/>
                </a:moveTo>
                <a:lnTo>
                  <a:pt x="57654" y="0"/>
                </a:lnTo>
                <a:lnTo>
                  <a:pt x="57654" y="21600"/>
                </a:lnTo>
                <a:lnTo>
                  <a:pt x="0" y="21600"/>
                </a:lnTo>
                <a:close/>
              </a:path>
              <a:path fill="lightenLess" w="57654" h="21600">
                <a:moveTo>
                  <a:pt x="0" y="0"/>
                </a:moveTo>
                <a:lnTo>
                  <a:pt x="57654" y="0"/>
                </a:lnTo>
                <a:lnTo>
                  <a:pt x="56254" y="1400"/>
                </a:lnTo>
                <a:lnTo>
                  <a:pt x="1400" y="1400"/>
                </a:lnTo>
                <a:close/>
              </a:path>
              <a:path fill="darken" w="57654" h="21600">
                <a:moveTo>
                  <a:pt x="57654" y="0"/>
                </a:moveTo>
                <a:lnTo>
                  <a:pt x="57654" y="21600"/>
                </a:lnTo>
                <a:lnTo>
                  <a:pt x="56254" y="20200"/>
                </a:lnTo>
                <a:lnTo>
                  <a:pt x="56254" y="1400"/>
                </a:lnTo>
                <a:close/>
              </a:path>
              <a:path fill="darkenLess" w="57654" h="21600">
                <a:moveTo>
                  <a:pt x="57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54" y="20200"/>
                </a:lnTo>
                <a:close/>
              </a:path>
              <a:path fill="lighten" w="57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54" h="21600">
                <a:moveTo>
                  <a:pt x="21821" y="10800"/>
                </a:moveTo>
                <a:lnTo>
                  <a:pt x="35833" y="3794"/>
                </a:lnTo>
                <a:lnTo>
                  <a:pt x="358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266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生分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2987640" y="404640"/>
            <a:ext cx="28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主窗体按“分班”按钮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6"/>
          <p:cNvSpPr/>
          <p:nvPr/>
        </p:nvSpPr>
        <p:spPr>
          <a:xfrm>
            <a:off x="5940360" y="40464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67" h="21600">
                <a:moveTo>
                  <a:pt x="23577" y="10800"/>
                </a:moveTo>
                <a:lnTo>
                  <a:pt x="37590" y="3794"/>
                </a:lnTo>
                <a:lnTo>
                  <a:pt x="3759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7">
            <a:hlinkClick r:id="" action="ppaction://hlinkshowjump?jump=nextslide"/>
          </p:cNvPr>
          <p:cNvSpPr/>
          <p:nvPr/>
        </p:nvSpPr>
        <p:spPr>
          <a:xfrm>
            <a:off x="7956720" y="396360"/>
            <a:ext cx="798480" cy="423000"/>
          </a:xfrm>
          <a:custGeom>
            <a:avLst/>
            <a:gdLst>
              <a:gd name="textAreaLeft" fmla="*/ 27360 w 798480"/>
              <a:gd name="textAreaRight" fmla="*/ 771120 w 7984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757" h="21600">
                <a:moveTo>
                  <a:pt x="0" y="0"/>
                </a:moveTo>
                <a:lnTo>
                  <a:pt x="40757" y="0"/>
                </a:lnTo>
                <a:lnTo>
                  <a:pt x="40757" y="21600"/>
                </a:lnTo>
                <a:lnTo>
                  <a:pt x="0" y="21600"/>
                </a:lnTo>
                <a:close/>
              </a:path>
              <a:path fill="lightenLess" w="40757" h="21600">
                <a:moveTo>
                  <a:pt x="0" y="0"/>
                </a:moveTo>
                <a:lnTo>
                  <a:pt x="40757" y="0"/>
                </a:lnTo>
                <a:lnTo>
                  <a:pt x="39357" y="1400"/>
                </a:lnTo>
                <a:lnTo>
                  <a:pt x="1400" y="1400"/>
                </a:lnTo>
                <a:close/>
              </a:path>
              <a:path fill="darken" w="40757" h="21600">
                <a:moveTo>
                  <a:pt x="40757" y="0"/>
                </a:moveTo>
                <a:lnTo>
                  <a:pt x="40757" y="21600"/>
                </a:lnTo>
                <a:lnTo>
                  <a:pt x="39357" y="20200"/>
                </a:lnTo>
                <a:lnTo>
                  <a:pt x="39357" y="1400"/>
                </a:lnTo>
                <a:close/>
              </a:path>
              <a:path fill="darkenLess" w="40757" h="21600">
                <a:moveTo>
                  <a:pt x="40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7" y="20200"/>
                </a:lnTo>
                <a:close/>
              </a:path>
              <a:path fill="lighten" w="40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57" h="21600">
                <a:moveTo>
                  <a:pt x="13372" y="3794"/>
                </a:moveTo>
                <a:lnTo>
                  <a:pt x="27385" y="10800"/>
                </a:lnTo>
                <a:lnTo>
                  <a:pt x="13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8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184880" cy="4959360"/>
          </a:xfrm>
          <a:prstGeom prst="rect">
            <a:avLst/>
          </a:prstGeom>
          <a:ln w="0">
            <a:noFill/>
          </a:ln>
        </p:spPr>
      </p:pic>
      <p:sp>
        <p:nvSpPr>
          <p:cNvPr id="549" name="AutoShape 9">
            <a:hlinkClick r:id="" action="ppaction://hlinkshowjump?jump=previousslide"/>
          </p:cNvPr>
          <p:cNvSpPr/>
          <p:nvPr/>
        </p:nvSpPr>
        <p:spPr>
          <a:xfrm>
            <a:off x="7164360" y="404640"/>
            <a:ext cx="792360" cy="43344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2729" y="10800"/>
                </a:moveTo>
                <a:lnTo>
                  <a:pt x="26742" y="3794"/>
                </a:lnTo>
                <a:lnTo>
                  <a:pt x="267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拟分班后的年级学生表（兼顾成绩和性别，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班是重点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5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388120" cy="5565960"/>
          </a:xfrm>
          <a:prstGeom prst="rect">
            <a:avLst/>
          </a:prstGeom>
          <a:ln w="0">
            <a:noFill/>
          </a:ln>
        </p:spPr>
      </p:pic>
      <p:sp>
        <p:nvSpPr>
          <p:cNvPr id="552" name="AutoShape 6"/>
          <p:cNvSpPr/>
          <p:nvPr/>
        </p:nvSpPr>
        <p:spPr>
          <a:xfrm>
            <a:off x="7596360" y="189000"/>
            <a:ext cx="1223640" cy="431640"/>
          </a:xfrm>
          <a:custGeom>
            <a:avLst/>
            <a:gdLst>
              <a:gd name="textAreaLeft" fmla="*/ 27720 w 1223640"/>
              <a:gd name="textAreaRight" fmla="*/ 1195920 w 122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00" h="21600">
                <a:moveTo>
                  <a:pt x="0" y="0"/>
                </a:moveTo>
                <a:lnTo>
                  <a:pt x="61200" y="0"/>
                </a:lnTo>
                <a:lnTo>
                  <a:pt x="61200" y="21600"/>
                </a:lnTo>
                <a:lnTo>
                  <a:pt x="0" y="21600"/>
                </a:lnTo>
                <a:close/>
              </a:path>
              <a:path fill="lightenLess" w="61200" h="21600">
                <a:moveTo>
                  <a:pt x="0" y="0"/>
                </a:moveTo>
                <a:lnTo>
                  <a:pt x="61200" y="0"/>
                </a:lnTo>
                <a:lnTo>
                  <a:pt x="59800" y="1400"/>
                </a:lnTo>
                <a:lnTo>
                  <a:pt x="1400" y="1400"/>
                </a:lnTo>
                <a:close/>
              </a:path>
              <a:path fill="darken" w="61200" h="21600">
                <a:moveTo>
                  <a:pt x="61200" y="0"/>
                </a:moveTo>
                <a:lnTo>
                  <a:pt x="61200" y="21600"/>
                </a:lnTo>
                <a:lnTo>
                  <a:pt x="59800" y="20200"/>
                </a:lnTo>
                <a:lnTo>
                  <a:pt x="59800" y="1400"/>
                </a:lnTo>
                <a:close/>
              </a:path>
              <a:path fill="darkenLess" w="61200" h="21600">
                <a:moveTo>
                  <a:pt x="6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00" y="20200"/>
                </a:lnTo>
                <a:close/>
              </a:path>
              <a:path fill="lighten" w="6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00" h="21600">
                <a:moveTo>
                  <a:pt x="23594" y="10800"/>
                </a:moveTo>
                <a:lnTo>
                  <a:pt x="37606" y="3794"/>
                </a:lnTo>
                <a:lnTo>
                  <a:pt x="376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7">
            <a:hlinkClick r:id="" action="ppaction://hlinkshowjump?jump=nextslide"/>
          </p:cNvPr>
          <p:cNvSpPr/>
          <p:nvPr/>
        </p:nvSpPr>
        <p:spPr>
          <a:xfrm>
            <a:off x="7596360" y="133308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8">
            <a:hlinkClick r:id="" action="ppaction://hlinkshowjump?jump=previousslide"/>
          </p:cNvPr>
          <p:cNvSpPr/>
          <p:nvPr/>
        </p:nvSpPr>
        <p:spPr>
          <a:xfrm>
            <a:off x="7596360" y="765000"/>
            <a:ext cx="1223640" cy="432000"/>
          </a:xfrm>
          <a:custGeom>
            <a:avLst/>
            <a:gdLst>
              <a:gd name="textAreaLeft" fmla="*/ 27720 w 1223640"/>
              <a:gd name="textAreaRight" fmla="*/ 1195920 w 122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49" h="21600">
                <a:moveTo>
                  <a:pt x="0" y="0"/>
                </a:moveTo>
                <a:lnTo>
                  <a:pt x="61149" y="0"/>
                </a:lnTo>
                <a:lnTo>
                  <a:pt x="61149" y="21600"/>
                </a:lnTo>
                <a:lnTo>
                  <a:pt x="0" y="21600"/>
                </a:lnTo>
                <a:close/>
              </a:path>
              <a:path fill="lightenLess" w="61149" h="21600">
                <a:moveTo>
                  <a:pt x="0" y="0"/>
                </a:moveTo>
                <a:lnTo>
                  <a:pt x="61149" y="0"/>
                </a:lnTo>
                <a:lnTo>
                  <a:pt x="59749" y="1400"/>
                </a:lnTo>
                <a:lnTo>
                  <a:pt x="1400" y="1400"/>
                </a:lnTo>
                <a:close/>
              </a:path>
              <a:path fill="darken" w="61149" h="21600">
                <a:moveTo>
                  <a:pt x="61149" y="0"/>
                </a:moveTo>
                <a:lnTo>
                  <a:pt x="61149" y="21600"/>
                </a:lnTo>
                <a:lnTo>
                  <a:pt x="59749" y="20200"/>
                </a:lnTo>
                <a:lnTo>
                  <a:pt x="59749" y="1400"/>
                </a:lnTo>
                <a:close/>
              </a:path>
              <a:path fill="darkenLess" w="61149" h="21600">
                <a:moveTo>
                  <a:pt x="6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49" y="20200"/>
                </a:lnTo>
                <a:close/>
              </a:path>
              <a:path fill="lighten" w="6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49" h="21600">
                <a:moveTo>
                  <a:pt x="23568" y="10800"/>
                </a:moveTo>
                <a:lnTo>
                  <a:pt x="37581" y="3794"/>
                </a:lnTo>
                <a:lnTo>
                  <a:pt x="3758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3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176720" cy="2747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2" descr=""/>
          <p:cNvPicPr/>
          <p:nvPr/>
        </p:nvPicPr>
        <p:blipFill>
          <a:blip r:embed="rId2"/>
          <a:stretch/>
        </p:blipFill>
        <p:spPr>
          <a:xfrm>
            <a:off x="250920" y="1077840"/>
            <a:ext cx="4176720" cy="273996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2314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系统选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6084720" y="333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20218" y="10800"/>
                </a:lnTo>
                <a:lnTo>
                  <a:pt x="6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4211640" y="195120"/>
            <a:ext cx="1657440" cy="642600"/>
          </a:xfrm>
          <a:prstGeom prst="wedgeRectCallout">
            <a:avLst>
              <a:gd name="adj1" fmla="val -45027"/>
              <a:gd name="adj2" fmla="val 39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改变系统选项后一定要按”确定“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250920" y="552960"/>
            <a:ext cx="1152360" cy="368640"/>
          </a:xfrm>
          <a:prstGeom prst="wedgeRectCallout">
            <a:avLst>
              <a:gd name="adj1" fmla="val 38412"/>
              <a:gd name="adj2" fmla="val 165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标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7">
            <a:hlinkClick r:id="" action="ppaction://hlinkshowjump?jump=nextslide"/>
          </p:cNvPr>
          <p:cNvSpPr/>
          <p:nvPr/>
        </p:nvSpPr>
        <p:spPr>
          <a:xfrm>
            <a:off x="795672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6">
            <a:hlinkClick r:id="" action="ppaction://hlinkshowjump?jump=previousslide"/>
          </p:cNvPr>
          <p:cNvSpPr/>
          <p:nvPr/>
        </p:nvSpPr>
        <p:spPr>
          <a:xfrm>
            <a:off x="702000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9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4187880" cy="2783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0" descr=""/>
          <p:cNvPicPr/>
          <p:nvPr/>
        </p:nvPicPr>
        <p:blipFill>
          <a:blip r:embed="rId4"/>
          <a:stretch/>
        </p:blipFill>
        <p:spPr>
          <a:xfrm>
            <a:off x="250920" y="3959280"/>
            <a:ext cx="4176720" cy="27590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2303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用户注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3"/>
          <p:cNvSpPr/>
          <p:nvPr/>
        </p:nvSpPr>
        <p:spPr>
          <a:xfrm>
            <a:off x="7182000" y="160200"/>
            <a:ext cx="158904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输入用户信息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4"/>
          <p:cNvSpPr/>
          <p:nvPr/>
        </p:nvSpPr>
        <p:spPr>
          <a:xfrm>
            <a:off x="7764480" y="97308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5"/>
          <p:cNvSpPr/>
          <p:nvPr/>
        </p:nvSpPr>
        <p:spPr>
          <a:xfrm>
            <a:off x="7186680" y="124668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用户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7186680" y="2027160"/>
            <a:ext cx="163836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用户信息复制到电子邮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7175520" y="3253320"/>
            <a:ext cx="176544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电子邮件发给销售部，汇注册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7182000" y="449316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收到注册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9"/>
          <p:cNvSpPr/>
          <p:nvPr/>
        </p:nvSpPr>
        <p:spPr>
          <a:xfrm>
            <a:off x="7764480" y="176364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0"/>
          <p:cNvSpPr/>
          <p:nvPr/>
        </p:nvSpPr>
        <p:spPr>
          <a:xfrm>
            <a:off x="7758000" y="282420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1"/>
          <p:cNvSpPr/>
          <p:nvPr/>
        </p:nvSpPr>
        <p:spPr>
          <a:xfrm>
            <a:off x="7759800" y="4218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7182000" y="5273640"/>
            <a:ext cx="173196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注册码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7759800" y="5010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4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5361"/>
                </a:moveTo>
                <a:lnTo>
                  <a:pt x="17806" y="12367"/>
                </a:lnTo>
                <a:lnTo>
                  <a:pt x="3794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6913800" cy="541512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21"/>
          <p:cNvSpPr/>
          <p:nvPr/>
        </p:nvSpPr>
        <p:spPr>
          <a:xfrm>
            <a:off x="7164360" y="6165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22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3"/>
          <p:cNvSpPr/>
          <p:nvPr/>
        </p:nvSpPr>
        <p:spPr>
          <a:xfrm>
            <a:off x="4067280" y="330120"/>
            <a:ext cx="2952720" cy="368640"/>
          </a:xfrm>
          <a:prstGeom prst="wedgeRectCallout">
            <a:avLst>
              <a:gd name="adj1" fmla="val -85425"/>
              <a:gd name="adj2" fmla="val 51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24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25"/>
          <p:cNvSpPr/>
          <p:nvPr/>
        </p:nvSpPr>
        <p:spPr>
          <a:xfrm>
            <a:off x="4067280" y="330120"/>
            <a:ext cx="2952720" cy="368640"/>
          </a:xfrm>
          <a:prstGeom prst="wedgeRectCallout">
            <a:avLst>
              <a:gd name="adj1" fmla="val -85425"/>
              <a:gd name="adj2" fmla="val 51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26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27"/>
          <p:cNvSpPr/>
          <p:nvPr/>
        </p:nvSpPr>
        <p:spPr>
          <a:xfrm>
            <a:off x="4067280" y="330120"/>
            <a:ext cx="2952720" cy="368640"/>
          </a:xfrm>
          <a:prstGeom prst="wedgeRectCallout">
            <a:avLst>
              <a:gd name="adj1" fmla="val -85425"/>
              <a:gd name="adj2" fmla="val 51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8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12367"/>
                </a:moveTo>
                <a:lnTo>
                  <a:pt x="17806" y="5361"/>
                </a:lnTo>
                <a:lnTo>
                  <a:pt x="17806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3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3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8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0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3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3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2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3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3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2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3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3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3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5000"/>
                            </p:stCondLst>
                            <p:childTnLst>
                              <p:par>
                                <p:cTn id="143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3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3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44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3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3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65000"/>
                            </p:stCondLst>
                            <p:childTnLst>
                              <p:par>
                                <p:cTn id="144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45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3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3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7380360" y="476280"/>
            <a:ext cx="63000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排课高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0"/>
          <p:cNvSpPr/>
          <p:nvPr/>
        </p:nvSpPr>
        <p:spPr>
          <a:xfrm>
            <a:off x="457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1">
            <a:hlinkClick r:id="" action="ppaction://hlinkshowjump?jump=nextslide"/>
          </p:cNvPr>
          <p:cNvSpPr/>
          <p:nvPr/>
        </p:nvSpPr>
        <p:spPr>
          <a:xfrm>
            <a:off x="752472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4">
            <a:hlinkClick r:id="" action="ppaction://hlinkshowjump?jump=previousslide"/>
          </p:cNvPr>
          <p:cNvSpPr/>
          <p:nvPr/>
        </p:nvSpPr>
        <p:spPr>
          <a:xfrm>
            <a:off x="6084720" y="5805360"/>
            <a:ext cx="1079640" cy="433440"/>
          </a:xfrm>
          <a:custGeom>
            <a:avLst/>
            <a:gdLst>
              <a:gd name="textAreaLeft" fmla="*/ 28080 w 1079640"/>
              <a:gd name="textAreaRight" fmla="*/ 1051560 w 107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3776" h="21600">
                <a:moveTo>
                  <a:pt x="0" y="0"/>
                </a:moveTo>
                <a:lnTo>
                  <a:pt x="53776" y="0"/>
                </a:lnTo>
                <a:lnTo>
                  <a:pt x="53776" y="21600"/>
                </a:lnTo>
                <a:lnTo>
                  <a:pt x="0" y="21600"/>
                </a:lnTo>
                <a:close/>
              </a:path>
              <a:path fill="lightenLess" w="53776" h="21600">
                <a:moveTo>
                  <a:pt x="0" y="0"/>
                </a:moveTo>
                <a:lnTo>
                  <a:pt x="53776" y="0"/>
                </a:lnTo>
                <a:lnTo>
                  <a:pt x="52376" y="1400"/>
                </a:lnTo>
                <a:lnTo>
                  <a:pt x="1400" y="1400"/>
                </a:lnTo>
                <a:close/>
              </a:path>
              <a:path fill="darken" w="53776" h="21600">
                <a:moveTo>
                  <a:pt x="53776" y="0"/>
                </a:moveTo>
                <a:lnTo>
                  <a:pt x="53776" y="21600"/>
                </a:lnTo>
                <a:lnTo>
                  <a:pt x="52376" y="20200"/>
                </a:lnTo>
                <a:lnTo>
                  <a:pt x="52376" y="1400"/>
                </a:lnTo>
                <a:close/>
              </a:path>
              <a:path fill="darkenLess" w="53776" h="21600">
                <a:moveTo>
                  <a:pt x="53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76" y="20200"/>
                </a:lnTo>
                <a:close/>
              </a:path>
              <a:path fill="lighten" w="53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76" h="21600">
                <a:moveTo>
                  <a:pt x="19881" y="10800"/>
                </a:moveTo>
                <a:lnTo>
                  <a:pt x="33894" y="3794"/>
                </a:lnTo>
                <a:lnTo>
                  <a:pt x="338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684828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3276360" y="3213000"/>
            <a:ext cx="316836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再         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2627280" y="5639760"/>
            <a:ext cx="1311480" cy="737640"/>
          </a:xfrm>
          <a:custGeom>
            <a:avLst/>
            <a:gdLst>
              <a:gd name="textAreaLeft" fmla="*/ 47520 w 1311480"/>
              <a:gd name="textAreaRight" fmla="*/ 1263960 w 131148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新放映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5">
            <a:hlinkClick r:id="" action="ppaction://hlinkshowjump?jump=endshow"/>
          </p:cNvPr>
          <p:cNvSpPr/>
          <p:nvPr/>
        </p:nvSpPr>
        <p:spPr>
          <a:xfrm>
            <a:off x="7667640" y="5805360"/>
            <a:ext cx="1289160" cy="432000"/>
          </a:xfrm>
          <a:custGeom>
            <a:avLst/>
            <a:gdLst>
              <a:gd name="textAreaLeft" fmla="*/ 27720 w 1289160"/>
              <a:gd name="textAreaRight" fmla="*/ 1261440 w 12891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422" h="21600">
                <a:moveTo>
                  <a:pt x="0" y="0"/>
                </a:moveTo>
                <a:lnTo>
                  <a:pt x="64422" y="0"/>
                </a:lnTo>
                <a:lnTo>
                  <a:pt x="64422" y="21600"/>
                </a:lnTo>
                <a:lnTo>
                  <a:pt x="0" y="21600"/>
                </a:lnTo>
                <a:close/>
              </a:path>
              <a:path fill="lightenLess" w="64422" h="21600">
                <a:moveTo>
                  <a:pt x="0" y="0"/>
                </a:moveTo>
                <a:lnTo>
                  <a:pt x="64422" y="0"/>
                </a:lnTo>
                <a:lnTo>
                  <a:pt x="63022" y="1400"/>
                </a:lnTo>
                <a:lnTo>
                  <a:pt x="1400" y="1400"/>
                </a:lnTo>
                <a:close/>
              </a:path>
              <a:path fill="darken" w="64422" h="21600">
                <a:moveTo>
                  <a:pt x="64422" y="0"/>
                </a:moveTo>
                <a:lnTo>
                  <a:pt x="64422" y="21600"/>
                </a:lnTo>
                <a:lnTo>
                  <a:pt x="63022" y="20200"/>
                </a:lnTo>
                <a:lnTo>
                  <a:pt x="63022" y="1400"/>
                </a:lnTo>
                <a:close/>
              </a:path>
              <a:path fill="darkenLess" w="64422" h="21600">
                <a:moveTo>
                  <a:pt x="64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22" y="20200"/>
                </a:lnTo>
                <a:close/>
              </a:path>
              <a:path fill="lighten" w="64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22" h="21600">
                <a:moveTo>
                  <a:pt x="25205" y="3794"/>
                </a:moveTo>
                <a:lnTo>
                  <a:pt x="39218" y="10800"/>
                </a:lnTo>
                <a:lnTo>
                  <a:pt x="252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442764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627280" y="981000"/>
            <a:ext cx="39686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软件还可以编排打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作息时间表、行事历、教学进度表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使用方法请见“用户手册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8">
            <a:hlinkClick r:id="" action="ppaction://hlinkshowjump?jump=previousslide"/>
          </p:cNvPr>
          <p:cNvSpPr/>
          <p:nvPr/>
        </p:nvSpPr>
        <p:spPr>
          <a:xfrm>
            <a:off x="601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6769080" cy="4102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656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动新建排课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>
            <a:hlinkClick r:id="" action="ppaction://hlinkshowjump?jump=nextslide"/>
          </p:cNvPr>
          <p:cNvSpPr/>
          <p:nvPr/>
        </p:nvSpPr>
        <p:spPr>
          <a:xfrm>
            <a:off x="320364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>
            <a:hlinkClick r:id="" action="ppaction://hlinkshowjump?jump=previousslide"/>
          </p:cNvPr>
          <p:cNvSpPr/>
          <p:nvPr/>
        </p:nvSpPr>
        <p:spPr>
          <a:xfrm>
            <a:off x="826920" y="6021360"/>
            <a:ext cx="1800360" cy="43200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9961" h="21600">
                <a:moveTo>
                  <a:pt x="0" y="0"/>
                </a:moveTo>
                <a:lnTo>
                  <a:pt x="89961" y="0"/>
                </a:lnTo>
                <a:lnTo>
                  <a:pt x="89961" y="21600"/>
                </a:lnTo>
                <a:lnTo>
                  <a:pt x="0" y="21600"/>
                </a:lnTo>
                <a:close/>
              </a:path>
              <a:path fill="lightenLess" w="89961" h="21600">
                <a:moveTo>
                  <a:pt x="0" y="0"/>
                </a:moveTo>
                <a:lnTo>
                  <a:pt x="89961" y="0"/>
                </a:lnTo>
                <a:lnTo>
                  <a:pt x="88561" y="1400"/>
                </a:lnTo>
                <a:lnTo>
                  <a:pt x="1400" y="1400"/>
                </a:lnTo>
                <a:close/>
              </a:path>
              <a:path fill="darken" w="89961" h="21600">
                <a:moveTo>
                  <a:pt x="89961" y="0"/>
                </a:moveTo>
                <a:lnTo>
                  <a:pt x="89961" y="21600"/>
                </a:lnTo>
                <a:lnTo>
                  <a:pt x="88561" y="20200"/>
                </a:lnTo>
                <a:lnTo>
                  <a:pt x="88561" y="1400"/>
                </a:lnTo>
                <a:close/>
              </a:path>
              <a:path fill="darkenLess" w="89961" h="21600">
                <a:moveTo>
                  <a:pt x="8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61" y="20200"/>
                </a:lnTo>
                <a:close/>
              </a:path>
              <a:path fill="lighten" w="8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61" h="21600">
                <a:moveTo>
                  <a:pt x="37974" y="10800"/>
                </a:moveTo>
                <a:lnTo>
                  <a:pt x="51987" y="3794"/>
                </a:lnTo>
                <a:lnTo>
                  <a:pt x="519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0">
            <a:hlinkClick r:id="" action="ppaction://hlinkshowjump?jump=nextslide"/>
          </p:cNvPr>
          <p:cNvSpPr/>
          <p:nvPr/>
        </p:nvSpPr>
        <p:spPr>
          <a:xfrm>
            <a:off x="3203640" y="609300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1">
            <a:hlinkClick r:id="" action="ppaction://hlinkshowjump?jump=previousslide"/>
          </p:cNvPr>
          <p:cNvSpPr/>
          <p:nvPr/>
        </p:nvSpPr>
        <p:spPr>
          <a:xfrm>
            <a:off x="82692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10800"/>
                </a:moveTo>
                <a:lnTo>
                  <a:pt x="52024" y="3794"/>
                </a:lnTo>
                <a:lnTo>
                  <a:pt x="520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108000" y="1197000"/>
            <a:ext cx="201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自动在默认的文件夹里新建默认名称的排课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5"/>
          <p:cNvSpPr/>
          <p:nvPr/>
        </p:nvSpPr>
        <p:spPr>
          <a:xfrm>
            <a:off x="3059280" y="476280"/>
            <a:ext cx="2449440" cy="936720"/>
          </a:xfrm>
          <a:prstGeom prst="rightArrowCallout">
            <a:avLst>
              <a:gd name="adj1" fmla="val 25002"/>
              <a:gd name="adj2" fmla="val 12500"/>
              <a:gd name="adj3" fmla="val 43582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6"/>
          <p:cNvSpPr/>
          <p:nvPr/>
        </p:nvSpPr>
        <p:spPr>
          <a:xfrm>
            <a:off x="2556000" y="260280"/>
            <a:ext cx="2447640" cy="11527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7"/>
          <p:cNvSpPr/>
          <p:nvPr/>
        </p:nvSpPr>
        <p:spPr>
          <a:xfrm>
            <a:off x="2556000" y="404640"/>
            <a:ext cx="2087280" cy="1079640"/>
          </a:xfrm>
          <a:prstGeom prst="wedgeRectCallout">
            <a:avLst>
              <a:gd name="adj1" fmla="val -18745"/>
              <a:gd name="adj2" fmla="val 163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2"/>
          <p:cNvSpPr/>
          <p:nvPr/>
        </p:nvSpPr>
        <p:spPr>
          <a:xfrm>
            <a:off x="3348000" y="260280"/>
            <a:ext cx="2232000" cy="1224000"/>
          </a:xfrm>
          <a:prstGeom prst="wedgeRoundRectCallout">
            <a:avLst>
              <a:gd name="adj1" fmla="val -58814"/>
              <a:gd name="adj2" fmla="val 15612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下步”按钮，在默认的文件夹里新建一个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6156360" y="549360"/>
            <a:ext cx="2232000" cy="863640"/>
          </a:xfrm>
          <a:prstGeom prst="wedgeRoundRectCallout">
            <a:avLst>
              <a:gd name="adj1" fmla="val -128976"/>
              <a:gd name="adj2" fmla="val 26780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在此框里修改新建的排课文件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656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主新建排课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6012000" y="2421720"/>
            <a:ext cx="2616120" cy="6267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双击新建的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\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7093080" y="3357720"/>
            <a:ext cx="431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Organization Chart 5"/>
          <p:cNvGrpSpPr/>
          <p:nvPr/>
        </p:nvGrpSpPr>
        <p:grpSpPr>
          <a:xfrm>
            <a:off x="5651640" y="3789360"/>
            <a:ext cx="3357000" cy="2699280"/>
            <a:chOff x="5651640" y="3789360"/>
            <a:chExt cx="3357000" cy="269928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511760" y="4686120"/>
              <a:ext cx="540360" cy="904320"/>
            </a:xfrm>
            <a:prstGeom prst="bentConnector3">
              <a:avLst>
                <a:gd name="adj1" fmla="val 21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6608160" y="4686120"/>
              <a:ext cx="540360" cy="904680"/>
            </a:xfrm>
            <a:prstGeom prst="bentConnector3">
              <a:avLst>
                <a:gd name="adj1" fmla="val 21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0"/>
            <p:cNvSpPr/>
            <p:nvPr/>
          </p:nvSpPr>
          <p:spPr>
            <a:xfrm>
              <a:off x="6555600" y="378936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输入新建的排课文件名（默认和新建的文件夹名相同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1">
              <a:hlinkClick r:id="rId1" action="ppaction://hlinksldjump"/>
            </p:cNvPr>
            <p:cNvSpPr/>
            <p:nvPr/>
          </p:nvSpPr>
          <p:spPr>
            <a:xfrm>
              <a:off x="5651640" y="540900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关闭”按钮，进入主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2">
              <a:hlinkClick r:id="rId2" action="ppaction://hlinksldjump"/>
            </p:cNvPr>
            <p:cNvSpPr/>
            <p:nvPr/>
          </p:nvSpPr>
          <p:spPr>
            <a:xfrm>
              <a:off x="7459200" y="540900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下步”按钮，进入“编辑教师姓名”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utoShape 12">
            <a:hlinkClick r:id="" action="ppaction://hlinkshowjump?jump=nextslide"/>
          </p:cNvPr>
          <p:cNvSpPr/>
          <p:nvPr/>
        </p:nvSpPr>
        <p:spPr>
          <a:xfrm>
            <a:off x="320364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5867280" y="467640"/>
            <a:ext cx="2995560" cy="115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在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”的上一级文件夹（即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）上双击，再在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”上双击，就可以看到新建的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7093080" y="1989000"/>
            <a:ext cx="431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5472000" cy="40878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6">
            <a:hlinkClick r:id="" action="ppaction://hlinkshowjump?jump=previousslide"/>
          </p:cNvPr>
          <p:cNvSpPr/>
          <p:nvPr/>
        </p:nvSpPr>
        <p:spPr>
          <a:xfrm>
            <a:off x="826920" y="6021360"/>
            <a:ext cx="1800360" cy="43200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9961" h="21600">
                <a:moveTo>
                  <a:pt x="0" y="0"/>
                </a:moveTo>
                <a:lnTo>
                  <a:pt x="89961" y="0"/>
                </a:lnTo>
                <a:lnTo>
                  <a:pt x="89961" y="21600"/>
                </a:lnTo>
                <a:lnTo>
                  <a:pt x="0" y="21600"/>
                </a:lnTo>
                <a:close/>
              </a:path>
              <a:path fill="lightenLess" w="89961" h="21600">
                <a:moveTo>
                  <a:pt x="0" y="0"/>
                </a:moveTo>
                <a:lnTo>
                  <a:pt x="89961" y="0"/>
                </a:lnTo>
                <a:lnTo>
                  <a:pt x="88561" y="1400"/>
                </a:lnTo>
                <a:lnTo>
                  <a:pt x="1400" y="1400"/>
                </a:lnTo>
                <a:close/>
              </a:path>
              <a:path fill="darken" w="89961" h="21600">
                <a:moveTo>
                  <a:pt x="89961" y="0"/>
                </a:moveTo>
                <a:lnTo>
                  <a:pt x="89961" y="21600"/>
                </a:lnTo>
                <a:lnTo>
                  <a:pt x="88561" y="20200"/>
                </a:lnTo>
                <a:lnTo>
                  <a:pt x="88561" y="1400"/>
                </a:lnTo>
                <a:close/>
              </a:path>
              <a:path fill="darkenLess" w="89961" h="21600">
                <a:moveTo>
                  <a:pt x="8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61" y="20200"/>
                </a:lnTo>
                <a:close/>
              </a:path>
              <a:path fill="lighten" w="8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61" h="21600">
                <a:moveTo>
                  <a:pt x="37974" y="10800"/>
                </a:moveTo>
                <a:lnTo>
                  <a:pt x="51987" y="3794"/>
                </a:lnTo>
                <a:lnTo>
                  <a:pt x="519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1908000" y="394560"/>
            <a:ext cx="3532320" cy="115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假设需要在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”里新建排课数据的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，就在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” 上用鼠标左键双击，再输入新建文件夹名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，按“创建新文件夹”按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 rot="16200000">
            <a:off x="5436360" y="83736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0">
            <a:hlinkClick r:id="" action="ppaction://hlinkshowjump?jump=nextslide"/>
          </p:cNvPr>
          <p:cNvSpPr/>
          <p:nvPr/>
        </p:nvSpPr>
        <p:spPr>
          <a:xfrm>
            <a:off x="3203640" y="609300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1">
            <a:hlinkClick r:id="" action="ppaction://hlinkshowjump?jump=previousslide"/>
          </p:cNvPr>
          <p:cNvSpPr/>
          <p:nvPr/>
        </p:nvSpPr>
        <p:spPr>
          <a:xfrm>
            <a:off x="82692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10800"/>
                </a:moveTo>
                <a:lnTo>
                  <a:pt x="52024" y="3794"/>
                </a:lnTo>
                <a:lnTo>
                  <a:pt x="520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108000" y="1197000"/>
            <a:ext cx="172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用户自主决定新建的排课文件的位置和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87640" y="333000"/>
            <a:ext cx="230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打开已有的排课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6443640" y="2925000"/>
            <a:ext cx="2116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文件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7308720" y="342900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Organization Chart 5"/>
          <p:cNvGrpSpPr/>
          <p:nvPr/>
        </p:nvGrpSpPr>
        <p:grpSpPr>
          <a:xfrm>
            <a:off x="5651640" y="3789360"/>
            <a:ext cx="3357000" cy="2699280"/>
            <a:chOff x="5651640" y="3789360"/>
            <a:chExt cx="3357000" cy="2699280"/>
          </a:xfrm>
        </p:grpSpPr>
        <p:cxnSp>
          <p:nvCxnSpPr>
            <p:cNvPr id="125" name="_s2052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7511760" y="4686120"/>
              <a:ext cx="540360" cy="904320"/>
            </a:xfrm>
            <a:prstGeom prst="bentConnector3">
              <a:avLst>
                <a:gd name="adj1" fmla="val 21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3"/>
            <p:cNvCxnSpPr>
              <a:stCxn id="129" idx="0"/>
              <a:endCxn id="127" idx="2"/>
            </p:cNvCxnSpPr>
            <p:nvPr/>
          </p:nvCxnSpPr>
          <p:spPr>
            <a:xfrm flipH="1" flipV="1" rot="5400000">
              <a:off x="6608160" y="4686120"/>
              <a:ext cx="540360" cy="904680"/>
            </a:xfrm>
            <a:prstGeom prst="bentConnector3">
              <a:avLst>
                <a:gd name="adj1" fmla="val 21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2054"/>
            <p:cNvSpPr/>
            <p:nvPr/>
          </p:nvSpPr>
          <p:spPr>
            <a:xfrm>
              <a:off x="6555600" y="378936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选择或输入排课文件名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5">
              <a:hlinkClick r:id="rId1" action="ppaction://hlinksldjump"/>
            </p:cNvPr>
            <p:cNvSpPr/>
            <p:nvPr/>
          </p:nvSpPr>
          <p:spPr>
            <a:xfrm>
              <a:off x="5651640" y="540900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关闭”按钮，进入主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6">
              <a:hlinkClick r:id="rId2" action="ppaction://hlinksldjump"/>
            </p:cNvPr>
            <p:cNvSpPr/>
            <p:nvPr/>
          </p:nvSpPr>
          <p:spPr>
            <a:xfrm>
              <a:off x="7459200" y="540900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下步”按钮，进入“编辑教师姓名”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AutoShape 12">
            <a:hlinkClick r:id="" action="ppaction://hlinkshowjump?jump=nextslide"/>
          </p:cNvPr>
          <p:cNvSpPr/>
          <p:nvPr/>
        </p:nvSpPr>
        <p:spPr>
          <a:xfrm>
            <a:off x="3276720" y="6021360"/>
            <a:ext cx="1726920" cy="432000"/>
          </a:xfrm>
          <a:custGeom>
            <a:avLst/>
            <a:gdLst>
              <a:gd name="textAreaLeft" fmla="*/ 27720 w 1726920"/>
              <a:gd name="textAreaRight" fmla="*/ 1699200 w 172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292" h="21600">
                <a:moveTo>
                  <a:pt x="0" y="0"/>
                </a:moveTo>
                <a:lnTo>
                  <a:pt x="86292" y="0"/>
                </a:lnTo>
                <a:lnTo>
                  <a:pt x="86292" y="21600"/>
                </a:lnTo>
                <a:lnTo>
                  <a:pt x="0" y="21600"/>
                </a:lnTo>
                <a:close/>
              </a:path>
              <a:path fill="lightenLess" w="86292" h="21600">
                <a:moveTo>
                  <a:pt x="0" y="0"/>
                </a:moveTo>
                <a:lnTo>
                  <a:pt x="86292" y="0"/>
                </a:lnTo>
                <a:lnTo>
                  <a:pt x="84892" y="1400"/>
                </a:lnTo>
                <a:lnTo>
                  <a:pt x="1400" y="1400"/>
                </a:lnTo>
                <a:close/>
              </a:path>
              <a:path fill="darken" w="86292" h="21600">
                <a:moveTo>
                  <a:pt x="86292" y="0"/>
                </a:moveTo>
                <a:lnTo>
                  <a:pt x="86292" y="21600"/>
                </a:lnTo>
                <a:lnTo>
                  <a:pt x="84892" y="20200"/>
                </a:lnTo>
                <a:lnTo>
                  <a:pt x="84892" y="1400"/>
                </a:lnTo>
                <a:close/>
              </a:path>
              <a:path fill="darkenLess" w="86292" h="21600">
                <a:moveTo>
                  <a:pt x="86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2" y="20200"/>
                </a:lnTo>
                <a:close/>
              </a:path>
              <a:path fill="lighten" w="86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92" h="21600">
                <a:moveTo>
                  <a:pt x="36140" y="3794"/>
                </a:moveTo>
                <a:lnTo>
                  <a:pt x="50153" y="10800"/>
                </a:lnTo>
                <a:lnTo>
                  <a:pt x="361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3"/>
          <a:stretch/>
        </p:blipFill>
        <p:spPr>
          <a:xfrm>
            <a:off x="108000" y="260280"/>
            <a:ext cx="6264360" cy="49262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4"/>
          <p:cNvSpPr/>
          <p:nvPr/>
        </p:nvSpPr>
        <p:spPr>
          <a:xfrm>
            <a:off x="6443640" y="1916640"/>
            <a:ext cx="209556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08720" y="249228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6">
            <a:hlinkClick r:id="" action="ppaction://hlinkshowjump?jump=previousslide"/>
          </p:cNvPr>
          <p:cNvSpPr/>
          <p:nvPr/>
        </p:nvSpPr>
        <p:spPr>
          <a:xfrm>
            <a:off x="900000" y="6021360"/>
            <a:ext cx="1730520" cy="432000"/>
          </a:xfrm>
          <a:custGeom>
            <a:avLst/>
            <a:gdLst>
              <a:gd name="textAreaLeft" fmla="*/ 27720 w 1730520"/>
              <a:gd name="textAreaRight" fmla="*/ 1702800 w 17305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472" h="21600">
                <a:moveTo>
                  <a:pt x="0" y="0"/>
                </a:moveTo>
                <a:lnTo>
                  <a:pt x="86472" y="0"/>
                </a:lnTo>
                <a:lnTo>
                  <a:pt x="86472" y="21600"/>
                </a:lnTo>
                <a:lnTo>
                  <a:pt x="0" y="21600"/>
                </a:lnTo>
                <a:close/>
              </a:path>
              <a:path fill="lightenLess" w="86472" h="21600">
                <a:moveTo>
                  <a:pt x="0" y="0"/>
                </a:moveTo>
                <a:lnTo>
                  <a:pt x="86472" y="0"/>
                </a:lnTo>
                <a:lnTo>
                  <a:pt x="85072" y="1400"/>
                </a:lnTo>
                <a:lnTo>
                  <a:pt x="1400" y="1400"/>
                </a:lnTo>
                <a:close/>
              </a:path>
              <a:path fill="darken" w="86472" h="21600">
                <a:moveTo>
                  <a:pt x="86472" y="0"/>
                </a:moveTo>
                <a:lnTo>
                  <a:pt x="86472" y="21600"/>
                </a:lnTo>
                <a:lnTo>
                  <a:pt x="85072" y="20200"/>
                </a:lnTo>
                <a:lnTo>
                  <a:pt x="85072" y="1400"/>
                </a:lnTo>
                <a:close/>
              </a:path>
              <a:path fill="darkenLess" w="86472" h="21600">
                <a:moveTo>
                  <a:pt x="8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72" y="20200"/>
                </a:lnTo>
                <a:close/>
              </a:path>
              <a:path fill="lighten" w="8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72" h="21600">
                <a:moveTo>
                  <a:pt x="36229" y="10800"/>
                </a:moveTo>
                <a:lnTo>
                  <a:pt x="50242" y="3794"/>
                </a:lnTo>
                <a:lnTo>
                  <a:pt x="502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5" descr=""/>
          <p:cNvPicPr/>
          <p:nvPr/>
        </p:nvPicPr>
        <p:blipFill>
          <a:blip r:embed="rId1"/>
          <a:stretch/>
        </p:blipFill>
        <p:spPr>
          <a:xfrm>
            <a:off x="2124000" y="1185840"/>
            <a:ext cx="5253120" cy="5672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580000" y="189000"/>
            <a:ext cx="3394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编辑教师姓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7451640" y="1684080"/>
            <a:ext cx="1582920" cy="642600"/>
          </a:xfrm>
          <a:prstGeom prst="wedgeRectCallout">
            <a:avLst>
              <a:gd name="adj1" fmla="val -259273"/>
              <a:gd name="adj2" fmla="val -46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姓名输入完毕后按“下步”按钮，进入“编辑全校条件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79280" y="4920480"/>
            <a:ext cx="1871640" cy="917280"/>
          </a:xfrm>
          <a:prstGeom prst="wedgeRectCallout">
            <a:avLst>
              <a:gd name="adj1" fmla="val 64250"/>
              <a:gd name="adj2" fmla="val -40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需要测试本软件或教师姓名暂且不知就选中该单选钮，然后在“全校教师人数”框输入教师人数，回车，表格中出现虚拟的教师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308720" y="3591720"/>
            <a:ext cx="1582920" cy="1191600"/>
          </a:xfrm>
          <a:prstGeom prst="wedgeRectCallout">
            <a:avLst>
              <a:gd name="adj1" fmla="val -121597"/>
              <a:gd name="adj2" fmla="val -100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选择“输入姓名方式”为“逐个输入教师姓名”，就在此框输入教师姓名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，然后回车，教师姓名进左边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2195640" y="257040"/>
            <a:ext cx="1871640" cy="642600"/>
          </a:xfrm>
          <a:prstGeom prst="wedgeRectCallout">
            <a:avLst>
              <a:gd name="adj1" fmla="val -42462"/>
              <a:gd name="adj2" fmla="val 4677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间三个单选钮是更快地输入教师姓名的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79280" y="1154880"/>
            <a:ext cx="1871640" cy="2014560"/>
          </a:xfrm>
          <a:prstGeom prst="wedgeRectCallout">
            <a:avLst>
              <a:gd name="adj1" fmla="val 64999"/>
              <a:gd name="adj2" fmla="val 35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记事本等文件上选中全校教师姓名（每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，不含代码和简称），按右键，选择“复制”，姓名被复制到剪贴板上。在此选中本单选钮，在出现的绿色框内按右键，选择“粘贴”，在框内粘贴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>
            <a:hlinkClick r:id="rId2" action="ppaction://hlinksldjump"/>
          </p:cNvPr>
          <p:cNvSpPr/>
          <p:nvPr/>
        </p:nvSpPr>
        <p:spPr>
          <a:xfrm>
            <a:off x="7524720" y="6381720"/>
            <a:ext cx="1366920" cy="360360"/>
          </a:xfrm>
          <a:custGeom>
            <a:avLst/>
            <a:gdLst>
              <a:gd name="textAreaLeft" fmla="*/ 23040 w 1366920"/>
              <a:gd name="textAreaRight" fmla="*/ 1343880 w 136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873" h="21600">
                <a:moveTo>
                  <a:pt x="0" y="0"/>
                </a:moveTo>
                <a:lnTo>
                  <a:pt x="81873" y="0"/>
                </a:lnTo>
                <a:lnTo>
                  <a:pt x="81873" y="21600"/>
                </a:lnTo>
                <a:lnTo>
                  <a:pt x="0" y="21600"/>
                </a:lnTo>
                <a:close/>
              </a:path>
              <a:path fill="lightenLess" w="81873" h="21600">
                <a:moveTo>
                  <a:pt x="0" y="0"/>
                </a:moveTo>
                <a:lnTo>
                  <a:pt x="81873" y="0"/>
                </a:lnTo>
                <a:lnTo>
                  <a:pt x="80473" y="1400"/>
                </a:lnTo>
                <a:lnTo>
                  <a:pt x="1400" y="1400"/>
                </a:lnTo>
                <a:close/>
              </a:path>
              <a:path fill="darken" w="81873" h="21600">
                <a:moveTo>
                  <a:pt x="81873" y="0"/>
                </a:moveTo>
                <a:lnTo>
                  <a:pt x="81873" y="21600"/>
                </a:lnTo>
                <a:lnTo>
                  <a:pt x="80473" y="20200"/>
                </a:lnTo>
                <a:lnTo>
                  <a:pt x="80473" y="1400"/>
                </a:lnTo>
                <a:close/>
              </a:path>
              <a:path fill="darkenLess" w="81873" h="21600">
                <a:moveTo>
                  <a:pt x="81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473" y="20200"/>
                </a:lnTo>
                <a:close/>
              </a:path>
              <a:path fill="lighten" w="81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873" h="21600">
                <a:moveTo>
                  <a:pt x="33930" y="3794"/>
                </a:moveTo>
                <a:lnTo>
                  <a:pt x="47943" y="10800"/>
                </a:lnTo>
                <a:lnTo>
                  <a:pt x="339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>
            <a:hlinkClick r:id="rId3" action="ppaction://hlinksldjump"/>
          </p:cNvPr>
          <p:cNvSpPr/>
          <p:nvPr/>
        </p:nvSpPr>
        <p:spPr>
          <a:xfrm>
            <a:off x="7524720" y="5661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10800"/>
                </a:moveTo>
                <a:lnTo>
                  <a:pt x="47986" y="3794"/>
                </a:lnTo>
                <a:lnTo>
                  <a:pt x="479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4211640" y="467280"/>
            <a:ext cx="1368360" cy="368640"/>
          </a:xfrm>
          <a:prstGeom prst="wedgeRectCallout">
            <a:avLst>
              <a:gd name="adj1" fmla="val -57518"/>
              <a:gd name="adj2" fmla="val 418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直接修改姓名和简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>
            <a:hlinkClick r:id="" action="ppaction://hlinkshowjump?jump=previousslide"/>
          </p:cNvPr>
          <p:cNvSpPr/>
          <p:nvPr/>
        </p:nvSpPr>
        <p:spPr>
          <a:xfrm>
            <a:off x="7524720" y="602136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10800"/>
                </a:moveTo>
                <a:lnTo>
                  <a:pt x="47986" y="3794"/>
                </a:lnTo>
                <a:lnTo>
                  <a:pt x="479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124240" cy="59770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28">
            <a:hlinkClick r:id="" action="ppaction://hlinkshowjump?jump=nextslide"/>
          </p:cNvPr>
          <p:cNvSpPr/>
          <p:nvPr/>
        </p:nvSpPr>
        <p:spPr>
          <a:xfrm>
            <a:off x="2627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9">
            <a:hlinkClick r:id="rId2" action="ppaction://hlinksldjump"/>
          </p:cNvPr>
          <p:cNvSpPr/>
          <p:nvPr/>
        </p:nvSpPr>
        <p:spPr>
          <a:xfrm>
            <a:off x="395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10800"/>
                </a:moveTo>
                <a:lnTo>
                  <a:pt x="28568" y="3794"/>
                </a:lnTo>
                <a:lnTo>
                  <a:pt x="28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0"/>
          <p:cNvSpPr/>
          <p:nvPr/>
        </p:nvSpPr>
        <p:spPr>
          <a:xfrm>
            <a:off x="395280" y="5002560"/>
            <a:ext cx="2951280" cy="368640"/>
          </a:xfrm>
          <a:prstGeom prst="wedgeRectCallout">
            <a:avLst>
              <a:gd name="adj1" fmla="val 131750"/>
              <a:gd name="adj2" fmla="val -35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右击，选择“粘贴”，剪贴板中数据进此框，按提示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1"/>
          <p:cNvSpPr/>
          <p:nvPr/>
        </p:nvSpPr>
        <p:spPr>
          <a:xfrm>
            <a:off x="395280" y="3641400"/>
            <a:ext cx="3024360" cy="368640"/>
          </a:xfrm>
          <a:prstGeom prst="wedgeRectCallout">
            <a:avLst>
              <a:gd name="adj1" fmla="val 66268"/>
              <a:gd name="adj2" fmla="val -426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输入姓名方式”为“从剪贴板粘贴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2"/>
          <p:cNvSpPr/>
          <p:nvPr/>
        </p:nvSpPr>
        <p:spPr>
          <a:xfrm>
            <a:off x="395280" y="1965960"/>
            <a:ext cx="3097080" cy="642600"/>
          </a:xfrm>
          <a:prstGeom prst="wedgeRectCallout">
            <a:avLst>
              <a:gd name="adj1" fmla="val -49143"/>
              <a:gd name="adj2" fmla="val 400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记事本等文件中选中全校教师姓名（要求每行一人，不含代码和简称），右击，选择“复制”，教师姓名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剪贴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179280" y="333360"/>
            <a:ext cx="36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编辑教师姓名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从剪贴板粘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>
            <a:hlinkClick r:id="" action="ppaction://hlinkshowjump?jump=previousslide"/>
          </p:cNvPr>
          <p:cNvSpPr/>
          <p:nvPr/>
        </p:nvSpPr>
        <p:spPr>
          <a:xfrm>
            <a:off x="1547640" y="5950080"/>
            <a:ext cx="938520" cy="503280"/>
          </a:xfrm>
          <a:custGeom>
            <a:avLst/>
            <a:gdLst>
              <a:gd name="textAreaLeft" fmla="*/ 32400 w 938520"/>
              <a:gd name="textAreaRight" fmla="*/ 906120 w 938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266" h="21600">
                <a:moveTo>
                  <a:pt x="0" y="0"/>
                </a:moveTo>
                <a:lnTo>
                  <a:pt x="40266" y="0"/>
                </a:lnTo>
                <a:lnTo>
                  <a:pt x="40266" y="21600"/>
                </a:lnTo>
                <a:lnTo>
                  <a:pt x="0" y="21600"/>
                </a:lnTo>
                <a:close/>
              </a:path>
              <a:path fill="lightenLess" w="40266" h="21600">
                <a:moveTo>
                  <a:pt x="0" y="0"/>
                </a:moveTo>
                <a:lnTo>
                  <a:pt x="40266" y="0"/>
                </a:lnTo>
                <a:lnTo>
                  <a:pt x="38866" y="1400"/>
                </a:lnTo>
                <a:lnTo>
                  <a:pt x="1400" y="1400"/>
                </a:lnTo>
                <a:close/>
              </a:path>
              <a:path fill="darken" w="40266" h="21600">
                <a:moveTo>
                  <a:pt x="40266" y="0"/>
                </a:moveTo>
                <a:lnTo>
                  <a:pt x="40266" y="21600"/>
                </a:lnTo>
                <a:lnTo>
                  <a:pt x="38866" y="20200"/>
                </a:lnTo>
                <a:lnTo>
                  <a:pt x="38866" y="1400"/>
                </a:lnTo>
                <a:close/>
              </a:path>
              <a:path fill="darkenLess" w="40266" h="21600">
                <a:moveTo>
                  <a:pt x="4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6" y="20200"/>
                </a:lnTo>
                <a:close/>
              </a:path>
              <a:path fill="lighten" w="4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6" h="21600">
                <a:moveTo>
                  <a:pt x="13127" y="10800"/>
                </a:moveTo>
                <a:lnTo>
                  <a:pt x="27140" y="3794"/>
                </a:lnTo>
                <a:lnTo>
                  <a:pt x="271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35Z</dcterms:created>
  <dc:creator>zhhy</dc:creator>
  <dc:description/>
  <dc:language>en-US</dc:language>
  <cp:lastModifiedBy>Administrator</cp:lastModifiedBy>
  <dcterms:modified xsi:type="dcterms:W3CDTF">2017-12-01T15:49:19Z</dcterms:modified>
  <cp:revision>367</cp:revision>
  <dc:subject/>
  <dc:title>使用说明书</dc:title>
</cp:coreProperties>
</file>