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750-ED33-4C1E-9727-7E1DE39F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36F-D64A-448B-B995-AB31B5EB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D53-92AB-4834-9E1C-9EFE126D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ED4-5301-4811-A158-A006970D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60C-85E1-472A-887C-3AA32B1C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34C-2431-4450-9EA1-5333816C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603-1F1B-4E75-A2BD-5C6D811D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236-20DD-4529-B8B0-0B6C22EC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AE3-5BDD-4ED1-BA11-623159CA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6D2-5AA8-4CC6-A2C9-B5B33890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A9D-EE08-4A5D-A587-8DAA7CC9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FF8-48B9-4BE8-9AAE-EB682FA8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12A6-0188-46C4-B77D-3F68487F4C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5:15Z</dcterms:modified>
  <cp:revision>2</cp:revision>
  <dc:subject/>
  <dc:title>PPT样式一</dc:title>
</cp:coreProperties>
</file>