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078-9FD2-4367-A2B6-AF7B7886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48F-917A-483A-8352-68C87129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332-9454-4761-884B-A7060B6F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C77-B392-4C43-8042-B31339EA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A04D-003F-47E8-AB91-3BB664D1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94D-0B2E-444F-BE23-95F2DB16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5C4F-B9D5-42FF-A1B4-7ECDED50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F9D-3FC9-4941-AEFF-2C3C15DF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8A5-B37B-4315-8866-FE7911F1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575-AD38-45C8-A84F-E949DFEB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5C94-F117-4666-BCC2-7D84ADA4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B295-08AE-47CC-A902-12B5D16D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C6E5-3277-46D2-A2D5-678634E87F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样式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3400" y="2066760"/>
            <a:ext cx="2217600" cy="211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413000"/>
            <a:ext cx="815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34:16Z</dcterms:created>
  <dc:creator>walkinnet</dc:creator>
  <dc:description/>
  <dc:language>en-US</dc:language>
  <cp:lastModifiedBy>walkinnet</cp:lastModifiedBy>
  <dcterms:modified xsi:type="dcterms:W3CDTF">2009-02-17T07:34:55Z</dcterms:modified>
  <cp:revision>1</cp:revision>
  <dc:subject/>
  <dc:title>PPT样式一</dc:title>
</cp:coreProperties>
</file>