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281-A001-436C-9D7E-A6E91F14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C82-9A66-47B2-A9F6-4E51D694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73B-A343-46F1-87C1-03BB5D85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54E-4E20-43A3-B5AA-0B362564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E07-284D-43C9-A107-4DF692D2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E48-6E48-4A93-9812-77AF6AFC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5E5-4A07-4730-A808-F9E05E08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15B-B375-4C3A-9917-9D427F85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196-8F2B-4811-B393-CECAF92E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929-BEC0-4606-9463-F0549A93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5BB-1DFE-4D44-A489-D8208D7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E01-D78D-4F02-AA0A-A0D1FDB7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E6A-B497-44A6-95EE-091B2CD77D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5:15Z</dcterms:modified>
  <cp:revision>2</cp:revision>
  <dc:subject/>
  <dc:title>PPT样式一</dc:title>
</cp:coreProperties>
</file>