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C45-BE7E-45B3-943F-FC8411A1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33B-9882-44B4-A2DA-0A4C94C6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13C-CEAF-4E9B-8569-C42A25E3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F24-EC57-4079-A2DD-021723DF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08F-DF81-49FB-93F2-91560EE3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8D3-AA56-418D-9637-25D4C3D5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829-9118-4A5F-9EB2-B8293B97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971-73DC-4DA1-B06B-9BD4427F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A06-2E29-45F9-9F84-BEE1640B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FD3-440E-4690-9295-5806AA9F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FB8-0C07-420B-9645-95DF8A1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A41-F63E-4DAE-B8B4-0B8DC624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56A0-CA20-4D3C-89D7-FF22705D8F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4:55Z</dcterms:modified>
  <cp:revision>1</cp:revision>
  <dc:subject/>
  <dc:title>PPT样式一</dc:title>
</cp:coreProperties>
</file>