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410-46D1-4E70-B6E5-D4D62F97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684-7AB2-4603-80CA-CA1C0DBE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3D4-5A7A-401F-A844-92EAEC14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136-7C13-4C8E-ADEC-B352C19C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5DE-56DC-419F-BE0F-816495EE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E77-16EB-4529-9287-9BD32292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E3B-5BCE-4437-88AA-1B8C338D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767-EC1B-4F9B-A50B-3DB4C8D4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BAF-6E80-4F99-B152-3D202982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59D-E72F-48F1-9398-F0BAB68E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C76-ECE4-411E-A396-F6262835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B75-14D4-40AB-B635-DF84D499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C5CA-CE74-450F-8AC3-CFD52816B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5:15Z</dcterms:modified>
  <cp:revision>2</cp:revision>
  <dc:subject/>
  <dc:title>PPT样式一</dc:title>
</cp:coreProperties>
</file>