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CAMERA.WAV" ContentType="audio/x-wav"/>
  <Override PartName="/ppt/media/WHOOSH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1EB8-C127-4D22-A0DD-D64C41548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5_103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输入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输出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 i m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34F7F-9ED5-4CF7-AA99-1D5A18792E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1DAE-79CA-491E-B831-17912081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9039C-AC79-4B52-AA0D-D334F5F0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296E9-7573-4757-9324-18B50FF118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47A13-81EE-4DBA-9D7F-C62B36C9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3CCF6-D001-4173-9D75-19A927CA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67D95-E207-4285-9BFA-BF7C1D5F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0A0AF-BED8-477F-8394-30704E3C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66CF1-55DF-4DDF-8590-61A5AEFA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F12D9-BDAE-479B-A4EC-FE073165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DAEB5-52D4-4D08-A41D-671DE010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706FE-F65C-4AB8-8C44-C8B789FC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2B609-5802-40D2-9D3C-03E719CB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09137-E459-47A9-9D8F-75675A1C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2982A-4839-4949-BE6B-22209DFA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14F88-497A-4F6C-8017-6E31A61A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1B385-8F8D-4F40-A377-94DEDAB7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FD1E-56A3-4E41-A0BD-D7F205F2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06B64-D1E5-47E6-B2BE-FA2D2EC0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01D3A-616C-413A-9753-93117600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2960F-AD49-4CEC-B318-DA7DCC14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04C11-B15A-4502-8762-A9B4982D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97A0D-939A-4392-96FC-54C1341C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1F78D-D148-47FA-A020-CD8AF9CA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79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929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8B47-3BA8-49CA-89D3-5F55903B74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8229600" y="6408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C0A7-9902-4702-A1CC-DBE2D7B21FF5}" type="slidenum"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9742-8D40-4DEF-815E-3491EC2153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8.xml"/><Relationship Id="rId6" Type="http://schemas.openxmlformats.org/officeDocument/2006/relationships/slide" Target="slide33.xm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C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程序流程设计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91960" y="1893960"/>
            <a:ext cx="47689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98d43"/>
                </a:solidFill>
                <a:uFillTx/>
                <a:latin typeface="隶书"/>
                <a:ea typeface="隶书"/>
                <a:hlinkClick r:id="rId1" action="ppaction://hlinksldjump"/>
              </a:rPr>
              <a:t>C</a:t>
            </a:r>
            <a:r>
              <a:rPr b="0" lang="en-US" sz="3600" spc="-1" strike="noStrike" u="sng">
                <a:solidFill>
                  <a:srgbClr val="f98d43"/>
                </a:solidFill>
                <a:uFillTx/>
                <a:latin typeface="隶书"/>
                <a:ea typeface="隶书"/>
                <a:hlinkClick r:id="rId2" action="ppaction://hlinksldjump"/>
              </a:rPr>
              <a:t>语句概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2698920"/>
            <a:ext cx="49845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3" action="ppaction://hlinksldjump"/>
              </a:rPr>
              <a:t>程序的三种基本结构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71880" y="3351240"/>
            <a:ext cx="52909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98d43"/>
                </a:solidFill>
                <a:uFillTx/>
                <a:latin typeface="隶书"/>
                <a:ea typeface="隶书"/>
                <a:hlinkClick r:id="rId4" action="ppaction://hlinksldjump"/>
              </a:rPr>
              <a:t>选择型程序设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92400" y="4179960"/>
            <a:ext cx="45496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98d43"/>
                </a:solidFill>
                <a:uFillTx/>
                <a:latin typeface="隶书"/>
                <a:ea typeface="隶书"/>
                <a:hlinkClick r:id="rId5" action="ppaction://hlinksldjump"/>
              </a:rPr>
              <a:t>循环型程序设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35240" y="4876920"/>
            <a:ext cx="42228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6" action="ppaction://hlinksldjump"/>
              </a:rPr>
              <a:t>辅助控制语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04920" y="228600"/>
            <a:ext cx="3504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一般形式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644720" y="3807000"/>
            <a:ext cx="4412880" cy="2288520"/>
            <a:chOff x="4644720" y="3807000"/>
            <a:chExt cx="4412880" cy="2288520"/>
          </a:xfrm>
        </p:grpSpPr>
        <p:sp>
          <p:nvSpPr>
            <p:cNvPr id="374" name=""/>
            <p:cNvSpPr/>
            <p:nvPr/>
          </p:nvSpPr>
          <p:spPr>
            <a:xfrm>
              <a:off x="4644720" y="3807000"/>
              <a:ext cx="3506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 (expr1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 (expr2)   statement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else           statement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el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(expr3)    statement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else            statement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50480" y="438192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内嵌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50480" y="547236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内嵌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61480" y="4413240"/>
              <a:ext cx="75960" cy="45720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15480" y="5468760"/>
              <a:ext cx="75960" cy="45720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495360" y="1413360"/>
            <a:ext cx="3729600" cy="1922760"/>
            <a:chOff x="495360" y="1413360"/>
            <a:chExt cx="3729600" cy="1922760"/>
          </a:xfrm>
        </p:grpSpPr>
        <p:sp>
          <p:nvSpPr>
            <p:cNvPr id="380" name=""/>
            <p:cNvSpPr/>
            <p:nvPr/>
          </p:nvSpPr>
          <p:spPr>
            <a:xfrm>
              <a:off x="495360" y="1413360"/>
              <a:ext cx="25718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 (expr1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 (expr2)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statement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else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statement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17840" y="228636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内嵌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07960" y="1955520"/>
              <a:ext cx="74880" cy="1219320"/>
            </a:xfrm>
            <a:custGeom>
              <a:avLst/>
              <a:gdLst>
                <a:gd name="textAreaLeft" fmla="*/ 0 w 74880"/>
                <a:gd name="textAreaRight" fmla="*/ 52560 w 74880"/>
                <a:gd name="textAreaTop" fmla="*/ 50760 h 1219320"/>
                <a:gd name="textAreaBottom" fmla="*/ 11685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306760" y="1190880"/>
            <a:ext cx="3488760" cy="2288520"/>
            <a:chOff x="5306760" y="1190880"/>
            <a:chExt cx="3488760" cy="2288520"/>
          </a:xfrm>
        </p:grpSpPr>
        <p:sp>
          <p:nvSpPr>
            <p:cNvPr id="384" name=""/>
            <p:cNvSpPr/>
            <p:nvPr/>
          </p:nvSpPr>
          <p:spPr>
            <a:xfrm>
              <a:off x="5306760" y="1190880"/>
              <a:ext cx="2495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 (expr1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 (expr2)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statement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el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statement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988400" y="162468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内嵌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839000" y="1657440"/>
              <a:ext cx="75960" cy="45720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92120" y="3646440"/>
            <a:ext cx="3710880" cy="2654280"/>
            <a:chOff x="492120" y="3646440"/>
            <a:chExt cx="3710880" cy="2654280"/>
          </a:xfrm>
        </p:grpSpPr>
        <p:sp>
          <p:nvSpPr>
            <p:cNvPr id="388" name=""/>
            <p:cNvSpPr/>
            <p:nvPr/>
          </p:nvSpPr>
          <p:spPr>
            <a:xfrm>
              <a:off x="492120" y="3646440"/>
              <a:ext cx="257184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 (expr1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statement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el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(expr3)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statement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else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statement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95880" y="525348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内嵌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17680" y="4949640"/>
              <a:ext cx="74520" cy="116532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8240 h 1165320"/>
                <a:gd name="textAreaBottom" fmla="*/ 111708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1254240" y="26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嵌套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20840" y="42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4840" y="1201680"/>
            <a:ext cx="4341240" cy="521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/*ch4_4.c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#include &lt;stdio.h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main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 int x,y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"Enter integer x,y: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scanf("%d,%d",&amp;x,&amp;y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if(x!=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if(x&gt;y)  printf("X&gt;Y\n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else     printf("X&lt;Y\n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printf("X==Y\n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81240" y="2486160"/>
            <a:ext cx="4229640" cy="2654280"/>
          </a:xfrm>
          <a:prstGeom prst="rect">
            <a:avLst/>
          </a:prstGeom>
          <a:solidFill>
            <a:srgbClr val="000044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运行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  integer  x,y:12,23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&lt;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  integer  x,y:12,6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&gt;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  integer  x,y:12,12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==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658800" y="4863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例 输入两数并判断其大小关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3316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缺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 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时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总是和它上面离它最近的未配对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配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497760" y="2331000"/>
            <a:ext cx="2026080" cy="2242440"/>
            <a:chOff x="3497760" y="2331000"/>
            <a:chExt cx="2026080" cy="2242440"/>
          </a:xfrm>
        </p:grpSpPr>
        <p:sp>
          <p:nvSpPr>
            <p:cNvPr id="398" name=""/>
            <p:cNvSpPr/>
            <p:nvPr/>
          </p:nvSpPr>
          <p:spPr>
            <a:xfrm>
              <a:off x="3602520" y="233100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(……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54960" y="268164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(……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35840" y="306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(……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34400" y="3443760"/>
              <a:ext cx="11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else…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79000" y="3672360"/>
              <a:ext cx="11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else…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97760" y="4113720"/>
              <a:ext cx="11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else…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43400" y="3246480"/>
              <a:ext cx="76320" cy="4572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62520" y="2941560"/>
              <a:ext cx="76320" cy="99072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1040 h 990720"/>
                <a:gd name="textAreaBottom" fmla="*/ 9496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05320" y="2636640"/>
              <a:ext cx="76320" cy="167652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69840 h 1676520"/>
                <a:gd name="textAreaBottom" fmla="*/ 160668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611280" y="337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f  ~ else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配对原则：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472400" y="152280"/>
            <a:ext cx="4946400" cy="222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例：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f (a==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f(b==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“a==b==c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“a!=b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78800" y="2624040"/>
            <a:ext cx="4946400" cy="26535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修改：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f (a==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{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if(b==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“a==b==c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“a!=b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157120" y="5904360"/>
            <a:ext cx="36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实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f ~ el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正确配对方法：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{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44600" y="863640"/>
            <a:ext cx="719280" cy="811080"/>
          </a:xfrm>
          <a:custGeom>
            <a:avLst/>
            <a:gdLst/>
            <a:ahLst/>
            <a:rect l="l" t="t" r="r" b="b"/>
            <a:pathLst>
              <a:path w="453" h="511">
                <a:moveTo>
                  <a:pt x="20" y="511"/>
                </a:moveTo>
                <a:cubicBezTo>
                  <a:pt x="0" y="341"/>
                  <a:pt x="7" y="220"/>
                  <a:pt x="153" y="123"/>
                </a:cubicBezTo>
                <a:cubicBezTo>
                  <a:pt x="226" y="10"/>
                  <a:pt x="332" y="0"/>
                  <a:pt x="453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实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f ~ el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正确配对方法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411120"/>
            <a:ext cx="5410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一般形式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80200" y="-490320"/>
            <a:ext cx="376380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switch(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表达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{      case     E1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组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break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case     E2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组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2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break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…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case    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组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break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[defaul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组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break;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}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64008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执行过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0" y="1638360"/>
            <a:ext cx="6495840" cy="3390840"/>
            <a:chOff x="0" y="1638360"/>
            <a:chExt cx="6495840" cy="3390840"/>
          </a:xfrm>
        </p:grpSpPr>
        <p:sp>
          <p:nvSpPr>
            <p:cNvPr id="417" name=""/>
            <p:cNvSpPr/>
            <p:nvPr/>
          </p:nvSpPr>
          <p:spPr>
            <a:xfrm>
              <a:off x="0" y="1638360"/>
              <a:ext cx="6495840" cy="3390840"/>
            </a:xfrm>
            <a:prstGeom prst="rect">
              <a:avLst/>
            </a:prstGeom>
            <a:solidFill>
              <a:srgbClr val="ffeffb"/>
            </a:solidFill>
            <a:ln w="3816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49440" y="1778040"/>
              <a:ext cx="1143000" cy="381240"/>
            </a:xfrm>
            <a:prstGeom prst="flowChartAlternateProcess">
              <a:avLst/>
            </a:prstGeom>
            <a:solidFill>
              <a:srgbClr val="ffeffb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switc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82600" y="2159280"/>
              <a:ext cx="0" cy="30456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44520" y="2463840"/>
              <a:ext cx="1676520" cy="533520"/>
            </a:xfrm>
            <a:prstGeom prst="flowChartDecision">
              <a:avLst/>
            </a:prstGeom>
            <a:solidFill>
              <a:srgbClr val="ffeffb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  <a:ea typeface="隶书"/>
                </a:rPr>
                <a:t>表达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82600" y="2997360"/>
              <a:ext cx="0" cy="38088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6600" y="3378240"/>
              <a:ext cx="4876920" cy="0"/>
            </a:xfrm>
            <a:prstGeom prst="line">
              <a:avLst/>
            </a:prstGeom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63440" y="3835440"/>
              <a:ext cx="1082520" cy="406440"/>
            </a:xfrm>
            <a:prstGeom prst="rect">
              <a:avLst/>
            </a:prstGeom>
            <a:solidFill>
              <a:srgbClr val="ffeffb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语句组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611000" y="3835440"/>
              <a:ext cx="1082880" cy="406440"/>
            </a:xfrm>
            <a:prstGeom prst="rect">
              <a:avLst/>
            </a:prstGeom>
            <a:solidFill>
              <a:srgbClr val="ffeffb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语句组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68400" y="3835440"/>
              <a:ext cx="1082880" cy="406440"/>
            </a:xfrm>
            <a:prstGeom prst="rect">
              <a:avLst/>
            </a:prstGeom>
            <a:solidFill>
              <a:srgbClr val="ffeffb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语句组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03720" y="3835440"/>
              <a:ext cx="955440" cy="406440"/>
            </a:xfrm>
            <a:prstGeom prst="rect">
              <a:avLst/>
            </a:prstGeom>
            <a:solidFill>
              <a:srgbClr val="ffeffb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语句组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30320" y="3911760"/>
              <a:ext cx="628560" cy="396720"/>
            </a:xfrm>
            <a:prstGeom prst="rect">
              <a:avLst/>
            </a:prstGeom>
            <a:solidFill>
              <a:srgbClr val="f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…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6600" y="3378240"/>
              <a:ext cx="0" cy="45720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85600" y="3378240"/>
              <a:ext cx="530280" cy="397080"/>
            </a:xfrm>
            <a:prstGeom prst="rect">
              <a:avLst/>
            </a:prstGeom>
            <a:solidFill>
              <a:srgbClr val="f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E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44520" y="3378240"/>
              <a:ext cx="0" cy="45720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78240" y="3378240"/>
              <a:ext cx="0" cy="45720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73520" y="3378240"/>
              <a:ext cx="0" cy="45720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33520" y="3378240"/>
              <a:ext cx="530280" cy="397080"/>
            </a:xfrm>
            <a:prstGeom prst="rect">
              <a:avLst/>
            </a:prstGeom>
            <a:solidFill>
              <a:srgbClr val="f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E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98920" y="3378240"/>
              <a:ext cx="466560" cy="397080"/>
            </a:xfrm>
            <a:prstGeom prst="rect">
              <a:avLst/>
            </a:prstGeom>
            <a:solidFill>
              <a:srgbClr val="f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86120" y="3378240"/>
              <a:ext cx="887400" cy="397080"/>
            </a:xfrm>
            <a:prstGeom prst="rect">
              <a:avLst/>
            </a:prstGeom>
            <a:solidFill>
              <a:srgbClr val="f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defaul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058920" y="2997360"/>
              <a:ext cx="684360" cy="396720"/>
            </a:xfrm>
            <a:prstGeom prst="rect">
              <a:avLst/>
            </a:prstGeom>
            <a:solidFill>
              <a:srgbClr val="f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as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6600" y="4216680"/>
              <a:ext cx="0" cy="38088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44520" y="4216680"/>
              <a:ext cx="0" cy="38088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78240" y="4216680"/>
              <a:ext cx="0" cy="38088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73520" y="4216680"/>
              <a:ext cx="0" cy="38088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6600" y="4597560"/>
              <a:ext cx="4876920" cy="0"/>
            </a:xfrm>
            <a:prstGeom prst="line">
              <a:avLst/>
            </a:prstGeom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135240" y="4597560"/>
              <a:ext cx="0" cy="38088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1028880" y="5810400"/>
            <a:ext cx="47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1104840" y="3420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swit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开关分支语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58640" y="649440"/>
            <a:ext cx="830592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E1,E2,…En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是常量表达式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且值必须互不相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语句标号作用，必须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隶书"/>
              </a:rPr>
              <a:t>break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跳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隶书"/>
              </a:rPr>
              <a:t>case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后可包含多个可执行语句，且不必加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{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switch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可嵌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多个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隶书"/>
              </a:rPr>
              <a:t>case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可共用一组执行语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01520" y="2914560"/>
            <a:ext cx="5326920" cy="308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如：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case   ‘A’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case   ‘B’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case   ‘C’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“score&gt;60\n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break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……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63600" y="641880"/>
            <a:ext cx="219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说明：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39240" y="1398600"/>
            <a:ext cx="6255360" cy="308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例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switch(sco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     case    5:    printf(“Very good!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case    4:    printf(“Good!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case    3:    printf(“Pass!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case    2:    printf(“Fail!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default  :    printf(“data error!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05680" y="4863960"/>
            <a:ext cx="6765840" cy="1191240"/>
          </a:xfrm>
          <a:prstGeom prst="rect">
            <a:avLst/>
          </a:prstGeom>
          <a:solidFill>
            <a:srgbClr val="000044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运行结果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o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时，输出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good! Good! Pass! Fail! data error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94360"/>
            <a:ext cx="6989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例子（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）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695240" y="822240"/>
            <a:ext cx="7058520" cy="484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/*ch4_5.c*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#include &lt;stdio.h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{   int c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printf("Enter m or n or h or other: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c=getcha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switch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{  case 'm':  printf("\nGood morning!\n");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case  'n':  printf("\nGood night!\n"); 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case  'h':  printf("\nHello!\n");      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default :  printf("\n????????\n");    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>
            <a:hlinkClick r:id="rId1"/>
          </p:cNvPr>
          <p:cNvSpPr/>
          <p:nvPr/>
        </p:nvSpPr>
        <p:spPr>
          <a:xfrm>
            <a:off x="262080" y="5943600"/>
            <a:ext cx="533160" cy="685800"/>
          </a:xfrm>
          <a:custGeom>
            <a:avLst/>
            <a:gdLst>
              <a:gd name="textAreaLeft" fmla="*/ 133200 w 533160"/>
              <a:gd name="textAreaRight" fmla="*/ 399960 w 533160"/>
              <a:gd name="textAreaTop" fmla="*/ 133200 h 685800"/>
              <a:gd name="textAreaBottom" fmla="*/ 552600 h 685800"/>
            </a:gdLst>
            <a:ahLst/>
            <a:rect l="textAreaLeft" t="textAreaTop" r="textAreaRight" b="textAreaBottom"/>
            <a:pathLst>
              <a:path w="21600" h="27780">
                <a:moveTo>
                  <a:pt x="0" y="0"/>
                </a:moveTo>
                <a:lnTo>
                  <a:pt x="21600" y="0"/>
                </a:lnTo>
                <a:lnTo>
                  <a:pt x="21600" y="27780"/>
                </a:lnTo>
                <a:lnTo>
                  <a:pt x="0" y="27780"/>
                </a:lnTo>
                <a:close/>
              </a:path>
              <a:path fill="lightenLess" w="21600" h="2778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7780">
                <a:moveTo>
                  <a:pt x="21600" y="0"/>
                </a:moveTo>
                <a:lnTo>
                  <a:pt x="21600" y="27780"/>
                </a:lnTo>
                <a:lnTo>
                  <a:pt x="16200" y="22380"/>
                </a:lnTo>
                <a:lnTo>
                  <a:pt x="16200" y="5400"/>
                </a:lnTo>
                <a:close/>
              </a:path>
              <a:path fill="darkenLess" w="21600" h="27780">
                <a:moveTo>
                  <a:pt x="21600" y="27780"/>
                </a:moveTo>
                <a:lnTo>
                  <a:pt x="0" y="27780"/>
                </a:lnTo>
                <a:lnTo>
                  <a:pt x="5400" y="22380"/>
                </a:lnTo>
                <a:lnTo>
                  <a:pt x="16200" y="22380"/>
                </a:lnTo>
                <a:close/>
              </a:path>
              <a:path fill="lighten" w="21600" h="27780">
                <a:moveTo>
                  <a:pt x="0" y="27780"/>
                </a:moveTo>
                <a:lnTo>
                  <a:pt x="0" y="0"/>
                </a:lnTo>
                <a:lnTo>
                  <a:pt x="5400" y="5400"/>
                </a:lnTo>
                <a:lnTo>
                  <a:pt x="5400" y="22380"/>
                </a:lnTo>
                <a:close/>
              </a:path>
              <a:path fill="darkenLess" w="21600" h="27780">
                <a:moveTo>
                  <a:pt x="7625" y="9975"/>
                </a:moveTo>
                <a:lnTo>
                  <a:pt x="11645" y="9975"/>
                </a:lnTo>
                <a:lnTo>
                  <a:pt x="13975" y="11985"/>
                </a:lnTo>
                <a:lnTo>
                  <a:pt x="13975" y="17805"/>
                </a:lnTo>
                <a:lnTo>
                  <a:pt x="7625" y="17805"/>
                </a:lnTo>
                <a:close/>
              </a:path>
              <a:path fill="darken" w="21600" h="27780">
                <a:moveTo>
                  <a:pt x="11645" y="9975"/>
                </a:moveTo>
                <a:lnTo>
                  <a:pt x="13975" y="11985"/>
                </a:lnTo>
                <a:lnTo>
                  <a:pt x="11645" y="11985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373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例子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）  根据输入字母输出字符串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3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695160" y="729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言可实现循环的语句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和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构成循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~ whi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语句及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构成循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句一般格式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934720" y="4974840"/>
            <a:ext cx="3768120" cy="11912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goto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标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.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标号：语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；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315720" y="455760"/>
            <a:ext cx="616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e157"/>
                </a:solidFill>
                <a:latin typeface="隶书"/>
                <a:ea typeface="隶书"/>
              </a:rPr>
              <a:t>4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循环型程序设计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5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0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5" dur="50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" dur="500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0" dur="500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03120" y="1190520"/>
            <a:ext cx="8382240" cy="40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功能：无条件转移语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说明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不能用整数作标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只能出现在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goto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所在函数内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且唯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只能加在可执行语句前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限制使用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goto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语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36120"/>
            <a:ext cx="63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ce157"/>
                </a:solidFill>
                <a:latin typeface="Arial Black"/>
              </a:rPr>
              <a:t>4.4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循环型程序设计（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3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3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414720"/>
            <a:ext cx="7597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e157"/>
                </a:solidFill>
                <a:latin typeface="隶书"/>
                <a:ea typeface="隶书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 C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语句概述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3160" y="1147680"/>
            <a:ext cx="857412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语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以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作分隔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编译后产生机器指令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语句分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表达式语句：表达式加分号构成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" y="2789280"/>
            <a:ext cx="8574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空语句：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658840" y="2923200"/>
            <a:ext cx="3133800" cy="3933360"/>
            <a:chOff x="5658840" y="2923200"/>
            <a:chExt cx="3133800" cy="3933360"/>
          </a:xfrm>
        </p:grpSpPr>
        <p:sp>
          <p:nvSpPr>
            <p:cNvPr id="157" name=""/>
            <p:cNvSpPr/>
            <p:nvPr/>
          </p:nvSpPr>
          <p:spPr>
            <a:xfrm>
              <a:off x="6403680" y="2923200"/>
              <a:ext cx="238896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if( )~else~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switc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r( )~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while( )~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o~while( 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tinu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rea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go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retur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05360" y="3074760"/>
              <a:ext cx="74160" cy="609480"/>
            </a:xfrm>
            <a:custGeom>
              <a:avLst/>
              <a:gdLst>
                <a:gd name="textAreaLeft" fmla="*/ 21600 w 74160"/>
                <a:gd name="textAreaRight" fmla="*/ 74160 w 7416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43520" y="3951000"/>
              <a:ext cx="74160" cy="1028880"/>
            </a:xfrm>
            <a:custGeom>
              <a:avLst/>
              <a:gdLst>
                <a:gd name="textAreaLeft" fmla="*/ 21600 w 74160"/>
                <a:gd name="textAreaRight" fmla="*/ 74160 w 74160"/>
                <a:gd name="textAreaTop" fmla="*/ 42840 h 1028880"/>
                <a:gd name="textAreaBottom" fmla="*/ 986040 h 10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24440" y="5265360"/>
              <a:ext cx="74160" cy="1409760"/>
            </a:xfrm>
            <a:custGeom>
              <a:avLst/>
              <a:gdLst>
                <a:gd name="textAreaLeft" fmla="*/ 21600 w 74160"/>
                <a:gd name="textAreaRight" fmla="*/ 74160 w 74160"/>
                <a:gd name="textAreaTop" fmla="*/ 58680 h 1409760"/>
                <a:gd name="textAreaBottom" fmla="*/ 1351080 h 14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36400" y="3095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分支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98240" y="4238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循环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58840" y="5724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辅助控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975600" y="3556080"/>
            <a:ext cx="3760560" cy="1557000"/>
          </a:xfrm>
          <a:prstGeom prst="rect">
            <a:avLst/>
          </a:prstGeom>
          <a:solidFill>
            <a:srgbClr val="ffeffb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如    </a:t>
            </a: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total=total+limit;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a=3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func( );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printf(“Hello,world!\n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33640" y="6172200"/>
            <a:ext cx="362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361800" y="345960"/>
            <a:ext cx="4724640" cy="901800"/>
            <a:chOff x="361800" y="345960"/>
            <a:chExt cx="4724640" cy="901800"/>
          </a:xfrm>
        </p:grpSpPr>
        <p:sp>
          <p:nvSpPr>
            <p:cNvPr id="461" name=""/>
            <p:cNvSpPr/>
            <p:nvPr/>
          </p:nvSpPr>
          <p:spPr>
            <a:xfrm>
              <a:off x="361800" y="5572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4172040" y="345960"/>
                  <a:ext cx="91440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p>
                        <m:e>
                          <m:r>
                            <m:t xml:space="preserve">n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3" name=""/>
          <p:cNvSpPr/>
          <p:nvPr/>
        </p:nvSpPr>
        <p:spPr>
          <a:xfrm>
            <a:off x="2203560" y="1353960"/>
            <a:ext cx="3195000" cy="521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/*ch5_1.c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#include &lt;stdio.h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main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   int i,sum=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=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loop: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if(i&lt;=10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sum+=i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++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goto loo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"%d",su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29840" y="2460600"/>
            <a:ext cx="2444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=0+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==1+2=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=3+3=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=6+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=4950+100=50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995400" y="3102120"/>
            <a:ext cx="1500120" cy="398880"/>
            <a:chOff x="995400" y="3102120"/>
            <a:chExt cx="1500120" cy="398880"/>
          </a:xfrm>
        </p:grpSpPr>
        <p:sp>
          <p:nvSpPr>
            <p:cNvPr id="466" name=""/>
            <p:cNvSpPr/>
            <p:nvPr/>
          </p:nvSpPr>
          <p:spPr>
            <a:xfrm>
              <a:off x="1676520" y="3352680"/>
              <a:ext cx="819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95400" y="3102120"/>
              <a:ext cx="70020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初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4514760" y="3904920"/>
            <a:ext cx="2324160" cy="967680"/>
            <a:chOff x="4514760" y="3904920"/>
            <a:chExt cx="2324160" cy="967680"/>
          </a:xfrm>
        </p:grpSpPr>
        <p:sp>
          <p:nvSpPr>
            <p:cNvPr id="469" name=""/>
            <p:cNvSpPr/>
            <p:nvPr/>
          </p:nvSpPr>
          <p:spPr>
            <a:xfrm flipH="1" flipV="1">
              <a:off x="4514760" y="3904920"/>
              <a:ext cx="1238400" cy="7239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38720" y="4473720"/>
              <a:ext cx="70020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终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906120" y="4435560"/>
            <a:ext cx="2332440" cy="398880"/>
            <a:chOff x="906120" y="4435560"/>
            <a:chExt cx="2332440" cy="398880"/>
          </a:xfrm>
        </p:grpSpPr>
        <p:sp>
          <p:nvSpPr>
            <p:cNvPr id="472" name=""/>
            <p:cNvSpPr/>
            <p:nvPr/>
          </p:nvSpPr>
          <p:spPr>
            <a:xfrm>
              <a:off x="1847880" y="4629240"/>
              <a:ext cx="1390680" cy="1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6120" y="4435560"/>
              <a:ext cx="100512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变量增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276720" y="1978200"/>
            <a:ext cx="3390840" cy="2041200"/>
            <a:chOff x="3276720" y="1978200"/>
            <a:chExt cx="3390840" cy="2041200"/>
          </a:xfrm>
        </p:grpSpPr>
        <p:sp>
          <p:nvSpPr>
            <p:cNvPr id="475" name=""/>
            <p:cNvSpPr/>
            <p:nvPr/>
          </p:nvSpPr>
          <p:spPr>
            <a:xfrm>
              <a:off x="3276720" y="3486240"/>
              <a:ext cx="1295280" cy="53316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4400640" y="2247840"/>
              <a:ext cx="1295280" cy="1295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67360" y="1978200"/>
              <a:ext cx="70020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条件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048120" y="3905280"/>
            <a:ext cx="4216320" cy="1995840"/>
            <a:chOff x="3048120" y="3905280"/>
            <a:chExt cx="4216320" cy="1995840"/>
          </a:xfrm>
        </p:grpSpPr>
        <p:grpSp>
          <p:nvGrpSpPr>
            <p:cNvPr id="479" name=""/>
            <p:cNvGrpSpPr/>
            <p:nvPr/>
          </p:nvGrpSpPr>
          <p:grpSpPr>
            <a:xfrm>
              <a:off x="3048120" y="3905280"/>
              <a:ext cx="3523680" cy="1752480"/>
              <a:chOff x="3048120" y="3905280"/>
              <a:chExt cx="3523680" cy="1752480"/>
            </a:xfrm>
          </p:grpSpPr>
          <p:sp>
            <p:nvSpPr>
              <p:cNvPr id="480" name=""/>
              <p:cNvSpPr/>
              <p:nvPr/>
            </p:nvSpPr>
            <p:spPr>
              <a:xfrm>
                <a:off x="3048120" y="3905280"/>
                <a:ext cx="1752480" cy="1485720"/>
              </a:xfrm>
              <a:prstGeom prst="pie">
                <a:avLst/>
              </a:pr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 flipV="1">
                <a:off x="4723920" y="4952880"/>
                <a:ext cx="1847880" cy="704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6716520" y="5502240"/>
              <a:ext cx="54792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1533600" y="6620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例  用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t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语句构成循环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5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0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5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0" dur="5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5" dur="50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0" dur="5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57200" y="304920"/>
            <a:ext cx="289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一般形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93040" y="1081080"/>
            <a:ext cx="2265480" cy="8254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表达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体语句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7200" y="2133720"/>
            <a:ext cx="28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执行流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580920" y="2743200"/>
            <a:ext cx="2380320" cy="3438360"/>
            <a:chOff x="3580920" y="2743200"/>
            <a:chExt cx="2380320" cy="3438360"/>
          </a:xfrm>
        </p:grpSpPr>
        <p:sp>
          <p:nvSpPr>
            <p:cNvPr id="488" name=""/>
            <p:cNvSpPr/>
            <p:nvPr/>
          </p:nvSpPr>
          <p:spPr>
            <a:xfrm>
              <a:off x="4708440" y="3200400"/>
              <a:ext cx="0" cy="48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05280" y="3682800"/>
              <a:ext cx="1563480" cy="47808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08440" y="4160880"/>
              <a:ext cx="0" cy="43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90760" y="459756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08440" y="5000400"/>
              <a:ext cx="0" cy="246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3580920" y="524664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81280" y="3412800"/>
              <a:ext cx="0" cy="183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81280" y="341316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68760" y="3905280"/>
              <a:ext cx="43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906880" y="3905280"/>
              <a:ext cx="0" cy="1589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708080" y="5494320"/>
              <a:ext cx="1198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708440" y="5494320"/>
              <a:ext cx="0" cy="68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68600" y="35074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72000" y="4113720"/>
              <a:ext cx="11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14800" y="2743200"/>
              <a:ext cx="1143000" cy="45720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wh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1704960" y="2883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语句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457200" y="304920"/>
            <a:ext cx="289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一般形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93040" y="1081080"/>
            <a:ext cx="2265480" cy="8254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表达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体语句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7200" y="2133720"/>
            <a:ext cx="28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执行流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580920" y="2743200"/>
            <a:ext cx="2380320" cy="3438360"/>
            <a:chOff x="3580920" y="2743200"/>
            <a:chExt cx="2380320" cy="3438360"/>
          </a:xfrm>
        </p:grpSpPr>
        <p:sp>
          <p:nvSpPr>
            <p:cNvPr id="508" name=""/>
            <p:cNvSpPr/>
            <p:nvPr/>
          </p:nvSpPr>
          <p:spPr>
            <a:xfrm>
              <a:off x="4708440" y="3200400"/>
              <a:ext cx="0" cy="48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05280" y="3682800"/>
              <a:ext cx="1563480" cy="47808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08440" y="4160880"/>
              <a:ext cx="0" cy="43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90760" y="459756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08440" y="5000400"/>
              <a:ext cx="0" cy="246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3580920" y="524664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3581280" y="3412800"/>
              <a:ext cx="0" cy="183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341316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68760" y="3905280"/>
              <a:ext cx="43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06880" y="3905280"/>
              <a:ext cx="0" cy="1589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4708080" y="5494320"/>
              <a:ext cx="1198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08440" y="5494320"/>
              <a:ext cx="0" cy="68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68600" y="35074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72000" y="4113720"/>
              <a:ext cx="11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14800" y="2743200"/>
              <a:ext cx="1143000" cy="45720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wh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-1704960" y="2883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语句形式和执行流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611280" y="1265400"/>
            <a:ext cx="784836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特点：先判断表达式，后执行循环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说明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循环体有可能一次也不执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循环体可为任意类型语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下列情况，退出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while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循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00ff"/>
              </a:buClr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条件表达式不成立（为零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00ff"/>
              </a:buClr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循环体内遇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break,return,go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无限循环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:  while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循环体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7884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特点和说明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"/>
          <p:cNvGrpSpPr/>
          <p:nvPr/>
        </p:nvGrpSpPr>
        <p:grpSpPr>
          <a:xfrm>
            <a:off x="1816560" y="554040"/>
            <a:ext cx="2829960" cy="901800"/>
            <a:chOff x="1816560" y="554040"/>
            <a:chExt cx="2829960" cy="901800"/>
          </a:xfrm>
        </p:grpSpPr>
        <p:sp>
          <p:nvSpPr>
            <p:cNvPr id="527" name=""/>
            <p:cNvSpPr/>
            <p:nvPr/>
          </p:nvSpPr>
          <p:spPr>
            <a:xfrm>
              <a:off x="1816560" y="782640"/>
              <a:ext cx="15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用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while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求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8" name=""/>
                <p:cNvSpPr txBox="1"/>
                <p:nvPr/>
              </p:nvSpPr>
              <p:spPr>
                <a:xfrm>
                  <a:off x="3732120" y="554040"/>
                  <a:ext cx="91440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p>
                        <m:e>
                          <m:r>
                            <m:t xml:space="preserve">n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9" name=""/>
          <p:cNvSpPr/>
          <p:nvPr/>
        </p:nvSpPr>
        <p:spPr>
          <a:xfrm>
            <a:off x="2414160" y="1673280"/>
            <a:ext cx="3018240" cy="47865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/*ch5_2.c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#include &lt;stdio.h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main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 int i,sum=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=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while(i&lt;=10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sum=sum+i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++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"%d",su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185840" y="3406680"/>
            <a:ext cx="1500120" cy="398880"/>
            <a:chOff x="1185840" y="3406680"/>
            <a:chExt cx="1500120" cy="398880"/>
          </a:xfrm>
        </p:grpSpPr>
        <p:sp>
          <p:nvSpPr>
            <p:cNvPr id="531" name=""/>
            <p:cNvSpPr/>
            <p:nvPr/>
          </p:nvSpPr>
          <p:spPr>
            <a:xfrm>
              <a:off x="1866960" y="3657240"/>
              <a:ext cx="819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85840" y="3406680"/>
              <a:ext cx="70020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初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4819680" y="4152600"/>
            <a:ext cx="2324160" cy="967680"/>
            <a:chOff x="4819680" y="4152600"/>
            <a:chExt cx="2324160" cy="967680"/>
          </a:xfrm>
        </p:grpSpPr>
        <p:sp>
          <p:nvSpPr>
            <p:cNvPr id="534" name=""/>
            <p:cNvSpPr/>
            <p:nvPr/>
          </p:nvSpPr>
          <p:spPr>
            <a:xfrm flipH="1" flipV="1">
              <a:off x="4819680" y="4152600"/>
              <a:ext cx="1238400" cy="7239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43640" y="4721400"/>
              <a:ext cx="70020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终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811080" y="4740120"/>
            <a:ext cx="2331720" cy="398880"/>
            <a:chOff x="811080" y="4740120"/>
            <a:chExt cx="2331720" cy="398880"/>
          </a:xfrm>
        </p:grpSpPr>
        <p:sp>
          <p:nvSpPr>
            <p:cNvPr id="537" name=""/>
            <p:cNvSpPr/>
            <p:nvPr/>
          </p:nvSpPr>
          <p:spPr>
            <a:xfrm>
              <a:off x="1752480" y="4933800"/>
              <a:ext cx="1390320" cy="1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1080" y="4740120"/>
              <a:ext cx="100512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变量增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638520" y="2244600"/>
            <a:ext cx="3390840" cy="2041200"/>
            <a:chOff x="3638520" y="2244600"/>
            <a:chExt cx="3390840" cy="2041200"/>
          </a:xfrm>
        </p:grpSpPr>
        <p:sp>
          <p:nvSpPr>
            <p:cNvPr id="540" name=""/>
            <p:cNvSpPr/>
            <p:nvPr/>
          </p:nvSpPr>
          <p:spPr>
            <a:xfrm>
              <a:off x="3638520" y="3752640"/>
              <a:ext cx="1295280" cy="53316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4762440" y="2514240"/>
              <a:ext cx="1295280" cy="1295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9160" y="2244600"/>
              <a:ext cx="70020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条件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2997360" y="4303800"/>
            <a:ext cx="4305240" cy="1978200"/>
            <a:chOff x="2997360" y="4303800"/>
            <a:chExt cx="4305240" cy="1978200"/>
          </a:xfrm>
        </p:grpSpPr>
        <p:sp>
          <p:nvSpPr>
            <p:cNvPr id="544" name=""/>
            <p:cNvSpPr/>
            <p:nvPr/>
          </p:nvSpPr>
          <p:spPr>
            <a:xfrm flipH="1" flipV="1">
              <a:off x="4762080" y="5010120"/>
              <a:ext cx="1847880" cy="1028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754680" y="5883120"/>
              <a:ext cx="54792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997360" y="4303800"/>
              <a:ext cx="2103120" cy="90972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55120" y="766800"/>
            <a:ext cx="1241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例子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861840" y="7333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01760" y="1743120"/>
            <a:ext cx="5127480" cy="39333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/*ch5_21.c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#include &lt;stdio.h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main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 int i=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while(i&lt;=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printf("%d*%d=%d\n",i,i,i*i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++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27480" y="1703520"/>
            <a:ext cx="1572120" cy="4117320"/>
          </a:xfrm>
          <a:prstGeom prst="rect">
            <a:avLst/>
          </a:prstGeom>
          <a:solidFill>
            <a:srgbClr val="000044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运行结果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*1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*2=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*3=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*4=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*5=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*6=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*7=4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*8=6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*9=8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*10=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-1309680" y="85140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例 显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~1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的平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457200" y="3049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一般形式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39760" y="898200"/>
            <a:ext cx="2448360" cy="11912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体语句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表达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2133720"/>
            <a:ext cx="28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执行流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276360" y="3124080"/>
            <a:ext cx="2543040" cy="2860560"/>
            <a:chOff x="3276360" y="3124080"/>
            <a:chExt cx="2543040" cy="2860560"/>
          </a:xfrm>
        </p:grpSpPr>
        <p:sp>
          <p:nvSpPr>
            <p:cNvPr id="556" name=""/>
            <p:cNvSpPr/>
            <p:nvPr/>
          </p:nvSpPr>
          <p:spPr>
            <a:xfrm>
              <a:off x="4295520" y="3124080"/>
              <a:ext cx="1142640" cy="45720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d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24280" y="5349600"/>
              <a:ext cx="0" cy="63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40120" y="363204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82920" y="4092840"/>
              <a:ext cx="10299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40120" y="450504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90960" y="4876560"/>
              <a:ext cx="1563120" cy="4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724280" y="534888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92920" y="4721760"/>
              <a:ext cx="96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3276360" y="5119560"/>
              <a:ext cx="671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276720" y="3866760"/>
              <a:ext cx="0" cy="125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76720" y="3866760"/>
              <a:ext cx="1463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57640" y="45709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wh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332640"/>
            <a:ext cx="3311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do~while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语句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419040" y="628560"/>
            <a:ext cx="78487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特点：先执行循环体，后判断表达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说明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至少执行一次循环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do~wh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可转化成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1790640" y="2295360"/>
            <a:ext cx="5105160" cy="3438720"/>
            <a:chOff x="1790640" y="2295360"/>
            <a:chExt cx="5105160" cy="3438720"/>
          </a:xfrm>
        </p:grpSpPr>
        <p:sp>
          <p:nvSpPr>
            <p:cNvPr id="571" name=""/>
            <p:cNvSpPr/>
            <p:nvPr/>
          </p:nvSpPr>
          <p:spPr>
            <a:xfrm>
              <a:off x="3298680" y="3057480"/>
              <a:ext cx="0" cy="482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95520" y="3540240"/>
              <a:ext cx="1563480" cy="4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298680" y="4017960"/>
              <a:ext cx="0" cy="43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81000" y="445500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98680" y="4857840"/>
              <a:ext cx="0" cy="24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171160" y="510372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2171520" y="3269880"/>
              <a:ext cx="0" cy="183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71520" y="327024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059000" y="3762360"/>
              <a:ext cx="43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97120" y="3762360"/>
              <a:ext cx="0" cy="1589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3298320" y="5351400"/>
              <a:ext cx="1198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58840" y="33645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162240" y="3970800"/>
              <a:ext cx="11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314520" y="535284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38200" y="2295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81000" y="260388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90640" y="3133800"/>
              <a:ext cx="3429000" cy="2361960"/>
            </a:xfrm>
            <a:prstGeom prst="rect">
              <a:avLst/>
            </a:prstGeom>
            <a:noFill/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840" y="2828880"/>
              <a:ext cx="1218960" cy="609480"/>
            </a:xfrm>
            <a:prstGeom prst="wedgeEllipseCallout">
              <a:avLst>
                <a:gd name="adj1" fmla="val -91407"/>
                <a:gd name="adj2" fmla="val 90365"/>
              </a:avLst>
            </a:prstGeom>
            <a:noFill/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While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27864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do~while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语句特点和说明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6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1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6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1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457200" y="304920"/>
            <a:ext cx="289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一般形式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01680" y="772560"/>
            <a:ext cx="4531680" cy="9471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for([expr1] ;[ expr2] ;[ expr3]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体语句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7200" y="2133720"/>
            <a:ext cx="28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执行流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581280" y="2208240"/>
            <a:ext cx="2381400" cy="4649760"/>
            <a:chOff x="3581280" y="2208240"/>
            <a:chExt cx="2381400" cy="4649760"/>
          </a:xfrm>
        </p:grpSpPr>
        <p:sp>
          <p:nvSpPr>
            <p:cNvPr id="594" name=""/>
            <p:cNvSpPr/>
            <p:nvPr/>
          </p:nvSpPr>
          <p:spPr>
            <a:xfrm>
              <a:off x="3905280" y="3732120"/>
              <a:ext cx="1563480" cy="4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708440" y="4209840"/>
              <a:ext cx="0" cy="43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190760" y="464688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81280" y="346212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468760" y="3954240"/>
              <a:ext cx="43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43360" y="6399000"/>
              <a:ext cx="0" cy="45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268600" y="35564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572000" y="4163040"/>
              <a:ext cx="11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09840" y="2208240"/>
              <a:ext cx="1143000" cy="38088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f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43360" y="258912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86160" y="297360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43360" y="502740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209840" y="541224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743360" y="578952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3600000" y="617040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600360" y="3427200"/>
              <a:ext cx="0" cy="27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962680" y="3960720"/>
              <a:ext cx="0" cy="243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4743000" y="639900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743360" y="335124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-1647720" y="6235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-57240" y="266760"/>
            <a:ext cx="5067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47800" y="681840"/>
            <a:ext cx="4362480" cy="1557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for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变量赋初值；循环条件；循环变量增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体语句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-57240" y="2165400"/>
            <a:ext cx="92012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说明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32080" indent="9828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expr1, expr2 ,expr3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类型任意，都可省略，但分号；不可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32080" indent="9828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无限循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:  for(;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32080" indent="9828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可以转换成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118920" y="4300920"/>
            <a:ext cx="2192400" cy="2288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expr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(expr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体语句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expr3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-938160" y="2638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一般应用形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47320" y="628560"/>
            <a:ext cx="862956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：用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…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括起来的一组语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一般形式：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{     [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数据说明部分；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执行语句部分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说明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后不加分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法上和单一语句相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复合语句可嵌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060560" y="643320"/>
            <a:ext cx="2603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复合语句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432000" y="985680"/>
            <a:ext cx="3306240" cy="219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例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隶书"/>
              </a:rPr>
              <a:t>：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#include&lt;stdio.h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main( 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{    int i=0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for(i=0;i&lt;10;i++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putchar(‘a’+i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2280" y="3938760"/>
            <a:ext cx="2833920" cy="520560"/>
          </a:xfrm>
          <a:prstGeom prst="rect">
            <a:avLst/>
          </a:prstGeom>
          <a:solidFill>
            <a:srgbClr val="000044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运行结果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cdefghi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72240" y="355680"/>
            <a:ext cx="3306240" cy="219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例：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#include&lt;stdio.h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main( 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{    int i=0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  <a:ea typeface="隶书"/>
              </a:rPr>
              <a:t>for(;i&lt;10;i++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putchar(‘a’+i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591800" y="3654360"/>
            <a:ext cx="3794040" cy="219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例：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#include&lt;stdio.h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main( 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{    int i=0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  <a:ea typeface="隶书"/>
              </a:rPr>
              <a:t>for(;i&lt;10;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putchar(‘a’+(i++)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48720" y="3665520"/>
            <a:ext cx="4509000" cy="219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例：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#include&lt;stdio.h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main( 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{    int i=0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  <a:ea typeface="隶书"/>
              </a:rPr>
              <a:t>for(;i&lt;10;putchar(‘a’+i),i++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    </a:t>
            </a:r>
            <a:r>
              <a:rPr b="0" lang="en-US" sz="2200" spc="-1" strike="noStrike">
                <a:solidFill>
                  <a:srgbClr val="3333ff"/>
                </a:solidFill>
                <a:latin typeface="Verdana"/>
                <a:ea typeface="隶书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-1422720" y="277920"/>
            <a:ext cx="4226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例子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647640" y="568440"/>
            <a:ext cx="81536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三种循环可互相嵌套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层数不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外层循环可包含两个以上内循环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但不能相互交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嵌套循环的执行流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5680" y="1981080"/>
            <a:ext cx="1809720" cy="222840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(1)  whil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whil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…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524320" y="1870200"/>
            <a:ext cx="1978920" cy="222840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(2)  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while(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…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while(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495960" y="4329000"/>
            <a:ext cx="1978920" cy="222840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(3)  whil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while(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……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407640" y="2044800"/>
            <a:ext cx="1914840" cy="344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(4)  for( ; ;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whil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whil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…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7067520" y="1835280"/>
            <a:ext cx="2165400" cy="3216240"/>
            <a:chOff x="7067520" y="1835280"/>
            <a:chExt cx="2165400" cy="3216240"/>
          </a:xfrm>
        </p:grpSpPr>
        <p:grpSp>
          <p:nvGrpSpPr>
            <p:cNvPr id="631" name=""/>
            <p:cNvGrpSpPr/>
            <p:nvPr/>
          </p:nvGrpSpPr>
          <p:grpSpPr>
            <a:xfrm>
              <a:off x="7067520" y="2676600"/>
              <a:ext cx="2152800" cy="1181160"/>
              <a:chOff x="7067520" y="2676600"/>
              <a:chExt cx="2152800" cy="1181160"/>
            </a:xfrm>
          </p:grpSpPr>
          <p:sp>
            <p:nvSpPr>
              <p:cNvPr id="632" name=""/>
              <p:cNvSpPr/>
              <p:nvPr/>
            </p:nvSpPr>
            <p:spPr>
              <a:xfrm>
                <a:off x="7067520" y="2676600"/>
                <a:ext cx="1346040" cy="1181160"/>
              </a:xfrm>
              <a:prstGeom prst="pie">
                <a:avLst/>
              </a:prstGeom>
              <a:noFill/>
              <a:ln w="38160">
                <a:solidFill>
                  <a:srgbClr val="9ce1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672400" y="2806920"/>
                <a:ext cx="54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内循环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7823160" y="1835280"/>
              <a:ext cx="1409760" cy="422280"/>
              <a:chOff x="7823160" y="1835280"/>
              <a:chExt cx="1409760" cy="422280"/>
            </a:xfrm>
          </p:grpSpPr>
          <p:sp>
            <p:nvSpPr>
              <p:cNvPr id="635" name=""/>
              <p:cNvSpPr/>
              <p:nvPr/>
            </p:nvSpPr>
            <p:spPr>
              <a:xfrm flipV="1">
                <a:off x="7823160" y="1971720"/>
                <a:ext cx="743040" cy="285840"/>
              </a:xfrm>
              <a:prstGeom prst="line">
                <a:avLst/>
              </a:prstGeom>
              <a:ln w="38160">
                <a:solidFill>
                  <a:srgbClr val="9ce1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685000" y="1835280"/>
                <a:ext cx="54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外循环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7080120" y="3870360"/>
              <a:ext cx="2152800" cy="1181160"/>
              <a:chOff x="7080120" y="3870360"/>
              <a:chExt cx="2152800" cy="1181160"/>
            </a:xfrm>
          </p:grpSpPr>
          <p:sp>
            <p:nvSpPr>
              <p:cNvPr id="638" name=""/>
              <p:cNvSpPr/>
              <p:nvPr/>
            </p:nvSpPr>
            <p:spPr>
              <a:xfrm>
                <a:off x="7080120" y="3870360"/>
                <a:ext cx="1346040" cy="1181160"/>
              </a:xfrm>
              <a:prstGeom prst="pie">
                <a:avLst/>
              </a:prstGeom>
              <a:noFill/>
              <a:ln w="38160">
                <a:solidFill>
                  <a:srgbClr val="9ce1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685000" y="4000680"/>
                <a:ext cx="54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内循环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2120" y="-3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循环的嵌套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00"/>
                            </p:stCondLst>
                            <p:childTnLst>
                              <p:par>
                                <p:cTn id="10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6" dur="1" fill="hold"/>
                                  <p:tgtEl>
                                    <p:spTgt spid="6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"/>
          <p:cNvGrpSpPr/>
          <p:nvPr/>
        </p:nvGrpSpPr>
        <p:grpSpPr>
          <a:xfrm>
            <a:off x="4840200" y="0"/>
            <a:ext cx="3998880" cy="6877080"/>
            <a:chOff x="4840200" y="0"/>
            <a:chExt cx="3998880" cy="6877080"/>
          </a:xfrm>
        </p:grpSpPr>
        <p:sp>
          <p:nvSpPr>
            <p:cNvPr id="642" name=""/>
            <p:cNvSpPr/>
            <p:nvPr/>
          </p:nvSpPr>
          <p:spPr>
            <a:xfrm>
              <a:off x="5781600" y="1143000"/>
              <a:ext cx="1563840" cy="4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&lt;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85120" y="1620720"/>
              <a:ext cx="0" cy="43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154560" y="369756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rint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92880" y="260028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345440" y="1365120"/>
              <a:ext cx="1492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621480" y="3246480"/>
              <a:ext cx="0" cy="45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144920" y="9673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48320" y="1573920"/>
              <a:ext cx="11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20040" y="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162840" y="384480"/>
              <a:ext cx="10299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=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621480" y="24210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121440" y="442800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j++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77040" y="2600280"/>
              <a:ext cx="0" cy="2745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32680" y="3013200"/>
              <a:ext cx="0" cy="243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620040" y="76212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051600" y="203724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j=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845320" y="2760840"/>
              <a:ext cx="1563480" cy="4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j&lt;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96200" y="3242160"/>
              <a:ext cx="11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656400" y="4094280"/>
              <a:ext cx="0" cy="33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638760" y="4834080"/>
              <a:ext cx="0" cy="45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492520" y="5292720"/>
              <a:ext cx="1145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386120" y="2689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80360" y="3000240"/>
              <a:ext cx="635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222960" y="574236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++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6779880" y="5451480"/>
              <a:ext cx="125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62600" y="5451480"/>
              <a:ext cx="0" cy="282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75480" y="6140520"/>
              <a:ext cx="0" cy="210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4857480" y="6334200"/>
              <a:ext cx="1817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840200" y="1025640"/>
              <a:ext cx="0" cy="5308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840200" y="1025640"/>
              <a:ext cx="178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839080" y="1379520"/>
              <a:ext cx="0" cy="5133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6638400" y="6491160"/>
              <a:ext cx="21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656400" y="6491160"/>
              <a:ext cx="0" cy="385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8640" y="0"/>
            <a:ext cx="46278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for(i=1;i&lt;10;i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隶书"/>
              </a:rPr>
              <a:t>for(j=1;j&lt;10;j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(j==9)?"%4d\n":"%4d",i*j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3186000" y="2016000"/>
            <a:ext cx="1614600" cy="727200"/>
            <a:chOff x="3186000" y="2016000"/>
            <a:chExt cx="1614600" cy="727200"/>
          </a:xfrm>
        </p:grpSpPr>
        <p:sp>
          <p:nvSpPr>
            <p:cNvPr id="677" name=""/>
            <p:cNvSpPr/>
            <p:nvPr/>
          </p:nvSpPr>
          <p:spPr>
            <a:xfrm>
              <a:off x="3186000" y="2016000"/>
              <a:ext cx="5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外循环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76680" y="2324160"/>
              <a:ext cx="1123920" cy="41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2582640" y="1905120"/>
            <a:ext cx="5874120" cy="3475080"/>
            <a:chOff x="2582640" y="1905120"/>
            <a:chExt cx="5874120" cy="3475080"/>
          </a:xfrm>
        </p:grpSpPr>
        <p:sp>
          <p:nvSpPr>
            <p:cNvPr id="680" name=""/>
            <p:cNvSpPr/>
            <p:nvPr/>
          </p:nvSpPr>
          <p:spPr>
            <a:xfrm>
              <a:off x="5051520" y="1905120"/>
              <a:ext cx="3405240" cy="3475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82640" y="3273480"/>
              <a:ext cx="5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内循环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295800" y="3448080"/>
              <a:ext cx="175248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37600" y="3886920"/>
            <a:ext cx="3598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循环的嵌套（图解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12840" y="61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e157"/>
                </a:solidFill>
                <a:latin typeface="隶书"/>
                <a:ea typeface="隶书"/>
              </a:rPr>
              <a:t>5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辅助控制语句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39800" y="13950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语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功能：在循环语句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句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终止并跳出循环体或开关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说明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只能终止并跳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最近一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的结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不能用于循环语句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句之外的任何其它语句之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558720" y="17971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功能：结束本次循环，跳过循环体中尚未执行的语句，进行下一次是否执行循环体的判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仅用于循环语句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81160" y="8694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continue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语句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30040" y="93996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结构化程序设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基本思想：任何程序都可以用三种基本结构表示，限制使用无条件转移语句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结构化程序：由三种基本结构反复嵌套构成的程序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优点：结构清晰，易读，提高程序设计质量和效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三种基本结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顺序结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200400" y="4114800"/>
            <a:ext cx="5715000" cy="2116080"/>
            <a:chOff x="3200400" y="4114800"/>
            <a:chExt cx="5715000" cy="2116080"/>
          </a:xfrm>
        </p:grpSpPr>
        <p:sp>
          <p:nvSpPr>
            <p:cNvPr id="170" name=""/>
            <p:cNvSpPr/>
            <p:nvPr/>
          </p:nvSpPr>
          <p:spPr>
            <a:xfrm>
              <a:off x="5294160" y="4114800"/>
              <a:ext cx="0" cy="51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00600" y="4627440"/>
              <a:ext cx="1022400" cy="370080"/>
            </a:xfrm>
            <a:prstGeom prst="flowChart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00600" y="5491080"/>
              <a:ext cx="1022400" cy="370080"/>
            </a:xfrm>
            <a:prstGeom prst="flowChart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94160" y="4997520"/>
              <a:ext cx="0" cy="49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94160" y="5861160"/>
              <a:ext cx="0" cy="36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81640" y="4627440"/>
              <a:ext cx="1111320" cy="37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81640" y="4997520"/>
              <a:ext cx="1111320" cy="36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562720"/>
              <a:ext cx="914400" cy="609480"/>
            </a:xfrm>
            <a:prstGeom prst="wedgeEllipseCallout">
              <a:avLst>
                <a:gd name="adj1" fmla="val 105902"/>
                <a:gd name="adj2" fmla="val -57550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流程图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01000" y="5562720"/>
              <a:ext cx="914400" cy="609480"/>
            </a:xfrm>
            <a:prstGeom prst="wedgeEllipseCallout">
              <a:avLst>
                <a:gd name="adj1" fmla="val -105208"/>
                <a:gd name="adj2" fmla="val -100523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N-S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图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85800" y="41364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e157"/>
                </a:solidFill>
                <a:latin typeface="隶书"/>
                <a:ea typeface="隶书"/>
              </a:rPr>
              <a:t>2</a:t>
            </a:r>
            <a:r>
              <a:rPr b="0" lang="en-US" sz="4000" spc="-1" strike="noStrike">
                <a:solidFill>
                  <a:srgbClr val="ffcc00"/>
                </a:solidFill>
                <a:latin typeface="隶书"/>
                <a:ea typeface="隶书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隶书"/>
                <a:ea typeface="隶书"/>
              </a:rPr>
              <a:t>程序的三种基本结构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848720" y="6343560"/>
            <a:ext cx="1047600" cy="514080"/>
            <a:chOff x="7848720" y="6343560"/>
            <a:chExt cx="1047600" cy="514080"/>
          </a:xfrm>
        </p:grpSpPr>
        <p:sp>
          <p:nvSpPr>
            <p:cNvPr id="181" name="">
              <a:hlinkClick r:id="rId1" action="ppaction://hlinksldjump"/>
            </p:cNvPr>
            <p:cNvSpPr/>
            <p:nvPr/>
          </p:nvSpPr>
          <p:spPr>
            <a:xfrm>
              <a:off x="784872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7991640" y="6391080"/>
              <a:ext cx="714240" cy="380880"/>
              <a:chOff x="7991640" y="6391080"/>
              <a:chExt cx="714240" cy="380880"/>
            </a:xfrm>
          </p:grpSpPr>
          <p:sp>
            <p:nvSpPr>
              <p:cNvPr id="183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00100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42040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59176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3200400" y="304920"/>
            <a:ext cx="5699520" cy="2504880"/>
            <a:chOff x="3200400" y="304920"/>
            <a:chExt cx="5699520" cy="2504880"/>
          </a:xfrm>
        </p:grpSpPr>
        <p:grpSp>
          <p:nvGrpSpPr>
            <p:cNvPr id="187" name=""/>
            <p:cNvGrpSpPr/>
            <p:nvPr/>
          </p:nvGrpSpPr>
          <p:grpSpPr>
            <a:xfrm>
              <a:off x="3200400" y="304920"/>
              <a:ext cx="3352680" cy="2504880"/>
              <a:chOff x="3200400" y="304920"/>
              <a:chExt cx="3352680" cy="2504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40200" y="2333520"/>
                <a:ext cx="0" cy="476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3200400" y="304920"/>
                <a:ext cx="3352680" cy="2028600"/>
                <a:chOff x="3200400" y="304920"/>
                <a:chExt cx="3352680" cy="20286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065480" y="781200"/>
                  <a:ext cx="1535400" cy="582480"/>
                </a:xfrm>
                <a:prstGeom prst="flowChartDecision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P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543320"/>
                  <a:ext cx="1200240" cy="39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353200" y="1543320"/>
                  <a:ext cx="1199880" cy="39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840200" y="304920"/>
                  <a:ext cx="0" cy="476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>
                  <a:off x="3712680" y="1081080"/>
                  <a:ext cx="352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713040" y="1081080"/>
                  <a:ext cx="0" cy="458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600880" y="1081080"/>
                  <a:ext cx="387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987880" y="1081080"/>
                  <a:ext cx="0" cy="458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713040" y="1946160"/>
                  <a:ext cx="0" cy="387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964120" y="1946160"/>
                  <a:ext cx="0" cy="387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713040" y="2333520"/>
                  <a:ext cx="1127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4840200" y="2333520"/>
                  <a:ext cx="11239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765600" y="683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真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653440" y="683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假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6993000" y="781200"/>
              <a:ext cx="1906920" cy="1164960"/>
              <a:chOff x="6993000" y="781200"/>
              <a:chExt cx="1906920" cy="1164960"/>
            </a:xfrm>
          </p:grpSpPr>
          <p:sp>
            <p:nvSpPr>
              <p:cNvPr id="205" name=""/>
              <p:cNvSpPr/>
              <p:nvPr/>
            </p:nvSpPr>
            <p:spPr>
              <a:xfrm>
                <a:off x="6993000" y="781200"/>
                <a:ext cx="1906560" cy="1164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993000" y="781200"/>
                <a:ext cx="954000" cy="58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7" name=""/>
              <p:cNvCxnSpPr>
                <a:stCxn id="206" idx="0"/>
                <a:endCxn id="206" idx="1"/>
              </p:cNvCxnSpPr>
              <p:nvPr/>
            </p:nvCxnSpPr>
            <p:spPr>
              <a:xfrm>
                <a:off x="7946640" y="1363320"/>
                <a:ext cx="108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208" name=""/>
              <p:cNvCxnSpPr>
                <a:stCxn id="205" idx="3"/>
                <a:endCxn id="205" idx="3"/>
              </p:cNvCxnSpPr>
              <p:nvPr/>
            </p:nvCxnSpPr>
            <p:spPr>
              <a:xfrm>
                <a:off x="8899200" y="1363320"/>
                <a:ext cx="108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sp>
            <p:nvSpPr>
              <p:cNvPr id="209" name=""/>
              <p:cNvSpPr/>
              <p:nvPr/>
            </p:nvSpPr>
            <p:spPr>
              <a:xfrm flipV="1">
                <a:off x="7947000" y="781200"/>
                <a:ext cx="952560" cy="58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754760" y="835560"/>
                <a:ext cx="43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993000" y="1363680"/>
                <a:ext cx="1906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947000" y="1363680"/>
                <a:ext cx="0" cy="58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195040" y="15390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362720" y="15390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045560" y="9658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真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514000" y="9658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假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3276720" y="2971800"/>
            <a:ext cx="5505480" cy="3580920"/>
            <a:chOff x="3276720" y="2971800"/>
            <a:chExt cx="5505480" cy="3580920"/>
          </a:xfrm>
        </p:grpSpPr>
        <p:sp>
          <p:nvSpPr>
            <p:cNvPr id="218" name=""/>
            <p:cNvSpPr/>
            <p:nvPr/>
          </p:nvSpPr>
          <p:spPr>
            <a:xfrm>
              <a:off x="5562720" y="3428640"/>
              <a:ext cx="609480" cy="533160"/>
            </a:xfrm>
            <a:prstGeom prst="flowChartConnector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67280" y="2971800"/>
              <a:ext cx="0" cy="45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76720" y="4651560"/>
              <a:ext cx="10857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0" y="4651560"/>
              <a:ext cx="10857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48520" y="4651560"/>
              <a:ext cx="10857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96080" y="4651560"/>
              <a:ext cx="10861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809880" y="3809880"/>
              <a:ext cx="1828800" cy="83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15000" y="5562360"/>
              <a:ext cx="609480" cy="533160"/>
            </a:xfrm>
            <a:prstGeom prst="flowChartConnector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105160" y="3962160"/>
              <a:ext cx="685800" cy="685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95880" y="3885840"/>
              <a:ext cx="76212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2200" y="3733560"/>
              <a:ext cx="1981080" cy="91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81480" y="5028840"/>
              <a:ext cx="60984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86200" y="5028840"/>
              <a:ext cx="18288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248160" y="5028840"/>
              <a:ext cx="60948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324120" y="5028840"/>
              <a:ext cx="175284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19920" y="6095880"/>
              <a:ext cx="0" cy="45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24280" y="411336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=k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38480" y="388476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=k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81680" y="373248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=k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05920" y="4037400"/>
              <a:ext cx="65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=k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16080" y="464688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16280" y="464688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954720" y="141660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二分支选择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54720" y="446472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多分支选择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2208240" y="5799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选择结构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244" name="">
              <a:hlinkClick r:id="rId1" action="ppaction://hlinksldjump"/>
            </p:cNvPr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246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2" name="CAMERA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712880" y="565200"/>
            <a:ext cx="45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65360" y="10767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当型循环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51760" y="40136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直到型循环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057200" y="439560"/>
            <a:ext cx="4480200" cy="2981520"/>
            <a:chOff x="4057200" y="439560"/>
            <a:chExt cx="4480200" cy="2981520"/>
          </a:xfrm>
        </p:grpSpPr>
        <p:sp>
          <p:nvSpPr>
            <p:cNvPr id="253" name=""/>
            <p:cNvSpPr/>
            <p:nvPr/>
          </p:nvSpPr>
          <p:spPr>
            <a:xfrm>
              <a:off x="5184720" y="439560"/>
              <a:ext cx="0" cy="482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81560" y="922320"/>
              <a:ext cx="1563480" cy="4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84720" y="1400040"/>
              <a:ext cx="0" cy="43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67400" y="1837080"/>
              <a:ext cx="10299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84720" y="2239920"/>
              <a:ext cx="0" cy="246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057200" y="248616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057560" y="652320"/>
              <a:ext cx="0" cy="183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57560" y="65232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45040" y="1144440"/>
              <a:ext cx="43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83160" y="1144440"/>
              <a:ext cx="0" cy="1589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184360" y="2733840"/>
              <a:ext cx="1198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84720" y="2733840"/>
              <a:ext cx="0" cy="68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23080" y="7466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84720" y="1399320"/>
              <a:ext cx="4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6897600" y="676440"/>
              <a:ext cx="1639800" cy="898200"/>
              <a:chOff x="6897600" y="676440"/>
              <a:chExt cx="1639800" cy="898200"/>
            </a:xfrm>
          </p:grpSpPr>
          <p:sp>
            <p:nvSpPr>
              <p:cNvPr id="268" name=""/>
              <p:cNvSpPr/>
              <p:nvPr/>
            </p:nvSpPr>
            <p:spPr>
              <a:xfrm>
                <a:off x="6897600" y="676440"/>
                <a:ext cx="1639800" cy="8982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96840" y="74664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当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为真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337520" y="1160640"/>
                <a:ext cx="119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337520" y="1160640"/>
                <a:ext cx="0" cy="396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77080" y="1159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4427280" y="3768840"/>
            <a:ext cx="4146840" cy="2352600"/>
            <a:chOff x="4427280" y="3768840"/>
            <a:chExt cx="4146840" cy="2352600"/>
          </a:xfrm>
        </p:grpSpPr>
        <p:sp>
          <p:nvSpPr>
            <p:cNvPr id="274" name=""/>
            <p:cNvSpPr/>
            <p:nvPr/>
          </p:nvSpPr>
          <p:spPr>
            <a:xfrm>
              <a:off x="5875560" y="5486400"/>
              <a:ext cx="0" cy="63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91400" y="376884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34200" y="422964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91400" y="464184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99040" y="5008680"/>
              <a:ext cx="1563840" cy="4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75560" y="5485320"/>
              <a:ext cx="4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58120" y="4858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4427280" y="5256360"/>
              <a:ext cx="671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427640" y="4003560"/>
              <a:ext cx="0" cy="125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27640" y="4003560"/>
              <a:ext cx="1463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18400" y="4251240"/>
              <a:ext cx="1754280" cy="1005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21680" y="4251240"/>
              <a:ext cx="0" cy="47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21680" y="4727520"/>
              <a:ext cx="125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754760" y="4282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65080" y="4828320"/>
              <a:ext cx="105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直到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为真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162600" y="6217200"/>
            <a:ext cx="30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注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A,B,A1….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可以是一个简单语句，也可以是一个基本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54040" y="468000"/>
            <a:ext cx="297648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结构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77360" y="434880"/>
            <a:ext cx="52642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（条件选择语句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语句的三种形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形式一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格式：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f (expressio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tat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执行过程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019920" y="533520"/>
            <a:ext cx="2007000" cy="2133360"/>
            <a:chOff x="6019920" y="533520"/>
            <a:chExt cx="2007000" cy="2133360"/>
          </a:xfrm>
        </p:grpSpPr>
        <p:sp>
          <p:nvSpPr>
            <p:cNvPr id="293" name=""/>
            <p:cNvSpPr/>
            <p:nvPr/>
          </p:nvSpPr>
          <p:spPr>
            <a:xfrm>
              <a:off x="6019920" y="990720"/>
              <a:ext cx="1535040" cy="58248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72200" y="1908720"/>
              <a:ext cx="12002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21640" y="533520"/>
              <a:ext cx="0" cy="47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81960" y="1309680"/>
              <a:ext cx="38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15880" y="152316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74760" y="911880"/>
              <a:ext cx="45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81680" y="1600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1680" y="22860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01000" y="1295280"/>
              <a:ext cx="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781320" y="243828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4386240" y="2808360"/>
            <a:ext cx="42069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例：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 (x&gt;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“%d”,x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505480" y="3703680"/>
            <a:ext cx="3638520" cy="2533680"/>
            <a:chOff x="5505480" y="3703680"/>
            <a:chExt cx="3638520" cy="2533680"/>
          </a:xfrm>
        </p:grpSpPr>
        <p:sp>
          <p:nvSpPr>
            <p:cNvPr id="305" name=""/>
            <p:cNvSpPr/>
            <p:nvPr/>
          </p:nvSpPr>
          <p:spPr>
            <a:xfrm>
              <a:off x="7334280" y="5761080"/>
              <a:ext cx="0" cy="47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5505480" y="3703680"/>
              <a:ext cx="3638520" cy="2028600"/>
              <a:chOff x="5505480" y="3703680"/>
              <a:chExt cx="3638520" cy="2028600"/>
            </a:xfrm>
          </p:grpSpPr>
          <p:sp>
            <p:nvSpPr>
              <p:cNvPr id="307" name=""/>
              <p:cNvSpPr/>
              <p:nvPr/>
            </p:nvSpPr>
            <p:spPr>
              <a:xfrm>
                <a:off x="6523200" y="4179960"/>
                <a:ext cx="1535040" cy="582480"/>
              </a:xfrm>
              <a:prstGeom prst="flowChartDecision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exp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05480" y="4926240"/>
                <a:ext cx="1371600" cy="3988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statement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715520" y="4926240"/>
                <a:ext cx="1428480" cy="3988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statement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297920" y="3703680"/>
                <a:ext cx="0" cy="476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6170400" y="4479840"/>
                <a:ext cx="352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170760" y="4479840"/>
                <a:ext cx="0" cy="45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058240" y="4479840"/>
                <a:ext cx="38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445600" y="4479840"/>
                <a:ext cx="0" cy="45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170760" y="5344920"/>
                <a:ext cx="0" cy="387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421840" y="5344920"/>
                <a:ext cx="0" cy="387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170760" y="5732280"/>
                <a:ext cx="1127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7297920" y="5732280"/>
                <a:ext cx="1123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128640" y="4082040"/>
                <a:ext cx="52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非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051040" y="4082040"/>
                <a:ext cx="45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=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1" name=""/>
          <p:cNvSpPr/>
          <p:nvPr/>
        </p:nvSpPr>
        <p:spPr>
          <a:xfrm>
            <a:off x="380880" y="3740040"/>
            <a:ext cx="533412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形式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格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if (expression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statemen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statemen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执行过程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920" y="5997600"/>
            <a:ext cx="272124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例：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 (x&gt;y)   max=x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else         max=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281160"/>
            <a:ext cx="6095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e157"/>
                </a:solidFill>
                <a:latin typeface="隶书"/>
                <a:ea typeface="隶书"/>
              </a:rPr>
              <a:t>3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选择型程序设计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3" dur="1" fill="hold"/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638360" y="760320"/>
            <a:ext cx="3200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形式三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格式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15040" y="380160"/>
            <a:ext cx="3753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f ( expr1 )            statemen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lse if (expr2 )      statemen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lse if (expr3 )      statemen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[ else              statementn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0" y="2521080"/>
            <a:ext cx="5390640" cy="3657600"/>
            <a:chOff x="0" y="2521080"/>
            <a:chExt cx="5390640" cy="3657600"/>
          </a:xfrm>
        </p:grpSpPr>
        <p:sp>
          <p:nvSpPr>
            <p:cNvPr id="327" name=""/>
            <p:cNvSpPr/>
            <p:nvPr/>
          </p:nvSpPr>
          <p:spPr>
            <a:xfrm>
              <a:off x="75960" y="2978280"/>
              <a:ext cx="1534680" cy="58284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5191920"/>
              <a:ext cx="11998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atemnt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7680" y="2521080"/>
              <a:ext cx="0" cy="47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5800" y="351072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30800" y="2899800"/>
              <a:ext cx="45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8080" y="3588120"/>
              <a:ext cx="0" cy="160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47560" y="3588120"/>
              <a:ext cx="1534680" cy="58248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99840" y="32832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09680" y="3283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90560" y="4197600"/>
              <a:ext cx="1534680" cy="58248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440" y="389268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52680" y="38926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14440" y="4502520"/>
              <a:ext cx="685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00240" y="450252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90760" y="5191920"/>
              <a:ext cx="11998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atemnt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42840" y="5191920"/>
              <a:ext cx="11998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atemnt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371240" y="5191920"/>
              <a:ext cx="11998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atemnt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09680" y="4197600"/>
              <a:ext cx="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52680" y="480708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97400" y="419652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64080" y="473004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96200" y="3434760"/>
              <a:ext cx="45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15160" y="4044240"/>
              <a:ext cx="45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5569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81080" y="5569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52680" y="5569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00240" y="5569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5874120"/>
              <a:ext cx="4190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66880" y="58741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-1022400" y="2154240"/>
            <a:ext cx="39783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182880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执行过程：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19080" y="4654440"/>
            <a:ext cx="4929480" cy="192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例：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 (salary&gt;1000)            index=0.4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else if (salary&gt;800)       index=0.3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else if (salary&gt;600)       index=0.2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else if (salary&gt;400)       index=0.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else                                index=0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95320" y="6076800"/>
            <a:ext cx="11048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58560" y="143280"/>
            <a:ext cx="3198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选择型程序设计形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599840" y="1528920"/>
            <a:ext cx="52372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如：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(a==b&amp;&amp;x==y)    printf(“a=b,x=y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(3)    printf(“OK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(‘a’)   printf(“%d”,’a’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61800"/>
            <a:ext cx="80694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后面的表达式类型任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1182600"/>
            <a:ext cx="49086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可以是复合语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f(x)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if(x!=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f(!x)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if(x==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18560" y="2311560"/>
            <a:ext cx="3804840" cy="411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例 考虑下面程序的输出结果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#include &lt;stdio.h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{   int x,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canf(“%d,%d”,&amp;x,&amp;y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(x&gt;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x=y;   y=x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x++; y++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“%d,%d\n”,x,y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>
            <a:hlinkClick r:id="rId1"/>
          </p:cNvPr>
          <p:cNvSpPr/>
          <p:nvPr/>
        </p:nvSpPr>
        <p:spPr>
          <a:xfrm>
            <a:off x="368280" y="5925960"/>
            <a:ext cx="533520" cy="685800"/>
          </a:xfrm>
          <a:custGeom>
            <a:avLst/>
            <a:gdLst>
              <a:gd name="textAreaLeft" fmla="*/ 104760 w 533520"/>
              <a:gd name="textAreaRight" fmla="*/ 428760 w 533520"/>
              <a:gd name="textAreaTop" fmla="*/ 104760 h 685800"/>
              <a:gd name="textAreaBottom" fmla="*/ 5810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7357" y="4243"/>
                </a:lnTo>
                <a:lnTo>
                  <a:pt x="4243" y="4243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7357" y="23518"/>
                </a:lnTo>
                <a:lnTo>
                  <a:pt x="17357" y="4243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4243" y="23518"/>
                </a:lnTo>
                <a:lnTo>
                  <a:pt x="17357" y="23518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4243" y="4243"/>
                </a:lnTo>
                <a:lnTo>
                  <a:pt x="4243" y="23518"/>
                </a:lnTo>
                <a:close/>
              </a:path>
              <a:path fill="darkenLess" w="21600" h="27761">
                <a:moveTo>
                  <a:pt x="6945" y="9127"/>
                </a:moveTo>
                <a:lnTo>
                  <a:pt x="11826" y="9127"/>
                </a:lnTo>
                <a:lnTo>
                  <a:pt x="14655" y="11567"/>
                </a:lnTo>
                <a:lnTo>
                  <a:pt x="14655" y="18634"/>
                </a:lnTo>
                <a:lnTo>
                  <a:pt x="6945" y="18634"/>
                </a:lnTo>
                <a:close/>
              </a:path>
              <a:path fill="darken" w="21600" h="27761">
                <a:moveTo>
                  <a:pt x="11826" y="9127"/>
                </a:moveTo>
                <a:lnTo>
                  <a:pt x="14655" y="11567"/>
                </a:lnTo>
                <a:lnTo>
                  <a:pt x="11826" y="1156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62880" y="4194000"/>
            <a:ext cx="4083120" cy="987840"/>
          </a:xfrm>
          <a:prstGeom prst="irregularSeal2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44"/>
                </a:solidFill>
                <a:latin typeface="Times New Roman"/>
              </a:rPr>
              <a:t>Compile Erro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66920" y="4667400"/>
            <a:ext cx="1770120" cy="971280"/>
            <a:chOff x="2266920" y="4667400"/>
            <a:chExt cx="1770120" cy="971280"/>
          </a:xfrm>
        </p:grpSpPr>
        <p:sp>
          <p:nvSpPr>
            <p:cNvPr id="367" name=""/>
            <p:cNvSpPr/>
            <p:nvPr/>
          </p:nvSpPr>
          <p:spPr>
            <a:xfrm>
              <a:off x="2266920" y="5295960"/>
              <a:ext cx="74520" cy="3236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8280 h 323640"/>
                <a:gd name="textAreaBottom" fmla="*/ 31536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05080" y="4667400"/>
              <a:ext cx="74520" cy="3236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8280 h 323640"/>
                <a:gd name="textAreaBottom" fmla="*/ 31536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62520" y="4667400"/>
              <a:ext cx="74520" cy="323640"/>
            </a:xfrm>
            <a:custGeom>
              <a:avLst/>
              <a:gdLst>
                <a:gd name="textAreaLeft" fmla="*/ 0 w 74520"/>
                <a:gd name="textAreaRight" fmla="*/ 27000 w 74520"/>
                <a:gd name="textAreaTop" fmla="*/ 8280 h 323640"/>
                <a:gd name="textAreaBottom" fmla="*/ 31536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67120" y="5315040"/>
              <a:ext cx="74520" cy="323640"/>
            </a:xfrm>
            <a:custGeom>
              <a:avLst/>
              <a:gdLst>
                <a:gd name="textAreaLeft" fmla="*/ 0 w 74520"/>
                <a:gd name="textAreaRight" fmla="*/ 27000 w 74520"/>
                <a:gd name="textAreaTop" fmla="*/ 8280 h 323640"/>
                <a:gd name="textAreaBottom" fmla="*/ 31536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10040"/>
            <a:ext cx="21002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说明：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4:59:39Z</dcterms:created>
  <dc:creator>hyg</dc:creator>
  <dc:description/>
  <dc:language>en-US</dc:language>
  <cp:lastModifiedBy>YlmF</cp:lastModifiedBy>
  <dcterms:modified xsi:type="dcterms:W3CDTF">2009-10-24T10:22:28Z</dcterms:modified>
  <cp:revision>662</cp:revision>
  <dc:subject/>
  <dc:title>第四章  C程序流程设计</dc:title>
</cp:coreProperties>
</file>