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CAMERA.WAV" ContentType="audio/x-wav"/>
  <Override PartName="/ppt/media/WHOOSH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72E5C-0958-4CBF-BA4F-B9B3B326C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说明：输入时，要将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CI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码转换成二进制；输出时，要将二进制转换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CI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3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第一个参数可以是：字符串常量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数组名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指针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隶书"/>
                <a:ea typeface="隶书"/>
              </a:rPr>
              <a:t>因为</a:t>
            </a:r>
            <a:r>
              <a:rPr b="0" lang="en-US" sz="1200" spc="-1" strike="noStrike">
                <a:solidFill>
                  <a:srgbClr val="000000"/>
                </a:solidFill>
                <a:latin typeface="隶书"/>
                <a:ea typeface="隶书"/>
              </a:rPr>
              <a:t>fclose</a:t>
            </a:r>
            <a:r>
              <a:rPr b="0" lang="en-US" sz="1200" spc="-1" strike="noStrike">
                <a:solidFill>
                  <a:srgbClr val="000000"/>
                </a:solidFill>
                <a:latin typeface="隶书"/>
                <a:ea typeface="隶书"/>
              </a:rPr>
              <a:t>先把缓冲区数据输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隶书"/>
                <a:ea typeface="隶书"/>
              </a:rPr>
              <a:t>到磁盘文件，然后才释放文件指针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若文件在当前目录下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p=fopen("aa.txt","r"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若文件不在当前目录下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p=fopen("d:\\fengyi\\bkc\\aa.txt","r"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若从键盘输入带路径文件名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 infile[30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f("%s",infil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p=fopen(infile,"r"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必须输入：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:\fengyi\bkc\aa.t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148A-C159-4B40-93A8-A72717309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D9CE-1793-45FD-89FE-6657D192A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7C6A-C0BE-46D3-A0D2-79E3F8EA1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FDBE-F3B5-41CD-8489-2D8375647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CE1BD-88C2-4F18-883A-2D60D9F56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C2596-8443-4C6D-984A-626792518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BD222-FF95-4E9D-BD22-3116DD239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8153F-8CA1-4258-B382-D659FB28B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5672C-137B-42DE-8A21-EC298FF6E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7A765-1986-461F-8AFE-03C6FBD2B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A169B-2AF0-4F1C-B2AC-66E859F1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3707-D4F9-48AE-98B8-F82ED8475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514F3-5BD4-4803-8A7A-F2E1F28E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810CF-18A3-4ACC-B616-D1550B13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E5E16-41CD-4B4E-9C42-B014B0EC7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1D118-16BE-40F2-AA03-217A852E0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B81ED-FD12-4110-BCB1-0B2659A61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CCF8-B583-49CB-B44F-38F5C7663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1529-5428-4ABC-9486-817F00E10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085F-4554-4644-9D7F-AA27A7C87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C698-641B-4D21-8F24-686502380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56E4-EFAF-4DBE-A679-BD32EE82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D0A0-D2BE-4DCB-A51C-5E5D884F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3A32-6240-44FB-96AC-610FF683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8BF5B-D868-46AB-91A7-4876AB3409E9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"/>
          <p:cNvSpPr/>
          <p:nvPr/>
        </p:nvSpPr>
        <p:spPr>
          <a:xfrm>
            <a:off x="8229600" y="64087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6AA94-AAD4-48F4-8EA7-9A89E780C5BC}" type="slidenum"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1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100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CB961-9B52-4C5C-AB1F-6A8D47F802D5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D:\TC\TC.EXE" TargetMode="External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D:\TC\TC.EXE" TargetMode="External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CAMERA.WAV"/><Relationship Id="rId1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9600" y="4370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Arial Black"/>
              </a:rPr>
              <a:t>C</a:t>
            </a:r>
            <a:r>
              <a:rPr b="0" lang="en-US" sz="4000" spc="-1" strike="noStrike">
                <a:solidFill>
                  <a:srgbClr val="4d4d4d"/>
                </a:solidFill>
                <a:latin typeface="Arial Black"/>
              </a:rPr>
              <a:t>文件概述</a:t>
            </a:r>
            <a:endParaRPr b="0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-360" y="1308240"/>
            <a:ext cx="858348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文件：存储在外部介质上数据的集合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是操作系统数据管理的单位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36520" y="2286000"/>
            <a:ext cx="858348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文件分类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按文件的逻辑结构：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记录文件：由具有一定结构的记录组成（定长和不定长）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流式文件：由一个个字符（字节）数据顺序组成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按存储介质：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普通文件：存储介质文件（磁盘、磁带等）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宋体"/>
              </a:rPr>
              <a:t>设备文件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：非存储介质（键盘、显示器、打印机等）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按数据的组织形式：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  <a:ea typeface="宋体"/>
              </a:rPr>
              <a:t>文本文件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：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ASCII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文件，每个字节存放一个字符的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ASCII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码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  <a:ea typeface="宋体"/>
              </a:rPr>
              <a:t>二进制文件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：数据按其在内存中的存储形式原样存放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279000" y="324000"/>
            <a:ext cx="858348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函数原型：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3840" y="132084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int  fread(char *pt,unsigned  size, unsigned n,FILE   *fp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int  fwrite(char *pt,unsigned  size, unsigned n,FILE   *fp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2120" y="2298600"/>
            <a:ext cx="8655120" cy="36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功能：读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/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写数据块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返值：成功，返回读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/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写的块数；出错或文件尾，返回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说明：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pt: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指向要输入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/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输出数据块的首地址的指针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size: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每个要读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/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写的数据块的大小（字节数）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n: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要读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/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写的数据块的个数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fp: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要读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/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写的文件指针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fread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与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fwrite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一般用于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二进制文件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的输入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/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输出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title"/>
          </p:nvPr>
        </p:nvSpPr>
        <p:spPr>
          <a:xfrm>
            <a:off x="611280" y="318600"/>
            <a:ext cx="6186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 Black"/>
              </a:rPr>
              <a:t>数据块</a:t>
            </a:r>
            <a:r>
              <a:rPr b="0" lang="en-US" sz="3600" spc="-1" strike="noStrike">
                <a:solidFill>
                  <a:srgbClr val="4d4d4d"/>
                </a:solidFill>
                <a:latin typeface="Arial Black"/>
              </a:rPr>
              <a:t>I/O: fread</a:t>
            </a:r>
            <a:r>
              <a:rPr b="0" lang="en-US" sz="3600" spc="-1" strike="noStrike">
                <a:solidFill>
                  <a:srgbClr val="4d4d4d"/>
                </a:solidFill>
                <a:latin typeface="Arial Black"/>
              </a:rPr>
              <a:t>与</a:t>
            </a:r>
            <a:r>
              <a:rPr b="0" lang="en-US" sz="3600" spc="-1" strike="noStrike">
                <a:solidFill>
                  <a:srgbClr val="4d4d4d"/>
                </a:solidFill>
                <a:latin typeface="Arial Black"/>
              </a:rPr>
              <a:t>fwrite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280160" y="716760"/>
            <a:ext cx="3643200" cy="15570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例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loat  f[2]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ILE  *fp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p=fopen(“aa.dat”,“rb”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read(f,4,2,fp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285160" y="1353960"/>
            <a:ext cx="2820240" cy="82548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or(i=0;i&lt;2;i++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read(&amp;f[i],4,1,fp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85200" y="2572560"/>
            <a:ext cx="6180840" cy="33858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例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truct  studen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{    int num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har  name[20]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har sex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t age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loat  score[3]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}stud[10]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or(i=0;i&lt;10;i++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read(&amp;stud[i],sizeof(struct  student),1,fp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368280"/>
            <a:ext cx="1595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例子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09600" y="320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">
            <a:hlinkClick r:id="rId1"/>
          </p:cNvPr>
          <p:cNvSpPr/>
          <p:nvPr/>
        </p:nvSpPr>
        <p:spPr>
          <a:xfrm>
            <a:off x="358920" y="5931000"/>
            <a:ext cx="533160" cy="685800"/>
          </a:xfrm>
          <a:custGeom>
            <a:avLst/>
            <a:gdLst>
              <a:gd name="textAreaLeft" fmla="*/ 69840 w 533160"/>
              <a:gd name="textAreaRight" fmla="*/ 463320 w 533160"/>
              <a:gd name="textAreaTop" fmla="*/ 69840 h 685800"/>
              <a:gd name="textAreaBottom" fmla="*/ 615960 h 685800"/>
            </a:gdLst>
            <a:ahLst/>
            <a:rect l="textAreaLeft" t="textAreaTop" r="textAreaRight" b="textAreaBottom"/>
            <a:pathLst>
              <a:path w="21600" h="27780">
                <a:moveTo>
                  <a:pt x="0" y="0"/>
                </a:moveTo>
                <a:lnTo>
                  <a:pt x="21600" y="0"/>
                </a:lnTo>
                <a:lnTo>
                  <a:pt x="21600" y="27780"/>
                </a:lnTo>
                <a:lnTo>
                  <a:pt x="0" y="27780"/>
                </a:lnTo>
                <a:close/>
              </a:path>
              <a:path fill="lightenLess" w="21600" h="27780">
                <a:moveTo>
                  <a:pt x="0" y="0"/>
                </a:moveTo>
                <a:lnTo>
                  <a:pt x="21600" y="0"/>
                </a:lnTo>
                <a:lnTo>
                  <a:pt x="18771" y="2829"/>
                </a:lnTo>
                <a:lnTo>
                  <a:pt x="2829" y="2829"/>
                </a:lnTo>
                <a:close/>
              </a:path>
              <a:path fill="darken" w="21600" h="27780">
                <a:moveTo>
                  <a:pt x="21600" y="0"/>
                </a:moveTo>
                <a:lnTo>
                  <a:pt x="21600" y="27780"/>
                </a:lnTo>
                <a:lnTo>
                  <a:pt x="18771" y="24951"/>
                </a:lnTo>
                <a:lnTo>
                  <a:pt x="18771" y="2829"/>
                </a:lnTo>
                <a:close/>
              </a:path>
              <a:path fill="darkenLess" w="21600" h="27780">
                <a:moveTo>
                  <a:pt x="21600" y="27780"/>
                </a:moveTo>
                <a:lnTo>
                  <a:pt x="0" y="27780"/>
                </a:lnTo>
                <a:lnTo>
                  <a:pt x="2829" y="24951"/>
                </a:lnTo>
                <a:lnTo>
                  <a:pt x="18771" y="24951"/>
                </a:lnTo>
                <a:close/>
              </a:path>
              <a:path fill="lighten" w="21600" h="27780">
                <a:moveTo>
                  <a:pt x="0" y="27780"/>
                </a:moveTo>
                <a:lnTo>
                  <a:pt x="0" y="0"/>
                </a:lnTo>
                <a:lnTo>
                  <a:pt x="2829" y="2829"/>
                </a:lnTo>
                <a:lnTo>
                  <a:pt x="2829" y="24951"/>
                </a:lnTo>
                <a:close/>
              </a:path>
              <a:path fill="darkenLess" w="21600" h="27780">
                <a:moveTo>
                  <a:pt x="6113" y="8111"/>
                </a:moveTo>
                <a:lnTo>
                  <a:pt x="12047" y="8111"/>
                </a:lnTo>
                <a:lnTo>
                  <a:pt x="15487" y="11078"/>
                </a:lnTo>
                <a:lnTo>
                  <a:pt x="15487" y="19669"/>
                </a:lnTo>
                <a:lnTo>
                  <a:pt x="6113" y="19669"/>
                </a:lnTo>
                <a:close/>
              </a:path>
              <a:path fill="darken" w="21600" h="27780">
                <a:moveTo>
                  <a:pt x="12047" y="8111"/>
                </a:moveTo>
                <a:lnTo>
                  <a:pt x="15487" y="11078"/>
                </a:lnTo>
                <a:lnTo>
                  <a:pt x="12047" y="11078"/>
                </a:lnTo>
                <a:close/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58840" y="907560"/>
            <a:ext cx="6083280" cy="5277600"/>
          </a:xfrm>
          <a:prstGeom prst="rect">
            <a:avLst/>
          </a:prstGeom>
          <a:solidFill>
            <a:srgbClr val="ccecff"/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#include &lt;stdio.h&gt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#define SIZE 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struct student_typ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{    char name[10]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int num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int age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char addr[15]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}stud[SIZE]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main(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int i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for(i=0;i&lt;SIZE;i++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scanf("%s%d%d%s",stud[i].name,&amp;stud[i].num,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&amp;stud[i].age,stud[i].addr)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save()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isplay()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820600" y="842760"/>
            <a:ext cx="6327000" cy="3753000"/>
          </a:xfrm>
          <a:prstGeom prst="rect">
            <a:avLst/>
          </a:prstGeom>
          <a:solidFill>
            <a:srgbClr val="ccecff"/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void save(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{   FILE *fp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int  i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if((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fp=fopen("d:\\fengyi\\exe\\stu_dat","wb"))==NULL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{    printf("cannot open file\n")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return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for(i=0;i&lt;SIZE;i++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if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fwrite(&amp;stud[i],sizeof(struct student_type),1,fp)!=1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printf("file write error\n")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fclose(fp)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17160" y="887040"/>
            <a:ext cx="6125760" cy="4362840"/>
          </a:xfrm>
          <a:prstGeom prst="rect">
            <a:avLst/>
          </a:prstGeom>
          <a:solidFill>
            <a:srgbClr val="ccecff"/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void display(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{   FILE *fp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int  i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if((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fp=fopen("d:\\fengyi\\exe\\stu_dat","rb"))==NULL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{    printf("cannot open file\n")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return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for(i=0;i&lt;SIZE;i++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{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fread(&amp;stud[i],sizeof(struct student_type),1,fp)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printf("%-10s %4d %4d %-15s\n",stud[i].name,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        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stud[i].num,stud[i].age,stud[i].addr)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fclose(fp)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32220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例  从键盘输入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个学生数据，把他们转存到磁盘文件中去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2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314280" y="288720"/>
            <a:ext cx="7772400" cy="9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700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格式化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/O:fprintf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与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scanf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函数原型：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224720" y="1157400"/>
            <a:ext cx="710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int  fprintf(FILE  *fp,const char  *format[,argument,…]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int  fscanf(FILE  *fp,const char  *format[,address,…]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74680" y="2087640"/>
            <a:ext cx="865188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功能：按格式对文件进行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I/O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操作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返值：成功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,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返回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I/O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的个数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;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出错或文件尾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,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返回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EOF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63760" y="3139920"/>
            <a:ext cx="7943400" cy="825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例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printf(fp,“%d,%6.2f”,i,t);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将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和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按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%d,%6.2f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格式输出到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fp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文件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scanf(fp,“%d,%f”,&amp;i,&amp;t); 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//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若文件中有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3,4.5  ,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则将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送入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i, 4.5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送入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">
            <a:hlinkClick r:id="rId1"/>
          </p:cNvPr>
          <p:cNvSpPr/>
          <p:nvPr/>
        </p:nvSpPr>
        <p:spPr>
          <a:xfrm>
            <a:off x="281160" y="5961240"/>
            <a:ext cx="533160" cy="685800"/>
          </a:xfrm>
          <a:custGeom>
            <a:avLst/>
            <a:gdLst>
              <a:gd name="textAreaLeft" fmla="*/ 69840 w 533160"/>
              <a:gd name="textAreaRight" fmla="*/ 463320 w 533160"/>
              <a:gd name="textAreaTop" fmla="*/ 69840 h 685800"/>
              <a:gd name="textAreaBottom" fmla="*/ 615960 h 685800"/>
            </a:gdLst>
            <a:ahLst/>
            <a:rect l="textAreaLeft" t="textAreaTop" r="textAreaRight" b="textAreaBottom"/>
            <a:pathLst>
              <a:path w="21600" h="27780">
                <a:moveTo>
                  <a:pt x="0" y="0"/>
                </a:moveTo>
                <a:lnTo>
                  <a:pt x="21600" y="0"/>
                </a:lnTo>
                <a:lnTo>
                  <a:pt x="21600" y="27780"/>
                </a:lnTo>
                <a:lnTo>
                  <a:pt x="0" y="27780"/>
                </a:lnTo>
                <a:close/>
              </a:path>
              <a:path fill="lightenLess" w="21600" h="27780">
                <a:moveTo>
                  <a:pt x="0" y="0"/>
                </a:moveTo>
                <a:lnTo>
                  <a:pt x="21600" y="0"/>
                </a:lnTo>
                <a:lnTo>
                  <a:pt x="18771" y="2829"/>
                </a:lnTo>
                <a:lnTo>
                  <a:pt x="2829" y="2829"/>
                </a:lnTo>
                <a:close/>
              </a:path>
              <a:path fill="darken" w="21600" h="27780">
                <a:moveTo>
                  <a:pt x="21600" y="0"/>
                </a:moveTo>
                <a:lnTo>
                  <a:pt x="21600" y="27780"/>
                </a:lnTo>
                <a:lnTo>
                  <a:pt x="18771" y="24951"/>
                </a:lnTo>
                <a:lnTo>
                  <a:pt x="18771" y="2829"/>
                </a:lnTo>
                <a:close/>
              </a:path>
              <a:path fill="darkenLess" w="21600" h="27780">
                <a:moveTo>
                  <a:pt x="21600" y="27780"/>
                </a:moveTo>
                <a:lnTo>
                  <a:pt x="0" y="27780"/>
                </a:lnTo>
                <a:lnTo>
                  <a:pt x="2829" y="24951"/>
                </a:lnTo>
                <a:lnTo>
                  <a:pt x="18771" y="24951"/>
                </a:lnTo>
                <a:close/>
              </a:path>
              <a:path fill="lighten" w="21600" h="27780">
                <a:moveTo>
                  <a:pt x="0" y="27780"/>
                </a:moveTo>
                <a:lnTo>
                  <a:pt x="0" y="0"/>
                </a:lnTo>
                <a:lnTo>
                  <a:pt x="2829" y="2829"/>
                </a:lnTo>
                <a:lnTo>
                  <a:pt x="2829" y="24951"/>
                </a:lnTo>
                <a:close/>
              </a:path>
              <a:path fill="darkenLess" w="21600" h="27780">
                <a:moveTo>
                  <a:pt x="6113" y="8111"/>
                </a:moveTo>
                <a:lnTo>
                  <a:pt x="12047" y="8111"/>
                </a:lnTo>
                <a:lnTo>
                  <a:pt x="15487" y="11078"/>
                </a:lnTo>
                <a:lnTo>
                  <a:pt x="15487" y="19669"/>
                </a:lnTo>
                <a:lnTo>
                  <a:pt x="6113" y="19669"/>
                </a:lnTo>
                <a:close/>
              </a:path>
              <a:path fill="darken" w="21600" h="27780">
                <a:moveTo>
                  <a:pt x="12047" y="8111"/>
                </a:moveTo>
                <a:lnTo>
                  <a:pt x="15487" y="11078"/>
                </a:lnTo>
                <a:lnTo>
                  <a:pt x="12047" y="11078"/>
                </a:lnTo>
                <a:close/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18840" y="4135320"/>
            <a:ext cx="381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例  从键盘按格式输入数据存到磁盘文件中去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477160" y="743040"/>
            <a:ext cx="6657840" cy="5946120"/>
          </a:xfrm>
          <a:prstGeom prst="rect">
            <a:avLst/>
          </a:prstGeom>
          <a:solidFill>
            <a:srgbClr val="cc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#include &lt;stdio.h&gt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{ char s[80],c[80]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t a,b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ILE *fp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f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((fp=fopen("test","w"))==NULL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{   puts("can't open file");   exit() ;   }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scanf(stdin,"%s%d",s,&amp;a)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;/*read from keaboard*/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printf(fp,"%s  %d",s,a)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;/*write to file*/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close(fp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f((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p=fopen("test","r"))==NULL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{   puts("can't open file"); exit();   }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scanf(fp,"%s%d",c,&amp;b);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/*read from file*/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printf(stdout,"%s %d",c,b);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/*print to screen*/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close(fp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0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0" y="785880"/>
            <a:ext cx="89550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函数原型：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104640" y="815760"/>
            <a:ext cx="540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char  *fgets(char  *s,int n,FILE  *fp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int   fputs(char  *s,FILE  *fp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-38160" y="1709640"/>
            <a:ext cx="89550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功能：从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fp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指向的文件读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/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写一个字符串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返值：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fgets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正常时返回读取字符串的首地址；出错或文件尾，返回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NUL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fputs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正常时返回写入的最后一个字符；出错为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EOF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812960" y="3668760"/>
            <a:ext cx="44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例   从键盘读入字符串存入文件，再从文件读回显示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75320" y="2415600"/>
            <a:ext cx="6069240" cy="1191600"/>
          </a:xfrm>
          <a:prstGeom prst="wedgeRectCallout">
            <a:avLst>
              <a:gd name="adj1" fmla="val -13203"/>
              <a:gd name="adj2" fmla="val -145314"/>
            </a:avLst>
          </a:prstGeom>
          <a:solidFill>
            <a:srgbClr val="9cc2e8"/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fgets</a:t>
            </a: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从</a:t>
            </a: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fp</a:t>
            </a: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所指文件读</a:t>
            </a: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n-1</a:t>
            </a: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个字符送入</a:t>
            </a: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s</a:t>
            </a: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指向的内存区</a:t>
            </a: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,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并在最后加一个‘</a:t>
            </a: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\0’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(</a:t>
            </a: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若读入</a:t>
            </a: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n-1</a:t>
            </a: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个字符前遇换行符或文件尾（</a:t>
            </a: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EOF</a:t>
            </a: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）即结束</a:t>
            </a: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866320" y="2274840"/>
            <a:ext cx="4569840" cy="460080"/>
          </a:xfrm>
          <a:prstGeom prst="wedgeRectCallout">
            <a:avLst>
              <a:gd name="adj1" fmla="val -16027"/>
              <a:gd name="adj2" fmla="val -186199"/>
            </a:avLst>
          </a:prstGeom>
          <a:solidFill>
            <a:srgbClr val="9cc2e8"/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fputs</a:t>
            </a: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把</a:t>
            </a: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s</a:t>
            </a: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指向的字符串写入</a:t>
            </a: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fp</a:t>
            </a: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指向的文件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352760" y="158760"/>
            <a:ext cx="5166000" cy="6311880"/>
          </a:xfrm>
          <a:prstGeom prst="rect">
            <a:avLst/>
          </a:prstGeom>
          <a:solidFill>
            <a:srgbClr val="9cc2e8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#include&lt;stdio.h&gt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{   FILE  *fp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har  string[81]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f((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p=fopen("file.txt","w"))==NULL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{   printf("cann't open file");exit(0); }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while(strlen(gets(string))&gt;0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{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puts(string,fp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puts("\n",fp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close(fp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f((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p=fopen("file.txt","r"))==NULL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{   printf("cann't open file");exit(0); }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while(fgets(string,81,fp)!=NULL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puts(string,stdout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close(fp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56680" y="393480"/>
            <a:ext cx="426420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字符串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/O: fgets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与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puts</a:t>
            </a:r>
            <a:br>
              <a:rPr sz="2400"/>
            </a:b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2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7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2" dur="5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7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2" dur="5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7" dur="5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2" dur="5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8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279360" y="269640"/>
            <a:ext cx="8618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几个概念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文件位置指针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-----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指向当前读写位置的指针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读写方式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顺序读写：位置指针按字节位置顺序移动，叫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~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随机读写：位置指针按需要移动到任意位置，叫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~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wind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函数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函数原型： 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void  rewind(FILE  *fp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功能：重置文件位置指针到文件开头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返值：无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918800" y="4751280"/>
            <a:ext cx="381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例  对一个磁盘文件进行显示和复制两次操作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848680" y="1009800"/>
            <a:ext cx="6077160" cy="4117320"/>
          </a:xfrm>
          <a:prstGeom prst="rect">
            <a:avLst/>
          </a:prstGeom>
          <a:solidFill>
            <a:srgbClr val="9cc2e8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#include &lt;stdio.h&gt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{   FILE *fp1,*fp2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p1=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open("d:\\fengyi\\bkc\\ch12_4.c","r"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p2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=fopen("d:\\fengyi\\bkc\\ch12_41.c","w"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whi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!feof(fp1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))  putchar(getc(fp1)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wind(fp1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while(!feof(fp1))  </a:t>
            </a:r>
            <a:r>
              <a:rPr b="0" lang="en-US" sz="2400" spc="-1" strike="noStrike">
                <a:solidFill>
                  <a:srgbClr val="669900"/>
                </a:solidFill>
                <a:latin typeface="Times New Roman"/>
              </a:rPr>
              <a:t>putc(getc(fp1),fp2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close(fp1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close(fp2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title"/>
          </p:nvPr>
        </p:nvSpPr>
        <p:spPr>
          <a:xfrm>
            <a:off x="461520" y="405000"/>
            <a:ext cx="3498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文件的定位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0" y="324000"/>
            <a:ext cx="875808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函数原型： 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int  fseek(FILE  *fp,long  offset,int whence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功能：改变文件位置指针的位置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返值：成功，返回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；失败，返回非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值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391920" y="2198880"/>
            <a:ext cx="912600" cy="460080"/>
          </a:xfrm>
          <a:prstGeom prst="wedgeRectCallout">
            <a:avLst>
              <a:gd name="adj1" fmla="val 102087"/>
              <a:gd name="adj2" fmla="val -277754"/>
            </a:avLst>
          </a:prstGeom>
          <a:solidFill>
            <a:srgbClr val="9cc2e8"/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文件指针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731960" y="2285280"/>
            <a:ext cx="5757840" cy="1191600"/>
          </a:xfrm>
          <a:prstGeom prst="wedgeRectCallout">
            <a:avLst>
              <a:gd name="adj1" fmla="val 21430"/>
              <a:gd name="adj2" fmla="val -138189"/>
            </a:avLst>
          </a:prstGeom>
          <a:solidFill>
            <a:srgbClr val="9cc2e8"/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位移量（以起始点为基点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,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移动的字节数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&gt;0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向后移动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&lt;0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向前移动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37440" y="2175480"/>
            <a:ext cx="4089960" cy="1557360"/>
          </a:xfrm>
          <a:prstGeom prst="wedgeRectCallout">
            <a:avLst>
              <a:gd name="adj1" fmla="val 24666"/>
              <a:gd name="adj2" fmla="val -97050"/>
            </a:avLst>
          </a:prstGeom>
          <a:solidFill>
            <a:srgbClr val="9cc2e8"/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起始点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文件开始</a:t>
            </a: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SEEK_SET    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文件当前位置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</a:t>
            </a: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SEEK_CUR    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文件末尾</a:t>
            </a: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SEEK_END    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31280" y="2306160"/>
            <a:ext cx="2952720" cy="119124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例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seek(fp,100L,0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seek(fp,50L,1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seek(fp,-10L,2);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2286000"/>
            <a:ext cx="8618400" cy="24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ftell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函数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函数原型：  </a:t>
            </a:r>
            <a:r>
              <a:rPr b="0" lang="en-US" sz="2400" spc="-1" strike="noStrike">
                <a:solidFill>
                  <a:srgbClr val="4d4d4d"/>
                </a:solidFill>
                <a:latin typeface="Times New Roman"/>
                <a:ea typeface="宋体"/>
              </a:rPr>
              <a:t>long  ftell(FILE  *fp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功能：返回位置指针当前位置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(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用相对文件开头的位移量表示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返值：成功，返回当前位置指针位置；失败，返回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-1L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，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789920" y="4613400"/>
            <a:ext cx="59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例  磁盘文件上有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个学生数据，要求读入第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学生数据并显示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2031120" y="14040"/>
            <a:ext cx="7104240" cy="6858720"/>
            <a:chOff x="2031120" y="14040"/>
            <a:chExt cx="7104240" cy="6858720"/>
          </a:xfrm>
        </p:grpSpPr>
        <p:sp>
          <p:nvSpPr>
            <p:cNvPr id="304" name=""/>
            <p:cNvSpPr/>
            <p:nvPr/>
          </p:nvSpPr>
          <p:spPr>
            <a:xfrm>
              <a:off x="2031120" y="14040"/>
              <a:ext cx="7104240" cy="4848840"/>
            </a:xfrm>
            <a:prstGeom prst="rect">
              <a:avLst/>
            </a:prstGeom>
            <a:solidFill>
              <a:srgbClr val="9cc2e8"/>
            </a:solidFill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main()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{   int i;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FILE *fp;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if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((fp=fopen("studat","rb"))==NULL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{   printf("can't open file\n");exit(0);   }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for(i=0;i&lt;3;i+=2)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{  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seek(fp,i*sizeof(struct student_type),0);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        </a:t>
              </a:r>
              <a:r>
                <a:rPr b="0" lang="en-US" sz="2400" spc="-1" strike="noStrike">
                  <a:solidFill>
                    <a:srgbClr val="990033"/>
                  </a:solidFill>
                  <a:latin typeface="Times New Roman"/>
                </a:rPr>
                <a:t>fread(&amp;stud[i],sizeof(struct student_type),1,fp);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       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printf("%s  %d  %d  %s\n",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         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stud[i].name,stud[i].num,stud[i].age,stud[i].addr);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fclose(fp);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631560" y="3852720"/>
              <a:ext cx="2497320" cy="3020040"/>
            </a:xfrm>
            <a:prstGeom prst="rect">
              <a:avLst/>
            </a:prstGeom>
            <a:solidFill>
              <a:srgbClr val="9cc2e8"/>
            </a:solidFill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#include &lt;stdio.h&gt;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33"/>
                  </a:solidFill>
                  <a:latin typeface="Times New Roman"/>
                </a:rPr>
                <a:t>struct student_type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33"/>
                  </a:solidFill>
                  <a:latin typeface="Times New Roman"/>
                </a:rPr>
                <a:t>{    int num;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33"/>
                  </a:solidFill>
                  <a:latin typeface="Times New Roman"/>
                </a:rPr>
                <a:t>     </a:t>
              </a:r>
              <a:r>
                <a:rPr b="0" lang="en-US" sz="2400" spc="-1" strike="noStrike">
                  <a:solidFill>
                    <a:srgbClr val="990033"/>
                  </a:solidFill>
                  <a:latin typeface="Times New Roman"/>
                </a:rPr>
                <a:t>char name[10];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33"/>
                  </a:solidFill>
                  <a:latin typeface="Times New Roman"/>
                </a:rPr>
                <a:t>     </a:t>
              </a:r>
              <a:r>
                <a:rPr b="0" lang="en-US" sz="2400" spc="-1" strike="noStrike">
                  <a:solidFill>
                    <a:srgbClr val="990033"/>
                  </a:solidFill>
                  <a:latin typeface="Times New Roman"/>
                </a:rPr>
                <a:t>int age;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33"/>
                  </a:solidFill>
                  <a:latin typeface="Times New Roman"/>
                </a:rPr>
                <a:t>     </a:t>
              </a:r>
              <a:r>
                <a:rPr b="0" lang="en-US" sz="2400" spc="-1" strike="noStrike">
                  <a:solidFill>
                    <a:srgbClr val="990033"/>
                  </a:solidFill>
                  <a:latin typeface="Times New Roman"/>
                </a:rPr>
                <a:t>char addr[15];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33"/>
                  </a:solidFill>
                  <a:latin typeface="Times New Roman"/>
                </a:rPr>
                <a:t>}stud[3];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2817000" y="12960"/>
            <a:ext cx="6318000" cy="5946120"/>
          </a:xfrm>
          <a:prstGeom prst="rect">
            <a:avLst/>
          </a:prstGeom>
          <a:solidFill>
            <a:srgbClr val="9cc2e8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#include"stdio.h"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{ FILE *fp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har filename[80]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long length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gets(filename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p=fopen(filename,"rb"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f(fp==NULL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intf("file not found!\n"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{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seek(fp,0L,SEEK_END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length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tell(fp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intf("Length of File is %1d bytes\n",length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close(fp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52040" y="5394240"/>
            <a:ext cx="312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例  求文件长度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(ch12_101.c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-360" y="321480"/>
            <a:ext cx="2639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fseek</a:t>
            </a: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函数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0" y="1899000"/>
            <a:ext cx="8896320" cy="2555280"/>
            <a:chOff x="0" y="1899000"/>
            <a:chExt cx="8896320" cy="2555280"/>
          </a:xfrm>
        </p:grpSpPr>
        <p:sp>
          <p:nvSpPr>
            <p:cNvPr id="152" name=""/>
            <p:cNvSpPr/>
            <p:nvPr/>
          </p:nvSpPr>
          <p:spPr>
            <a:xfrm>
              <a:off x="1172520" y="1899000"/>
              <a:ext cx="192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如   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int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型数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1000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0" y="1923840"/>
              <a:ext cx="8896320" cy="2530440"/>
              <a:chOff x="0" y="1923840"/>
              <a:chExt cx="8896320" cy="2530440"/>
            </a:xfrm>
          </p:grpSpPr>
          <p:grpSp>
            <p:nvGrpSpPr>
              <p:cNvPr id="154" name=""/>
              <p:cNvGrpSpPr/>
              <p:nvPr/>
            </p:nvGrpSpPr>
            <p:grpSpPr>
              <a:xfrm>
                <a:off x="0" y="2820600"/>
                <a:ext cx="2944800" cy="1146240"/>
                <a:chOff x="0" y="2820600"/>
                <a:chExt cx="2944800" cy="114624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793800" y="2820600"/>
                  <a:ext cx="2151000" cy="406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66"/>
                      </a:solidFill>
                      <a:latin typeface="Times New Roman"/>
                    </a:rPr>
                    <a:t>0010011100010000</a:t>
                  </a:r>
                  <a:endParaRPr b="0" lang="en-US" sz="20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1870200" y="2820600"/>
                  <a:ext cx="0" cy="406440"/>
                </a:xfrm>
                <a:prstGeom prst="line">
                  <a:avLst/>
                </a:prstGeom>
                <a:ln cap="rnd" w="9360">
                  <a:solidFill>
                    <a:srgbClr val="4d4d4d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0" y="3472920"/>
                  <a:ext cx="1693800" cy="493920"/>
                </a:xfrm>
                <a:prstGeom prst="wedgeEllipseCallout">
                  <a:avLst>
                    <a:gd name="adj1" fmla="val 60402"/>
                    <a:gd name="adj2" fmla="val -10498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66"/>
                      </a:solidFill>
                      <a:latin typeface="Times New Roman"/>
                    </a:rPr>
                    <a:t>内存存储形式</a:t>
                  </a:r>
                  <a:endParaRPr b="0" lang="en-US" sz="20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3662280" y="3186000"/>
                <a:ext cx="2963880" cy="1268280"/>
                <a:chOff x="3662280" y="3186000"/>
                <a:chExt cx="2963880" cy="126828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662280" y="3186000"/>
                  <a:ext cx="2151000" cy="406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66"/>
                      </a:solidFill>
                      <a:latin typeface="Times New Roman"/>
                    </a:rPr>
                    <a:t>0010011100010000</a:t>
                  </a:r>
                  <a:endParaRPr b="0" lang="en-US" sz="20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4745160" y="3192480"/>
                  <a:ext cx="0" cy="404640"/>
                </a:xfrm>
                <a:prstGeom prst="line">
                  <a:avLst/>
                </a:prstGeom>
                <a:ln cap="rnd" w="9360">
                  <a:solidFill>
                    <a:srgbClr val="4d4d4d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4932360" y="3960720"/>
                  <a:ext cx="1693800" cy="493560"/>
                </a:xfrm>
                <a:prstGeom prst="wedgeEllipseCallout">
                  <a:avLst>
                    <a:gd name="adj1" fmla="val -62462"/>
                    <a:gd name="adj2" fmla="val -126203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66"/>
                      </a:solidFill>
                      <a:latin typeface="Times New Roman"/>
                    </a:rPr>
                    <a:t>二进制形式</a:t>
                  </a:r>
                  <a:endParaRPr b="0" lang="en-US" sz="20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3675240" y="1923840"/>
                <a:ext cx="5221080" cy="963720"/>
                <a:chOff x="3675240" y="1923840"/>
                <a:chExt cx="5221080" cy="96372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3675240" y="2465280"/>
                  <a:ext cx="5221080" cy="406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66"/>
                      </a:solidFill>
                      <a:latin typeface="Times New Roman"/>
                    </a:rPr>
                    <a:t>0011000100110000001100000011000000110000</a:t>
                  </a:r>
                  <a:endParaRPr b="0" lang="en-US" sz="20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759200" y="2469960"/>
                  <a:ext cx="0" cy="406440"/>
                </a:xfrm>
                <a:prstGeom prst="line">
                  <a:avLst/>
                </a:prstGeom>
                <a:ln cap="rnd" w="9360">
                  <a:solidFill>
                    <a:srgbClr val="4d4d4d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5794200" y="2481120"/>
                  <a:ext cx="0" cy="406440"/>
                </a:xfrm>
                <a:prstGeom prst="line">
                  <a:avLst/>
                </a:prstGeom>
                <a:ln cap="rnd" w="9360">
                  <a:solidFill>
                    <a:srgbClr val="4d4d4d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6816600" y="2463840"/>
                  <a:ext cx="0" cy="406440"/>
                </a:xfrm>
                <a:prstGeom prst="line">
                  <a:avLst/>
                </a:prstGeom>
                <a:ln cap="rnd" w="9360">
                  <a:solidFill>
                    <a:srgbClr val="4d4d4d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7804080" y="2479680"/>
                  <a:ext cx="0" cy="406440"/>
                </a:xfrm>
                <a:prstGeom prst="line">
                  <a:avLst/>
                </a:prstGeom>
                <a:ln cap="rnd" w="9360">
                  <a:solidFill>
                    <a:srgbClr val="4d4d4d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6597720" y="1923840"/>
                  <a:ext cx="1939320" cy="439920"/>
                </a:xfrm>
                <a:prstGeom prst="wedgeEllipseCallout">
                  <a:avLst>
                    <a:gd name="adj1" fmla="val -64731"/>
                    <a:gd name="adj2" fmla="val 73467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66"/>
                      </a:solidFill>
                      <a:latin typeface="Times New Roman"/>
                    </a:rPr>
                    <a:t>ASCII</a:t>
                  </a:r>
                  <a:r>
                    <a:rPr b="0" lang="en-US" sz="2000" spc="-1" strike="noStrike">
                      <a:solidFill>
                        <a:srgbClr val="000066"/>
                      </a:solidFill>
                      <a:latin typeface="Times New Roman"/>
                    </a:rPr>
                    <a:t>形式</a:t>
                  </a:r>
                  <a:endParaRPr b="0" lang="en-US" sz="20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" name=""/>
              <p:cNvSpPr/>
              <p:nvPr/>
            </p:nvSpPr>
            <p:spPr>
              <a:xfrm flipV="1">
                <a:off x="3070080" y="2715840"/>
                <a:ext cx="528840" cy="31752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070080" y="3033360"/>
                <a:ext cx="528840" cy="37152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1" name=""/>
          <p:cNvSpPr/>
          <p:nvPr/>
        </p:nvSpPr>
        <p:spPr>
          <a:xfrm>
            <a:off x="3590280" y="745920"/>
            <a:ext cx="1534320" cy="825840"/>
          </a:xfrm>
          <a:prstGeom prst="wedgeRectCallout">
            <a:avLst>
              <a:gd name="adj1" fmla="val 17342"/>
              <a:gd name="adj2" fmla="val 148953"/>
            </a:avLst>
          </a:prstGeom>
          <a:solidFill>
            <a:srgbClr val="9cc2e8"/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文本文件特点</a:t>
            </a: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存储量大、速度慢、便于对字符操作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908440" y="4708440"/>
            <a:ext cx="1717200" cy="825840"/>
          </a:xfrm>
          <a:prstGeom prst="wedgeRectCallout">
            <a:avLst>
              <a:gd name="adj1" fmla="val 41129"/>
              <a:gd name="adj2" fmla="val -157796"/>
            </a:avLst>
          </a:prstGeom>
          <a:solidFill>
            <a:srgbClr val="9cc2e8"/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二进制文件特点</a:t>
            </a: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存储量小、速度快、便于存放中间结果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199080"/>
            <a:ext cx="2771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 Black"/>
              </a:rPr>
              <a:t>文件特点：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14280" y="341280"/>
            <a:ext cx="8548560" cy="19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缓冲文件系统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：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高级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文件系统，系统自动为正在使用的文件开辟内存缓冲区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非缓冲文件系统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：低级文件系统，由用户在程序中为每个文件设定缓冲区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716400" y="2819520"/>
            <a:ext cx="7946640" cy="2743200"/>
            <a:chOff x="716400" y="2819520"/>
            <a:chExt cx="7946640" cy="2743200"/>
          </a:xfrm>
        </p:grpSpPr>
        <p:grpSp>
          <p:nvGrpSpPr>
            <p:cNvPr id="176" name=""/>
            <p:cNvGrpSpPr/>
            <p:nvPr/>
          </p:nvGrpSpPr>
          <p:grpSpPr>
            <a:xfrm>
              <a:off x="2567160" y="2819520"/>
              <a:ext cx="6095880" cy="2743200"/>
              <a:chOff x="2567160" y="2819520"/>
              <a:chExt cx="6095880" cy="2743200"/>
            </a:xfrm>
          </p:grpSpPr>
          <p:sp>
            <p:nvSpPr>
              <p:cNvPr id="177" name=""/>
              <p:cNvSpPr/>
              <p:nvPr/>
            </p:nvSpPr>
            <p:spPr>
              <a:xfrm>
                <a:off x="2567160" y="2819520"/>
                <a:ext cx="3809880" cy="274320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948040" y="4114800"/>
                <a:ext cx="1067040" cy="12193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481560" y="4114800"/>
                <a:ext cx="0" cy="3808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481560" y="4495680"/>
                <a:ext cx="53352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548240" y="3276720"/>
                <a:ext cx="1600200" cy="53316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548240" y="4495680"/>
                <a:ext cx="1600200" cy="5335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520040" y="3809880"/>
                <a:ext cx="1143000" cy="1067040"/>
              </a:xfrm>
              <a:prstGeom prst="ellipse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724880" y="335268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磁盘文件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677120" y="5029200"/>
                <a:ext cx="124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输出文件缓冲区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677120" y="2895480"/>
                <a:ext cx="124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输入文件缓冲区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975040" y="3733920"/>
                <a:ext cx="942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程序数据区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635640" y="4114800"/>
                <a:ext cx="293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>
                <a:off x="4014720" y="3581280"/>
                <a:ext cx="533160" cy="53352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015080" y="4267080"/>
                <a:ext cx="533160" cy="45720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 flipV="1">
                <a:off x="6148440" y="3504960"/>
                <a:ext cx="1447920" cy="6094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V="1">
                <a:off x="6148440" y="4495320"/>
                <a:ext cx="1371600" cy="30492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716400" y="334188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缓冲文件系统：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685800" y="348480"/>
            <a:ext cx="3124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文件处理方法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95" name=""/>
          <p:cNvSpPr/>
          <p:nvPr/>
        </p:nvSpPr>
        <p:spPr>
          <a:xfrm>
            <a:off x="517680" y="5530680"/>
            <a:ext cx="811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这种方式使得读、写操作不必频繁地访问外设，从而提高了读、写操作的速度。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3" dur="1" fill="hold"/>
                                  <p:tgtEl>
                                    <p:spTgt spid="1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368280" y="375840"/>
            <a:ext cx="8478720" cy="27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文件结构体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L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缓冲文件系统为每个正使用的文件在内存开辟文件信息区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文件信息用系统定义的名为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IL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的结构体描述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IL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定义在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tdio.h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中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06240" y="3263760"/>
            <a:ext cx="4348800" cy="2654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ypedef   struc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{   int   _fd;         </a:t>
            </a: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//</a:t>
            </a: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文件号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t   _cleft;     </a:t>
            </a: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//</a:t>
            </a: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缓冲区中剩下的字符数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t   _mode;   </a:t>
            </a: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//</a:t>
            </a: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文件操作方式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har  *_next;  </a:t>
            </a: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//</a:t>
            </a: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文件当前读写位置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har  *_buff;  </a:t>
            </a: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//</a:t>
            </a: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文件缓冲区位置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}FILE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480960" y="365760"/>
            <a:ext cx="4562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 Black"/>
              </a:rPr>
              <a:t>文件类型指针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69360" y="217080"/>
            <a:ext cx="8548920" cy="31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指针变量说明：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LE   *fp;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用法：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文件打开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时，系统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自动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建立文件结构体，并把指向它的指针返回来，程序通过这个指针获得文件信息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访问文件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文件关闭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后，它的文件结构体被释放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227320" y="2725560"/>
            <a:ext cx="4267080" cy="3637080"/>
            <a:chOff x="2227320" y="2725560"/>
            <a:chExt cx="4267080" cy="3637080"/>
          </a:xfrm>
        </p:grpSpPr>
        <p:sp>
          <p:nvSpPr>
            <p:cNvPr id="201" name=""/>
            <p:cNvSpPr/>
            <p:nvPr/>
          </p:nvSpPr>
          <p:spPr>
            <a:xfrm>
              <a:off x="2227320" y="2840760"/>
              <a:ext cx="1295280" cy="1731960"/>
            </a:xfrm>
            <a:prstGeom prst="rect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22800" y="2840760"/>
              <a:ext cx="1295280" cy="1731960"/>
            </a:xfrm>
            <a:prstGeom prst="rect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275080" y="5438880"/>
              <a:ext cx="1219320" cy="923760"/>
            </a:xfrm>
            <a:prstGeom prst="ellipse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522600" y="3013920"/>
              <a:ext cx="1600200" cy="173160"/>
            </a:xfrm>
            <a:prstGeom prst="rightArrow">
              <a:avLst>
                <a:gd name="adj1" fmla="val 50000"/>
                <a:gd name="adj2" fmla="val 231029"/>
              </a:avLst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22600" y="4110840"/>
              <a:ext cx="1600200" cy="173160"/>
            </a:xfrm>
            <a:prstGeom prst="leftArrow">
              <a:avLst>
                <a:gd name="adj1" fmla="val 50000"/>
                <a:gd name="adj2" fmla="val 231029"/>
              </a:avLst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08600" y="4572720"/>
              <a:ext cx="228600" cy="865800"/>
            </a:xfrm>
            <a:prstGeom prst="upDownArrow">
              <a:avLst>
                <a:gd name="adj1" fmla="val 50000"/>
                <a:gd name="adj2" fmla="val 75397"/>
              </a:avLst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05280" y="27255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文件名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803760" y="3130560"/>
              <a:ext cx="79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文件使用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方式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828960" y="428400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文件类型指针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52680" y="3533400"/>
              <a:ext cx="71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C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程序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03960" y="341676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操作系统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607000" y="57272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磁盘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572760" y="207000"/>
            <a:ext cx="3087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 Black"/>
              </a:rPr>
              <a:t>文件类型指针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-360" y="903240"/>
            <a:ext cx="8566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4d4d4d"/>
              </a:buClr>
              <a:buSzPct val="7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文件操作用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库函数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实现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包含在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tdio.h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SzPct val="7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文件使用方式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打开文件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--&gt;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文件读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写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--&gt;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关闭文件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SzPct val="7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系统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自动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打开和关闭三个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标准文件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标准输入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------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键盘       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tdi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标准输出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------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显示器   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tdou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标准出错输出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-----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显示器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tder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打开文件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pe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函数原型：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ILE    *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fopen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(char  *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name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,char *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mode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47680" y="4692600"/>
            <a:ext cx="7772400" cy="13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功能：按指定方式打开文件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返值：正常打开，为指向文件结构体的指针；打开失败，为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NUL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01720" y="4983120"/>
            <a:ext cx="1461240" cy="460080"/>
          </a:xfrm>
          <a:prstGeom prst="wedgeRectCallout">
            <a:avLst>
              <a:gd name="adj1" fmla="val -11379"/>
              <a:gd name="adj2" fmla="val -138583"/>
            </a:avLst>
          </a:prstGeom>
          <a:solidFill>
            <a:srgbClr val="9cc2e8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要打开的文件名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090200" y="3598920"/>
            <a:ext cx="1278360" cy="460080"/>
          </a:xfrm>
          <a:prstGeom prst="wedgeRectCallout">
            <a:avLst>
              <a:gd name="adj1" fmla="val -25310"/>
              <a:gd name="adj2" fmla="val 108324"/>
            </a:avLst>
          </a:prstGeom>
          <a:solidFill>
            <a:srgbClr val="9cc2e8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使用文件方式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132640" y="1087560"/>
            <a:ext cx="4484520" cy="2654280"/>
          </a:xfrm>
          <a:prstGeom prst="rect">
            <a:avLst/>
          </a:prstGeom>
          <a:solidFill>
            <a:srgbClr val="9cc2e8"/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例 文件打开与测试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FILE   *fp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fp=fopen(“aa.c”,“w”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if(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隶书"/>
              </a:rPr>
              <a:t>fp=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NULL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{     printf(“File open error!\n”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隶书"/>
              </a:rPr>
              <a:t>exit(0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}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465200" y="2595240"/>
            <a:ext cx="6373800" cy="825480"/>
          </a:xfrm>
          <a:prstGeom prst="rect">
            <a:avLst/>
          </a:prstGeom>
          <a:solidFill>
            <a:srgbClr val="9cc2e8"/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例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FILE  *fp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fp= fopen (“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c:\\fengyi\\bkc\\test.dat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”,”r”);</a:t>
            </a: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722960" y="2410920"/>
            <a:ext cx="5962680" cy="1191240"/>
          </a:xfrm>
          <a:prstGeom prst="rect">
            <a:avLst/>
          </a:prstGeom>
          <a:solidFill>
            <a:srgbClr val="9cc2e8"/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例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FILE  *fp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char  *filename=“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c:\\fengyi\\bkc\\test.dat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”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fp= fopen(filename,”r”);</a:t>
            </a: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498600" y="265320"/>
            <a:ext cx="482256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文件的打开与关闭</a:t>
            </a:r>
            <a:br>
              <a:rPr sz="3200"/>
            </a:b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2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2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7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2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7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59" dur="1" fill="hold"/>
                                  <p:tgtEl>
                                    <p:spTgt spid="2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0" y="903240"/>
            <a:ext cx="847728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作用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使文件指针变量与文件“脱钩”，释放文件结构体和文件指针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函数原型：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int  fclose(FILE  *fp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63520" y="2063880"/>
            <a:ext cx="8477280" cy="9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功能：关闭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fp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指向的文件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返值：正常关闭为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0;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出错时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,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非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098240" y="2602080"/>
            <a:ext cx="2741040" cy="460080"/>
          </a:xfrm>
          <a:prstGeom prst="wedgeRectCallout">
            <a:avLst>
              <a:gd name="adj1" fmla="val -21847"/>
              <a:gd name="adj2" fmla="val -173532"/>
            </a:avLst>
          </a:prstGeom>
          <a:solidFill>
            <a:srgbClr val="9cc2e8"/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文件打开时返回的文件类型指针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687680" y="3164040"/>
            <a:ext cx="6095520" cy="3162240"/>
            <a:chOff x="1687680" y="3164040"/>
            <a:chExt cx="6095520" cy="3162240"/>
          </a:xfrm>
        </p:grpSpPr>
        <p:sp>
          <p:nvSpPr>
            <p:cNvPr id="226" name=""/>
            <p:cNvSpPr/>
            <p:nvPr/>
          </p:nvSpPr>
          <p:spPr>
            <a:xfrm>
              <a:off x="1687680" y="3583080"/>
              <a:ext cx="3809880" cy="2743200"/>
            </a:xfrm>
            <a:prstGeom prst="rect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068560" y="4878360"/>
              <a:ext cx="1066320" cy="1219320"/>
            </a:xfrm>
            <a:prstGeom prst="rect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01720" y="4878360"/>
              <a:ext cx="0" cy="3812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601720" y="5259600"/>
              <a:ext cx="53316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68760" y="4040280"/>
              <a:ext cx="1599840" cy="533520"/>
            </a:xfrm>
            <a:prstGeom prst="rect">
              <a:avLst/>
            </a:prstGeom>
            <a:solidFill>
              <a:srgbClr val="26d2e4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68760" y="5259600"/>
              <a:ext cx="159984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640560" y="4573800"/>
              <a:ext cx="1142640" cy="10666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845400" y="411660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磁盘文件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97280" y="579276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输出文件缓冲区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97280" y="365940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输入文件缓冲区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95200" y="449748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程序数据区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755800" y="487836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3134880" y="4345200"/>
              <a:ext cx="533160" cy="5331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35240" y="5031000"/>
              <a:ext cx="533160" cy="4572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 flipV="1">
              <a:off x="5268960" y="4268520"/>
              <a:ext cx="1447200" cy="609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5268960" y="5259600"/>
              <a:ext cx="1371240" cy="304560"/>
            </a:xfrm>
            <a:prstGeom prst="line">
              <a:avLst/>
            </a:prstGeom>
            <a:ln w="38160">
              <a:solidFill>
                <a:srgbClr val="d0e2f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824200" y="316404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缓冲文件系统：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5562360" y="5400360"/>
            <a:ext cx="1029600" cy="736200"/>
            <a:chOff x="5562360" y="5400360"/>
            <a:chExt cx="1029600" cy="736200"/>
          </a:xfrm>
        </p:grpSpPr>
        <p:sp>
          <p:nvSpPr>
            <p:cNvPr id="244" name=""/>
            <p:cNvSpPr/>
            <p:nvPr/>
          </p:nvSpPr>
          <p:spPr>
            <a:xfrm>
              <a:off x="5562360" y="5616000"/>
              <a:ext cx="102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fclose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20802600">
              <a:off x="5573880" y="5492520"/>
              <a:ext cx="822240" cy="160200"/>
            </a:xfrm>
            <a:prstGeom prst="rightArrow">
              <a:avLst>
                <a:gd name="adj1" fmla="val 50000"/>
                <a:gd name="adj2" fmla="val 128315"/>
              </a:avLst>
            </a:prstGeom>
            <a:solidFill>
              <a:srgbClr val="ff0000"/>
            </a:solidFill>
            <a:ln w="38160">
              <a:solidFill>
                <a:srgbClr val="d0e2f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738400" y="3175200"/>
            <a:ext cx="2375640" cy="460080"/>
          </a:xfrm>
          <a:prstGeom prst="wedgeRectCallout">
            <a:avLst>
              <a:gd name="adj1" fmla="val -47712"/>
              <a:gd name="adj2" fmla="val 170796"/>
            </a:avLst>
          </a:prstGeom>
          <a:solidFill>
            <a:srgbClr val="9cc2e8"/>
          </a:solidFill>
          <a:ln w="38160">
            <a:solidFill>
              <a:srgbClr val="d0e2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不关闭文件可能会</a:t>
            </a:r>
            <a:r>
              <a:rPr b="0" lang="en-US" sz="2400" spc="-1" strike="noStrike">
                <a:solidFill>
                  <a:srgbClr val="ff0000"/>
                </a:solidFill>
                <a:latin typeface="隶书"/>
                <a:ea typeface="隶书"/>
              </a:rPr>
              <a:t>丢失数据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666360" y="375840"/>
            <a:ext cx="40402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 Black"/>
              </a:rPr>
              <a:t>文件关闭</a:t>
            </a:r>
            <a:r>
              <a:rPr b="0" lang="en-US" sz="3600" spc="-1" strike="noStrike">
                <a:solidFill>
                  <a:srgbClr val="4d4d4d"/>
                </a:solidFill>
                <a:latin typeface="Arial Black"/>
              </a:rPr>
              <a:t>fclose</a:t>
            </a:r>
            <a:br>
              <a:rPr sz="3600"/>
            </a:b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8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3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334800" y="919080"/>
            <a:ext cx="8514000" cy="28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字符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/O:fputc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与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getc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putc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函数原型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：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int  fputc(char ch, FILE *fp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功能：将字符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h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写入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p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指向的文件中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返值：正常，返回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h;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出错，为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OF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36600" y="3005280"/>
            <a:ext cx="8513640" cy="15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fgetc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函数原型：</a:t>
            </a:r>
            <a:r>
              <a:rPr b="0" lang="en-US" sz="2800" spc="-1" strike="noStrike">
                <a:solidFill>
                  <a:srgbClr val="4d4d4d"/>
                </a:solidFill>
                <a:latin typeface="Times New Roman"/>
                <a:ea typeface="宋体"/>
              </a:rPr>
              <a:t>int  fgetc(FILE *fp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功能：从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fp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指向的文件中读取下一个字符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返值：正常，返回读到的代码值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;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读到文件尾或出错，为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EOF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55040" y="4918680"/>
            <a:ext cx="5133600" cy="192276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       </a:t>
            </a: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文件</a:t>
            </a: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I/O</a:t>
            </a: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与终端</a:t>
            </a: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I/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#define     putc(ch,fp)       fputc(ch,fp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#define     getc(fp)            fgetc(fp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#define     putchar( c )      fputc(c,stdout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#define     getchar( )         fgetc(stdin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title"/>
          </p:nvPr>
        </p:nvSpPr>
        <p:spPr>
          <a:xfrm>
            <a:off x="685440" y="339840"/>
            <a:ext cx="422748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 Black"/>
              </a:rPr>
              <a:t>文件的读写</a:t>
            </a:r>
            <a:br>
              <a:rPr sz="3600"/>
            </a:b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4240440" y="1246680"/>
            <a:ext cx="2704320" cy="1922760"/>
          </a:xfrm>
          <a:prstGeom prst="rect">
            <a:avLst/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判断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二进制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文件是否结束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while(!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eof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(fp)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{      c=fgetc(fp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           ……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0" y="3610080"/>
            <a:ext cx="1698120" cy="459720"/>
            <a:chOff x="0" y="3610080"/>
            <a:chExt cx="1698120" cy="459720"/>
          </a:xfrm>
        </p:grpSpPr>
        <p:sp>
          <p:nvSpPr>
            <p:cNvPr id="254" name=""/>
            <p:cNvSpPr/>
            <p:nvPr/>
          </p:nvSpPr>
          <p:spPr>
            <a:xfrm>
              <a:off x="444600" y="3610080"/>
              <a:ext cx="125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例  文件拷贝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0" y="3713400"/>
              <a:ext cx="228600" cy="21096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86760 h 210960"/>
                <a:gd name="textAreaBottom" fmla="*/ 124200 h 21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4d4d4d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62640" y="246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例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683880" y="291960"/>
            <a:ext cx="5177880" cy="6311880"/>
          </a:xfrm>
          <a:prstGeom prst="rect">
            <a:avLst/>
          </a:prstGeom>
          <a:solidFill>
            <a:srgbClr val="ccecff"/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#include &lt;stdio.h&gt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{  FILE *fp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har ch,*filename=“out.txt”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f((fp=fopen(filename,"w"))==NULL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{   printf("cannot open file\n"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xit(0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intf("Please input string:"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h=getchar(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while(ch!='#'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{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putc(ch,fp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utchar(ch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h=getchar(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close(fp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7200" y="2523960"/>
            <a:ext cx="198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例  读文本文件内容，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并显示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54880" y="1446120"/>
            <a:ext cx="5071320" cy="4483080"/>
          </a:xfrm>
          <a:prstGeom prst="rect">
            <a:avLst/>
          </a:prstGeom>
          <a:solidFill>
            <a:srgbClr val="ccecff"/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#include &lt;stdio.h&gt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{  FILE *fp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har ch,*filename=“out.txt”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f((fp=fopen(filename,”r"))==NULL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{   printf("cannot open file\n"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xit(0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while((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ch=fgetc(fp)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)!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OF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utchar(ch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close(fp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3200" y="4048200"/>
            <a:ext cx="8513640" cy="174132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feof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函数原型： </a:t>
            </a:r>
            <a:r>
              <a:rPr b="0" lang="en-US" sz="2800" spc="-1" strike="noStrike">
                <a:solidFill>
                  <a:srgbClr val="4d4d4d"/>
                </a:solidFill>
                <a:latin typeface="Times New Roman"/>
                <a:ea typeface="宋体"/>
              </a:rPr>
              <a:t>int  feof(FILE  *fp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功能：判断文件是否结束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返值：文件结束，返回真（非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0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）；文件未结束，返回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784320" y="167760"/>
            <a:ext cx="5347080" cy="6677640"/>
          </a:xfrm>
          <a:prstGeom prst="rect">
            <a:avLst/>
          </a:prstGeom>
          <a:solidFill>
            <a:srgbClr val="ccecff"/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#include &lt;stdio.h&gt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{   FILE *in, *out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har ch,infile[10],outfile[10]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canf("%s",infile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canf("%s",outfile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f ((in = fopen(infile, "r"))== NULL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{ printf("Cannot open infile.\n"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it(0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(out = fopen(outfile, "w"))== NULL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{ printf("Cannot open outfile.\n"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xit(0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while (!feof(in)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putc(fgetc(in), out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close(in);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close(out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1847880" y="2898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从键盘输入字符，逐个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存到磁盘文件中，直到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输入‘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#“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为止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4T05:27:31Z</dcterms:created>
  <dc:creator>hyg</dc:creator>
  <dc:description/>
  <dc:language>en-US</dc:language>
  <cp:lastModifiedBy>YlmF</cp:lastModifiedBy>
  <dcterms:modified xsi:type="dcterms:W3CDTF">2009-06-20T03:35:28Z</dcterms:modified>
  <cp:revision>289</cp:revision>
  <dc:subject/>
  <dc:title>第十一章  文件</dc:title>
</cp:coreProperties>
</file>