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CAMERA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WHOOSH.WAV" ContentType="audio/x-wav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C777-4A36-4EE8-88A7-924C5FDE1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75D7-D9E0-4F0B-8838-6DF590BA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4B4F-7725-4AB5-9225-C9106596E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AD20-148B-46DD-961B-37571C046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AD79-C08D-4D64-A411-511FF5A87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8C69-2973-4AF9-953A-51172750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7984-21F4-4E19-8AF7-BD7CCD94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8458-BC9A-473E-B0C3-3BF84929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5926-7B82-4D98-9257-66ECD99C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A9E3-831B-4A6E-97BF-DC1558B4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6C79-5DD6-48BE-8490-3080EDFC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32C8-D556-40CB-B669-79617253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22A4-57C9-4310-866B-BC7093AD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5FD3-C84D-451F-A7B4-5D2D8EEF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89E4-71E5-42C7-B8EF-6CE810DC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9609-028E-429F-80E4-2E2DFE018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1B9B-E5C6-49B5-86CF-C4FC479D9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09D4-7A40-43BE-BFC1-A7237800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5A81-E12A-4F42-AA96-05AE5D38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AF56-2BD4-46AC-8C01-773BE643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6721-C81A-4CB6-8F1F-8C6C58D0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F589-ED01-4FAA-9732-063A24C1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2424-B85A-4230-9B8E-828D825E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C6C8-4730-4D53-8FB7-F6280CA0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D0C8-0677-43A4-9B59-A326BC5E7AD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229600" y="64087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6035-D727-453C-A33F-46AB7BB8B630}" type="slidenum"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138F-8E9F-419D-A402-828A1A70CEE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D:\TC\TC.EXE" TargetMode="External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1.xml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590040"/>
            <a:ext cx="77724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指针前言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74360" y="1631880"/>
            <a:ext cx="7845480" cy="23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程序设计中使用指针可以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使程序简洁、紧凑、高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有效地表示复杂的数据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动态分配内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得到多于一个的函数返回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65040" y="345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050920" y="1363680"/>
            <a:ext cx="5245200" cy="33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*p1,*p2,*p,a,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f("%d,%d",&amp;a,&amp;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p1=&amp;a;  p2=&amp;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a&lt;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p=p1;  p1=p2;  p2=p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("a=%d,b=%d\n",a,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("max=%d,min=%d\n",*p1,*p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88040" y="5284800"/>
            <a:ext cx="2902680" cy="703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运行结果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=5,b=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=9,min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06400" y="3805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例  输入两个数，并使其从大到小输出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334440" y="365040"/>
            <a:ext cx="854892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共享内存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双向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传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>
            <a:hlinkClick r:id="rId2"/>
          </p:cNvPr>
          <p:cNvSpPr/>
          <p:nvPr/>
        </p:nvSpPr>
        <p:spPr>
          <a:xfrm>
            <a:off x="8381880" y="6039000"/>
            <a:ext cx="533520" cy="685800"/>
          </a:xfrm>
          <a:custGeom>
            <a:avLst/>
            <a:gdLst>
              <a:gd name="textAreaLeft" fmla="*/ 69840 w 533520"/>
              <a:gd name="textAreaRight" fmla="*/ 463680 w 533520"/>
              <a:gd name="textAreaTop" fmla="*/ 69840 h 685800"/>
              <a:gd name="textAreaBottom" fmla="*/ 61596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18771" y="2829"/>
                </a:lnTo>
                <a:lnTo>
                  <a:pt x="2829" y="2829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18771" y="24932"/>
                </a:lnTo>
                <a:lnTo>
                  <a:pt x="18771" y="2829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2829" y="24932"/>
                </a:lnTo>
                <a:lnTo>
                  <a:pt x="18771" y="24932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2829" y="2829"/>
                </a:lnTo>
                <a:lnTo>
                  <a:pt x="2829" y="24932"/>
                </a:lnTo>
                <a:close/>
              </a:path>
              <a:path fill="darkenLess" w="21600" h="27761">
                <a:moveTo>
                  <a:pt x="6113" y="8102"/>
                </a:moveTo>
                <a:lnTo>
                  <a:pt x="12047" y="8102"/>
                </a:lnTo>
                <a:lnTo>
                  <a:pt x="15487" y="11069"/>
                </a:lnTo>
                <a:lnTo>
                  <a:pt x="15487" y="19659"/>
                </a:lnTo>
                <a:lnTo>
                  <a:pt x="6113" y="19659"/>
                </a:lnTo>
                <a:close/>
              </a:path>
              <a:path fill="darken" w="21600" h="27761">
                <a:moveTo>
                  <a:pt x="12047" y="8102"/>
                </a:moveTo>
                <a:lnTo>
                  <a:pt x="15487" y="11069"/>
                </a:lnTo>
                <a:lnTo>
                  <a:pt x="12047" y="1106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1040" y="1695600"/>
            <a:ext cx="3663000" cy="4483080"/>
          </a:xfrm>
          <a:prstGeom prst="rect">
            <a:avLst/>
          </a:prstGeom>
          <a:solidFill>
            <a:srgbClr val="e1fff7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(int  x,int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 te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=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te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a,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f("%d,%d",&amp;a,&amp;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a&lt;b)  swap(a,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("\n%d,%d\n",a,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461600" y="1282680"/>
            <a:ext cx="19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将数从大到小输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375160" y="41115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5091120" y="1279440"/>
            <a:ext cx="2617920" cy="4626000"/>
            <a:chOff x="5091120" y="1279440"/>
            <a:chExt cx="2617920" cy="4626000"/>
          </a:xfrm>
        </p:grpSpPr>
        <p:sp>
          <p:nvSpPr>
            <p:cNvPr id="426" name=""/>
            <p:cNvSpPr/>
            <p:nvPr/>
          </p:nvSpPr>
          <p:spPr>
            <a:xfrm>
              <a:off x="5767560" y="5340240"/>
              <a:ext cx="1922400" cy="565200"/>
            </a:xfrm>
            <a:custGeom>
              <a:avLst/>
              <a:gdLst/>
              <a:ahLst/>
              <a:rect l="l" t="t" r="r" b="b"/>
              <a:pathLst>
                <a:path w="1211" h="456">
                  <a:moveTo>
                    <a:pt x="0" y="163"/>
                  </a:moveTo>
                  <a:cubicBezTo>
                    <a:pt x="159" y="81"/>
                    <a:pt x="318" y="0"/>
                    <a:pt x="500" y="41"/>
                  </a:cubicBezTo>
                  <a:cubicBezTo>
                    <a:pt x="682" y="82"/>
                    <a:pt x="970" y="360"/>
                    <a:pt x="1089" y="408"/>
                  </a:cubicBezTo>
                  <a:cubicBezTo>
                    <a:pt x="1208" y="456"/>
                    <a:pt x="1191" y="345"/>
                    <a:pt x="1211" y="3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769000" y="4791240"/>
              <a:ext cx="1924200" cy="1066680"/>
            </a:xfrm>
            <a:custGeom>
              <a:avLst/>
              <a:gdLst/>
              <a:ahLst/>
              <a:rect l="l" t="t" r="r" b="b"/>
              <a:pathLst>
                <a:path w="1212" h="672">
                  <a:moveTo>
                    <a:pt x="12" y="0"/>
                  </a:moveTo>
                  <a:lnTo>
                    <a:pt x="1212" y="0"/>
                  </a:lnTo>
                  <a:lnTo>
                    <a:pt x="1212" y="624"/>
                  </a:lnTo>
                  <a:lnTo>
                    <a:pt x="1140" y="672"/>
                  </a:lnTo>
                  <a:lnTo>
                    <a:pt x="720" y="468"/>
                  </a:lnTo>
                  <a:lnTo>
                    <a:pt x="540" y="384"/>
                  </a:lnTo>
                  <a:lnTo>
                    <a:pt x="360" y="372"/>
                  </a:lnTo>
                  <a:lnTo>
                    <a:pt x="216" y="408"/>
                  </a:lnTo>
                  <a:lnTo>
                    <a:pt x="0" y="46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ddddd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767560" y="1279440"/>
              <a:ext cx="1922400" cy="351180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786640" y="197496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786640" y="2381400"/>
              <a:ext cx="19224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786640" y="275112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786640" y="315612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767560" y="356544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86640" y="442584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67560" y="4805280"/>
              <a:ext cx="0" cy="72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689960" y="4805280"/>
              <a:ext cx="180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48760" y="1369440"/>
              <a:ext cx="4852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47320" y="4870080"/>
              <a:ext cx="4852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786640" y="398448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19560" y="179928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121360" y="334080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091120" y="3726360"/>
              <a:ext cx="74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119560" y="218520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119560" y="257076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119560" y="295488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5791320" y="2190600"/>
              <a:ext cx="95040" cy="2457360"/>
              <a:chOff x="5791320" y="2190600"/>
              <a:chExt cx="95040" cy="2457360"/>
            </a:xfrm>
          </p:grpSpPr>
          <p:sp>
            <p:nvSpPr>
              <p:cNvPr id="447" name=""/>
              <p:cNvSpPr/>
              <p:nvPr/>
            </p:nvSpPr>
            <p:spPr>
              <a:xfrm>
                <a:off x="5791320" y="2190600"/>
                <a:ext cx="9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791320" y="3009960"/>
                <a:ext cx="9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791320" y="3419280"/>
                <a:ext cx="9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791320" y="3828960"/>
                <a:ext cx="9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791320" y="4238640"/>
                <a:ext cx="9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791320" y="4647960"/>
                <a:ext cx="9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791320" y="2600280"/>
                <a:ext cx="9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7581960" y="2171880"/>
              <a:ext cx="95040" cy="2457360"/>
              <a:chOff x="7581960" y="2171880"/>
              <a:chExt cx="95040" cy="2457360"/>
            </a:xfrm>
          </p:grpSpPr>
          <p:sp>
            <p:nvSpPr>
              <p:cNvPr id="455" name=""/>
              <p:cNvSpPr/>
              <p:nvPr/>
            </p:nvSpPr>
            <p:spPr>
              <a:xfrm>
                <a:off x="7581960" y="2171880"/>
                <a:ext cx="9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581960" y="2991240"/>
                <a:ext cx="9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581960" y="3400560"/>
                <a:ext cx="9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581960" y="3810240"/>
                <a:ext cx="9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581960" y="4219920"/>
                <a:ext cx="9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581960" y="4629240"/>
                <a:ext cx="9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581960" y="2581560"/>
                <a:ext cx="9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2" name=""/>
          <p:cNvSpPr/>
          <p:nvPr/>
        </p:nvSpPr>
        <p:spPr>
          <a:xfrm>
            <a:off x="6558120" y="200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6276240" y="1551600"/>
            <a:ext cx="2482200" cy="1026000"/>
            <a:chOff x="6276240" y="1551600"/>
            <a:chExt cx="2482200" cy="1026000"/>
          </a:xfrm>
        </p:grpSpPr>
        <p:grpSp>
          <p:nvGrpSpPr>
            <p:cNvPr id="464" name=""/>
            <p:cNvGrpSpPr/>
            <p:nvPr/>
          </p:nvGrpSpPr>
          <p:grpSpPr>
            <a:xfrm>
              <a:off x="7673760" y="1785960"/>
              <a:ext cx="1020240" cy="398880"/>
              <a:chOff x="7673760" y="1785960"/>
              <a:chExt cx="1020240" cy="398880"/>
            </a:xfrm>
          </p:grpSpPr>
          <p:sp>
            <p:nvSpPr>
              <p:cNvPr id="465" name=""/>
              <p:cNvSpPr/>
              <p:nvPr/>
            </p:nvSpPr>
            <p:spPr>
              <a:xfrm flipH="1">
                <a:off x="7673760" y="1981080"/>
                <a:ext cx="361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034840" y="1785960"/>
                <a:ext cx="659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变量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7673400" y="2117880"/>
              <a:ext cx="1085040" cy="459720"/>
              <a:chOff x="7673400" y="2117880"/>
              <a:chExt cx="1085040" cy="459720"/>
            </a:xfrm>
          </p:grpSpPr>
          <p:sp>
            <p:nvSpPr>
              <p:cNvPr id="468" name=""/>
              <p:cNvSpPr/>
              <p:nvPr/>
            </p:nvSpPr>
            <p:spPr>
              <a:xfrm flipH="1">
                <a:off x="7673400" y="2362320"/>
                <a:ext cx="361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867800" y="2117880"/>
                <a:ext cx="890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变量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6276240" y="1551600"/>
              <a:ext cx="8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(mai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6577200" y="236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6325920" y="2770920"/>
            <a:ext cx="2859120" cy="1406880"/>
            <a:chOff x="6325920" y="2770920"/>
            <a:chExt cx="2859120" cy="1406880"/>
          </a:xfrm>
        </p:grpSpPr>
        <p:grpSp>
          <p:nvGrpSpPr>
            <p:cNvPr id="473" name=""/>
            <p:cNvGrpSpPr/>
            <p:nvPr/>
          </p:nvGrpSpPr>
          <p:grpSpPr>
            <a:xfrm>
              <a:off x="7719840" y="3718080"/>
              <a:ext cx="1465200" cy="459720"/>
              <a:chOff x="7719840" y="3718080"/>
              <a:chExt cx="1465200" cy="459720"/>
            </a:xfrm>
          </p:grpSpPr>
          <p:sp>
            <p:nvSpPr>
              <p:cNvPr id="474" name=""/>
              <p:cNvSpPr/>
              <p:nvPr/>
            </p:nvSpPr>
            <p:spPr>
              <a:xfrm flipH="1">
                <a:off x="7719840" y="3962520"/>
                <a:ext cx="361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913520" y="3718080"/>
                <a:ext cx="1271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变量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tem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7693200" y="3367080"/>
              <a:ext cx="1060200" cy="398880"/>
              <a:chOff x="7693200" y="3367080"/>
              <a:chExt cx="1060200" cy="398880"/>
            </a:xfrm>
          </p:grpSpPr>
          <p:sp>
            <p:nvSpPr>
              <p:cNvPr id="477" name=""/>
              <p:cNvSpPr/>
              <p:nvPr/>
            </p:nvSpPr>
            <p:spPr>
              <a:xfrm flipH="1">
                <a:off x="7693200" y="3562200"/>
                <a:ext cx="362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886880" y="3367080"/>
                <a:ext cx="866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变量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7693200" y="2967120"/>
              <a:ext cx="1060200" cy="398880"/>
              <a:chOff x="7693200" y="2967120"/>
              <a:chExt cx="1060200" cy="398880"/>
            </a:xfrm>
          </p:grpSpPr>
          <p:sp>
            <p:nvSpPr>
              <p:cNvPr id="480" name=""/>
              <p:cNvSpPr/>
              <p:nvPr/>
            </p:nvSpPr>
            <p:spPr>
              <a:xfrm flipH="1">
                <a:off x="7693200" y="3162240"/>
                <a:ext cx="362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886880" y="2967120"/>
                <a:ext cx="866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变量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2" name=""/>
            <p:cNvSpPr/>
            <p:nvPr/>
          </p:nvSpPr>
          <p:spPr>
            <a:xfrm>
              <a:off x="6325920" y="2770920"/>
              <a:ext cx="87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00"/>
                  </a:solidFill>
                  <a:latin typeface="Times New Roman"/>
                </a:rPr>
                <a:t>(swap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6632640" y="3959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5019840" y="2209680"/>
            <a:ext cx="1890360" cy="1376280"/>
            <a:chOff x="5019840" y="2209680"/>
            <a:chExt cx="1890360" cy="1376280"/>
          </a:xfrm>
        </p:grpSpPr>
        <p:sp>
          <p:nvSpPr>
            <p:cNvPr id="485" name=""/>
            <p:cNvSpPr/>
            <p:nvPr/>
          </p:nvSpPr>
          <p:spPr>
            <a:xfrm>
              <a:off x="6577200" y="3126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019840" y="2209680"/>
              <a:ext cx="237960" cy="1181160"/>
            </a:xfrm>
            <a:prstGeom prst="pie">
              <a:avLst/>
            </a:pr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968720" y="2590920"/>
            <a:ext cx="1922040" cy="1433160"/>
            <a:chOff x="4968720" y="2590920"/>
            <a:chExt cx="1922040" cy="1433160"/>
          </a:xfrm>
        </p:grpSpPr>
        <p:sp>
          <p:nvSpPr>
            <p:cNvPr id="488" name=""/>
            <p:cNvSpPr/>
            <p:nvPr/>
          </p:nvSpPr>
          <p:spPr>
            <a:xfrm>
              <a:off x="6557760" y="3564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968720" y="2590920"/>
              <a:ext cx="288720" cy="1199880"/>
            </a:xfrm>
            <a:prstGeom prst="pie">
              <a:avLst/>
            </a:prstGeom>
            <a:noFill/>
            <a:ln w="38160">
              <a:solidFill>
                <a:srgbClr val="7458fe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6634080" y="3561120"/>
            <a:ext cx="3330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653160" y="3161160"/>
            <a:ext cx="3330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097520" y="283752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指针变量作为函数参数——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地址传递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CAMERA.WAV"/>
      </p:stSnd>
    </p:sndAc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2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7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5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0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254160" y="365040"/>
            <a:ext cx="854856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共享内存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,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双向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”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传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094400" y="1782720"/>
            <a:ext cx="3663000" cy="4848840"/>
          </a:xfrm>
          <a:prstGeom prst="rect">
            <a:avLst/>
          </a:prstGeom>
          <a:solidFill>
            <a:srgbClr val="e1fff7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wap(int  x,int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 te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=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te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a,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f("%d,%d",&amp;a,&amp;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a&lt;b)  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swap(a,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("\n%d,%d\n",a,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897920" y="1219320"/>
            <a:ext cx="19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将数从大到小输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894760" y="2836080"/>
            <a:ext cx="1374480" cy="1480320"/>
          </a:xfrm>
          <a:prstGeom prst="irregularSeal1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值传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294160" y="41115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506920" y="5975280"/>
            <a:ext cx="138780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运行结果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,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指针变量作为函数参数——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地址传递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1720440" y="844560"/>
            <a:ext cx="4670640" cy="5214600"/>
          </a:xfrm>
          <a:prstGeom prst="rect">
            <a:avLst/>
          </a:prstGeom>
          <a:solidFill>
            <a:srgbClr val="e1fff7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(int  *p1, int  *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=*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p1=*p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p2=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a,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*pointer_1,*pointer_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f("%d,%d",&amp;a,&amp;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_1=&amp;a;  pointer_2=&amp;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a&lt;b)swap(pointer_1,pointer_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("\n%d,%d\n",a,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96960" y="291960"/>
            <a:ext cx="3054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96800" y="6326280"/>
            <a:ext cx="153396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运行结果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586040" y="2247120"/>
            <a:ext cx="1719360" cy="1480320"/>
          </a:xfrm>
          <a:prstGeom prst="irregularSeal1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地址传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87320" y="361440"/>
            <a:ext cx="777240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将数从大到小输出（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6" name=""/>
          <p:cNvGraphicFramePr/>
          <p:nvPr/>
        </p:nvGraphicFramePr>
        <p:xfrm>
          <a:off x="3943440" y="0"/>
          <a:ext cx="925560" cy="75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43440" y="0"/>
                    <a:ext cx="92556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"/>
          <p:cNvSpPr/>
          <p:nvPr/>
        </p:nvSpPr>
        <p:spPr>
          <a:xfrm>
            <a:off x="14040" y="696960"/>
            <a:ext cx="4822920" cy="5214600"/>
          </a:xfrm>
          <a:prstGeom prst="rect">
            <a:avLst/>
          </a:prstGeom>
          <a:solidFill>
            <a:srgbClr val="e1fff7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wap(int *p1, int *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*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p=*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p1=*p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p2=*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a,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*pointer_1,*pointer_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f("%d,%d",&amp;a,&amp;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pointer_1=&amp;a;  pointer_2=&amp;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a&lt;b)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wap(pointer_1,pointer_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("\n%d,%d\n",a,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782360" y="6099120"/>
            <a:ext cx="153396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运行结果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30560" y="2668680"/>
            <a:ext cx="94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458fe"/>
                </a:solidFill>
                <a:latin typeface="Times New Roman"/>
              </a:rPr>
              <a:t>编译警告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458fe"/>
                </a:solidFill>
                <a:latin typeface="Times New Roman"/>
              </a:rPr>
              <a:t>结果不对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76520" y="1530360"/>
            <a:ext cx="184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nt  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nt  *p=&amp;x;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35120" y="3445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357880" y="4941720"/>
            <a:ext cx="3405240" cy="1668600"/>
          </a:xfrm>
          <a:prstGeom prst="irregularSeal1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  <a:ea typeface="隶书"/>
              </a:rPr>
              <a:t>指针变量在使用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  <a:ea typeface="隶书"/>
              </a:rPr>
              <a:t>必须赋值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0640" y="383760"/>
            <a:ext cx="82202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例 将数从大到小输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4" name="CAMERA.WAV"/>
      </p:stSnd>
    </p:sndAc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14040" y="1058760"/>
            <a:ext cx="5127840" cy="4848840"/>
          </a:xfrm>
          <a:prstGeom prst="rect">
            <a:avLst/>
          </a:prstGeom>
          <a:solidFill>
            <a:srgbClr val="e1fff7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ch9_32.c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wap(int x,int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x; x=y;  y=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a,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*pointer_1,*pointer_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f("%d,%d",&amp;a,&amp;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pointer_1=&amp;a;  pointer_2=&amp;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a&lt;b)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wap(*pointer_1,*pointer_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("\n%d,%d\n",a,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655280" y="6039000"/>
            <a:ext cx="153396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运行结果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52400" y="363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85280" y="1885320"/>
            <a:ext cx="1374480" cy="1480320"/>
          </a:xfrm>
          <a:prstGeom prst="irregularSeal1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值传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将数从大到小输出（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1687320" y="6097680"/>
            <a:ext cx="153396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运行结果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38160" y="3128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2600" y="717480"/>
            <a:ext cx="5392800" cy="5214600"/>
          </a:xfrm>
          <a:prstGeom prst="rect">
            <a:avLst/>
          </a:prstGeom>
          <a:solidFill>
            <a:srgbClr val="e1fff7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wap(int *p1, int *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*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=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=p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=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a,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*pointer_1,*pointer_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f("%d,%d",&amp;a,&amp;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pointer_1=&amp;a;  pointer_2=&amp;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a&lt;b)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wap(pointer_1,pointer_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("%d,%d",*pointer_1,*pointer_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015720" y="1886760"/>
            <a:ext cx="1719360" cy="1480320"/>
          </a:xfrm>
          <a:prstGeom prst="irregularSeal1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地址传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47600" y="568080"/>
            <a:ext cx="7772400" cy="1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将数从大到小输出（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085760" y="3067200"/>
            <a:ext cx="704880" cy="1143000"/>
            <a:chOff x="1085760" y="3067200"/>
            <a:chExt cx="704880" cy="1143000"/>
          </a:xfrm>
        </p:grpSpPr>
        <p:sp>
          <p:nvSpPr>
            <p:cNvPr id="90" name=""/>
            <p:cNvSpPr/>
            <p:nvPr/>
          </p:nvSpPr>
          <p:spPr>
            <a:xfrm>
              <a:off x="1085760" y="3867120"/>
              <a:ext cx="704880" cy="343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7458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85760" y="3067200"/>
              <a:ext cx="704880" cy="342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52440" y="851040"/>
            <a:ext cx="853128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变量与地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56440" y="2509560"/>
            <a:ext cx="2860200" cy="1191240"/>
          </a:xfrm>
          <a:prstGeom prst="rect">
            <a:avLst/>
          </a:pr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程序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int  i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  k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61720" y="1467360"/>
            <a:ext cx="1288440" cy="398880"/>
          </a:xfrm>
          <a:prstGeom prst="borderCallout2">
            <a:avLst>
              <a:gd name="adj1" fmla="val 18750"/>
              <a:gd name="adj2" fmla="val -8333"/>
              <a:gd name="adj3" fmla="val 26277"/>
              <a:gd name="adj4" fmla="val -22342"/>
              <a:gd name="adj5" fmla="val 205500"/>
              <a:gd name="adj6" fmla="val -186171"/>
            </a:avLst>
          </a:prstGeom>
          <a:noFill/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内存中每个字节有一个编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---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地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09720" y="33908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09720" y="4552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58fe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62880" y="4024440"/>
            <a:ext cx="27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编译或函数调用时为其分配内存单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848040" y="2886120"/>
            <a:ext cx="3752640" cy="399960"/>
            <a:chOff x="3848040" y="2886120"/>
            <a:chExt cx="3752640" cy="399960"/>
          </a:xfrm>
        </p:grpSpPr>
        <p:sp>
          <p:nvSpPr>
            <p:cNvPr id="99" name=""/>
            <p:cNvSpPr/>
            <p:nvPr/>
          </p:nvSpPr>
          <p:spPr>
            <a:xfrm>
              <a:off x="7600680" y="2886120"/>
              <a:ext cx="0" cy="3999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48040" y="3286080"/>
              <a:ext cx="375264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848040" y="3648240"/>
            <a:ext cx="4049280" cy="419040"/>
            <a:chOff x="3848040" y="3648240"/>
            <a:chExt cx="4049280" cy="419040"/>
          </a:xfrm>
        </p:grpSpPr>
        <p:sp>
          <p:nvSpPr>
            <p:cNvPr id="102" name=""/>
            <p:cNvSpPr/>
            <p:nvPr/>
          </p:nvSpPr>
          <p:spPr>
            <a:xfrm>
              <a:off x="3848040" y="4065840"/>
              <a:ext cx="4049280" cy="0"/>
            </a:xfrm>
            <a:prstGeom prst="line">
              <a:avLst/>
            </a:prstGeom>
            <a:ln w="9360">
              <a:solidFill>
                <a:srgbClr val="7458fe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7897320" y="3648240"/>
              <a:ext cx="0" cy="419040"/>
            </a:xfrm>
            <a:prstGeom prst="line">
              <a:avLst/>
            </a:prstGeom>
            <a:ln w="9360">
              <a:solidFill>
                <a:srgbClr val="7458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5172480" y="5160960"/>
            <a:ext cx="2796120" cy="1272600"/>
          </a:xfrm>
          <a:prstGeom prst="cloudCallout">
            <a:avLst>
              <a:gd name="adj1" fmla="val -80763"/>
              <a:gd name="adj2" fmla="val -8302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58fe"/>
                </a:solidFill>
                <a:latin typeface="Times New Roman"/>
                <a:ea typeface="隶书"/>
              </a:rPr>
              <a:t>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是对程序中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存储空间的抽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936360" y="923400"/>
            <a:ext cx="38718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指针的概念</a:t>
            </a:r>
            <a:br>
              <a:rPr sz="3600"/>
            </a:b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063440" y="1856160"/>
            <a:ext cx="2837160" cy="5001840"/>
            <a:chOff x="1063440" y="1856160"/>
            <a:chExt cx="2837160" cy="5001840"/>
          </a:xfrm>
        </p:grpSpPr>
        <p:grpSp>
          <p:nvGrpSpPr>
            <p:cNvPr id="107" name=""/>
            <p:cNvGrpSpPr/>
            <p:nvPr/>
          </p:nvGrpSpPr>
          <p:grpSpPr>
            <a:xfrm>
              <a:off x="1063440" y="1856160"/>
              <a:ext cx="2781000" cy="5001840"/>
              <a:chOff x="1063440" y="1856160"/>
              <a:chExt cx="2781000" cy="5001840"/>
            </a:xfrm>
          </p:grpSpPr>
          <p:sp>
            <p:nvSpPr>
              <p:cNvPr id="108" name=""/>
              <p:cNvSpPr/>
              <p:nvPr/>
            </p:nvSpPr>
            <p:spPr>
              <a:xfrm>
                <a:off x="1919160" y="6292800"/>
                <a:ext cx="1922040" cy="565200"/>
              </a:xfrm>
              <a:custGeom>
                <a:avLst/>
                <a:gdLst/>
                <a:ahLst/>
                <a:rect l="l" t="t" r="r" b="b"/>
                <a:pathLst>
                  <a:path w="1211" h="456">
                    <a:moveTo>
                      <a:pt x="0" y="163"/>
                    </a:moveTo>
                    <a:cubicBezTo>
                      <a:pt x="159" y="81"/>
                      <a:pt x="318" y="0"/>
                      <a:pt x="500" y="41"/>
                    </a:cubicBezTo>
                    <a:cubicBezTo>
                      <a:pt x="682" y="82"/>
                      <a:pt x="970" y="360"/>
                      <a:pt x="1089" y="408"/>
                    </a:cubicBezTo>
                    <a:cubicBezTo>
                      <a:pt x="1208" y="456"/>
                      <a:pt x="1191" y="345"/>
                      <a:pt x="1211" y="33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920600" y="5743440"/>
                <a:ext cx="1923840" cy="1066680"/>
              </a:xfrm>
              <a:custGeom>
                <a:avLst/>
                <a:gdLst/>
                <a:ahLst/>
                <a:rect l="l" t="t" r="r" b="b"/>
                <a:pathLst>
                  <a:path w="1212" h="672">
                    <a:moveTo>
                      <a:pt x="12" y="0"/>
                    </a:moveTo>
                    <a:lnTo>
                      <a:pt x="1212" y="0"/>
                    </a:lnTo>
                    <a:lnTo>
                      <a:pt x="1212" y="624"/>
                    </a:lnTo>
                    <a:lnTo>
                      <a:pt x="1140" y="672"/>
                    </a:lnTo>
                    <a:lnTo>
                      <a:pt x="720" y="468"/>
                    </a:lnTo>
                    <a:lnTo>
                      <a:pt x="540" y="384"/>
                    </a:lnTo>
                    <a:lnTo>
                      <a:pt x="360" y="372"/>
                    </a:lnTo>
                    <a:lnTo>
                      <a:pt x="216" y="408"/>
                    </a:lnTo>
                    <a:lnTo>
                      <a:pt x="0" y="468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dddddd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919160" y="2232000"/>
                <a:ext cx="1922040" cy="3511440"/>
              </a:xfrm>
              <a:prstGeom prst="rect">
                <a:avLst/>
              </a:prstGeom>
              <a:solidFill>
                <a:srgbClr val="ddddd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919160" y="2636640"/>
                <a:ext cx="192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919160" y="3289320"/>
                <a:ext cx="192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919160" y="3695400"/>
                <a:ext cx="19220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919160" y="4065480"/>
                <a:ext cx="192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919160" y="4470120"/>
                <a:ext cx="192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900080" y="4879800"/>
                <a:ext cx="192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919160" y="5740200"/>
                <a:ext cx="192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919160" y="5757840"/>
                <a:ext cx="0" cy="72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841560" y="5757840"/>
                <a:ext cx="0" cy="9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680920" y="2683800"/>
                <a:ext cx="485280" cy="54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698200" y="5822280"/>
                <a:ext cx="485280" cy="54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063440" y="3037320"/>
                <a:ext cx="69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0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063440" y="3442320"/>
                <a:ext cx="69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00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063440" y="3831120"/>
                <a:ext cx="69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00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063440" y="5101200"/>
                <a:ext cx="69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00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698200" y="185616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内存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254600" y="22183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063440" y="4231080"/>
                <a:ext cx="69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00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919160" y="5298840"/>
                <a:ext cx="192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1938240" y="3503520"/>
              <a:ext cx="1962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16280" y="3900600"/>
              <a:ext cx="196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084480" y="682560"/>
            <a:ext cx="56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变量的地址是指该变量所占存储单元的第一个字节的地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CAMERA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2833560" y="1870200"/>
            <a:ext cx="4794840" cy="4626000"/>
            <a:chOff x="2833560" y="1870200"/>
            <a:chExt cx="4794840" cy="4626000"/>
          </a:xfrm>
        </p:grpSpPr>
        <p:sp>
          <p:nvSpPr>
            <p:cNvPr id="134" name=""/>
            <p:cNvSpPr/>
            <p:nvPr/>
          </p:nvSpPr>
          <p:spPr>
            <a:xfrm>
              <a:off x="3689280" y="5931000"/>
              <a:ext cx="1922400" cy="565200"/>
            </a:xfrm>
            <a:custGeom>
              <a:avLst/>
              <a:gdLst/>
              <a:ahLst/>
              <a:rect l="l" t="t" r="r" b="b"/>
              <a:pathLst>
                <a:path w="1211" h="456">
                  <a:moveTo>
                    <a:pt x="0" y="163"/>
                  </a:moveTo>
                  <a:cubicBezTo>
                    <a:pt x="159" y="81"/>
                    <a:pt x="318" y="0"/>
                    <a:pt x="500" y="41"/>
                  </a:cubicBezTo>
                  <a:cubicBezTo>
                    <a:pt x="682" y="82"/>
                    <a:pt x="970" y="360"/>
                    <a:pt x="1089" y="408"/>
                  </a:cubicBezTo>
                  <a:cubicBezTo>
                    <a:pt x="1208" y="456"/>
                    <a:pt x="1191" y="345"/>
                    <a:pt x="1211" y="3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90720" y="5381640"/>
              <a:ext cx="1924200" cy="1067040"/>
            </a:xfrm>
            <a:custGeom>
              <a:avLst/>
              <a:gdLst/>
              <a:ahLst/>
              <a:rect l="l" t="t" r="r" b="b"/>
              <a:pathLst>
                <a:path w="1212" h="672">
                  <a:moveTo>
                    <a:pt x="12" y="0"/>
                  </a:moveTo>
                  <a:lnTo>
                    <a:pt x="1212" y="0"/>
                  </a:lnTo>
                  <a:lnTo>
                    <a:pt x="1212" y="624"/>
                  </a:lnTo>
                  <a:lnTo>
                    <a:pt x="1140" y="672"/>
                  </a:lnTo>
                  <a:lnTo>
                    <a:pt x="720" y="468"/>
                  </a:lnTo>
                  <a:lnTo>
                    <a:pt x="540" y="384"/>
                  </a:lnTo>
                  <a:lnTo>
                    <a:pt x="360" y="372"/>
                  </a:lnTo>
                  <a:lnTo>
                    <a:pt x="216" y="408"/>
                  </a:lnTo>
                  <a:lnTo>
                    <a:pt x="0" y="46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ddddd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89280" y="1870200"/>
              <a:ext cx="1922400" cy="351144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08360" y="256572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08360" y="2971800"/>
              <a:ext cx="192240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08360" y="334188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08360" y="374652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689280" y="415620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08360" y="501660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89280" y="5396040"/>
              <a:ext cx="0" cy="72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11680" y="539604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70480" y="1960200"/>
              <a:ext cx="4852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69040" y="5460840"/>
              <a:ext cx="4852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33560" y="239004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33560" y="393156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33560" y="470124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33560" y="431712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08360" y="457524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595840" y="2571840"/>
              <a:ext cx="36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58800" y="232740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整型变量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27560" y="27453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5633640" y="4152960"/>
              <a:ext cx="36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93640" y="3908520"/>
              <a:ext cx="163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变量</a:t>
              </a:r>
              <a:r>
                <a:rPr b="0" lang="en-US" sz="2000" spc="-1" strike="noStrike">
                  <a:solidFill>
                    <a:srgbClr val="7458fe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7458fe"/>
                  </a:solidFill>
                  <a:latin typeface="Times New Roman"/>
                </a:rPr>
                <a:t>_poin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33560" y="277560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33560" y="316152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33560" y="354564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555480" y="344520"/>
            <a:ext cx="6785280" cy="14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针：一个变量的地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针变量：专门存放变量地址的变量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81480" y="437112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458fe"/>
                </a:solidFill>
                <a:latin typeface="Times New Roman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16960" y="1755720"/>
            <a:ext cx="689760" cy="566640"/>
          </a:xfrm>
          <a:prstGeom prst="wedgeEllipseCallout">
            <a:avLst>
              <a:gd name="adj1" fmla="val 59231"/>
              <a:gd name="adj2" fmla="val 82759"/>
            </a:avLst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指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87120" y="4422600"/>
            <a:ext cx="1122840" cy="566640"/>
          </a:xfrm>
          <a:prstGeom prst="wedgeEllipseCallout">
            <a:avLst>
              <a:gd name="adj1" fmla="val -74740"/>
              <a:gd name="adj2" fmla="val -74060"/>
            </a:avLst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指针变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585880" y="2381400"/>
            <a:ext cx="1009800" cy="2228760"/>
            <a:chOff x="2585880" y="2381400"/>
            <a:chExt cx="1009800" cy="2228760"/>
          </a:xfrm>
        </p:grpSpPr>
        <p:grpSp>
          <p:nvGrpSpPr>
            <p:cNvPr id="165" name=""/>
            <p:cNvGrpSpPr/>
            <p:nvPr/>
          </p:nvGrpSpPr>
          <p:grpSpPr>
            <a:xfrm>
              <a:off x="2585880" y="2590920"/>
              <a:ext cx="1009800" cy="2019240"/>
              <a:chOff x="2585880" y="2590920"/>
              <a:chExt cx="1009800" cy="2019240"/>
            </a:xfrm>
          </p:grpSpPr>
          <p:sp>
            <p:nvSpPr>
              <p:cNvPr id="166" name=""/>
              <p:cNvSpPr/>
              <p:nvPr/>
            </p:nvSpPr>
            <p:spPr>
              <a:xfrm flipH="1">
                <a:off x="2604960" y="2590920"/>
                <a:ext cx="247680" cy="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585880" y="2590920"/>
                <a:ext cx="0" cy="201924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585880" y="4610160"/>
                <a:ext cx="1009800" cy="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2843280" y="2381400"/>
              <a:ext cx="676080" cy="442800"/>
            </a:xfrm>
            <a:custGeom>
              <a:avLst/>
              <a:gdLst/>
              <a:ahLst/>
              <a:rect l="l" t="t" r="r" b="b"/>
              <a:pathLst>
                <a:path w="426" h="279">
                  <a:moveTo>
                    <a:pt x="294" y="24"/>
                  </a:moveTo>
                  <a:cubicBezTo>
                    <a:pt x="200" y="11"/>
                    <a:pt x="110" y="5"/>
                    <a:pt x="18" y="36"/>
                  </a:cubicBezTo>
                  <a:cubicBezTo>
                    <a:pt x="0" y="89"/>
                    <a:pt x="0" y="72"/>
                    <a:pt x="18" y="144"/>
                  </a:cubicBezTo>
                  <a:cubicBezTo>
                    <a:pt x="24" y="169"/>
                    <a:pt x="18" y="208"/>
                    <a:pt x="42" y="216"/>
                  </a:cubicBezTo>
                  <a:cubicBezTo>
                    <a:pt x="115" y="240"/>
                    <a:pt x="182" y="261"/>
                    <a:pt x="258" y="276"/>
                  </a:cubicBezTo>
                  <a:cubicBezTo>
                    <a:pt x="276" y="274"/>
                    <a:pt x="377" y="279"/>
                    <a:pt x="402" y="240"/>
                  </a:cubicBezTo>
                  <a:cubicBezTo>
                    <a:pt x="415" y="219"/>
                    <a:pt x="426" y="168"/>
                    <a:pt x="426" y="168"/>
                  </a:cubicBezTo>
                  <a:cubicBezTo>
                    <a:pt x="405" y="104"/>
                    <a:pt x="409" y="70"/>
                    <a:pt x="342" y="48"/>
                  </a:cubicBezTo>
                  <a:cubicBezTo>
                    <a:pt x="326" y="0"/>
                    <a:pt x="342" y="8"/>
                    <a:pt x="294" y="24"/>
                  </a:cubicBezTo>
                  <a:close/>
                </a:path>
              </a:pathLst>
            </a:custGeom>
            <a:noFill/>
            <a:ln w="38160">
              <a:solidFill>
                <a:srgbClr val="7458f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6793560" y="2859120"/>
            <a:ext cx="1351080" cy="459720"/>
          </a:xfrm>
          <a:prstGeom prst="borderCallout1">
            <a:avLst>
              <a:gd name="adj1" fmla="val 18750"/>
              <a:gd name="adj2" fmla="val -8333"/>
              <a:gd name="adj3" fmla="val 23787"/>
              <a:gd name="adj4" fmla="val -126185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变量的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内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17480" y="2954160"/>
            <a:ext cx="1403280" cy="459720"/>
          </a:xfrm>
          <a:prstGeom prst="borderCallout1">
            <a:avLst>
              <a:gd name="adj1" fmla="val 18750"/>
              <a:gd name="adj2" fmla="val -8333"/>
              <a:gd name="adj3" fmla="val -111185"/>
              <a:gd name="adj4" fmla="val 151805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变量的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  <a:ea typeface="隶书"/>
              </a:rPr>
              <a:t>地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19000" y="6000840"/>
            <a:ext cx="51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指针与指针变量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068480" y="4957920"/>
            <a:ext cx="7580160" cy="1572120"/>
            <a:chOff x="1068480" y="4957920"/>
            <a:chExt cx="7580160" cy="1572120"/>
          </a:xfrm>
        </p:grpSpPr>
        <p:sp>
          <p:nvSpPr>
            <p:cNvPr id="175" name=""/>
            <p:cNvSpPr/>
            <p:nvPr/>
          </p:nvSpPr>
          <p:spPr>
            <a:xfrm>
              <a:off x="1068480" y="4957920"/>
              <a:ext cx="7580160" cy="1572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_pointer                               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04                          2000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11280" y="5321160"/>
              <a:ext cx="893880" cy="70668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122800" y="5265720"/>
              <a:ext cx="2027160" cy="71604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40480" y="5265720"/>
              <a:ext cx="0" cy="71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80120" y="5265720"/>
              <a:ext cx="0" cy="71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08600" y="5288040"/>
              <a:ext cx="0" cy="71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963880" y="5662080"/>
              <a:ext cx="217008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  <p:sndAc>
      <p:stSnd>
        <p:snd r:embed="rId2" name="CAMERA.WAV"/>
      </p:stSnd>
    </p:sndAc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38120" y="3236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lvl="1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含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22600" y="1114560"/>
            <a:ext cx="1656360" cy="1314000"/>
          </a:xfrm>
          <a:prstGeom prst="wedgeRectCallout">
            <a:avLst>
              <a:gd name="adj1" fmla="val -14736"/>
              <a:gd name="adj2" fmla="val -77416"/>
            </a:avLst>
          </a:prstGeom>
          <a:solidFill>
            <a:srgbClr val="ffffff"/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含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取变量的地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单目运算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优先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结合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7458fe"/>
                </a:solidFill>
                <a:latin typeface="Times New Roman"/>
              </a:rPr>
              <a:t>自右向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43760" y="1114560"/>
            <a:ext cx="2418480" cy="1314000"/>
          </a:xfrm>
          <a:prstGeom prst="wedgeRectCallout">
            <a:avLst>
              <a:gd name="adj1" fmla="val -66444"/>
              <a:gd name="adj2" fmla="val -78865"/>
            </a:avLst>
          </a:prstGeom>
          <a:solidFill>
            <a:srgbClr val="ffffff"/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含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取指针所指向变量的内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单目运算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优先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结合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7458fe"/>
                </a:solidFill>
                <a:latin typeface="Times New Roman"/>
              </a:rPr>
              <a:t>自右向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067360" y="530280"/>
            <a:ext cx="815328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两者关系：互为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逆运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理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04800" y="2212920"/>
            <a:ext cx="5041440" cy="4626000"/>
            <a:chOff x="604800" y="2212920"/>
            <a:chExt cx="5041440" cy="4626000"/>
          </a:xfrm>
        </p:grpSpPr>
        <p:sp>
          <p:nvSpPr>
            <p:cNvPr id="187" name=""/>
            <p:cNvSpPr/>
            <p:nvPr/>
          </p:nvSpPr>
          <p:spPr>
            <a:xfrm>
              <a:off x="871560" y="4284720"/>
              <a:ext cx="655560" cy="382680"/>
            </a:xfrm>
            <a:prstGeom prst="pie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604800" y="2212920"/>
              <a:ext cx="5041440" cy="4626000"/>
              <a:chOff x="604800" y="2212920"/>
              <a:chExt cx="5041440" cy="4626000"/>
            </a:xfrm>
          </p:grpSpPr>
          <p:grpSp>
            <p:nvGrpSpPr>
              <p:cNvPr id="189" name=""/>
              <p:cNvGrpSpPr/>
              <p:nvPr/>
            </p:nvGrpSpPr>
            <p:grpSpPr>
              <a:xfrm>
                <a:off x="851760" y="2212920"/>
                <a:ext cx="4794480" cy="4626000"/>
                <a:chOff x="851760" y="2212920"/>
                <a:chExt cx="4794480" cy="462600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1707480" y="6273720"/>
                  <a:ext cx="1922040" cy="565200"/>
                </a:xfrm>
                <a:custGeom>
                  <a:avLst/>
                  <a:gdLst/>
                  <a:ahLst/>
                  <a:rect l="l" t="t" r="r" b="b"/>
                  <a:pathLst>
                    <a:path w="1211" h="456">
                      <a:moveTo>
                        <a:pt x="0" y="163"/>
                      </a:moveTo>
                      <a:cubicBezTo>
                        <a:pt x="159" y="81"/>
                        <a:pt x="318" y="0"/>
                        <a:pt x="500" y="41"/>
                      </a:cubicBezTo>
                      <a:cubicBezTo>
                        <a:pt x="682" y="82"/>
                        <a:pt x="970" y="360"/>
                        <a:pt x="1089" y="408"/>
                      </a:cubicBezTo>
                      <a:cubicBezTo>
                        <a:pt x="1208" y="456"/>
                        <a:pt x="1191" y="345"/>
                        <a:pt x="1211" y="33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708920" y="5724360"/>
                  <a:ext cx="1923840" cy="1067040"/>
                </a:xfrm>
                <a:custGeom>
                  <a:avLst/>
                  <a:gdLst/>
                  <a:ahLst/>
                  <a:rect l="l" t="t" r="r" b="b"/>
                  <a:pathLst>
                    <a:path w="1212" h="672">
                      <a:moveTo>
                        <a:pt x="12" y="0"/>
                      </a:moveTo>
                      <a:lnTo>
                        <a:pt x="1212" y="0"/>
                      </a:lnTo>
                      <a:lnTo>
                        <a:pt x="1212" y="624"/>
                      </a:lnTo>
                      <a:lnTo>
                        <a:pt x="1140" y="672"/>
                      </a:lnTo>
                      <a:lnTo>
                        <a:pt x="720" y="468"/>
                      </a:lnTo>
                      <a:lnTo>
                        <a:pt x="540" y="384"/>
                      </a:lnTo>
                      <a:lnTo>
                        <a:pt x="360" y="372"/>
                      </a:lnTo>
                      <a:lnTo>
                        <a:pt x="216" y="408"/>
                      </a:lnTo>
                      <a:lnTo>
                        <a:pt x="0" y="468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1707480" y="2212920"/>
                  <a:ext cx="1922040" cy="3511440"/>
                </a:xfrm>
                <a:prstGeom prst="rect">
                  <a:avLst/>
                </a:prstGeom>
                <a:solidFill>
                  <a:srgbClr val="dddddd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726560" y="2908440"/>
                  <a:ext cx="1922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726560" y="3314520"/>
                  <a:ext cx="192204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726560" y="3684600"/>
                  <a:ext cx="1922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726560" y="4089240"/>
                  <a:ext cx="1922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707480" y="4498920"/>
                  <a:ext cx="1922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726560" y="5359320"/>
                  <a:ext cx="1922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707480" y="5738760"/>
                  <a:ext cx="0" cy="72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629880" y="5738760"/>
                  <a:ext cx="0" cy="95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2488320" y="2302920"/>
                  <a:ext cx="48528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...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486880" y="5803560"/>
                  <a:ext cx="48528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...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851760" y="2732760"/>
                  <a:ext cx="692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851760" y="4274280"/>
                  <a:ext cx="692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00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851760" y="5043960"/>
                  <a:ext cx="692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00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851760" y="4659840"/>
                  <a:ext cx="692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00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726560" y="4917960"/>
                  <a:ext cx="1922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>
                  <a:off x="3613680" y="2914560"/>
                  <a:ext cx="361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076640" y="2670120"/>
                  <a:ext cx="936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整型变量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i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345400" y="3088080"/>
                  <a:ext cx="485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>
                  <a:off x="3652200" y="4495680"/>
                  <a:ext cx="361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11480" y="4251240"/>
                  <a:ext cx="1634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变量</a:t>
                  </a:r>
                  <a:r>
                    <a:rPr b="0" lang="en-US" sz="2000" spc="-1" strike="noStrike">
                      <a:solidFill>
                        <a:srgbClr val="7458fe"/>
                      </a:solidFill>
                      <a:latin typeface="Times New Roman"/>
                    </a:rPr>
                    <a:t>i</a:t>
                  </a:r>
                  <a:r>
                    <a:rPr b="0" lang="en-US" sz="2400" spc="-1" strike="noStrike">
                      <a:solidFill>
                        <a:srgbClr val="7458fe"/>
                      </a:solidFill>
                      <a:latin typeface="Times New Roman"/>
                    </a:rPr>
                    <a:t>_pointe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51760" y="3118320"/>
                  <a:ext cx="692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00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51760" y="3504240"/>
                  <a:ext cx="692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00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851760" y="3888360"/>
                  <a:ext cx="692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00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2299680" y="4713840"/>
                <a:ext cx="69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7458fe"/>
                    </a:solidFill>
                    <a:latin typeface="Times New Roman"/>
                  </a:rPr>
                  <a:t>20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404960" y="4765320"/>
                <a:ext cx="1122840" cy="566640"/>
              </a:xfrm>
              <a:prstGeom prst="wedgeEllipseCallout">
                <a:avLst>
                  <a:gd name="adj1" fmla="val -75254"/>
                  <a:gd name="adj2" fmla="val -74060"/>
                </a:avLst>
              </a:prstGeom>
              <a:noFill/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指针变量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04800" y="2724120"/>
                <a:ext cx="1009440" cy="2228760"/>
                <a:chOff x="604800" y="2724120"/>
                <a:chExt cx="1009440" cy="222876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604800" y="2933640"/>
                  <a:ext cx="1009440" cy="2019240"/>
                  <a:chOff x="604800" y="2933640"/>
                  <a:chExt cx="1009440" cy="201924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 flipH="1">
                    <a:off x="623160" y="2933640"/>
                    <a:ext cx="247320" cy="0"/>
                  </a:xfrm>
                  <a:prstGeom prst="line">
                    <a:avLst/>
                  </a:prstGeom>
                  <a:ln w="3816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04800" y="2933640"/>
                    <a:ext cx="0" cy="2019240"/>
                  </a:xfrm>
                  <a:prstGeom prst="line">
                    <a:avLst/>
                  </a:prstGeom>
                  <a:ln w="3816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04800" y="4952880"/>
                    <a:ext cx="1009440" cy="0"/>
                  </a:xfrm>
                  <a:prstGeom prst="line">
                    <a:avLst/>
                  </a:prstGeom>
                  <a:ln w="38160">
                    <a:solidFill>
                      <a:srgbClr val="339933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861840" y="2724120"/>
                  <a:ext cx="675720" cy="442800"/>
                </a:xfrm>
                <a:custGeom>
                  <a:avLst/>
                  <a:gdLst/>
                  <a:ahLst/>
                  <a:rect l="l" t="t" r="r" b="b"/>
                  <a:pathLst>
                    <a:path w="426" h="279">
                      <a:moveTo>
                        <a:pt x="294" y="24"/>
                      </a:moveTo>
                      <a:cubicBezTo>
                        <a:pt x="200" y="11"/>
                        <a:pt x="110" y="5"/>
                        <a:pt x="18" y="36"/>
                      </a:cubicBezTo>
                      <a:cubicBezTo>
                        <a:pt x="0" y="89"/>
                        <a:pt x="0" y="72"/>
                        <a:pt x="18" y="144"/>
                      </a:cubicBezTo>
                      <a:cubicBezTo>
                        <a:pt x="24" y="169"/>
                        <a:pt x="18" y="208"/>
                        <a:pt x="42" y="216"/>
                      </a:cubicBezTo>
                      <a:cubicBezTo>
                        <a:pt x="115" y="240"/>
                        <a:pt x="182" y="261"/>
                        <a:pt x="258" y="276"/>
                      </a:cubicBezTo>
                      <a:cubicBezTo>
                        <a:pt x="276" y="274"/>
                        <a:pt x="377" y="279"/>
                        <a:pt x="402" y="240"/>
                      </a:cubicBezTo>
                      <a:cubicBezTo>
                        <a:pt x="415" y="219"/>
                        <a:pt x="426" y="168"/>
                        <a:pt x="426" y="168"/>
                      </a:cubicBezTo>
                      <a:cubicBezTo>
                        <a:pt x="405" y="104"/>
                        <a:pt x="409" y="70"/>
                        <a:pt x="342" y="48"/>
                      </a:cubicBezTo>
                      <a:cubicBezTo>
                        <a:pt x="326" y="0"/>
                        <a:pt x="342" y="8"/>
                        <a:pt x="294" y="24"/>
                      </a:cubicBezTo>
                      <a:close/>
                    </a:path>
                  </a:pathLst>
                </a:custGeom>
                <a:noFill/>
                <a:ln w="38160">
                  <a:solidFill>
                    <a:srgbClr val="7458f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4" name=""/>
          <p:cNvSpPr/>
          <p:nvPr/>
        </p:nvSpPr>
        <p:spPr>
          <a:xfrm>
            <a:off x="1981440" y="5552640"/>
            <a:ext cx="49842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_pointer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-----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指针变量，它的内容是地址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*i_pointer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----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指针的</a:t>
            </a:r>
            <a:r>
              <a:rPr b="0" lang="en-US" sz="2400" spc="-1" strike="noStrike">
                <a:solidFill>
                  <a:srgbClr val="7458fe"/>
                </a:solidFill>
                <a:latin typeface="隶书"/>
                <a:ea typeface="隶书"/>
              </a:rPr>
              <a:t>目标变量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，它的内容是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&amp;i_pointer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---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指针变量占用内存的地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711320" y="1409040"/>
            <a:ext cx="3929400" cy="1209960"/>
            <a:chOff x="4711320" y="1409040"/>
            <a:chExt cx="3929400" cy="1209960"/>
          </a:xfrm>
        </p:grpSpPr>
        <p:sp>
          <p:nvSpPr>
            <p:cNvPr id="226" name=""/>
            <p:cNvSpPr/>
            <p:nvPr/>
          </p:nvSpPr>
          <p:spPr>
            <a:xfrm>
              <a:off x="5932080" y="1862280"/>
              <a:ext cx="970200" cy="40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48120" y="1838520"/>
              <a:ext cx="970200" cy="40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02280" y="2073240"/>
              <a:ext cx="65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57920" y="1450080"/>
              <a:ext cx="110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i_poin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11320" y="1409040"/>
              <a:ext cx="122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33"/>
                  </a:solidFill>
                  <a:latin typeface="Times New Roman"/>
                </a:rPr>
                <a:t>*i_poin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11320" y="1867680"/>
              <a:ext cx="129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458fe"/>
                  </a:solidFill>
                  <a:latin typeface="Times New Roman"/>
                </a:rPr>
                <a:t>&amp;i_poin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932240" y="222012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993480" y="3182760"/>
            <a:ext cx="406692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_pointer     &amp;i     &amp;(*i_poi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Times New Roman"/>
              </a:rPr>
              <a:t>i       *i_pointer      *(&amp;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1920" y="3201840"/>
            <a:ext cx="425808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_poi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&amp;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&amp;(*i_poi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669900"/>
                </a:solidFill>
                <a:latin typeface="Times New Roman"/>
              </a:rPr>
              <a:t>*i_poi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669900"/>
                </a:solidFill>
                <a:latin typeface="Times New Roman"/>
              </a:rPr>
              <a:t>*(&amp;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1160640" y="419040"/>
            <a:ext cx="29764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&amp;</a:t>
            </a: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与</a:t>
            </a: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运算符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298440" y="865080"/>
            <a:ext cx="853128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直接访问：按变量地址存取变量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间接访问：通过存放变量地址的变量去访问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223240" y="2052720"/>
            <a:ext cx="36565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=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      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-----</a:t>
            </a:r>
            <a:r>
              <a:rPr b="0" lang="en-US" sz="2400" spc="-1" strike="noStrike">
                <a:solidFill>
                  <a:srgbClr val="0000ff"/>
                </a:solidFill>
                <a:latin typeface="隶书"/>
                <a:ea typeface="隶书"/>
              </a:rPr>
              <a:t>直接访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04800" y="1889280"/>
            <a:ext cx="4794840" cy="4626000"/>
            <a:chOff x="604800" y="1889280"/>
            <a:chExt cx="4794840" cy="4626000"/>
          </a:xfrm>
        </p:grpSpPr>
        <p:grpSp>
          <p:nvGrpSpPr>
            <p:cNvPr id="239" name=""/>
            <p:cNvGrpSpPr/>
            <p:nvPr/>
          </p:nvGrpSpPr>
          <p:grpSpPr>
            <a:xfrm>
              <a:off x="604800" y="1889280"/>
              <a:ext cx="4794840" cy="4626000"/>
              <a:chOff x="604800" y="1889280"/>
              <a:chExt cx="4794840" cy="4626000"/>
            </a:xfrm>
          </p:grpSpPr>
          <p:sp>
            <p:nvSpPr>
              <p:cNvPr id="240" name=""/>
              <p:cNvSpPr/>
              <p:nvPr/>
            </p:nvSpPr>
            <p:spPr>
              <a:xfrm>
                <a:off x="4157640" y="4441680"/>
                <a:ext cx="1122840" cy="566640"/>
              </a:xfrm>
              <a:prstGeom prst="wedgeEllipseCallout">
                <a:avLst>
                  <a:gd name="adj1" fmla="val -75254"/>
                  <a:gd name="adj2" fmla="val -74060"/>
                </a:avLst>
              </a:prstGeom>
              <a:noFill/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指针变量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604800" y="1889280"/>
                <a:ext cx="4794840" cy="4626000"/>
                <a:chOff x="604800" y="1889280"/>
                <a:chExt cx="4794840" cy="4626000"/>
              </a:xfrm>
            </p:grpSpPr>
            <p:grpSp>
              <p:nvGrpSpPr>
                <p:cNvPr id="242" name=""/>
                <p:cNvGrpSpPr/>
                <p:nvPr/>
              </p:nvGrpSpPr>
              <p:grpSpPr>
                <a:xfrm>
                  <a:off x="604800" y="1889280"/>
                  <a:ext cx="4794840" cy="4626000"/>
                  <a:chOff x="604800" y="1889280"/>
                  <a:chExt cx="4794840" cy="462600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>
                    <a:off x="1460520" y="5950080"/>
                    <a:ext cx="1922400" cy="56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1" h="456">
                        <a:moveTo>
                          <a:pt x="0" y="163"/>
                        </a:moveTo>
                        <a:cubicBezTo>
                          <a:pt x="159" y="81"/>
                          <a:pt x="318" y="0"/>
                          <a:pt x="500" y="41"/>
                        </a:cubicBezTo>
                        <a:cubicBezTo>
                          <a:pt x="682" y="82"/>
                          <a:pt x="970" y="360"/>
                          <a:pt x="1089" y="408"/>
                        </a:cubicBezTo>
                        <a:cubicBezTo>
                          <a:pt x="1208" y="456"/>
                          <a:pt x="1191" y="345"/>
                          <a:pt x="1211" y="33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1461960" y="5400720"/>
                    <a:ext cx="1924200" cy="10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212" h="672">
                        <a:moveTo>
                          <a:pt x="12" y="0"/>
                        </a:moveTo>
                        <a:lnTo>
                          <a:pt x="1212" y="0"/>
                        </a:lnTo>
                        <a:lnTo>
                          <a:pt x="1212" y="624"/>
                        </a:lnTo>
                        <a:lnTo>
                          <a:pt x="1140" y="672"/>
                        </a:lnTo>
                        <a:lnTo>
                          <a:pt x="720" y="468"/>
                        </a:lnTo>
                        <a:lnTo>
                          <a:pt x="540" y="384"/>
                        </a:lnTo>
                        <a:lnTo>
                          <a:pt x="360" y="372"/>
                        </a:lnTo>
                        <a:lnTo>
                          <a:pt x="216" y="408"/>
                        </a:lnTo>
                        <a:lnTo>
                          <a:pt x="0" y="468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1460520" y="1889280"/>
                    <a:ext cx="1922400" cy="3511440"/>
                  </a:xfrm>
                  <a:prstGeom prst="rect">
                    <a:avLst/>
                  </a:prstGeom>
                  <a:solidFill>
                    <a:srgbClr val="dddddd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1479600" y="2584800"/>
                    <a:ext cx="1922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1479600" y="2990880"/>
                    <a:ext cx="1922400" cy="0"/>
                  </a:xfrm>
                  <a:prstGeom prst="line">
                    <a:avLst/>
                  </a:prstGeom>
                  <a:ln w="9360">
                    <a:solidFill>
                      <a:srgbClr val="80808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1479600" y="3360960"/>
                    <a:ext cx="1922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1479600" y="3765600"/>
                    <a:ext cx="1922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1460520" y="4175280"/>
                    <a:ext cx="1922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1479600" y="5035680"/>
                    <a:ext cx="1922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1460520" y="5415120"/>
                    <a:ext cx="0" cy="723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3382920" y="5415120"/>
                    <a:ext cx="0" cy="95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2241720" y="1979280"/>
                    <a:ext cx="485280" cy="540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…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2240280" y="5479920"/>
                    <a:ext cx="485280" cy="540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…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604800" y="2409120"/>
                    <a:ext cx="6926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604800" y="3950640"/>
                    <a:ext cx="6926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04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604800" y="4720320"/>
                    <a:ext cx="6926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06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604800" y="4336200"/>
                    <a:ext cx="6926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0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1479600" y="4594320"/>
                    <a:ext cx="1922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H="1">
                    <a:off x="3367080" y="2590920"/>
                    <a:ext cx="3621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830040" y="2346480"/>
                    <a:ext cx="936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整型变量</a:t>
                    </a:r>
                    <a:r>
                      <a:rPr b="0" lang="en-US" sz="2400" spc="-1" strike="noStrike">
                        <a:solidFill>
                          <a:srgbClr val="0000ff"/>
                        </a:solidFill>
                        <a:latin typeface="Times New Roman"/>
                      </a:rPr>
                      <a:t>i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2098800" y="2764440"/>
                    <a:ext cx="4856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ff"/>
                        </a:solidFill>
                        <a:latin typeface="Times New Roman"/>
                      </a:rPr>
                      <a:t>10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H="1">
                    <a:off x="3404880" y="4172040"/>
                    <a:ext cx="3618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3764880" y="3927600"/>
                    <a:ext cx="1634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变量</a:t>
                    </a:r>
                    <a:r>
                      <a:rPr b="0" lang="en-US" sz="2000" spc="-1" strike="noStrike">
                        <a:solidFill>
                          <a:srgbClr val="7458fe"/>
                        </a:solidFill>
                        <a:latin typeface="Times New Roman"/>
                      </a:rPr>
                      <a:t>i</a:t>
                    </a:r>
                    <a:r>
                      <a:rPr b="0" lang="en-US" sz="2400" spc="-1" strike="noStrike">
                        <a:solidFill>
                          <a:srgbClr val="7458fe"/>
                        </a:solidFill>
                        <a:latin typeface="Times New Roman"/>
                      </a:rPr>
                      <a:t>_pointer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604800" y="2794680"/>
                    <a:ext cx="6926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0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604800" y="3180600"/>
                    <a:ext cx="6926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0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04800" y="3564720"/>
                    <a:ext cx="6926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0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609480" y="2419200"/>
                  <a:ext cx="666720" cy="381240"/>
                </a:xfrm>
                <a:prstGeom prst="ellipse">
                  <a:avLst/>
                </a:prstGeom>
                <a:noFill/>
                <a:ln w="38160">
                  <a:solidFill>
                    <a:srgbClr val="7458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0" name=""/>
            <p:cNvSpPr/>
            <p:nvPr/>
          </p:nvSpPr>
          <p:spPr>
            <a:xfrm>
              <a:off x="2052360" y="439020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458fe"/>
                  </a:solidFill>
                  <a:latin typeface="Times New Roman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2226960" y="2772360"/>
            <a:ext cx="30888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695760" y="5367600"/>
            <a:ext cx="49798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i_pointer=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      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-----</a:t>
            </a:r>
            <a:r>
              <a:rPr b="0" lang="en-US" sz="2400" spc="-1" strike="noStrike">
                <a:solidFill>
                  <a:srgbClr val="ff9900"/>
                </a:solidFill>
                <a:latin typeface="隶书"/>
                <a:ea typeface="隶书"/>
              </a:rPr>
              <a:t>间接访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57400" y="4400640"/>
            <a:ext cx="666720" cy="38088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71320" y="4667400"/>
            <a:ext cx="14857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609480" y="2629080"/>
            <a:ext cx="0" cy="20383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867280" y="3009600"/>
            <a:ext cx="0" cy="2438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06000" y="2810520"/>
            <a:ext cx="43668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781360" y="2457360"/>
            <a:ext cx="3371760" cy="495360"/>
            <a:chOff x="2781360" y="2457360"/>
            <a:chExt cx="3371760" cy="495360"/>
          </a:xfrm>
        </p:grpSpPr>
        <p:sp>
          <p:nvSpPr>
            <p:cNvPr id="279" name=""/>
            <p:cNvSpPr/>
            <p:nvPr/>
          </p:nvSpPr>
          <p:spPr>
            <a:xfrm>
              <a:off x="6153120" y="2457360"/>
              <a:ext cx="0" cy="4762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781360" y="2952720"/>
              <a:ext cx="337176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 flipH="1">
            <a:off x="2819520" y="3029040"/>
            <a:ext cx="304776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849240" y="466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直接访问与间接访问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693720" y="6343560"/>
            <a:ext cx="1047600" cy="514080"/>
            <a:chOff x="693720" y="6343560"/>
            <a:chExt cx="1047600" cy="514080"/>
          </a:xfrm>
        </p:grpSpPr>
        <p:sp>
          <p:nvSpPr>
            <p:cNvPr id="284" name="">
              <a:hlinkClick r:id="rId2" action="ppaction://hlinksldjump"/>
            </p:cNvPr>
            <p:cNvSpPr/>
            <p:nvPr/>
          </p:nvSpPr>
          <p:spPr>
            <a:xfrm>
              <a:off x="69372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dfd6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836640" y="6391080"/>
              <a:ext cx="714240" cy="380880"/>
              <a:chOff x="836640" y="6391080"/>
              <a:chExt cx="714240" cy="380880"/>
            </a:xfrm>
          </p:grpSpPr>
          <p:sp>
            <p:nvSpPr>
              <p:cNvPr id="286" name="">
                <a:hlinkClick r:id="rId3" action="ppaction://hlinksldjump"/>
              </p:cNvPr>
              <p:cNvSpPr/>
              <p:nvPr/>
            </p:nvSpPr>
            <p:spPr>
              <a:xfrm rot="16200000">
                <a:off x="84600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26540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43676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  <p:sndAc>
      <p:stSnd>
        <p:snd r:embed="rId4" name="CAMERA.WAV"/>
      </p:stSnd>
    </p:sndAc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2243160" y="1603440"/>
            <a:ext cx="4794840" cy="4626000"/>
            <a:chOff x="2243160" y="1603440"/>
            <a:chExt cx="4794840" cy="4626000"/>
          </a:xfrm>
        </p:grpSpPr>
        <p:sp>
          <p:nvSpPr>
            <p:cNvPr id="290" name=""/>
            <p:cNvSpPr/>
            <p:nvPr/>
          </p:nvSpPr>
          <p:spPr>
            <a:xfrm>
              <a:off x="5796000" y="4155840"/>
              <a:ext cx="1122840" cy="566640"/>
            </a:xfrm>
            <a:prstGeom prst="wedgeEllipseCallout">
              <a:avLst>
                <a:gd name="adj1" fmla="val -75254"/>
                <a:gd name="adj2" fmla="val -74060"/>
              </a:avLst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指针变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098880" y="5664240"/>
              <a:ext cx="1922400" cy="565200"/>
            </a:xfrm>
            <a:custGeom>
              <a:avLst/>
              <a:gdLst/>
              <a:ahLst/>
              <a:rect l="l" t="t" r="r" b="b"/>
              <a:pathLst>
                <a:path w="1211" h="456">
                  <a:moveTo>
                    <a:pt x="0" y="163"/>
                  </a:moveTo>
                  <a:cubicBezTo>
                    <a:pt x="159" y="81"/>
                    <a:pt x="318" y="0"/>
                    <a:pt x="500" y="41"/>
                  </a:cubicBezTo>
                  <a:cubicBezTo>
                    <a:pt x="682" y="82"/>
                    <a:pt x="970" y="360"/>
                    <a:pt x="1089" y="408"/>
                  </a:cubicBezTo>
                  <a:cubicBezTo>
                    <a:pt x="1208" y="456"/>
                    <a:pt x="1191" y="345"/>
                    <a:pt x="1211" y="3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100320" y="5114880"/>
              <a:ext cx="1924200" cy="1066680"/>
            </a:xfrm>
            <a:custGeom>
              <a:avLst/>
              <a:gdLst/>
              <a:ahLst/>
              <a:rect l="l" t="t" r="r" b="b"/>
              <a:pathLst>
                <a:path w="1212" h="672">
                  <a:moveTo>
                    <a:pt x="12" y="0"/>
                  </a:moveTo>
                  <a:lnTo>
                    <a:pt x="1212" y="0"/>
                  </a:lnTo>
                  <a:lnTo>
                    <a:pt x="1212" y="624"/>
                  </a:lnTo>
                  <a:lnTo>
                    <a:pt x="1140" y="672"/>
                  </a:lnTo>
                  <a:lnTo>
                    <a:pt x="720" y="468"/>
                  </a:lnTo>
                  <a:lnTo>
                    <a:pt x="540" y="384"/>
                  </a:lnTo>
                  <a:lnTo>
                    <a:pt x="360" y="372"/>
                  </a:lnTo>
                  <a:lnTo>
                    <a:pt x="216" y="408"/>
                  </a:lnTo>
                  <a:lnTo>
                    <a:pt x="0" y="46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ddddd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98880" y="1603440"/>
              <a:ext cx="1922400" cy="351144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117960" y="229860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17960" y="2705040"/>
              <a:ext cx="192240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17960" y="307512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17960" y="347976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098880" y="388944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17960" y="474984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98880" y="5129280"/>
              <a:ext cx="0" cy="72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021280" y="512928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80080" y="1693440"/>
              <a:ext cx="4852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78640" y="5194080"/>
              <a:ext cx="4852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243160" y="212328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243160" y="366444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43160" y="443448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43160" y="405036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117960" y="430848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5005080" y="2305080"/>
              <a:ext cx="36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468040" y="206064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整型变量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736800" y="24786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5043240" y="3886200"/>
              <a:ext cx="36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403240" y="3641760"/>
              <a:ext cx="163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变量</a:t>
              </a:r>
              <a:r>
                <a:rPr b="0" lang="en-US" sz="2000" spc="-1" strike="noStrike">
                  <a:solidFill>
                    <a:srgbClr val="7458fe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7458fe"/>
                  </a:solidFill>
                  <a:latin typeface="Times New Roman"/>
                </a:rPr>
                <a:t>_poin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43160" y="250884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43160" y="289476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243160" y="327888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247840" y="2133720"/>
              <a:ext cx="666720" cy="380880"/>
            </a:xfrm>
            <a:prstGeom prst="ellipse">
              <a:avLst/>
            </a:prstGeom>
            <a:noFill/>
            <a:ln w="38160">
              <a:solidFill>
                <a:srgbClr val="7458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690720" y="410436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458fe"/>
                  </a:solidFill>
                  <a:latin typeface="Times New Roman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43240" y="3086280"/>
              <a:ext cx="36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506920" y="2841480"/>
              <a:ext cx="100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整型变量</a:t>
              </a:r>
              <a:r>
                <a:rPr b="0" lang="en-US" sz="24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4038480" y="2876400"/>
            <a:ext cx="0" cy="49536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047680" y="479160"/>
            <a:ext cx="433044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=i;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--</a:t>
            </a:r>
            <a:r>
              <a:rPr b="0" lang="en-US" sz="2400" spc="-1" strike="noStrike">
                <a:solidFill>
                  <a:srgbClr val="339933"/>
                </a:solidFill>
                <a:latin typeface="隶书"/>
                <a:ea typeface="隶书"/>
              </a:rPr>
              <a:t>直接访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=*i_pointer;      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--</a:t>
            </a:r>
            <a:r>
              <a:rPr b="0" lang="en-US" sz="2400" spc="-1" strike="noStrike">
                <a:solidFill>
                  <a:srgbClr val="0000ff"/>
                </a:solidFill>
                <a:latin typeface="隶书"/>
                <a:ea typeface="隶书"/>
              </a:rPr>
              <a:t>间接访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14840" y="4114800"/>
            <a:ext cx="666720" cy="38088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190600" y="4381560"/>
            <a:ext cx="14860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228760" y="2343240"/>
            <a:ext cx="0" cy="20383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95760" y="2514600"/>
            <a:ext cx="666720" cy="380880"/>
          </a:xfrm>
          <a:prstGeom prst="ellipse">
            <a:avLst/>
          </a:pr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712680" y="3207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870920" y="479160"/>
            <a:ext cx="316008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=i;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=*i_pointer;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87320" y="1463400"/>
            <a:ext cx="213696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例子图解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9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523440" y="223560"/>
            <a:ext cx="86202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指针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与其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所指向的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之间的关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23800" y="2427120"/>
            <a:ext cx="862020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针变量的定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形式：  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  <a:ea typeface="宋体"/>
              </a:rPr>
              <a:t>数据类型   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  <a:ea typeface="宋体"/>
              </a:rPr>
              <a:t>*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  <a:ea typeface="宋体"/>
              </a:rPr>
              <a:t>指针变量名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876680" y="1221480"/>
            <a:ext cx="5734800" cy="1197360"/>
            <a:chOff x="1876680" y="1221480"/>
            <a:chExt cx="5734800" cy="1197360"/>
          </a:xfrm>
        </p:grpSpPr>
        <p:grpSp>
          <p:nvGrpSpPr>
            <p:cNvPr id="333" name=""/>
            <p:cNvGrpSpPr/>
            <p:nvPr/>
          </p:nvGrpSpPr>
          <p:grpSpPr>
            <a:xfrm>
              <a:off x="1876680" y="1221480"/>
              <a:ext cx="2849400" cy="1197360"/>
              <a:chOff x="1876680" y="1221480"/>
              <a:chExt cx="2849400" cy="1197360"/>
            </a:xfrm>
          </p:grpSpPr>
          <p:sp>
            <p:nvSpPr>
              <p:cNvPr id="334" name=""/>
              <p:cNvSpPr/>
              <p:nvPr/>
            </p:nvSpPr>
            <p:spPr>
              <a:xfrm>
                <a:off x="1898280" y="1596960"/>
                <a:ext cx="952200" cy="42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601800" y="1625400"/>
                <a:ext cx="952200" cy="42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810600" y="1254600"/>
                <a:ext cx="61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变量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026440" y="1608840"/>
                <a:ext cx="69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0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876680" y="1221480"/>
                <a:ext cx="110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i_point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874600" y="1833480"/>
                <a:ext cx="73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496680" y="2019960"/>
                <a:ext cx="122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*i_point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5132160" y="12816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30880" y="1281600"/>
              <a:ext cx="122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*i_poin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027040" y="159300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amp;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288480" y="1593000"/>
              <a:ext cx="110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_poin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977360" y="198504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=3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111000" y="1985040"/>
              <a:ext cx="150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*i_pointer=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1876680" y="1221480"/>
            <a:ext cx="5734800" cy="1197360"/>
            <a:chOff x="1876680" y="1221480"/>
            <a:chExt cx="5734800" cy="1197360"/>
          </a:xfrm>
        </p:grpSpPr>
        <p:sp>
          <p:nvSpPr>
            <p:cNvPr id="348" name=""/>
            <p:cNvSpPr/>
            <p:nvPr/>
          </p:nvSpPr>
          <p:spPr>
            <a:xfrm>
              <a:off x="5398920" y="1428840"/>
              <a:ext cx="863640" cy="141120"/>
            </a:xfrm>
            <a:prstGeom prst="leftRightArrow">
              <a:avLst>
                <a:gd name="adj1" fmla="val 50000"/>
                <a:gd name="adj2" fmla="val 121831"/>
              </a:avLst>
            </a:prstGeom>
            <a:solidFill>
              <a:srgbClr val="ffffff"/>
            </a:solidFill>
            <a:ln w="9360">
              <a:solidFill>
                <a:srgbClr val="7458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392800" y="1739880"/>
              <a:ext cx="863640" cy="141480"/>
            </a:xfrm>
            <a:prstGeom prst="leftRightArrow">
              <a:avLst>
                <a:gd name="adj1" fmla="val 50000"/>
                <a:gd name="adj2" fmla="val 121521"/>
              </a:avLst>
            </a:prstGeom>
            <a:solidFill>
              <a:srgbClr val="ffffff"/>
            </a:solidFill>
            <a:ln w="9360">
              <a:solidFill>
                <a:srgbClr val="7458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415120" y="2131920"/>
              <a:ext cx="863280" cy="141480"/>
            </a:xfrm>
            <a:prstGeom prst="leftRightArrow">
              <a:avLst>
                <a:gd name="adj1" fmla="val 50000"/>
                <a:gd name="adj2" fmla="val 121471"/>
              </a:avLst>
            </a:prstGeom>
            <a:solidFill>
              <a:srgbClr val="ffffff"/>
            </a:solidFill>
            <a:ln w="9360">
              <a:solidFill>
                <a:srgbClr val="7458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1876680" y="1221480"/>
              <a:ext cx="5734800" cy="1197360"/>
              <a:chOff x="1876680" y="1221480"/>
              <a:chExt cx="5734800" cy="1197360"/>
            </a:xfrm>
          </p:grpSpPr>
          <p:grpSp>
            <p:nvGrpSpPr>
              <p:cNvPr id="352" name=""/>
              <p:cNvGrpSpPr/>
              <p:nvPr/>
            </p:nvGrpSpPr>
            <p:grpSpPr>
              <a:xfrm>
                <a:off x="1876680" y="1221480"/>
                <a:ext cx="2849400" cy="1197360"/>
                <a:chOff x="1876680" y="1221480"/>
                <a:chExt cx="2849400" cy="119736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1898280" y="1596960"/>
                  <a:ext cx="952200" cy="424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3601800" y="1625400"/>
                  <a:ext cx="952200" cy="424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3810600" y="1254600"/>
                  <a:ext cx="61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变量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026440" y="1608840"/>
                  <a:ext cx="692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876680" y="1221480"/>
                  <a:ext cx="1101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i_point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874600" y="1833480"/>
                  <a:ext cx="739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496680" y="2019960"/>
                  <a:ext cx="1229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*i_point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0" name=""/>
              <p:cNvSpPr/>
              <p:nvPr/>
            </p:nvSpPr>
            <p:spPr>
              <a:xfrm>
                <a:off x="5132160" y="128160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230880" y="1281600"/>
                <a:ext cx="122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*i_point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027040" y="1593000"/>
                <a:ext cx="44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amp;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288480" y="1593000"/>
                <a:ext cx="110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i_point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977360" y="1985040"/>
                <a:ext cx="59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i=3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111000" y="1985040"/>
                <a:ext cx="1500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*i_pointer=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6" name=""/>
          <p:cNvSpPr/>
          <p:nvPr/>
        </p:nvSpPr>
        <p:spPr>
          <a:xfrm>
            <a:off x="5820480" y="3637800"/>
            <a:ext cx="1182240" cy="496440"/>
          </a:xfrm>
          <a:prstGeom prst="wedgeRoundRectCallout">
            <a:avLst>
              <a:gd name="adj1" fmla="val -55203"/>
              <a:gd name="adj2" fmla="val -167388"/>
              <a:gd name="adj3" fmla="val 16667"/>
            </a:avLst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合法标识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703960" y="3923640"/>
            <a:ext cx="2564640" cy="496440"/>
          </a:xfrm>
          <a:prstGeom prst="wedgeRoundRectCallout">
            <a:avLst>
              <a:gd name="adj1" fmla="val -9412"/>
              <a:gd name="adj2" fmla="val -190430"/>
              <a:gd name="adj3" fmla="val 16667"/>
            </a:avLst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指针的目标变量的数据类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589120" y="3605760"/>
            <a:ext cx="1812600" cy="891000"/>
          </a:xfrm>
          <a:prstGeom prst="wedgeRoundRectCallout">
            <a:avLst>
              <a:gd name="adj1" fmla="val 70430"/>
              <a:gd name="adj2" fmla="val -103995"/>
              <a:gd name="adj3" fmla="val 16667"/>
            </a:avLst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表示定义指针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不是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*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运算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326920" y="3460320"/>
            <a:ext cx="331884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例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,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   *q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  char  *n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59200" y="4937760"/>
            <a:ext cx="498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注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、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  <a:ea typeface="隶书"/>
              </a:rPr>
              <a:t>int   *p1, *p2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与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int   *p1, p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、指针变量名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p1,p2 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不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*p1,*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、指针变量只能指向定义时所规定类型的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、指针变量定义后，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  <a:ea typeface="隶书"/>
              </a:rPr>
              <a:t>变量值不确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，应用前必须先赋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806400" y="474840"/>
            <a:ext cx="7548480" cy="3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指针变量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8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3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8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3" dur="5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8" dur="5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297000" y="252360"/>
            <a:ext cx="86184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一般形式：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数据类型  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指针名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初始地址值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677600" y="1415880"/>
            <a:ext cx="237996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例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  *p=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&amp;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031360" y="1968480"/>
            <a:ext cx="1643760" cy="825840"/>
          </a:xfrm>
          <a:prstGeom prst="wedgeRectCallout">
            <a:avLst>
              <a:gd name="adj1" fmla="val -111416"/>
              <a:gd name="adj2" fmla="val -36754"/>
            </a:avLst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变量必须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隶书"/>
              </a:rPr>
              <a:t>已说明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隶书"/>
              </a:rPr>
              <a:t>类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应一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33240" y="2958840"/>
            <a:ext cx="4830840" cy="825480"/>
            <a:chOff x="633240" y="2958840"/>
            <a:chExt cx="4830840" cy="825480"/>
          </a:xfrm>
        </p:grpSpPr>
        <p:sp>
          <p:nvSpPr>
            <p:cNvPr id="376" name=""/>
            <p:cNvSpPr/>
            <p:nvPr/>
          </p:nvSpPr>
          <p:spPr>
            <a:xfrm>
              <a:off x="633240" y="2958840"/>
              <a:ext cx="4830840" cy="825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例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   *p=</a:t>
              </a:r>
              <a:r>
                <a:rPr b="0" lang="en-US" sz="2400" spc="-1" strike="noStrike">
                  <a:solidFill>
                    <a:srgbClr val="7458fe"/>
                  </a:solidFill>
                  <a:latin typeface="Times New Roman"/>
                </a:rPr>
                <a:t>&amp;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in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4781160" y="3352680"/>
              <a:ext cx="304920" cy="324000"/>
            </a:xfrm>
            <a:prstGeom prst="line">
              <a:avLst/>
            </a:prstGeom>
            <a:ln w="38160">
              <a:solidFill>
                <a:srgbClr val="7458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19680" y="3390840"/>
              <a:ext cx="266760" cy="266760"/>
            </a:xfrm>
            <a:prstGeom prst="line">
              <a:avLst/>
            </a:prstGeom>
            <a:ln w="38160">
              <a:solidFill>
                <a:srgbClr val="7458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1846080" y="4358880"/>
            <a:ext cx="2379960" cy="1191240"/>
          </a:xfrm>
          <a:prstGeom prst="rect">
            <a:avLst/>
          </a:prstGeom>
          <a:solidFill>
            <a:srgbClr val="cc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例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  *p=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&amp;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  *q=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441400" y="4992840"/>
            <a:ext cx="2375640" cy="460080"/>
          </a:xfrm>
          <a:prstGeom prst="wedgeRectCallout">
            <a:avLst>
              <a:gd name="adj1" fmla="val -112768"/>
              <a:gd name="adj2" fmla="val -48671"/>
            </a:avLst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用已初始化指针变量作初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1066320" y="380880"/>
            <a:ext cx="39481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指针变量的初始化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3" dur="1" fill="hold"/>
                                  <p:tgtEl>
                                    <p:spTgt spid="3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658080" y="894240"/>
            <a:ext cx="3200040" cy="228852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例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 int   i=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  *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*p=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(“%d”,*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76480" y="3047760"/>
            <a:ext cx="1572840" cy="987840"/>
          </a:xfrm>
          <a:prstGeom prst="irregularSeal2">
            <a:avLst/>
          </a:prstGeom>
          <a:noFill/>
          <a:ln w="381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458fe"/>
                </a:solidFill>
                <a:latin typeface="Times New Roman"/>
              </a:rPr>
              <a:t>危险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58080" y="3959280"/>
            <a:ext cx="3200040" cy="26542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 int   i=10,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  *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p=&amp;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p=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(“%d”,*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081320" y="274680"/>
            <a:ext cx="18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4370400" y="1317600"/>
            <a:ext cx="4095720" cy="4626000"/>
            <a:chOff x="4370400" y="1317600"/>
            <a:chExt cx="4095720" cy="4626000"/>
          </a:xfrm>
        </p:grpSpPr>
        <p:sp>
          <p:nvSpPr>
            <p:cNvPr id="387" name=""/>
            <p:cNvSpPr/>
            <p:nvPr/>
          </p:nvSpPr>
          <p:spPr>
            <a:xfrm>
              <a:off x="5054760" y="5378400"/>
              <a:ext cx="1922400" cy="565200"/>
            </a:xfrm>
            <a:custGeom>
              <a:avLst/>
              <a:gdLst/>
              <a:ahLst/>
              <a:rect l="l" t="t" r="r" b="b"/>
              <a:pathLst>
                <a:path w="1211" h="456">
                  <a:moveTo>
                    <a:pt x="0" y="163"/>
                  </a:moveTo>
                  <a:cubicBezTo>
                    <a:pt x="159" y="81"/>
                    <a:pt x="318" y="0"/>
                    <a:pt x="500" y="41"/>
                  </a:cubicBezTo>
                  <a:cubicBezTo>
                    <a:pt x="682" y="82"/>
                    <a:pt x="970" y="360"/>
                    <a:pt x="1089" y="408"/>
                  </a:cubicBezTo>
                  <a:cubicBezTo>
                    <a:pt x="1208" y="456"/>
                    <a:pt x="1191" y="345"/>
                    <a:pt x="1211" y="3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056200" y="4829040"/>
              <a:ext cx="1924200" cy="1067040"/>
            </a:xfrm>
            <a:custGeom>
              <a:avLst/>
              <a:gdLst/>
              <a:ahLst/>
              <a:rect l="l" t="t" r="r" b="b"/>
              <a:pathLst>
                <a:path w="1212" h="672">
                  <a:moveTo>
                    <a:pt x="12" y="0"/>
                  </a:moveTo>
                  <a:lnTo>
                    <a:pt x="1212" y="0"/>
                  </a:lnTo>
                  <a:lnTo>
                    <a:pt x="1212" y="624"/>
                  </a:lnTo>
                  <a:lnTo>
                    <a:pt x="1140" y="672"/>
                  </a:lnTo>
                  <a:lnTo>
                    <a:pt x="720" y="468"/>
                  </a:lnTo>
                  <a:lnTo>
                    <a:pt x="540" y="384"/>
                  </a:lnTo>
                  <a:lnTo>
                    <a:pt x="360" y="372"/>
                  </a:lnTo>
                  <a:lnTo>
                    <a:pt x="216" y="408"/>
                  </a:lnTo>
                  <a:lnTo>
                    <a:pt x="0" y="46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ddddd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054760" y="1317600"/>
              <a:ext cx="1922400" cy="351144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073480" y="2013120"/>
              <a:ext cx="192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073480" y="2419200"/>
              <a:ext cx="192276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073480" y="2789280"/>
              <a:ext cx="192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073480" y="3193920"/>
              <a:ext cx="1922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54760" y="360360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73480" y="4464000"/>
              <a:ext cx="192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54760" y="4843440"/>
              <a:ext cx="0" cy="72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977160" y="484344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835960" y="1407600"/>
              <a:ext cx="4852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834160" y="4908240"/>
              <a:ext cx="4852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370400" y="183744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70400" y="337896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370400" y="414864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70400" y="376452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073480" y="4022640"/>
              <a:ext cx="1922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6960960" y="2019240"/>
              <a:ext cx="36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423920" y="177480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整型变量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692680" y="21927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6999120" y="3600360"/>
              <a:ext cx="36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462800" y="3355920"/>
              <a:ext cx="100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指针变量</a:t>
              </a:r>
              <a:r>
                <a:rPr b="0" lang="en-US" sz="2400" spc="-1" strike="noStrike">
                  <a:solidFill>
                    <a:srgbClr val="7458fe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370400" y="222300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370400" y="260892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370400" y="299304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749920" y="38185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随机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03960" y="3619440"/>
              <a:ext cx="1199880" cy="838440"/>
            </a:xfrm>
            <a:prstGeom prst="irregularSeal1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隶书"/>
                <a:ea typeface="隶书"/>
              </a:rPr>
              <a:t>指针变量必须</a:t>
            </a:r>
            <a:r>
              <a:rPr b="0" lang="en-US" sz="2400" spc="-1" strike="noStrike">
                <a:solidFill>
                  <a:srgbClr val="7458fe"/>
                </a:solidFill>
                <a:latin typeface="隶书"/>
                <a:ea typeface="隶书"/>
              </a:rPr>
              <a:t>先赋值</a:t>
            </a:r>
            <a:r>
              <a:rPr b="0" lang="en-US" sz="2400" spc="-1" strike="noStrike">
                <a:solidFill>
                  <a:srgbClr val="7458fe"/>
                </a:solidFill>
                <a:latin typeface="隶书"/>
                <a:ea typeface="隶书"/>
              </a:rPr>
              <a:t>,</a:t>
            </a:r>
            <a:r>
              <a:rPr b="0" lang="en-US" sz="2400" spc="-1" strike="noStrike">
                <a:solidFill>
                  <a:srgbClr val="7458fe"/>
                </a:solidFill>
                <a:latin typeface="隶书"/>
                <a:ea typeface="隶书"/>
              </a:rPr>
              <a:t>再使用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5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04:41:13Z</dcterms:created>
  <dc:creator>hyg</dc:creator>
  <dc:description/>
  <dc:language>en-US</dc:language>
  <cp:lastModifiedBy>YlmF</cp:lastModifiedBy>
  <dcterms:modified xsi:type="dcterms:W3CDTF">2009-05-28T13:55:14Z</dcterms:modified>
  <cp:revision>1295</cp:revision>
  <dc:subject/>
  <dc:title>第八章  指针</dc:title>
</cp:coreProperties>
</file>