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WHOOSH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96F5-F57F-41D7-9E1A-EB1CE8193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使每一个模块成为相对独立、功能单一、结构清晰、接口简单、容易理解的程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每个模块可以独立设计算法，单独编写和测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一个模块中的错误不易扩散和蔓延到其它模块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众人可同时进行集体性开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软件具有模块结构，软件开发工作如同搭积木，一个模块可以在不同程序中多次使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F04-FADF-4230-9D42-438FC01A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696-99F2-46F1-A83E-42ACF819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3EA-BF18-4C74-8DB1-B6B947EC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158-4034-47A3-8468-CCEB265F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0DA0-DADC-42A0-A73F-9472BB14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1C82-E7B1-4920-A564-B1ED0930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1BD8-2255-4762-BAE0-39D0034B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F64A-7202-47AF-ACB2-F53344D9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AADD-F4C1-4CAA-8CFB-34AFCDBA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03F6-C5E2-40D7-8257-EA3EFAB6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3C20-4989-472A-AC01-7931B1E2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2F9-EFC0-4DDB-B23B-99A42CD6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F555-537F-4DA7-8162-D5B2854B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6A98-3EB7-4205-AEFF-E958E33D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89C5-3E85-42D2-984C-B6284CDA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A48B-82B8-4231-8E4E-5E72CC3D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603D-36A6-4B3D-912B-4AA0325B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CA6C-6E18-4D52-9923-4707F131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40A-30CD-462B-8A41-C506C294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4D3-1544-438E-B142-9B5DA7EA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125-1B51-49A6-8611-84B0147E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AC0-3237-4E71-B19F-0B0A3D6F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835-E4CC-4A39-860D-D06AE9B7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2C9-1B89-4B23-AAAC-7FFA96D8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98B0-2E67-411F-BF6D-ABDB905FA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2577-0A8A-4F21-B1F3-D5C50D54D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隶书"/>
                <a:ea typeface="隶书"/>
              </a:rPr>
              <a:t>第七章  函数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288960" y="1789200"/>
            <a:ext cx="21128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ea typeface="隶书"/>
              </a:rPr>
              <a:t>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182760" y="2257560"/>
            <a:ext cx="28400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ahoma"/>
                <a:ea typeface="隶书"/>
              </a:rPr>
              <a:t>函数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84560" y="2712960"/>
            <a:ext cx="3857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ahoma"/>
                <a:ea typeface="隶书"/>
              </a:rPr>
              <a:t>函数的返回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92480" y="3206880"/>
            <a:ext cx="32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ahoma"/>
                <a:ea typeface="隶书"/>
              </a:rPr>
              <a:t>函数的调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06880" y="3672000"/>
            <a:ext cx="336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ahoma"/>
                <a:ea typeface="隶书"/>
              </a:rPr>
              <a:t>函数参数及其传递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232080" y="4289400"/>
            <a:ext cx="189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93920" y="4121280"/>
            <a:ext cx="400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ahoma"/>
                <a:ea typeface="隶书"/>
              </a:rPr>
              <a:t>函数的嵌套与递归调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84640" y="5602320"/>
            <a:ext cx="289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8160" y="542880"/>
            <a:ext cx="8745480" cy="63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对被调用函数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必须是已存在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库函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#include &lt;*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用户自定义函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函数类型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函数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一般形式：   函数类型    函数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形参类型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形参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,…..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或            函数类型    函数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作用：告诉编译系统函数类型、参数个数及类型，以便检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函数定义与函数说明不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函数说明位置：程序的数据说明部分（函数内或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下列情况下，可不作函数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若函数返值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型，系统自动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型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被调用函数定义出现在主调函数之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有些系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land C++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要求函数说明指出函数返值类型和形参类型，并且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型函数也要进行函数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590400" y="22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函数说明</a:t>
            </a:r>
            <a:br>
              <a:rPr sz="2800"/>
            </a:br>
            <a:endParaRPr b="0" lang="en-US" sz="28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247680" y="803160"/>
            <a:ext cx="8548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形参与实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形式参数：定义函数时函数名后面括号中的变量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实际参数：调用函数时函数名后面括号中的表达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3040" y="3828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563400" y="3398760"/>
            <a:ext cx="3475440" cy="2059920"/>
            <a:chOff x="563400" y="3398760"/>
            <a:chExt cx="3475440" cy="2059920"/>
          </a:xfrm>
        </p:grpSpPr>
        <p:sp>
          <p:nvSpPr>
            <p:cNvPr id="570" name=""/>
            <p:cNvSpPr/>
            <p:nvPr/>
          </p:nvSpPr>
          <p:spPr>
            <a:xfrm>
              <a:off x="563400" y="3867120"/>
              <a:ext cx="3211560" cy="0"/>
            </a:xfrm>
            <a:prstGeom prst="line">
              <a:avLst/>
            </a:prstGeom>
            <a:ln w="9360">
              <a:solidFill>
                <a:srgbClr val="e4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660600" y="3398760"/>
              <a:ext cx="3378240" cy="2059920"/>
              <a:chOff x="660600" y="3398760"/>
              <a:chExt cx="3378240" cy="2059920"/>
            </a:xfrm>
          </p:grpSpPr>
          <p:sp>
            <p:nvSpPr>
              <p:cNvPr id="572" name=""/>
              <p:cNvSpPr/>
              <p:nvPr/>
            </p:nvSpPr>
            <p:spPr>
              <a:xfrm>
                <a:off x="804600" y="3398760"/>
                <a:ext cx="142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=max(a,b)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553840" y="3435480"/>
                <a:ext cx="148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in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函数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565000" y="3871800"/>
                <a:ext cx="141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x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函数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0600" y="3840120"/>
                <a:ext cx="19029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x(int x, int  y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{   int z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z=x&gt;y?x:y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turn(z)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}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6" name=""/>
          <p:cNvSpPr/>
          <p:nvPr/>
        </p:nvSpPr>
        <p:spPr>
          <a:xfrm flipH="1">
            <a:off x="1374840" y="3689280"/>
            <a:ext cx="317520" cy="3002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887480" y="3689280"/>
            <a:ext cx="349200" cy="3556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98320" y="3672000"/>
            <a:ext cx="1235160" cy="1834560"/>
            <a:chOff x="598320" y="3672000"/>
            <a:chExt cx="1235160" cy="1834560"/>
          </a:xfrm>
        </p:grpSpPr>
        <p:sp>
          <p:nvSpPr>
            <p:cNvPr id="579" name=""/>
            <p:cNvSpPr/>
            <p:nvPr/>
          </p:nvSpPr>
          <p:spPr>
            <a:xfrm>
              <a:off x="1816200" y="5100480"/>
              <a:ext cx="0" cy="4060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15960" y="5472000"/>
              <a:ext cx="12175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598320" y="3971520"/>
              <a:ext cx="0" cy="15350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598320" y="3672000"/>
              <a:ext cx="565200" cy="299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73880" y="212868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比较两个数并输出大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50800" y="2313000"/>
            <a:ext cx="3475800" cy="411732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,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=max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Max is %d"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t  x, int 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=x&gt;y?x: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(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896000" y="4613760"/>
            <a:ext cx="3479400" cy="398880"/>
            <a:chOff x="4896000" y="4613760"/>
            <a:chExt cx="3479400" cy="398880"/>
          </a:xfrm>
        </p:grpSpPr>
        <p:sp>
          <p:nvSpPr>
            <p:cNvPr id="586" name=""/>
            <p:cNvSpPr/>
            <p:nvPr/>
          </p:nvSpPr>
          <p:spPr>
            <a:xfrm>
              <a:off x="4896000" y="4952880"/>
              <a:ext cx="1371600" cy="38160"/>
            </a:xfrm>
            <a:custGeom>
              <a:avLst/>
              <a:gdLst/>
              <a:ahLst/>
              <a:rect l="l" t="t" r="r" b="b"/>
              <a:pathLst>
                <a:path w="864" h="24">
                  <a:moveTo>
                    <a:pt x="0" y="0"/>
                  </a:moveTo>
                  <a:cubicBezTo>
                    <a:pt x="168" y="19"/>
                    <a:pt x="208" y="22"/>
                    <a:pt x="408" y="12"/>
                  </a:cubicBezTo>
                  <a:cubicBezTo>
                    <a:pt x="484" y="16"/>
                    <a:pt x="560" y="24"/>
                    <a:pt x="636" y="24"/>
                  </a:cubicBezTo>
                  <a:cubicBezTo>
                    <a:pt x="715" y="24"/>
                    <a:pt x="787" y="0"/>
                    <a:pt x="864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89760" y="4613760"/>
              <a:ext cx="485640" cy="398880"/>
            </a:xfrm>
            <a:prstGeom prst="borderCallout2">
              <a:avLst>
                <a:gd name="adj1" fmla="val 18750"/>
                <a:gd name="adj2" fmla="val -8333"/>
                <a:gd name="adj3" fmla="val 28125"/>
                <a:gd name="adj4" fmla="val -112671"/>
                <a:gd name="adj5" fmla="val 89717"/>
                <a:gd name="adj6" fmla="val -332074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形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5410080" y="3565800"/>
            <a:ext cx="2908440" cy="398880"/>
            <a:chOff x="5410080" y="3565800"/>
            <a:chExt cx="2908440" cy="398880"/>
          </a:xfrm>
        </p:grpSpPr>
        <p:sp>
          <p:nvSpPr>
            <p:cNvPr id="589" name=""/>
            <p:cNvSpPr/>
            <p:nvPr/>
          </p:nvSpPr>
          <p:spPr>
            <a:xfrm>
              <a:off x="7832880" y="3565800"/>
              <a:ext cx="485640" cy="398880"/>
            </a:xfrm>
            <a:prstGeom prst="borderCallout2">
              <a:avLst>
                <a:gd name="adj1" fmla="val 18750"/>
                <a:gd name="adj2" fmla="val -8333"/>
                <a:gd name="adj3" fmla="val 28125"/>
                <a:gd name="adj4" fmla="val -130314"/>
                <a:gd name="adj5" fmla="val 70601"/>
                <a:gd name="adj6" fmla="val -382962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实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10080" y="3848040"/>
              <a:ext cx="552600" cy="3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cubicBezTo>
                    <a:pt x="116" y="0"/>
                    <a:pt x="232" y="0"/>
                    <a:pt x="348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651960" y="337680"/>
            <a:ext cx="59756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00"/>
                </a:solidFill>
                <a:latin typeface="Arial"/>
              </a:rPr>
              <a:t>函数参数及其传递方式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2362320"/>
            <a:ext cx="8437680" cy="30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参必须有确定的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参必须指定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参与实参类型一致，个数相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形参与实参类型不一致，自动按形参类型转换———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函数调用转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参在函数被调用前不占内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函数调用时为形参分配内存；调用结束，内存释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7240" y="304920"/>
            <a:ext cx="854856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参与实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式参数：定义函数时函数名后面括号中的变量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际参数：调用函数时函数名后面括号中的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函数参数及其传递方式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247680" y="1066320"/>
            <a:ext cx="8648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值传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方式：函数调用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为形参分配单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并将实参的值</a:t>
            </a:r>
            <a:r>
              <a:rPr b="0" lang="en-US" sz="2000" spc="-1" strike="noStrike">
                <a:solidFill>
                  <a:srgbClr val="ffe2c5"/>
                </a:solidFill>
                <a:latin typeface="Arial"/>
              </a:rPr>
              <a:t>复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到形参中；调用结束，形参单元被释放，实参单元仍保留并维持原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形参与实参占用</a:t>
            </a:r>
            <a:r>
              <a:rPr b="0" lang="en-US" sz="2000" spc="-1" strike="noStrike">
                <a:solidFill>
                  <a:srgbClr val="ffe2c5"/>
                </a:solidFill>
                <a:latin typeface="Arial"/>
              </a:rPr>
              <a:t>不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的内存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2c5"/>
                </a:solidFill>
                <a:latin typeface="Arial"/>
              </a:rPr>
              <a:t>单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传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参数传递方式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598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600" name=""/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1" name="CAMERA.WAV"/>
      </p:stSnd>
    </p:sndAc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4837320" y="1229400"/>
            <a:ext cx="3742200" cy="403560"/>
            <a:chOff x="4837320" y="1229400"/>
            <a:chExt cx="3742200" cy="403560"/>
          </a:xfrm>
        </p:grpSpPr>
        <p:sp>
          <p:nvSpPr>
            <p:cNvPr id="604" name=""/>
            <p:cNvSpPr/>
            <p:nvPr/>
          </p:nvSpPr>
          <p:spPr>
            <a:xfrm>
              <a:off x="6895440" y="123408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142840" y="123408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27440" y="12294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46400" y="12294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37320" y="12294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前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783320" y="5385240"/>
            <a:ext cx="3726720" cy="414720"/>
            <a:chOff x="4783320" y="5385240"/>
            <a:chExt cx="3726720" cy="414720"/>
          </a:xfrm>
        </p:grpSpPr>
        <p:sp>
          <p:nvSpPr>
            <p:cNvPr id="610" name=""/>
            <p:cNvSpPr/>
            <p:nvPr/>
          </p:nvSpPr>
          <p:spPr>
            <a:xfrm>
              <a:off x="4783320" y="5401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结束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791040" y="538992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73360" y="538992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322680" y="53852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76920" y="53852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457200" y="23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2280" y="990720"/>
            <a:ext cx="4109760" cy="448308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x=7,y=1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x=%d,\ty=%d\n",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swapped: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(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x=%d,\ty=%d\n",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t a,int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=a; a=b; b=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4783320" y="1980000"/>
            <a:ext cx="3827880" cy="1181160"/>
            <a:chOff x="4783320" y="1980000"/>
            <a:chExt cx="3827880" cy="1181160"/>
          </a:xfrm>
        </p:grpSpPr>
        <p:sp>
          <p:nvSpPr>
            <p:cNvPr id="618" name=""/>
            <p:cNvSpPr/>
            <p:nvPr/>
          </p:nvSpPr>
          <p:spPr>
            <a:xfrm>
              <a:off x="4783320" y="24372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92200" y="276228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139600" y="276228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24560" y="275796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43160" y="2757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067520" y="237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62800" y="237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27120" y="198468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74520" y="198468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59120" y="19800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78080" y="19800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580280" y="3396600"/>
            <a:ext cx="3997440" cy="1838520"/>
            <a:chOff x="4580280" y="3396600"/>
            <a:chExt cx="3997440" cy="1838520"/>
          </a:xfrm>
        </p:grpSpPr>
        <p:sp>
          <p:nvSpPr>
            <p:cNvPr id="630" name=""/>
            <p:cNvSpPr/>
            <p:nvPr/>
          </p:nvSpPr>
          <p:spPr>
            <a:xfrm>
              <a:off x="4580280" y="348804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wap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58720" y="340092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141040" y="340092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90720" y="33966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44600" y="33966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58360" y="416304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205120" y="416304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91080" y="415836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44600" y="4158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88000" y="4767480"/>
              <a:ext cx="462240" cy="4064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643800" y="483624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1" name=""/>
            <p:cNvCxnSpPr>
              <a:stCxn id="635" idx="2"/>
              <a:endCxn id="639" idx="1"/>
            </p:cNvCxnSpPr>
            <p:nvPr/>
          </p:nvCxnSpPr>
          <p:spPr>
            <a:xfrm flipH="1" rot="16200000">
              <a:off x="7080120" y="4562280"/>
              <a:ext cx="405360" cy="411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2" name=""/>
            <p:cNvCxnSpPr>
              <a:stCxn id="639" idx="3"/>
              <a:endCxn id="636" idx="2"/>
            </p:cNvCxnSpPr>
            <p:nvPr/>
          </p:nvCxnSpPr>
          <p:spPr>
            <a:xfrm flipV="1">
              <a:off x="7949880" y="4565520"/>
              <a:ext cx="410040" cy="405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3" name=""/>
            <p:cNvCxnSpPr>
              <a:stCxn id="636" idx="1"/>
              <a:endCxn id="635" idx="3"/>
            </p:cNvCxnSpPr>
            <p:nvPr/>
          </p:nvCxnSpPr>
          <p:spPr>
            <a:xfrm flipH="1">
              <a:off x="7300440" y="4362120"/>
              <a:ext cx="89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 交换两个数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-360" y="110484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方式：函数调用时，将数据的存储地址作为参数传递给形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形参与实参占用同样的存储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双向”传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实参和形参必须是地址常量或变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533520" y="871560"/>
            <a:ext cx="3884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函数的地址传递</a:t>
            </a:r>
            <a:br>
              <a:rPr sz="3200"/>
            </a:b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648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650" name=""/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1" name="CAMERA.WAV"/>
      </p:stSnd>
    </p:sndAc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234800" y="436680"/>
            <a:ext cx="3478680" cy="503352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ap(p1,p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 *p1,*p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 int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=*p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*p1=*p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*p2=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int a,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anf("%d,%d",&amp;a,&amp;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f(“a=%d,b=%d\n”,a,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f(“swapped: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ap(&amp;a,&amp;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f(”a=%d,b=%d\n",a,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rId1"/>
          </p:cNvPr>
          <p:cNvSpPr/>
          <p:nvPr/>
        </p:nvSpPr>
        <p:spPr>
          <a:xfrm>
            <a:off x="228600" y="59436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089880" y="54144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 交换两个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411880" y="684720"/>
            <a:ext cx="3201840" cy="685080"/>
            <a:chOff x="5411880" y="684720"/>
            <a:chExt cx="3201840" cy="685080"/>
          </a:xfrm>
        </p:grpSpPr>
        <p:grpSp>
          <p:nvGrpSpPr>
            <p:cNvPr id="657" name=""/>
            <p:cNvGrpSpPr/>
            <p:nvPr/>
          </p:nvGrpSpPr>
          <p:grpSpPr>
            <a:xfrm>
              <a:off x="6477120" y="685080"/>
              <a:ext cx="688680" cy="659520"/>
              <a:chOff x="6477120" y="685080"/>
              <a:chExt cx="688680" cy="659520"/>
            </a:xfrm>
          </p:grpSpPr>
          <p:sp>
            <p:nvSpPr>
              <p:cNvPr id="658" name=""/>
              <p:cNvSpPr/>
              <p:nvPr/>
            </p:nvSpPr>
            <p:spPr>
              <a:xfrm>
                <a:off x="6738840" y="68508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477120" y="974880"/>
                <a:ext cx="688680" cy="36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7924680" y="684720"/>
              <a:ext cx="689040" cy="685080"/>
              <a:chOff x="7924680" y="684720"/>
              <a:chExt cx="689040" cy="685080"/>
            </a:xfrm>
          </p:grpSpPr>
          <p:sp>
            <p:nvSpPr>
              <p:cNvPr id="661" name=""/>
              <p:cNvSpPr/>
              <p:nvPr/>
            </p:nvSpPr>
            <p:spPr>
              <a:xfrm>
                <a:off x="7924680" y="1000080"/>
                <a:ext cx="689040" cy="36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111520" y="684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5411880" y="837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前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146920" y="1523160"/>
            <a:ext cx="3390480" cy="1675800"/>
            <a:chOff x="5146920" y="1523160"/>
            <a:chExt cx="3390480" cy="1675800"/>
          </a:xfrm>
        </p:grpSpPr>
        <p:grpSp>
          <p:nvGrpSpPr>
            <p:cNvPr id="665" name=""/>
            <p:cNvGrpSpPr/>
            <p:nvPr/>
          </p:nvGrpSpPr>
          <p:grpSpPr>
            <a:xfrm>
              <a:off x="7848720" y="1599120"/>
              <a:ext cx="688680" cy="669240"/>
              <a:chOff x="7848720" y="1599120"/>
              <a:chExt cx="688680" cy="669240"/>
            </a:xfrm>
          </p:grpSpPr>
          <p:sp>
            <p:nvSpPr>
              <p:cNvPr id="666" name=""/>
              <p:cNvSpPr/>
              <p:nvPr/>
            </p:nvSpPr>
            <p:spPr>
              <a:xfrm>
                <a:off x="8081640" y="159912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848720" y="1898640"/>
                <a:ext cx="688680" cy="36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7848720" y="2513880"/>
              <a:ext cx="688680" cy="685080"/>
              <a:chOff x="7848720" y="2513880"/>
              <a:chExt cx="688680" cy="685080"/>
            </a:xfrm>
          </p:grpSpPr>
          <p:sp>
            <p:nvSpPr>
              <p:cNvPr id="669" name=""/>
              <p:cNvSpPr/>
              <p:nvPr/>
            </p:nvSpPr>
            <p:spPr>
              <a:xfrm>
                <a:off x="7848720" y="2828880"/>
                <a:ext cx="688680" cy="37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035200" y="251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5146920" y="2284920"/>
              <a:ext cx="113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调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wap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6620040" y="1523160"/>
              <a:ext cx="688680" cy="767520"/>
              <a:chOff x="6620040" y="1523160"/>
              <a:chExt cx="688680" cy="767520"/>
            </a:xfrm>
          </p:grpSpPr>
          <p:sp>
            <p:nvSpPr>
              <p:cNvPr id="673" name=""/>
              <p:cNvSpPr/>
              <p:nvPr/>
            </p:nvSpPr>
            <p:spPr>
              <a:xfrm>
                <a:off x="6742800" y="15231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620040" y="1927080"/>
                <a:ext cx="688680" cy="36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amp;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6629400" y="2437200"/>
              <a:ext cx="688680" cy="720000"/>
              <a:chOff x="6629400" y="2437200"/>
              <a:chExt cx="688680" cy="720000"/>
            </a:xfrm>
          </p:grpSpPr>
          <p:sp>
            <p:nvSpPr>
              <p:cNvPr id="676" name=""/>
              <p:cNvSpPr/>
              <p:nvPr/>
            </p:nvSpPr>
            <p:spPr>
              <a:xfrm>
                <a:off x="6629400" y="2787480"/>
                <a:ext cx="688680" cy="36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amp;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738120" y="243720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7315200" y="2057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15200" y="2971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5392800" y="3199320"/>
            <a:ext cx="3144600" cy="1675080"/>
            <a:chOff x="5392800" y="3199320"/>
            <a:chExt cx="3144600" cy="1675080"/>
          </a:xfrm>
        </p:grpSpPr>
        <p:grpSp>
          <p:nvGrpSpPr>
            <p:cNvPr id="681" name=""/>
            <p:cNvGrpSpPr/>
            <p:nvPr/>
          </p:nvGrpSpPr>
          <p:grpSpPr>
            <a:xfrm>
              <a:off x="5392800" y="3199320"/>
              <a:ext cx="3144600" cy="1675080"/>
              <a:chOff x="5392800" y="3199320"/>
              <a:chExt cx="3144600" cy="167508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7848720" y="3275280"/>
                <a:ext cx="688680" cy="668520"/>
                <a:chOff x="7848720" y="3275280"/>
                <a:chExt cx="688680" cy="66852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8081640" y="327528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7848720" y="3574440"/>
                  <a:ext cx="688680" cy="369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7848720" y="4189680"/>
                <a:ext cx="688680" cy="684720"/>
                <a:chOff x="7848720" y="4189680"/>
                <a:chExt cx="688680" cy="6847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7848720" y="4504680"/>
                  <a:ext cx="688680" cy="36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8035200" y="4189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5392800" y="39610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交换：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6620040" y="3199320"/>
                <a:ext cx="688680" cy="767160"/>
                <a:chOff x="6620040" y="3199320"/>
                <a:chExt cx="688680" cy="7671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6742800" y="3199320"/>
                  <a:ext cx="43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620040" y="3603240"/>
                  <a:ext cx="688680" cy="36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&amp;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6629400" y="4113360"/>
                <a:ext cx="688680" cy="720000"/>
                <a:chOff x="6629400" y="4113360"/>
                <a:chExt cx="688680" cy="7200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6629400" y="4463640"/>
                  <a:ext cx="688680" cy="36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&amp;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738120" y="4113360"/>
                  <a:ext cx="43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5" name=""/>
              <p:cNvSpPr/>
              <p:nvPr/>
            </p:nvSpPr>
            <p:spPr>
              <a:xfrm>
                <a:off x="7315200" y="37335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315200" y="46479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8381880" y="3962520"/>
              <a:ext cx="0" cy="533160"/>
            </a:xfrm>
            <a:prstGeom prst="line">
              <a:avLst/>
            </a:prstGeom>
            <a:ln w="9360">
              <a:solidFill>
                <a:srgbClr val="e4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411880" y="5104440"/>
            <a:ext cx="3201840" cy="685080"/>
            <a:chOff x="5411880" y="5104440"/>
            <a:chExt cx="3201840" cy="685080"/>
          </a:xfrm>
        </p:grpSpPr>
        <p:grpSp>
          <p:nvGrpSpPr>
            <p:cNvPr id="699" name=""/>
            <p:cNvGrpSpPr/>
            <p:nvPr/>
          </p:nvGrpSpPr>
          <p:grpSpPr>
            <a:xfrm>
              <a:off x="6477120" y="5104440"/>
              <a:ext cx="688680" cy="659160"/>
              <a:chOff x="6477120" y="5104440"/>
              <a:chExt cx="688680" cy="659160"/>
            </a:xfrm>
          </p:grpSpPr>
          <p:sp>
            <p:nvSpPr>
              <p:cNvPr id="700" name=""/>
              <p:cNvSpPr/>
              <p:nvPr/>
            </p:nvSpPr>
            <p:spPr>
              <a:xfrm>
                <a:off x="6738840" y="510444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477120" y="5394240"/>
                <a:ext cx="688680" cy="36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7924680" y="5104440"/>
              <a:ext cx="689040" cy="685080"/>
              <a:chOff x="7924680" y="5104440"/>
              <a:chExt cx="689040" cy="685080"/>
            </a:xfrm>
          </p:grpSpPr>
          <p:sp>
            <p:nvSpPr>
              <p:cNvPr id="703" name=""/>
              <p:cNvSpPr/>
              <p:nvPr/>
            </p:nvSpPr>
            <p:spPr>
              <a:xfrm>
                <a:off x="7924680" y="5419800"/>
                <a:ext cx="689040" cy="36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111520" y="510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5411880" y="5256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返回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196960" y="264960"/>
            <a:ext cx="1365480" cy="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00"/>
                </a:solidFill>
                <a:latin typeface="Arial"/>
              </a:rPr>
              <a:t>例子图解</a:t>
            </a:r>
            <a:endParaRPr b="0" lang="en-US" sz="2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"/>
          <p:cNvGrpSpPr/>
          <p:nvPr/>
        </p:nvGrpSpPr>
        <p:grpSpPr>
          <a:xfrm>
            <a:off x="253800" y="167760"/>
            <a:ext cx="8570520" cy="6677640"/>
            <a:chOff x="253800" y="167760"/>
            <a:chExt cx="8570520" cy="6677640"/>
          </a:xfrm>
        </p:grpSpPr>
        <p:sp>
          <p:nvSpPr>
            <p:cNvPr id="708" name=""/>
            <p:cNvSpPr/>
            <p:nvPr/>
          </p:nvSpPr>
          <p:spPr>
            <a:xfrm>
              <a:off x="253800" y="167760"/>
              <a:ext cx="4101840" cy="6677640"/>
            </a:xfrm>
            <a:prstGeom prst="rect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00"/>
                  </a:solidFill>
                  <a:latin typeface="Times New Roman"/>
                </a:rPr>
                <a:t>#include &lt;stdio.h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ong   sum(int a, int b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ong   factorial(int 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    int n1,n2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a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nf("%d,%d",&amp;n1,&amp;n2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sum(n1,n2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intf("a=%1d",a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sum(int a,int 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c1,c2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1=factorial(a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2=factorial(b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(c1+c2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80600" y="1831320"/>
              <a:ext cx="2943720" cy="3385800"/>
            </a:xfrm>
            <a:prstGeom prst="rect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factorial(int 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    long rtn=1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 i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(i=1;i&lt;=n;i++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tn*=i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(rt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746280" y="2380320"/>
            <a:ext cx="3092400" cy="2669400"/>
            <a:chOff x="746280" y="2380320"/>
            <a:chExt cx="3092400" cy="2669400"/>
          </a:xfrm>
        </p:grpSpPr>
        <p:sp>
          <p:nvSpPr>
            <p:cNvPr id="711" name=""/>
            <p:cNvSpPr/>
            <p:nvPr/>
          </p:nvSpPr>
          <p:spPr>
            <a:xfrm>
              <a:off x="849240" y="2380320"/>
              <a:ext cx="29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long   sum(int a, int b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46280" y="4590000"/>
              <a:ext cx="28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long   factorial(int 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2723760" y="238680"/>
            <a:ext cx="4186440" cy="398880"/>
            <a:chOff x="2723760" y="238680"/>
            <a:chExt cx="4186440" cy="398880"/>
          </a:xfrm>
        </p:grpSpPr>
        <p:sp>
          <p:nvSpPr>
            <p:cNvPr id="714" name=""/>
            <p:cNvSpPr/>
            <p:nvPr/>
          </p:nvSpPr>
          <p:spPr>
            <a:xfrm>
              <a:off x="5052960" y="238680"/>
              <a:ext cx="185724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文件包含编译预处理命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2723760" y="361800"/>
              <a:ext cx="1771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3522240" y="790920"/>
            <a:ext cx="2587680" cy="398880"/>
            <a:chOff x="3522240" y="790920"/>
            <a:chExt cx="2587680" cy="398880"/>
          </a:xfrm>
        </p:grpSpPr>
        <p:sp>
          <p:nvSpPr>
            <p:cNvPr id="717" name=""/>
            <p:cNvSpPr/>
            <p:nvPr/>
          </p:nvSpPr>
          <p:spPr>
            <a:xfrm>
              <a:off x="5014800" y="790920"/>
              <a:ext cx="109512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类型说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3522240" y="971640"/>
              <a:ext cx="118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2838600" y="3953160"/>
            <a:ext cx="2756880" cy="485640"/>
            <a:chOff x="2838600" y="3953160"/>
            <a:chExt cx="2756880" cy="485640"/>
          </a:xfrm>
        </p:grpSpPr>
        <p:sp>
          <p:nvSpPr>
            <p:cNvPr id="720" name=""/>
            <p:cNvSpPr/>
            <p:nvPr/>
          </p:nvSpPr>
          <p:spPr>
            <a:xfrm>
              <a:off x="4805280" y="3953160"/>
              <a:ext cx="7902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定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838600" y="4133880"/>
              <a:ext cx="175248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800080" y="3172320"/>
            <a:ext cx="1481040" cy="2742120"/>
            <a:chOff x="2800080" y="3172320"/>
            <a:chExt cx="1481040" cy="2742120"/>
          </a:xfrm>
        </p:grpSpPr>
        <p:grpSp>
          <p:nvGrpSpPr>
            <p:cNvPr id="723" name=""/>
            <p:cNvGrpSpPr/>
            <p:nvPr/>
          </p:nvGrpSpPr>
          <p:grpSpPr>
            <a:xfrm>
              <a:off x="2819160" y="3172320"/>
              <a:ext cx="1461960" cy="398880"/>
              <a:chOff x="2819160" y="3172320"/>
              <a:chExt cx="1461960" cy="398880"/>
            </a:xfrm>
          </p:grpSpPr>
          <p:sp>
            <p:nvSpPr>
              <p:cNvPr id="724" name=""/>
              <p:cNvSpPr/>
              <p:nvPr/>
            </p:nvSpPr>
            <p:spPr>
              <a:xfrm>
                <a:off x="3490920" y="3172320"/>
                <a:ext cx="790200" cy="398880"/>
              </a:xfrm>
              <a:prstGeom prst="rect">
                <a:avLst/>
              </a:prstGeom>
              <a:noFill/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函数调用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819160" y="3333600"/>
                <a:ext cx="476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2800080" y="5515560"/>
              <a:ext cx="1461960" cy="398880"/>
              <a:chOff x="2800080" y="5515560"/>
              <a:chExt cx="1461960" cy="398880"/>
            </a:xfrm>
          </p:grpSpPr>
          <p:sp>
            <p:nvSpPr>
              <p:cNvPr id="727" name=""/>
              <p:cNvSpPr/>
              <p:nvPr/>
            </p:nvSpPr>
            <p:spPr>
              <a:xfrm>
                <a:off x="3471840" y="5515560"/>
                <a:ext cx="790200" cy="398880"/>
              </a:xfrm>
              <a:prstGeom prst="rect">
                <a:avLst/>
              </a:prstGeom>
              <a:noFill/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函数调用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2800080" y="5676480"/>
                <a:ext cx="476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2590560" y="6086880"/>
            <a:ext cx="1879560" cy="398880"/>
            <a:chOff x="2590560" y="6086880"/>
            <a:chExt cx="1879560" cy="398880"/>
          </a:xfrm>
        </p:grpSpPr>
        <p:sp>
          <p:nvSpPr>
            <p:cNvPr id="730" name=""/>
            <p:cNvSpPr/>
            <p:nvPr/>
          </p:nvSpPr>
          <p:spPr>
            <a:xfrm>
              <a:off x="3527280" y="6086880"/>
              <a:ext cx="94284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返回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2590560" y="6305400"/>
              <a:ext cx="685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571840" y="4571640"/>
            <a:ext cx="2063520" cy="428400"/>
            <a:chOff x="2571840" y="4571640"/>
            <a:chExt cx="2063520" cy="428400"/>
          </a:xfrm>
        </p:grpSpPr>
        <p:sp>
          <p:nvSpPr>
            <p:cNvPr id="733" name=""/>
            <p:cNvSpPr/>
            <p:nvPr/>
          </p:nvSpPr>
          <p:spPr>
            <a:xfrm>
              <a:off x="4149720" y="4601160"/>
              <a:ext cx="48564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形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2571840" y="4571640"/>
              <a:ext cx="146664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0" y="3296160"/>
            <a:ext cx="2095560" cy="398880"/>
            <a:chOff x="0" y="3296160"/>
            <a:chExt cx="2095560" cy="398880"/>
          </a:xfrm>
        </p:grpSpPr>
        <p:sp>
          <p:nvSpPr>
            <p:cNvPr id="736" name=""/>
            <p:cNvSpPr/>
            <p:nvPr/>
          </p:nvSpPr>
          <p:spPr>
            <a:xfrm>
              <a:off x="0" y="3296160"/>
              <a:ext cx="70164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实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3040" y="3524400"/>
              <a:ext cx="13525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338880" y="5902200"/>
            <a:ext cx="178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0000"/>
                </a:solidFill>
                <a:latin typeface="Arial"/>
              </a:rPr>
              <a:t>例子解析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604800" y="10886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嵌套调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规定：函数定义不可嵌套，但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可以嵌套调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023200" y="2208960"/>
            <a:ext cx="4830120" cy="2578320"/>
            <a:chOff x="2023200" y="2208960"/>
            <a:chExt cx="4830120" cy="2578320"/>
          </a:xfrm>
        </p:grpSpPr>
        <p:sp>
          <p:nvSpPr>
            <p:cNvPr id="741" name=""/>
            <p:cNvSpPr/>
            <p:nvPr/>
          </p:nvSpPr>
          <p:spPr>
            <a:xfrm>
              <a:off x="2023200" y="2208960"/>
              <a:ext cx="92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79720" y="3245400"/>
              <a:ext cx="96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函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129040" y="43884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结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32160" y="2255040"/>
              <a:ext cx="65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060240" y="225504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28400" y="3321720"/>
              <a:ext cx="97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函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406960" y="2560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06960" y="3627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3245040" y="263700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388040" y="2789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388040" y="37036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 flipV="1">
              <a:off x="3168360" y="3627360"/>
              <a:ext cx="1143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150160" y="2637000"/>
              <a:ext cx="1218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69120" y="27892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5073480" y="3627360"/>
              <a:ext cx="1219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99480" y="278820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27160" y="2712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387680" y="286452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78760" y="286452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48680" y="324540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31760" y="4083840"/>
              <a:ext cx="40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91280" y="385524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401280" y="393120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029680" y="377892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PlaceHolder 2"/>
          <p:cNvSpPr>
            <a:spLocks noGrp="1"/>
          </p:cNvSpPr>
          <p:nvPr>
            <p:ph type="title"/>
          </p:nvPr>
        </p:nvSpPr>
        <p:spPr>
          <a:xfrm>
            <a:off x="628560" y="641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00"/>
                </a:solidFill>
                <a:latin typeface="Arial"/>
              </a:rPr>
              <a:t>函数的嵌套与递归调用</a:t>
            </a:r>
            <a:br>
              <a:rPr sz="3600"/>
            </a:b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03200" y="24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2680" y="882720"/>
            <a:ext cx="3596040" cy="298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#include &lt;stdio.h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int dif(int x,int y,int z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int max(int x,int y,int z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int min(int x,int y,int z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oid main(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{ int a,b,c,d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anf("%d%d%d",&amp;a,&amp;b,&amp;c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=dif(a,b,c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intf("Max-Min=%d\n",d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951800" y="743040"/>
            <a:ext cx="3672360" cy="35672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int dif(int x,int y,int z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{  return max(x,y,z)-min(x,y,z); 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int max(int x,int y,int z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{    int r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       </a:t>
            </a: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r=x&gt;y?x:y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       </a:t>
            </a: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return(r&gt;z?r:z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 min(int x,int y,int z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{   int r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=x&lt;y?x:y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turn(r&lt;z?r:z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173520" y="4688640"/>
            <a:ext cx="4801680" cy="2170440"/>
            <a:chOff x="173520" y="4688640"/>
            <a:chExt cx="4801680" cy="2170440"/>
          </a:xfrm>
        </p:grpSpPr>
        <p:sp>
          <p:nvSpPr>
            <p:cNvPr id="770" name=""/>
            <p:cNvSpPr/>
            <p:nvPr/>
          </p:nvSpPr>
          <p:spPr>
            <a:xfrm>
              <a:off x="202320" y="4688640"/>
              <a:ext cx="92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3520" y="5417280"/>
              <a:ext cx="113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函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1440" y="615528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输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结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37120" y="472032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f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89880" y="473472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64240" y="5471280"/>
              <a:ext cx="128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函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6080" y="4995720"/>
              <a:ext cx="0" cy="48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6080" y="574524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1428840" y="5048280"/>
              <a:ext cx="114948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578320" y="515628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78320" y="6215040"/>
              <a:ext cx="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1352520" y="5744880"/>
              <a:ext cx="1206720" cy="11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46600" y="57949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函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562560" y="5105520"/>
              <a:ext cx="743040" cy="49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248360" y="5238720"/>
              <a:ext cx="0" cy="62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 flipV="1">
              <a:off x="3505320" y="5714640"/>
              <a:ext cx="781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43480" y="5981760"/>
              <a:ext cx="72396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91120" y="6229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3524040" y="6057720"/>
              <a:ext cx="609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71880" y="576324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  求三个数中最大数和最小数的差值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8320" y="22176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概述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62080" y="1028520"/>
            <a:ext cx="851832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模块化程序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基本思想：将一个大的程序按功能分割成一些小模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各模块相对独立、功能单一、结构清晰、接口简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控制了程序设计的复杂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提高元件的可靠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缩短开发周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避免程序开发的重复劳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易于维护和功能扩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开发方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自上向下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逐步分解，分而治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247680" y="69696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：函数直接或间接的调用自身叫函数的递归调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2104560" y="3345480"/>
            <a:ext cx="862920" cy="1892880"/>
            <a:chOff x="2104560" y="3345480"/>
            <a:chExt cx="862920" cy="1892880"/>
          </a:xfrm>
        </p:grpSpPr>
        <p:sp>
          <p:nvSpPr>
            <p:cNvPr id="793" name=""/>
            <p:cNvSpPr/>
            <p:nvPr/>
          </p:nvSpPr>
          <p:spPr>
            <a:xfrm>
              <a:off x="2466720" y="33454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31440" y="4839480"/>
              <a:ext cx="4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调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4760" y="37735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2104560" y="4992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2104920" y="35449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104920" y="3544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4153320" y="3316320"/>
            <a:ext cx="2265120" cy="1998000"/>
            <a:chOff x="4153320" y="3316320"/>
            <a:chExt cx="2265120" cy="1998000"/>
          </a:xfrm>
        </p:grpSpPr>
        <p:sp>
          <p:nvSpPr>
            <p:cNvPr id="800" name=""/>
            <p:cNvSpPr/>
            <p:nvPr/>
          </p:nvSpPr>
          <p:spPr>
            <a:xfrm>
              <a:off x="4153320" y="4915440"/>
              <a:ext cx="60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调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580360" y="491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调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220640" y="354384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1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68560" y="354384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2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7360" y="39258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4665960" y="3849120"/>
              <a:ext cx="12193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885280" y="4002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13880" y="5145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418440" y="33163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4437000" y="33163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437360" y="3316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281160" y="5133960"/>
            <a:ext cx="886284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编译系统对递归函数的自调用次数没有限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每调用函数一次，在内存堆栈区分配空间，用于存放函数变量、返回值等信息，所以递归次数过多，可能引起堆栈溢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632240" y="1211400"/>
            <a:ext cx="1720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(int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   int y,z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f(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…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(2*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900960" y="1152360"/>
            <a:ext cx="4258080" cy="2246040"/>
            <a:chOff x="3900960" y="1152360"/>
            <a:chExt cx="4258080" cy="2246040"/>
          </a:xfrm>
        </p:grpSpPr>
        <p:sp>
          <p:nvSpPr>
            <p:cNvPr id="814" name=""/>
            <p:cNvSpPr/>
            <p:nvPr/>
          </p:nvSpPr>
          <p:spPr>
            <a:xfrm>
              <a:off x="3900960" y="1170000"/>
              <a:ext cx="17200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f1(int 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{    int y,z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…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=f2(y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…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turn(2*z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23840" y="1152360"/>
              <a:ext cx="1735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f2(int 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{    int a,c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…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=f1(a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…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turn(3+c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5292720" y="1411200"/>
              <a:ext cx="121608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 flipV="1">
              <a:off x="5238360" y="1376280"/>
              <a:ext cx="1306440" cy="8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递归调用</a:t>
            </a:r>
            <a:br>
              <a:rPr sz="2400"/>
            </a:b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596880" y="34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368280" y="2336760"/>
                <a:ext cx="3148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m>
                                <m:mr>
                                  <m:e/>
                                  <m:e>
                                    <m:m>
                                      <m:mr>
                                        <m:e/>
                                        <m:e>
                                          <m:m>
                                            <m:mr>
                                              <m:e/>
                                              <m:e/>
                                            </m:mr>
                                          </m:m>
                                        </m:e>
                                      </m:mr>
                                    </m:m>
                                  </m:e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,1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  <m:e/>
                                      </m:mr>
                                    </m:m>
                                  </m:e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4305600" y="225360"/>
            <a:ext cx="4580640" cy="5946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t fac(int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n&lt;0)  printf("n&lt;0,data error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if(n==0||n==1)  f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f=fac(n-1)*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(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n,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Input a integer number: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",&amp;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y=fac(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%d! =%15d",n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002960" y="217440"/>
            <a:ext cx="30970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的阶乘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457200"/>
            <a:ext cx="54482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409760" y="1162080"/>
            <a:ext cx="5511600" cy="3830400"/>
            <a:chOff x="1409760" y="1162080"/>
            <a:chExt cx="5511600" cy="3830400"/>
          </a:xfrm>
        </p:grpSpPr>
        <p:graphicFrame>
          <p:nvGraphicFramePr>
            <p:cNvPr id="522" name=""/>
            <p:cNvGraphicFramePr/>
            <p:nvPr/>
          </p:nvGraphicFramePr>
          <p:xfrm>
            <a:off x="1409760" y="1162080"/>
            <a:ext cx="5511600" cy="335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09760" y="1162080"/>
                      <a:ext cx="5511600" cy="335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"/>
            <p:cNvSpPr/>
            <p:nvPr/>
          </p:nvSpPr>
          <p:spPr>
            <a:xfrm>
              <a:off x="3379680" y="4532760"/>
              <a:ext cx="11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隶书"/>
                  <a:ea typeface="隶书"/>
                </a:rPr>
                <a:t>C</a:t>
              </a:r>
              <a:r>
                <a:rPr b="0" lang="en-US" sz="2400" spc="-1" strike="noStrike">
                  <a:solidFill>
                    <a:srgbClr val="dddddd"/>
                  </a:solidFill>
                  <a:latin typeface="隶书"/>
                  <a:ea typeface="隶书"/>
                </a:rPr>
                <a:t>程序结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1481400" y="4841280"/>
            <a:ext cx="543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函数式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必须有且只能有一个名为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的主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程序的执行总是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从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main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函数开始，在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main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中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函数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不能嵌套定义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可以嵌套调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69960" y="330120"/>
            <a:ext cx="8066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是模块化程序设计语言</a:t>
            </a:r>
            <a:br>
              <a:rPr sz="2400"/>
            </a:b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18600" y="903240"/>
            <a:ext cx="85662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从用户角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标准函数（库函数）：由系统提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用户自定义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从函数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无参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有参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20560" y="3335400"/>
            <a:ext cx="1826640" cy="192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使用库函数应注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函数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函数参数的数目和顺序，及各参数意义和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函数返回值意义和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需要使用的包含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00"/>
                </a:solidFill>
                <a:latin typeface="Arial"/>
              </a:rPr>
              <a:t>函数分类</a:t>
            </a:r>
            <a:br>
              <a:rPr sz="3200"/>
            </a:b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299520" y="358920"/>
            <a:ext cx="47689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一般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07400" y="803160"/>
            <a:ext cx="1339560" cy="566640"/>
          </a:xfrm>
          <a:prstGeom prst="wedgeEllipseCallout">
            <a:avLst>
              <a:gd name="adj1" fmla="val -223694"/>
              <a:gd name="adj2" fmla="val 136537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合法标识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06080" y="64800"/>
            <a:ext cx="1854720" cy="1432800"/>
          </a:xfrm>
          <a:prstGeom prst="wedgeEllipseCallout">
            <a:avLst>
              <a:gd name="adj1" fmla="val -86347"/>
              <a:gd name="adj2" fmla="val 80870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函数返回值类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缺省</a:t>
            </a:r>
            <a:r>
              <a:rPr b="0" lang="en-US" sz="2000" spc="-1" strike="noStrike">
                <a:solidFill>
                  <a:srgbClr val="ffe2c5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无返回值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19120" y="2231280"/>
            <a:ext cx="906480" cy="566640"/>
          </a:xfrm>
          <a:prstGeom prst="wedgeEllipseCallout">
            <a:avLst>
              <a:gd name="adj1" fmla="val -138842"/>
              <a:gd name="adj2" fmla="val 69490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函数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30080" y="1808640"/>
            <a:ext cx="5700960" cy="1751760"/>
            <a:chOff x="730080" y="1808640"/>
            <a:chExt cx="5700960" cy="1751760"/>
          </a:xfrm>
        </p:grpSpPr>
        <p:sp>
          <p:nvSpPr>
            <p:cNvPr id="535" name=""/>
            <p:cNvSpPr/>
            <p:nvPr/>
          </p:nvSpPr>
          <p:spPr>
            <a:xfrm>
              <a:off x="3484440" y="1941840"/>
              <a:ext cx="2946600" cy="16185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类型     函数名</a:t>
              </a: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（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形参类型说明表</a:t>
              </a: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说明部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语句部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0080" y="1808640"/>
              <a:ext cx="11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隶书"/>
                  <a:ea typeface="隶书"/>
                </a:rPr>
                <a:t>现代风格</a:t>
              </a:r>
              <a:r>
                <a:rPr b="0" lang="en-US" sz="2400" spc="-1" strike="noStrike">
                  <a:solidFill>
                    <a:srgbClr val="008000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801960" y="3996000"/>
            <a:ext cx="2235240" cy="192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例   有参函数（现代风格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max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int x,int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   int z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x&gt;y?x: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(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606840" y="3919680"/>
            <a:ext cx="2317680" cy="1923480"/>
            <a:chOff x="3606840" y="3919680"/>
            <a:chExt cx="2317680" cy="1923480"/>
          </a:xfrm>
        </p:grpSpPr>
        <p:sp>
          <p:nvSpPr>
            <p:cNvPr id="539" name=""/>
            <p:cNvSpPr/>
            <p:nvPr/>
          </p:nvSpPr>
          <p:spPr>
            <a:xfrm>
              <a:off x="3606840" y="3919680"/>
              <a:ext cx="2053800" cy="1923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例   有参函数（现代风格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 max(</a:t>
              </a: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int x, 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{    int z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=x&gt;y?x:y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turn(z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581800" y="5238720"/>
              <a:ext cx="342720" cy="304560"/>
            </a:xfrm>
            <a:prstGeom prst="line">
              <a:avLst/>
            </a:prstGeom>
            <a:ln w="38160">
              <a:solidFill>
                <a:srgbClr val="ffe2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39040" y="5143320"/>
              <a:ext cx="209520" cy="438120"/>
            </a:xfrm>
            <a:prstGeom prst="line">
              <a:avLst/>
            </a:prstGeom>
            <a:ln w="38160">
              <a:solidFill>
                <a:srgbClr val="ffe2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909960" y="4195800"/>
            <a:ext cx="2988720" cy="1611720"/>
            <a:chOff x="3909960" y="4195800"/>
            <a:chExt cx="2988720" cy="1611720"/>
          </a:xfrm>
        </p:grpSpPr>
        <p:sp>
          <p:nvSpPr>
            <p:cNvPr id="543" name=""/>
            <p:cNvSpPr/>
            <p:nvPr/>
          </p:nvSpPr>
          <p:spPr>
            <a:xfrm>
              <a:off x="3909960" y="4195800"/>
              <a:ext cx="1323720" cy="100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例 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空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ummy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{ 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59120" y="5240880"/>
              <a:ext cx="1339560" cy="566640"/>
            </a:xfrm>
            <a:prstGeom prst="wedgeEllipseCallout">
              <a:avLst>
                <a:gd name="adj1" fmla="val -112490"/>
                <a:gd name="adj2" fmla="val -78444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体为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000240" y="4097520"/>
            <a:ext cx="3384360" cy="192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例   无参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star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  printf(“**********\n”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star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  printf(“**********\n”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347400" y="304560"/>
            <a:ext cx="37782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00"/>
                </a:solidFill>
                <a:latin typeface="Arial"/>
              </a:rPr>
              <a:t>函数的定义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1451160" y="798840"/>
            <a:ext cx="4554000" cy="1923480"/>
            <a:chOff x="1451160" y="798840"/>
            <a:chExt cx="4554000" cy="1923480"/>
          </a:xfrm>
        </p:grpSpPr>
        <p:sp>
          <p:nvSpPr>
            <p:cNvPr id="548" name=""/>
            <p:cNvSpPr/>
            <p:nvPr/>
          </p:nvSpPr>
          <p:spPr>
            <a:xfrm>
              <a:off x="3668040" y="798840"/>
              <a:ext cx="2337120" cy="19234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类型     函数名（形参表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形参类型说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说明部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语句部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51160" y="817560"/>
              <a:ext cx="11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隶书"/>
                  <a:ea typeface="隶书"/>
                </a:rPr>
                <a:t>传统风格</a:t>
              </a:r>
              <a:r>
                <a:rPr b="0" lang="en-US" sz="2400" spc="-1" strike="noStrike">
                  <a:solidFill>
                    <a:srgbClr val="008000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605400" y="3335400"/>
            <a:ext cx="2053800" cy="22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例   有参函数（传统风格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max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t x,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   int z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x&gt;y?x: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(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11040" y="417240"/>
            <a:ext cx="7772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函数传统风格和例子</a:t>
            </a:r>
            <a:endParaRPr b="0" lang="en-US" sz="28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1" dur="1" fill="hold"/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返回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形式：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turn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表达式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turn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表达式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功能：使程序控制从被调用函数返回到调用函数中，同时把返值带给调用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说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函数中可有多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语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若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语句，遇</a:t>
            </a:r>
            <a:r>
              <a:rPr b="0" lang="en-US" sz="2000" spc="-1" strike="noStrike">
                <a:solidFill>
                  <a:srgbClr val="ffe2c5"/>
                </a:solidFill>
                <a:latin typeface="Arial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时，自动返回调用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若函数类型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语句中表达式值的类型不一致，按前者为准，自动转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en-US" sz="2000" spc="-1" strike="noStrike">
                <a:solidFill>
                  <a:srgbClr val="ffe2c5"/>
                </a:solidFill>
                <a:latin typeface="Arial"/>
              </a:rPr>
              <a:t>函数调用转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型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84800" y="590400"/>
            <a:ext cx="3190320" cy="265428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  无返回值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e2c5"/>
                </a:solidFill>
                <a:latin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wap(int x,int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int 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298440" y="360000"/>
            <a:ext cx="6778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00"/>
                </a:solidFill>
                <a:latin typeface="Arial"/>
              </a:rPr>
              <a:t>函数的返回值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1" dur="1" fill="hold"/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调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函数名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实参表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说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实参与形参个数相等，类型一致，按顺序一一对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实参表求值顺序，因系统而定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o C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自右向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298440" y="396720"/>
            <a:ext cx="76183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函数的调用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558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560" name=""/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1" name="CAMERA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函数语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例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st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Hello,World!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函数表达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例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=max(a,b)*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函数参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例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%d”,max(a,b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=max(a,max(b,c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708120" y="345960"/>
            <a:ext cx="8067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00"/>
                </a:solidFill>
                <a:latin typeface="Arial"/>
              </a:rPr>
              <a:t>函数的调用方式</a:t>
            </a: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8T14:41:51Z</dcterms:created>
  <dc:creator>hyg</dc:creator>
  <dc:description/>
  <dc:language>en-US</dc:language>
  <cp:lastModifiedBy>YlmF</cp:lastModifiedBy>
  <dcterms:modified xsi:type="dcterms:W3CDTF">2009-11-07T12:43:10Z</dcterms:modified>
  <cp:revision>871</cp:revision>
  <dc:subject/>
  <dc:title>第六章  函数</dc:title>
</cp:coreProperties>
</file>