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CB4-8C07-4F74-8D32-61C0A87A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AA1-0E49-421E-AC6B-898EE36D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036-B50A-4B28-887C-85A2AE66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050-9E87-425E-B880-D371E4F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59A6-9C38-44A4-AA72-58D90416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EED9-8DC8-4090-96EF-FF9DE243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CA71-48BB-40D9-A57D-2156DA6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504C-DA12-42D2-B092-B75F6511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2649-274D-4959-877C-D67E60D0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6041-CF89-4D1B-8220-E02727B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9FB-526B-4222-80EA-C3E95C6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FCB-33B7-4621-A126-9E39F10B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3D16-236E-4EBB-96A7-DC9C322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DE4D-A12B-4583-81DB-B745C3F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6C74-CF4C-4CF1-97B9-544FC021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8B26-AFE2-4A79-A4A5-B84015B1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63DD-6BA1-4BCF-942B-7D5B7E26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3A-FB37-4D3E-95F9-2AC9339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C51-DC73-4B2D-A7EA-CD3E109C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EFF-011C-412D-8759-BFC8FA0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5EF-06A2-4987-9D8D-7C7E6862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F6F-8559-4B1D-8873-C6176C9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88D-1EAC-4BDD-8BB0-7ED72F6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1F6-B3B3-4813-943B-AB51219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1E62-C906-405F-A8F8-6CD6192B5F5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BAA-E401-4D50-AEC5-A561C2A5B27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隶书"/>
                <a:ea typeface="隶书"/>
              </a:rPr>
              <a:t>结构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33000" y="1030320"/>
            <a:ext cx="687564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是一种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构造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用途：把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不同类型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的数据组合成一个整体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------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定义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类型说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180600" y="382752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名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4200" y="4559040"/>
            <a:ext cx="1461240" cy="825840"/>
          </a:xfrm>
          <a:prstGeom prst="wedgeRectCallout">
            <a:avLst>
              <a:gd name="adj1" fmla="val -121328"/>
              <a:gd name="adj2" fmla="val -20416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成员类型可以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基本型或构造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970160"/>
            <a:ext cx="2266920" cy="825840"/>
          </a:xfrm>
          <a:prstGeom prst="wedgeRectCallout">
            <a:avLst>
              <a:gd name="adj1" fmla="val 62111"/>
              <a:gd name="adj2" fmla="val -146074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struct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关键字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能省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4080" y="3141360"/>
            <a:ext cx="1692720" cy="825840"/>
          </a:xfrm>
          <a:prstGeom prst="wedgeRectCallout">
            <a:avLst>
              <a:gd name="adj1" fmla="val -170921"/>
              <a:gd name="adj2" fmla="val 3378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可省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隶书"/>
              </a:rPr>
              <a:t>无名结构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3760" y="768240"/>
            <a:ext cx="43574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三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2720" y="812520"/>
            <a:ext cx="85312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数组的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三种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01640" y="1844280"/>
            <a:ext cx="302904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 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320" y="230184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5320" y="283536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9720" y="1295280"/>
            <a:ext cx="3060360" cy="4800600"/>
            <a:chOff x="5409720" y="1295280"/>
            <a:chExt cx="3060360" cy="4800600"/>
          </a:xfrm>
        </p:grpSpPr>
        <p:sp>
          <p:nvSpPr>
            <p:cNvPr id="224" name=""/>
            <p:cNvSpPr/>
            <p:nvPr/>
          </p:nvSpPr>
          <p:spPr>
            <a:xfrm>
              <a:off x="5943600" y="1295280"/>
              <a:ext cx="1523880" cy="48006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17524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1333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26668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3600" y="30477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429000"/>
              <a:ext cx="1523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3040" y="17514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5880" y="2183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000" y="26150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3440" y="3047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943600" y="3427920"/>
              <a:ext cx="1523880" cy="1693800"/>
              <a:chOff x="5943600" y="3427920"/>
              <a:chExt cx="1523880" cy="1693800"/>
            </a:xfrm>
          </p:grpSpPr>
          <p:sp>
            <p:nvSpPr>
              <p:cNvPr id="235" name=""/>
              <p:cNvSpPr/>
              <p:nvPr/>
            </p:nvSpPr>
            <p:spPr>
              <a:xfrm>
                <a:off x="5943600" y="38095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43600" y="43430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43600" y="472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43600" y="51051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23040" y="342792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5880" y="385920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81000" y="42912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3440" y="47228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467480" y="1752480"/>
              <a:ext cx="228600" cy="1676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480" y="342900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93560" y="23612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0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93560" y="40374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1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714640" y="175248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714640" y="342900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0960" y="2819160"/>
              <a:ext cx="0" cy="6098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790960" y="1752480"/>
              <a:ext cx="0" cy="5335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09720" y="2284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5B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-360" y="1087560"/>
            <a:ext cx="4097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数组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30240" y="2225880"/>
            <a:ext cx="48304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 ]={{……},{……},{……}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6668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数组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数组名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下标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]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11120" y="2379960"/>
            <a:ext cx="6887880" cy="2483280"/>
            <a:chOff x="1311120" y="2379960"/>
            <a:chExt cx="6887880" cy="2483280"/>
          </a:xfrm>
        </p:grpSpPr>
        <p:sp>
          <p:nvSpPr>
            <p:cNvPr id="257" name=""/>
            <p:cNvSpPr/>
            <p:nvPr/>
          </p:nvSpPr>
          <p:spPr>
            <a:xfrm>
              <a:off x="1311120" y="2574720"/>
              <a:ext cx="302904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r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9040" y="2379960"/>
              <a:ext cx="1551240" cy="399240"/>
            </a:xfrm>
            <a:prstGeom prst="wedgeRectCallout">
              <a:avLst>
                <a:gd name="adj1" fmla="val -91643"/>
                <a:gd name="adj2" fmla="val 165041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1].ag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++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0840" y="4284720"/>
              <a:ext cx="3368160" cy="399240"/>
            </a:xfrm>
            <a:prstGeom prst="wedgeRectCallout">
              <a:avLst>
                <a:gd name="adj1" fmla="val -73703"/>
                <a:gd name="adj2" fmla="val -183060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rcpy(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0].nam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,”ZhaoDa”)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0000" y="1179360"/>
            <a:ext cx="38732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数组初始化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24160" y="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3640" y="918360"/>
            <a:ext cx="6906240" cy="55803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ruct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 coun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leader[3]={“Li”,0,“Zhang”,0,”Wang“,0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,j;  char   leader_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or(i=1;i&lt;=10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scanf("%s",leader_name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for(j=0;j&lt;3;j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trcm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leader_name,leader[j].name)==0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[j].count++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or(i=0;i&lt;3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%5s:%d\n",leader[i].name,leader[i].count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553080" y="1066680"/>
            <a:ext cx="2286000" cy="1812960"/>
            <a:chOff x="6553080" y="1066680"/>
            <a:chExt cx="2286000" cy="1812960"/>
          </a:xfrm>
        </p:grpSpPr>
        <p:sp>
          <p:nvSpPr>
            <p:cNvPr id="264" name=""/>
            <p:cNvSpPr/>
            <p:nvPr/>
          </p:nvSpPr>
          <p:spPr>
            <a:xfrm>
              <a:off x="6553080" y="1066680"/>
              <a:ext cx="2286000" cy="181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1488960"/>
              <a:ext cx="2286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26320" y="1066680"/>
              <a:ext cx="0" cy="1812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9560" y="11271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74000" y="1127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ount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7680" y="156204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L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26240" y="20131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Zh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26240" y="24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W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000" y="154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37000" y="2003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37000" y="2457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1060920" y="343080"/>
            <a:ext cx="76201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统计侯选人选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68280" y="306000"/>
            <a:ext cx="854712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指向结构体变量的指针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truct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名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指针名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例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ruct  student  *p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286000"/>
            <a:ext cx="854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使用结构体指针变量引用成员形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67040" y="2303640"/>
            <a:ext cx="2924280" cy="460080"/>
          </a:xfrm>
          <a:prstGeom prst="wedgeRectCallout">
            <a:avLst>
              <a:gd name="adj1" fmla="val -7805"/>
              <a:gd name="adj2" fmla="val -164930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存放结构体变量在内存的起始地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37560" y="2286000"/>
            <a:ext cx="6705720" cy="4191120"/>
            <a:chOff x="1537560" y="2286000"/>
            <a:chExt cx="6705720" cy="4191120"/>
          </a:xfrm>
        </p:grpSpPr>
        <p:grpSp>
          <p:nvGrpSpPr>
            <p:cNvPr id="280" name=""/>
            <p:cNvGrpSpPr/>
            <p:nvPr/>
          </p:nvGrpSpPr>
          <p:grpSpPr>
            <a:xfrm>
              <a:off x="5028840" y="2286000"/>
              <a:ext cx="3214440" cy="4191120"/>
              <a:chOff x="5028840" y="2286000"/>
              <a:chExt cx="3214440" cy="4191120"/>
            </a:xfrm>
          </p:grpSpPr>
          <p:sp>
            <p:nvSpPr>
              <p:cNvPr id="281" name=""/>
              <p:cNvSpPr/>
              <p:nvPr/>
            </p:nvSpPr>
            <p:spPr>
              <a:xfrm>
                <a:off x="5867280" y="2286000"/>
                <a:ext cx="1523880" cy="419112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7280" y="2684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3017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34833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38160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7280" y="41486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6720" y="26596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9920" y="303588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04680" y="341352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97120" y="37897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7280" y="44812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7280" y="481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7280" y="51465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7280" y="54792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2684880"/>
                <a:ext cx="228600" cy="146340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160 h 1463400"/>
                  <a:gd name="textAreaBottom" fmla="*/ 1425240 h 146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65200" y="319068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tu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0080" y="2684880"/>
                <a:ext cx="45720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28840" y="2459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537560" y="2301840"/>
              <a:ext cx="3280680" cy="265428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   *p=&amp;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-720360" y="2894400"/>
            <a:ext cx="9466560" cy="398880"/>
            <a:chOff x="-720360" y="2894400"/>
            <a:chExt cx="9466560" cy="398880"/>
          </a:xfrm>
        </p:grpSpPr>
        <p:sp>
          <p:nvSpPr>
            <p:cNvPr id="301" name=""/>
            <p:cNvSpPr/>
            <p:nvPr/>
          </p:nvSpPr>
          <p:spPr>
            <a:xfrm>
              <a:off x="3105360" y="2971800"/>
              <a:ext cx="468360" cy="153720"/>
            </a:xfrm>
            <a:prstGeom prst="leftRightArrow">
              <a:avLst>
                <a:gd name="adj1" fmla="val 50000"/>
                <a:gd name="adj2" fmla="val 60654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20360" y="2894400"/>
              <a:ext cx="346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结构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3320" y="289440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结构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7160" y="2971800"/>
              <a:ext cx="533160" cy="152280"/>
            </a:xfrm>
            <a:prstGeom prst="leftRightArrow">
              <a:avLst>
                <a:gd name="adj1" fmla="val 50000"/>
                <a:gd name="adj2" fmla="val 69699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08120" y="28944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结构体变量名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158280" y="3674520"/>
            <a:ext cx="1827000" cy="1191600"/>
          </a:xfrm>
          <a:prstGeom prst="wedgeRectCallout">
            <a:avLst>
              <a:gd name="adj1" fmla="val 58666"/>
              <a:gd name="adj2" fmla="val -8817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指向运算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优先级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 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结合方向：从左向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28840" y="3352680"/>
          <a:ext cx="60948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8840" y="3352680"/>
                    <a:ext cx="6094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505880" y="34290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指向结构体的指针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15640" y="2871360"/>
            <a:ext cx="310392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 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*p=&amp;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;    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34840" y="2890440"/>
            <a:ext cx="444456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*p=&amp;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u1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;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*p)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17680" y="46944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和指针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6" name="CAMERA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61800" y="1409400"/>
            <a:ext cx="84441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的成员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值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指向结构体变量或数组的指针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地址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多值传递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，效率低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用指向结构体的指针作函数参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3960" y="1007640"/>
            <a:ext cx="771372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.a=18;     parm.b=5;    parm.c=parm.a*parm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553080" y="228600"/>
            <a:ext cx="2303640" cy="3429000"/>
            <a:chOff x="6553080" y="228600"/>
            <a:chExt cx="2303640" cy="3429000"/>
          </a:xfrm>
        </p:grpSpPr>
        <p:grpSp>
          <p:nvGrpSpPr>
            <p:cNvPr id="317" name=""/>
            <p:cNvGrpSpPr/>
            <p:nvPr/>
          </p:nvGrpSpPr>
          <p:grpSpPr>
            <a:xfrm>
              <a:off x="8089920" y="590400"/>
              <a:ext cx="569520" cy="660600"/>
              <a:chOff x="8089920" y="590400"/>
              <a:chExt cx="569520" cy="660600"/>
            </a:xfrm>
          </p:grpSpPr>
          <p:sp>
            <p:nvSpPr>
              <p:cNvPr id="318" name=""/>
              <p:cNvSpPr/>
              <p:nvPr/>
            </p:nvSpPr>
            <p:spPr>
              <a:xfrm>
                <a:off x="8089920" y="5904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52560" y="6897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566040" y="2286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66040" y="6728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66040" y="9284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12049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14842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922080" y="608400"/>
              <a:ext cx="683640" cy="973800"/>
              <a:chOff x="6922080" y="608400"/>
              <a:chExt cx="683640" cy="973800"/>
            </a:xfrm>
          </p:grpSpPr>
          <p:sp>
            <p:nvSpPr>
              <p:cNvPr id="326" name=""/>
              <p:cNvSpPr/>
              <p:nvPr/>
            </p:nvSpPr>
            <p:spPr>
              <a:xfrm>
                <a:off x="6922080" y="608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78960" y="8956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22080" y="11833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855840" y="2800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553080" y="1722600"/>
              <a:ext cx="2303640" cy="1394280"/>
              <a:chOff x="6553080" y="1722600"/>
              <a:chExt cx="2303640" cy="139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566040" y="21873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53080" y="247608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566040" y="276444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3080" y="307512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60240" y="172260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77320" y="2176560"/>
                <a:ext cx="139680" cy="87084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2680 h 870840"/>
                  <a:gd name="textAreaBottom" fmla="*/ 848160 h 87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151840" y="23990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7009200" y="2097000"/>
                <a:ext cx="683640" cy="1019880"/>
                <a:chOff x="7009200" y="2097000"/>
                <a:chExt cx="683640" cy="10198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009200" y="2097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27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66080" y="240984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3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09200" y="2718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3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2" name=""/>
          <p:cNvGrpSpPr/>
          <p:nvPr/>
        </p:nvGrpSpPr>
        <p:grpSpPr>
          <a:xfrm>
            <a:off x="6375240" y="838080"/>
            <a:ext cx="203400" cy="2133720"/>
            <a:chOff x="6375240" y="838080"/>
            <a:chExt cx="203400" cy="2133720"/>
          </a:xfrm>
        </p:grpSpPr>
        <p:sp>
          <p:nvSpPr>
            <p:cNvPr id="343" name=""/>
            <p:cNvSpPr/>
            <p:nvPr/>
          </p:nvSpPr>
          <p:spPr>
            <a:xfrm>
              <a:off x="6375240" y="838080"/>
              <a:ext cx="177840" cy="15238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1143000"/>
              <a:ext cx="177840" cy="1523880"/>
            </a:xfrm>
            <a:prstGeom prst="pie">
              <a:avLst/>
            </a:pr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1447560"/>
              <a:ext cx="177840" cy="15242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096160" y="1381680"/>
            <a:ext cx="1276560" cy="1283760"/>
          </a:xfrm>
          <a:prstGeom prst="irregularSeal1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553080" y="228600"/>
            <a:ext cx="2303640" cy="3809880"/>
            <a:chOff x="6553080" y="228600"/>
            <a:chExt cx="2303640" cy="3809880"/>
          </a:xfrm>
        </p:grpSpPr>
        <p:grpSp>
          <p:nvGrpSpPr>
            <p:cNvPr id="348" name=""/>
            <p:cNvGrpSpPr/>
            <p:nvPr/>
          </p:nvGrpSpPr>
          <p:grpSpPr>
            <a:xfrm>
              <a:off x="8089920" y="714240"/>
              <a:ext cx="568800" cy="885960"/>
              <a:chOff x="8089920" y="714240"/>
              <a:chExt cx="568800" cy="885960"/>
            </a:xfrm>
          </p:grpSpPr>
          <p:sp>
            <p:nvSpPr>
              <p:cNvPr id="349" name=""/>
              <p:cNvSpPr/>
              <p:nvPr/>
            </p:nvSpPr>
            <p:spPr>
              <a:xfrm>
                <a:off x="8089920" y="714240"/>
                <a:ext cx="139320" cy="885960"/>
              </a:xfrm>
              <a:custGeom>
                <a:avLst/>
                <a:gdLst>
                  <a:gd name="textAreaLeft" fmla="*/ 0 w 139320"/>
                  <a:gd name="textAreaRight" fmla="*/ 50400 w 13932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184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565680" y="228600"/>
              <a:ext cx="1524240" cy="3809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65680" y="63972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65680" y="8762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3080" y="11318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1390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921720" y="565560"/>
              <a:ext cx="683640" cy="933840"/>
              <a:chOff x="6921720" y="565560"/>
              <a:chExt cx="683640" cy="933840"/>
            </a:xfrm>
          </p:grpSpPr>
          <p:sp>
            <p:nvSpPr>
              <p:cNvPr id="357" name=""/>
              <p:cNvSpPr/>
              <p:nvPr/>
            </p:nvSpPr>
            <p:spPr>
              <a:xfrm>
                <a:off x="6921720" y="56556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78600" y="83412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21720" y="1100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855840" y="2624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553080" y="1827720"/>
              <a:ext cx="2303640" cy="1411560"/>
              <a:chOff x="6553080" y="1827720"/>
              <a:chExt cx="2303640" cy="1411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566040" y="22971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53080" y="259092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66040" y="288432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53080" y="320040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60240" y="182772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7320" y="228600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51840" y="25135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7009200" y="2208600"/>
                <a:ext cx="683640" cy="1030680"/>
                <a:chOff x="7009200" y="2208600"/>
                <a:chExt cx="683640" cy="10306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009200" y="22086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066080" y="252468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09200" y="28404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3" name=""/>
          <p:cNvGrpSpPr/>
          <p:nvPr/>
        </p:nvGrpSpPr>
        <p:grpSpPr>
          <a:xfrm>
            <a:off x="6553080" y="228600"/>
            <a:ext cx="2106000" cy="2819160"/>
            <a:chOff x="6553080" y="228600"/>
            <a:chExt cx="2106000" cy="2819160"/>
          </a:xfrm>
        </p:grpSpPr>
        <p:grpSp>
          <p:nvGrpSpPr>
            <p:cNvPr id="374" name=""/>
            <p:cNvGrpSpPr/>
            <p:nvPr/>
          </p:nvGrpSpPr>
          <p:grpSpPr>
            <a:xfrm>
              <a:off x="8089560" y="714240"/>
              <a:ext cx="569520" cy="885960"/>
              <a:chOff x="8089560" y="714240"/>
              <a:chExt cx="569520" cy="885960"/>
            </a:xfrm>
          </p:grpSpPr>
          <p:sp>
            <p:nvSpPr>
              <p:cNvPr id="375" name=""/>
              <p:cNvSpPr/>
              <p:nvPr/>
            </p:nvSpPr>
            <p:spPr>
              <a:xfrm>
                <a:off x="8089560" y="71424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220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565680" y="22860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53080" y="228600"/>
            <a:ext cx="2106000" cy="3124080"/>
            <a:chOff x="6553080" y="228600"/>
            <a:chExt cx="2106000" cy="3124080"/>
          </a:xfrm>
        </p:grpSpPr>
        <p:sp>
          <p:nvSpPr>
            <p:cNvPr id="388" name=""/>
            <p:cNvSpPr/>
            <p:nvPr/>
          </p:nvSpPr>
          <p:spPr>
            <a:xfrm>
              <a:off x="8089560" y="71424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2200" y="9133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65680" y="22860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00080" y="36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464040" y="455400"/>
            <a:ext cx="762012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用结构体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5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-7200" y="1007640"/>
            <a:ext cx="870156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  *parm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&amp;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 *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-&gt;a=18;     parm-&gt;b=5;    parm-&gt;c=parm-&gt;a*parm-&gt;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534000" y="343080"/>
            <a:ext cx="2106000" cy="2819160"/>
            <a:chOff x="6534000" y="343080"/>
            <a:chExt cx="2106000" cy="2819160"/>
          </a:xfrm>
        </p:grpSpPr>
        <p:grpSp>
          <p:nvGrpSpPr>
            <p:cNvPr id="404" name=""/>
            <p:cNvGrpSpPr/>
            <p:nvPr/>
          </p:nvGrpSpPr>
          <p:grpSpPr>
            <a:xfrm>
              <a:off x="8070480" y="828720"/>
              <a:ext cx="569520" cy="885960"/>
              <a:chOff x="8070480" y="828720"/>
              <a:chExt cx="569520" cy="88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070480" y="82872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133120" y="10278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546600" y="34308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6600" y="8287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46600" y="11080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4000" y="14097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34000" y="1714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902640" y="776880"/>
              <a:ext cx="683640" cy="1030680"/>
              <a:chOff x="6902640" y="776880"/>
              <a:chExt cx="683640" cy="1030680"/>
            </a:xfrm>
          </p:grpSpPr>
          <p:sp>
            <p:nvSpPr>
              <p:cNvPr id="413" name=""/>
              <p:cNvSpPr/>
              <p:nvPr/>
            </p:nvSpPr>
            <p:spPr>
              <a:xfrm>
                <a:off x="6902640" y="7768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59520" y="10929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02640" y="1408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6836400" y="4183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572160" y="380880"/>
            <a:ext cx="2106000" cy="3124080"/>
            <a:chOff x="6572160" y="380880"/>
            <a:chExt cx="2106000" cy="3124080"/>
          </a:xfrm>
        </p:grpSpPr>
        <p:sp>
          <p:nvSpPr>
            <p:cNvPr id="418" name=""/>
            <p:cNvSpPr/>
            <p:nvPr/>
          </p:nvSpPr>
          <p:spPr>
            <a:xfrm>
              <a:off x="8108640" y="86652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71280" y="10656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760" y="38088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760" y="8665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84760" y="11458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2160" y="14475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72160" y="17524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940800" y="814680"/>
              <a:ext cx="683640" cy="1030680"/>
              <a:chOff x="6940800" y="814680"/>
              <a:chExt cx="683640" cy="1030680"/>
            </a:xfrm>
          </p:grpSpPr>
          <p:sp>
            <p:nvSpPr>
              <p:cNvPr id="426" name=""/>
              <p:cNvSpPr/>
              <p:nvPr/>
            </p:nvSpPr>
            <p:spPr>
              <a:xfrm>
                <a:off x="6940800" y="814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97680" y="11307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40800" y="14464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74560" y="4561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0" name="">
            <a:hlinkClick r:id="rId2"/>
          </p:cNvPr>
          <p:cNvSpPr/>
          <p:nvPr/>
        </p:nvSpPr>
        <p:spPr>
          <a:xfrm>
            <a:off x="8229600" y="586728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113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305400" y="324000"/>
            <a:ext cx="2437200" cy="3429000"/>
            <a:chOff x="6305400" y="324000"/>
            <a:chExt cx="2437200" cy="3429000"/>
          </a:xfrm>
        </p:grpSpPr>
        <p:grpSp>
          <p:nvGrpSpPr>
            <p:cNvPr id="433" name=""/>
            <p:cNvGrpSpPr/>
            <p:nvPr/>
          </p:nvGrpSpPr>
          <p:grpSpPr>
            <a:xfrm>
              <a:off x="8089920" y="685800"/>
              <a:ext cx="569520" cy="660600"/>
              <a:chOff x="8089920" y="685800"/>
              <a:chExt cx="569520" cy="660600"/>
            </a:xfrm>
          </p:grpSpPr>
          <p:sp>
            <p:nvSpPr>
              <p:cNvPr id="434" name=""/>
              <p:cNvSpPr/>
              <p:nvPr/>
            </p:nvSpPr>
            <p:spPr>
              <a:xfrm>
                <a:off x="8089920" y="6858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2560" y="7851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6566040" y="3240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66040" y="7686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6040" y="10242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53080" y="1300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3080" y="15796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922080" y="703800"/>
              <a:ext cx="683640" cy="973800"/>
              <a:chOff x="6922080" y="703800"/>
              <a:chExt cx="683640" cy="973800"/>
            </a:xfrm>
          </p:grpSpPr>
          <p:sp>
            <p:nvSpPr>
              <p:cNvPr id="442" name=""/>
              <p:cNvSpPr/>
              <p:nvPr/>
            </p:nvSpPr>
            <p:spPr>
              <a:xfrm>
                <a:off x="6922080" y="7038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978960" y="9910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22080" y="12787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855840" y="3754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66040" y="22831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25718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6040" y="286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1705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60240" y="18183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37720" y="2170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305400" y="762120"/>
              <a:ext cx="438480" cy="1657440"/>
              <a:chOff x="6305400" y="762120"/>
              <a:chExt cx="438480" cy="165744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6305400" y="24195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305400" y="7621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05400" y="7621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949800" y="2258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43560" y="361800"/>
            <a:ext cx="2437200" cy="3429000"/>
            <a:chOff x="6343560" y="361800"/>
            <a:chExt cx="2437200" cy="3429000"/>
          </a:xfrm>
        </p:grpSpPr>
        <p:grpSp>
          <p:nvGrpSpPr>
            <p:cNvPr id="458" name=""/>
            <p:cNvGrpSpPr/>
            <p:nvPr/>
          </p:nvGrpSpPr>
          <p:grpSpPr>
            <a:xfrm>
              <a:off x="8128080" y="723600"/>
              <a:ext cx="569520" cy="660600"/>
              <a:chOff x="8128080" y="723600"/>
              <a:chExt cx="569520" cy="660600"/>
            </a:xfrm>
          </p:grpSpPr>
          <p:sp>
            <p:nvSpPr>
              <p:cNvPr id="459" name=""/>
              <p:cNvSpPr/>
              <p:nvPr/>
            </p:nvSpPr>
            <p:spPr>
              <a:xfrm>
                <a:off x="8128080" y="7236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90720" y="8229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604200" y="3618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4200" y="8064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4200" y="10620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1240" y="13381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1240" y="16174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6960240" y="741600"/>
              <a:ext cx="683640" cy="973800"/>
              <a:chOff x="6960240" y="741600"/>
              <a:chExt cx="683640" cy="973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960240" y="7416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17480" y="1028880"/>
                <a:ext cx="57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60240" y="1316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: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894000" y="4132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4200" y="232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1240" y="26096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4200" y="28987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1240" y="3208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98400" y="18561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5880" y="2208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43560" y="799920"/>
              <a:ext cx="438480" cy="1657440"/>
              <a:chOff x="6343560" y="799920"/>
              <a:chExt cx="438480" cy="16574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6343560" y="24573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343560" y="7999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43560" y="7999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6987960" y="22960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488880"/>
            <a:ext cx="60548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用结构体指针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4" dur="1" fill="hold"/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79360" y="995400"/>
            <a:ext cx="8864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构造数据类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也叫联合体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途：使几个不同类型的变量共占一段内存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相互覆盖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共用体类型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018680" y="253224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union 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共用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31680" y="4131360"/>
            <a:ext cx="214668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276720" y="4800600"/>
            <a:ext cx="2398680" cy="1268280"/>
            <a:chOff x="3276720" y="4800600"/>
            <a:chExt cx="2398680" cy="1268280"/>
          </a:xfrm>
        </p:grpSpPr>
        <p:sp>
          <p:nvSpPr>
            <p:cNvPr id="487" name=""/>
            <p:cNvSpPr/>
            <p:nvPr/>
          </p:nvSpPr>
          <p:spPr>
            <a:xfrm>
              <a:off x="3276720" y="4800600"/>
              <a:ext cx="1147680" cy="42372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76720" y="5224320"/>
              <a:ext cx="582480" cy="387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76720" y="5611680"/>
              <a:ext cx="2398680" cy="441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59200" y="4800600"/>
              <a:ext cx="0" cy="42372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9200" y="5611680"/>
              <a:ext cx="0" cy="45720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440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452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09320" y="56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60240" y="5229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27280" y="48171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902280" y="4894560"/>
            <a:ext cx="1552680" cy="399240"/>
          </a:xfrm>
          <a:prstGeom prst="wedgeRectCallout">
            <a:avLst>
              <a:gd name="adj1" fmla="val -138569"/>
              <a:gd name="adj2" fmla="val -14765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类型定义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分配内存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9.8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共用体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500" name="">
              <a:hlinkClick r:id="rId3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50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2220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82360" y="1082520"/>
            <a:ext cx="3698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a,b,c,*p,d[3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7036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,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2880" y="457200"/>
            <a:ext cx="8601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16280" y="3905280"/>
            <a:ext cx="4800600" cy="1677960"/>
            <a:chOff x="1916280" y="3905280"/>
            <a:chExt cx="4800600" cy="1677960"/>
          </a:xfrm>
        </p:grpSpPr>
        <p:grpSp>
          <p:nvGrpSpPr>
            <p:cNvPr id="510" name=""/>
            <p:cNvGrpSpPr/>
            <p:nvPr/>
          </p:nvGrpSpPr>
          <p:grpSpPr>
            <a:xfrm>
              <a:off x="1916280" y="3905280"/>
              <a:ext cx="4799160" cy="1268280"/>
              <a:chOff x="1916280" y="3905280"/>
              <a:chExt cx="4799160" cy="12682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916280" y="3905280"/>
                <a:ext cx="2398680" cy="1268280"/>
                <a:chOff x="1916280" y="3905280"/>
                <a:chExt cx="2398680" cy="12682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91628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1628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1628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49876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49876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0639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408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4888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99980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16684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316760" y="3905280"/>
                <a:ext cx="2398680" cy="1268280"/>
                <a:chOff x="4316760" y="3905280"/>
                <a:chExt cx="2398680" cy="12682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31676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1676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31676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89924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9924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46444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0645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04936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0028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56732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19162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1676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168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66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844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972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544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59200" y="5123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51760" y="5123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882680" y="5722920"/>
            <a:ext cx="2521800" cy="825840"/>
          </a:xfrm>
          <a:prstGeom prst="wedgeRectCallout">
            <a:avLst>
              <a:gd name="adj1" fmla="val -5226"/>
              <a:gd name="adj2" fmla="val -8877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定义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分配内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长度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最长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所占字节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1480" y="5722920"/>
            <a:ext cx="1827000" cy="825840"/>
          </a:xfrm>
          <a:prstGeom prst="wedgeRectCallout">
            <a:avLst>
              <a:gd name="adj1" fmla="val 17629"/>
              <a:gd name="adj2" fmla="val -7954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任何时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只有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一个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存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的定义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6720" y="13107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105880" y="228600"/>
            <a:ext cx="3448440" cy="3872160"/>
            <a:chOff x="5105880" y="228600"/>
            <a:chExt cx="3448440" cy="3872160"/>
          </a:xfrm>
        </p:grpSpPr>
        <p:sp>
          <p:nvSpPr>
            <p:cNvPr id="143" name=""/>
            <p:cNvSpPr/>
            <p:nvPr/>
          </p:nvSpPr>
          <p:spPr>
            <a:xfrm>
              <a:off x="5900040" y="228600"/>
              <a:ext cx="1785240" cy="38595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3120" y="4878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3120" y="7783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83120" y="13384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16189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3120" y="18986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3120" y="21790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3120" y="24584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3120" y="27392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3120" y="301896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3120" y="32994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3200" y="2394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8600" y="2286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920" y="7974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7080" y="7866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0240" y="1353600"/>
              <a:ext cx="56520" cy="28152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1920" y="1342440"/>
              <a:ext cx="56520" cy="28152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3920" y="163008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8520" y="1642320"/>
              <a:ext cx="56520" cy="53964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03200" y="2186280"/>
              <a:ext cx="56880" cy="11138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28800 h 1113840"/>
                <a:gd name="textAreaBottom" fmla="*/ 1085040 h 11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2175120"/>
              <a:ext cx="56520" cy="112536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9160 h 1125360"/>
                <a:gd name="textAreaBottom" fmla="*/ 1096200 h 11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5720" y="3300480"/>
              <a:ext cx="67320" cy="787680"/>
            </a:xfrm>
            <a:custGeom>
              <a:avLst/>
              <a:gdLst>
                <a:gd name="textAreaLeft" fmla="*/ 43200 w 67320"/>
                <a:gd name="textAreaRight" fmla="*/ 67680 w 673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3000" y="3300480"/>
              <a:ext cx="56520" cy="78768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880" y="851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2680" y="31788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9040" y="1300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98120" y="1704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2680" y="2536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19640" y="3484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dd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3400" y="2530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6000" y="169632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1880" y="8845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3400" y="12675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63400" y="25167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51880" y="34848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806760"/>
              <a:ext cx="789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25360" y="3245760"/>
              <a:ext cx="789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..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622480" y="4665600"/>
            <a:ext cx="2232360" cy="825840"/>
          </a:xfrm>
          <a:prstGeom prst="wedgeRectCallout">
            <a:avLst>
              <a:gd name="adj1" fmla="val -109833"/>
              <a:gd name="adj2" fmla="val -9452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结构体类型说明描述结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的组织形式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不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7920" y="581040"/>
            <a:ext cx="2414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例子图解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80040" y="2991600"/>
            <a:ext cx="6482160" cy="155700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ch=‘a’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“%d”,a.i)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编译通过，运行结果不对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7680" y="1636560"/>
            <a:ext cx="86011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规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不能引用共用体变量，只能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引用其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77240" y="1275480"/>
            <a:ext cx="8001000" cy="398880"/>
            <a:chOff x="777240" y="1275480"/>
            <a:chExt cx="8001000" cy="398880"/>
          </a:xfrm>
        </p:grpSpPr>
        <p:sp>
          <p:nvSpPr>
            <p:cNvPr id="549" name=""/>
            <p:cNvSpPr/>
            <p:nvPr/>
          </p:nvSpPr>
          <p:spPr>
            <a:xfrm>
              <a:off x="2836800" y="1390680"/>
              <a:ext cx="468360" cy="154080"/>
            </a:xfrm>
            <a:prstGeom prst="leftRightArrow">
              <a:avLst>
                <a:gd name="adj1" fmla="val 50000"/>
                <a:gd name="adj2" fmla="val 60513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53280" y="127548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6760" y="139068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7240" y="12754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共用体变量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80520" y="1275480"/>
              <a:ext cx="209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158480" y="1779840"/>
            <a:ext cx="6894360" cy="2288520"/>
            <a:chOff x="1158480" y="1779840"/>
            <a:chExt cx="6894360" cy="2288520"/>
          </a:xfrm>
        </p:grpSpPr>
        <p:sp>
          <p:nvSpPr>
            <p:cNvPr id="555" name=""/>
            <p:cNvSpPr/>
            <p:nvPr/>
          </p:nvSpPr>
          <p:spPr>
            <a:xfrm>
              <a:off x="1158480" y="1779840"/>
              <a:ext cx="369828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int i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ch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f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a,b,c,*p,d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5760" y="1808280"/>
              <a:ext cx="19774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.i    a.ch     a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54680" y="2405160"/>
              <a:ext cx="231732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p-&gt;i   p-&gt;ch  p-&gt;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5040" y="3002040"/>
              <a:ext cx="27928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(*p).i   (*p).ch  (*p)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5040" y="3598920"/>
              <a:ext cx="309780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d[0].i    d[0].ch     d[0]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28600" y="2436840"/>
            <a:ext cx="8601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共用体变量中起作用的成员是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最后一次存放的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22680" y="2883240"/>
            <a:ext cx="269676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=1;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287496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在定义共用体变量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初始化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47200" y="3466080"/>
            <a:ext cx="355140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={1,’a’,1.5};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331308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用一个共用体变量为另一个变量赋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24560" y="3805200"/>
            <a:ext cx="4004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 x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   char ch;  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   a.ch=‘a’;   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=a;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=a.f;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引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7" dur="1" fill="hold"/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09480" y="38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872320" y="1257480"/>
            <a:ext cx="2777040" cy="2209680"/>
            <a:chOff x="5872320" y="1257480"/>
            <a:chExt cx="2777040" cy="2209680"/>
          </a:xfrm>
        </p:grpSpPr>
        <p:grpSp>
          <p:nvGrpSpPr>
            <p:cNvPr id="569" name=""/>
            <p:cNvGrpSpPr/>
            <p:nvPr/>
          </p:nvGrpSpPr>
          <p:grpSpPr>
            <a:xfrm>
              <a:off x="5872320" y="1257480"/>
              <a:ext cx="2361960" cy="761400"/>
              <a:chOff x="5872320" y="1257480"/>
              <a:chExt cx="2361960" cy="761400"/>
            </a:xfrm>
          </p:grpSpPr>
          <p:sp>
            <p:nvSpPr>
              <p:cNvPr id="570" name=""/>
              <p:cNvSpPr/>
              <p:nvPr/>
            </p:nvSpPr>
            <p:spPr>
              <a:xfrm>
                <a:off x="5872320" y="1562040"/>
                <a:ext cx="2361960" cy="45684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  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5320" y="1562040"/>
                <a:ext cx="0" cy="456840"/>
              </a:xfrm>
              <a:prstGeom prst="line">
                <a:avLst/>
              </a:prstGeom>
              <a:ln w="93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21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低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78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高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948280" y="2552760"/>
              <a:ext cx="2701080" cy="914400"/>
              <a:chOff x="5948280" y="2552760"/>
              <a:chExt cx="2701080" cy="914400"/>
            </a:xfrm>
          </p:grpSpPr>
          <p:sp>
            <p:nvSpPr>
              <p:cNvPr id="575" name=""/>
              <p:cNvSpPr/>
              <p:nvPr/>
            </p:nvSpPr>
            <p:spPr>
              <a:xfrm>
                <a:off x="5948280" y="2552760"/>
                <a:ext cx="1981440" cy="91440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8280" y="3009960"/>
                <a:ext cx="1981440" cy="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51040" y="262872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35200" y="302400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13160" y="256680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0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9000" y="300996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1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1424880" y="5276880"/>
            <a:ext cx="2036880" cy="1313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行结果：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i=6050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101,ch1=14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A,ch1=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1520" y="1089360"/>
            <a:ext cx="5232960" cy="41173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nion  int_ch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r ch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i=24897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i=%o\n",x.i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ch0=%o,ch1=%o\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0=%c,ch1=%c\n"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ch[0],x.ch[1],x.ch[0],x.ch[1]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437760"/>
            <a:ext cx="76201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将一个整数按字节输出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区别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存储方式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65800" y="1809720"/>
            <a:ext cx="7054200" cy="4152960"/>
            <a:chOff x="865800" y="1809720"/>
            <a:chExt cx="7054200" cy="4152960"/>
          </a:xfrm>
        </p:grpSpPr>
        <p:grpSp>
          <p:nvGrpSpPr>
            <p:cNvPr id="586" name=""/>
            <p:cNvGrpSpPr/>
            <p:nvPr/>
          </p:nvGrpSpPr>
          <p:grpSpPr>
            <a:xfrm>
              <a:off x="865800" y="1809720"/>
              <a:ext cx="4934880" cy="4152960"/>
              <a:chOff x="865800" y="1809720"/>
              <a:chExt cx="4934880" cy="4152960"/>
            </a:xfrm>
          </p:grpSpPr>
          <p:sp>
            <p:nvSpPr>
              <p:cNvPr id="587" name=""/>
              <p:cNvSpPr/>
              <p:nvPr/>
            </p:nvSpPr>
            <p:spPr>
              <a:xfrm>
                <a:off x="903960" y="207900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truct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a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65800" y="411732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union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b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822840" y="1809720"/>
                <a:ext cx="1977840" cy="2095560"/>
                <a:chOff x="3822840" y="1809720"/>
                <a:chExt cx="1977840" cy="20955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365800" y="2295720"/>
                  <a:ext cx="139680" cy="885600"/>
                </a:xfrm>
                <a:custGeom>
                  <a:avLst/>
                  <a:gdLst>
                    <a:gd name="textAreaLeft" fmla="*/ 0 w 139680"/>
                    <a:gd name="textAreaRight" fmla="*/ 50400 w 139680"/>
                    <a:gd name="textAreaTop" fmla="*/ 23040 h 885600"/>
                    <a:gd name="textAreaBottom" fmla="*/ 862560 h 885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484960" y="248472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1920" y="1809720"/>
                  <a:ext cx="1523880" cy="20955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841920" y="229572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822840" y="27464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28960" y="3181320"/>
                  <a:ext cx="152424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6712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86712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25780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25780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376880" y="2324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62560" y="2724120"/>
                  <a:ext cx="333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803760" y="4095720"/>
                <a:ext cx="1996560" cy="1866960"/>
                <a:chOff x="3803760" y="4095720"/>
                <a:chExt cx="1996560" cy="1866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327640" y="4581360"/>
                  <a:ext cx="150120" cy="505080"/>
                </a:xfrm>
                <a:custGeom>
                  <a:avLst/>
                  <a:gdLst>
                    <a:gd name="textAreaLeft" fmla="*/ 0 w 150120"/>
                    <a:gd name="textAreaRight" fmla="*/ 54000 w 150120"/>
                    <a:gd name="textAreaTop" fmla="*/ 12960 h 505080"/>
                    <a:gd name="textAreaBottom" fmla="*/ 492120 h 50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4600" y="461808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803760" y="4095720"/>
                  <a:ext cx="1523880" cy="18669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03760" y="458136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828960" y="5029200"/>
                  <a:ext cx="152352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21964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47920" y="4610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52640" y="4629240"/>
                  <a:ext cx="333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2896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86280" y="2762280"/>
                <a:ext cx="666720" cy="342720"/>
              </a:xfrm>
              <a:prstGeom prst="rightArrow">
                <a:avLst>
                  <a:gd name="adj1" fmla="val 50000"/>
                  <a:gd name="adj2" fmla="val 48634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3160" y="4819680"/>
                <a:ext cx="590760" cy="324000"/>
              </a:xfrm>
              <a:prstGeom prst="rightArrow">
                <a:avLst>
                  <a:gd name="adj1" fmla="val 50000"/>
                  <a:gd name="adj2" fmla="val 45583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215040" y="1914840"/>
              <a:ext cx="1704960" cy="399240"/>
            </a:xfrm>
            <a:prstGeom prst="wedgeRectCallout">
              <a:avLst>
                <a:gd name="adj1" fmla="val -88629"/>
                <a:gd name="adj2" fmla="val 133689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变量的各成员同时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17680" y="5191560"/>
              <a:ext cx="689760" cy="399240"/>
            </a:xfrm>
            <a:prstGeom prst="wedgeRectCallout">
              <a:avLst>
                <a:gd name="adj1" fmla="val -208472"/>
                <a:gd name="adj2" fmla="val -128736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任一时刻只有一个成员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76120" y="1312920"/>
            <a:ext cx="860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联系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两者可相互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06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隶书"/>
              </a:rPr>
              <a:t>结构体与共用体</a:t>
            </a:r>
            <a:br>
              <a:rPr sz="24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1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2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42880" y="603360"/>
            <a:ext cx="80344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功能：用自定义名字为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已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数据类型命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类型定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简单形式：   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typedef    </a:t>
            </a:r>
            <a:r>
              <a:rPr b="0" lang="en-US" sz="2400" spc="-1" strike="noStrike">
                <a:solidFill>
                  <a:srgbClr val="339933"/>
                </a:solidFill>
                <a:latin typeface="Verdana"/>
                <a:ea typeface="宋体"/>
              </a:rPr>
              <a:t>typ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  <a:ea typeface="宋体"/>
              </a:rPr>
              <a:t> nam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62120" y="2008440"/>
            <a:ext cx="352584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int  INTEGE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5600" y="2151360"/>
            <a:ext cx="1827000" cy="460080"/>
          </a:xfrm>
          <a:prstGeom prst="wedgeRectCallout">
            <a:avLst>
              <a:gd name="adj1" fmla="val 44814"/>
              <a:gd name="adj2" fmla="val -98629"/>
            </a:avLst>
          </a:prstGeom>
          <a:solidFill>
            <a:srgbClr val="cc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类型定义语句关键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51000" y="2132280"/>
            <a:ext cx="1461240" cy="460080"/>
          </a:xfrm>
          <a:prstGeom prst="wedgeRectCallout">
            <a:avLst>
              <a:gd name="adj1" fmla="val 43763"/>
              <a:gd name="adj2" fmla="val -106916"/>
            </a:avLst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已有数据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0560" y="2113200"/>
            <a:ext cx="1643760" cy="460080"/>
          </a:xfrm>
          <a:prstGeom prst="wedgeRectCallout">
            <a:avLst>
              <a:gd name="adj1" fmla="val -18166"/>
              <a:gd name="adj2" fmla="val -106916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用户定义的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61040" y="2617920"/>
            <a:ext cx="340848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float    RE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59800" y="3294360"/>
            <a:ext cx="1729440" cy="460080"/>
          </a:xfrm>
          <a:prstGeom prst="wedgeRectCallout">
            <a:avLst>
              <a:gd name="adj1" fmla="val -98592"/>
              <a:gd name="adj2" fmla="val -144212"/>
            </a:avLst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类型定义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已有类型一样使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79080" y="1996920"/>
            <a:ext cx="2862720" cy="825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EGER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AL    f1,f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19680" y="2859120"/>
            <a:ext cx="3159000" cy="1390680"/>
            <a:chOff x="5719680" y="2859120"/>
            <a:chExt cx="3159000" cy="1390680"/>
          </a:xfrm>
        </p:grpSpPr>
        <p:sp>
          <p:nvSpPr>
            <p:cNvPr id="633" name=""/>
            <p:cNvSpPr/>
            <p:nvPr/>
          </p:nvSpPr>
          <p:spPr>
            <a:xfrm>
              <a:off x="5719680" y="3389400"/>
              <a:ext cx="3159000" cy="86040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  a,b,c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   f1,f2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62480" y="2859120"/>
              <a:ext cx="409680" cy="511200"/>
            </a:xfrm>
            <a:prstGeom prst="upDownArrow">
              <a:avLst>
                <a:gd name="adj1" fmla="val 50000"/>
                <a:gd name="adj2" fmla="val 24840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068480" y="3564720"/>
            <a:ext cx="4930560" cy="1557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说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1.typedef 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没有创造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新数据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2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定义类型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不能定义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3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720" y="5649480"/>
            <a:ext cx="4387320" cy="1191600"/>
          </a:xfrm>
          <a:prstGeom prst="wedgeRectCallout">
            <a:avLst>
              <a:gd name="adj1" fmla="val -51787"/>
              <a:gd name="adj2" fmla="val -9922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typede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预编译时处理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编译时处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简单字符置换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 为已有类型命名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148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用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ypedef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定义类型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3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65120" y="568080"/>
            <a:ext cx="91440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按定义变量方法先写出定义体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  i;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将变量名换成新类型名            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最前面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ypedef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如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def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int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用新类型名定义变量                   如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i,j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952560" y="276552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数组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[100]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ARRAY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15040" y="5484960"/>
            <a:ext cx="3814200" cy="460080"/>
          </a:xfrm>
          <a:prstGeom prst="wedgeRectCallout">
            <a:avLst>
              <a:gd name="adj1" fmla="val -1032"/>
              <a:gd name="adj2" fmla="val -18143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a[100],b[100],c[10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04840" y="2784600"/>
            <a:ext cx="491508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char 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ING   p,s[1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65080" y="5473440"/>
            <a:ext cx="2181960" cy="825840"/>
          </a:xfrm>
          <a:prstGeom prst="wedgeRectCallout">
            <a:avLst>
              <a:gd name="adj1" fmla="val 375"/>
              <a:gd name="adj2" fmla="val -126861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p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s[1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00240" y="274644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函数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)()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POWER   p1,p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8600" y="5351760"/>
            <a:ext cx="2985120" cy="460080"/>
          </a:xfrm>
          <a:prstGeom prst="wedgeRectCallout">
            <a:avLst>
              <a:gd name="adj1" fmla="val 32560"/>
              <a:gd name="adj2" fmla="val -168685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(*p1)(),(*p2)(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2651040"/>
            <a:ext cx="491508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67000" y="2689200"/>
            <a:ext cx="491472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1560" y="2727360"/>
            <a:ext cx="491508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52800" y="2765520"/>
            <a:ext cx="491472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DATE   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78400" y="4410360"/>
            <a:ext cx="2582640" cy="1923120"/>
          </a:xfrm>
          <a:prstGeom prst="wedgeRectCallout">
            <a:avLst>
              <a:gd name="adj1" fmla="val -51726"/>
              <a:gd name="adj2" fmla="val -87972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0520" y="2400480"/>
            <a:ext cx="8583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类型定义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2800" y="3170160"/>
            <a:ext cx="3876840" cy="32385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struct club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{      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siz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}GROU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 GROUP    *P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PG    pclub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5480" y="5626080"/>
            <a:ext cx="3042720" cy="825840"/>
          </a:xfrm>
          <a:prstGeom prst="wedgeRectCallout">
            <a:avLst>
              <a:gd name="adj1" fmla="val -104569"/>
              <a:gd name="adj2" fmla="val 612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OUP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club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46400" y="3454200"/>
            <a:ext cx="3143520" cy="825840"/>
          </a:xfrm>
          <a:prstGeom prst="wedgeRectCallout">
            <a:avLst>
              <a:gd name="adj1" fmla="val -79689"/>
              <a:gd name="adj2" fmla="val 12816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PG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指向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的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ypedef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定义类型步骤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60160" y="1230120"/>
            <a:ext cx="85834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先说明结构体类型，再定义结构体变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907080" y="3310200"/>
            <a:ext cx="25898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91840" y="879480"/>
            <a:ext cx="4732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定义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186" name="">
              <a:hlinkClick r:id="rId4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188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5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9360" y="252360"/>
            <a:ext cx="8618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33804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定义结构体类型的同时定义结构体变量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120" y="252360"/>
            <a:ext cx="818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9760" y="3446640"/>
            <a:ext cx="1704960" cy="704160"/>
          </a:xfrm>
          <a:prstGeom prst="wedgeRectCallout">
            <a:avLst>
              <a:gd name="adj1" fmla="val -56245"/>
              <a:gd name="adj2" fmla="val -110449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无名结构体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直接定义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只能一次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356760"/>
            <a:ext cx="8637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直接定义结构体变量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25600" y="1403280"/>
            <a:ext cx="861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与结构体变量概念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分配内存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；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能赋值、存取、运算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;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成员名与程序中变量名可相同，不会混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及变量的作用域与生存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8400" y="860400"/>
            <a:ext cx="1762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说明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58800" y="732960"/>
            <a:ext cx="848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引用规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结构体变量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不能整体引用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只能引用变量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成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0957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将一个结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构体变量赋值给另一个结构体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嵌套时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逐级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85560" y="2303640"/>
            <a:ext cx="1662120" cy="1009080"/>
          </a:xfrm>
          <a:prstGeom prst="wedgeRectCallout">
            <a:avLst>
              <a:gd name="adj1" fmla="val 59004"/>
              <a:gd name="adj2" fmla="val -6979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成员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分量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算符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从左向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变量名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0004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引用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67920" y="271440"/>
            <a:ext cx="8389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形式一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666600" y="1074960"/>
            <a:ext cx="38300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600" y="3444480"/>
            <a:ext cx="8647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stu1={112,“Wang Lin”,‘M’,19, “200 Beijing Road”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87000" y="636120"/>
            <a:ext cx="5327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4376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二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08:16:06Z</dcterms:created>
  <dc:creator>hyg</dc:creator>
  <dc:description/>
  <dc:language>en-US</dc:language>
  <cp:lastModifiedBy>YlmF</cp:lastModifiedBy>
  <dcterms:modified xsi:type="dcterms:W3CDTF">2009-06-20T03:42:28Z</dcterms:modified>
  <cp:revision>351</cp:revision>
  <dc:subject/>
  <dc:title>第九章  结构体与共用体</dc:title>
</cp:coreProperties>
</file>