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A412-08E6-4FC0-ADF0-B55D4F7D6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说明：输入时，要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码转换成二进制；输出时，要将二进制转换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一个参数可以是：字符串常量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数组名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因为</a:t>
            </a: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fclose</a:t>
            </a: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先把缓冲区数据输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到磁盘文件，然后才释放文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文件在当前目录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"aa.txt"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文件不在当前目录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"d:\\fengyi\\bkc\\aa.txt"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从键盘输入带路径文件名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infile[3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f("%s",in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infile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必须输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\fengyi\bkc\a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99B-8FB9-4306-B2F3-14E72888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E02-8994-4B04-86E4-3111834D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30F-E4A0-456B-B76B-2EDBE30B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7CF-596C-4B23-BC96-FBCA352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FA2-6798-4225-B438-5294EC2F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058E-9918-48D9-B49A-B6FF8EE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D332-CE22-4CE5-A2BA-B1EA0AA3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7E0B-BC73-48E8-95E2-FC515943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8E73-B20F-4AA6-A3ED-94EBA58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725-E988-4C5A-AA03-06411B2D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974-CEDF-4595-B67F-D8DB106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C9A-B242-4BE6-B288-9FF32AB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3506-7A4B-4E45-94CE-BE7BEE4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4A4-799F-40D4-AD00-0107B11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A80F-707E-485C-A199-8BC6027F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9D2-2907-4FBD-8F4C-17801C00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398-5306-4C07-9F5B-9EC4AEDE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965-2E47-44CA-9C79-F10C61E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032-ED08-4876-BAF7-2FB185C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E2C-8453-44BC-ACC7-7E09C3EE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AD2-009F-4E69-A49C-A04B78F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C98-EA41-4BAF-8164-1A57B212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E12-17EC-4C59-9307-46154C1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B7F-CC90-45D4-8EB8-5D53C282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A0A-EEA7-4B07-ADD1-B9B5AEFB773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8E7-27D0-4828-942E-4C52D7EBA34C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1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00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276E-5E58-4ADB-B9A2-0042A647416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9600" y="437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C</a:t>
            </a: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文件概述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308240"/>
            <a:ext cx="85834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：存储在外部介质上数据的集合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是操作系统数据管理的单位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520" y="2286000"/>
            <a:ext cx="85834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文件分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文件的逻辑结构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记录文件：由具有一定结构的记录组成（定长和不定长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流式文件：由一个个字符（字节）数据顺序组成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存储介质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普通文件：存储介质文件（磁盘、磁带等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设备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非存储介质（键盘、显示器、打印机等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数据的组织形式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文本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文件，每个字节存放一个字符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二进制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数据按其在内存中的存储形式原样存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79000" y="324000"/>
            <a:ext cx="85834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3840" y="132084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read(char *pt,unsigned  size, unsigned n,FILE 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write(char *pt,unsigned  size, unsigned n,FILE 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120" y="2298600"/>
            <a:ext cx="865512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数据块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，返回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块数；出错或文件尾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说明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pt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要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输出数据块的首地址的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size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每个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数据块的大小（字节数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: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数据块的个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: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文件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rea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writ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一般用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进制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的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11280" y="318600"/>
            <a:ext cx="6186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数据块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I/O: fread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与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writ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80160" y="716760"/>
            <a:ext cx="36432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 f[2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=fopen(“aa.dat”,“rb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f,4,2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85160" y="1353960"/>
            <a:ext cx="2820240" cy="825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2;i++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&amp;f[i],4,1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85200" y="2572560"/>
            <a:ext cx="6180840" cy="3385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int num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 score[3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stud[1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10;i++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&amp;stud[i],sizeof(struct  student),1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159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例子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9600" y="32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>
            <a:hlinkClick r:id="rId1"/>
          </p:cNvPr>
          <p:cNvSpPr/>
          <p:nvPr/>
        </p:nvSpPr>
        <p:spPr>
          <a:xfrm>
            <a:off x="358920" y="5931000"/>
            <a:ext cx="533160" cy="685800"/>
          </a:xfrm>
          <a:custGeom>
            <a:avLst/>
            <a:gdLst>
              <a:gd name="textAreaLeft" fmla="*/ 69840 w 533160"/>
              <a:gd name="textAreaRight" fmla="*/ 463320 w 53316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8771" y="24951"/>
                </a:lnTo>
                <a:lnTo>
                  <a:pt x="18771" y="2829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2829" y="24951"/>
                </a:lnTo>
                <a:lnTo>
                  <a:pt x="18771" y="24951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51"/>
                </a:lnTo>
                <a:close/>
              </a:path>
              <a:path fill="darkenLess" w="21600" h="27780">
                <a:moveTo>
                  <a:pt x="6113" y="8111"/>
                </a:moveTo>
                <a:lnTo>
                  <a:pt x="12047" y="8111"/>
                </a:lnTo>
                <a:lnTo>
                  <a:pt x="15487" y="11078"/>
                </a:lnTo>
                <a:lnTo>
                  <a:pt x="15487" y="19669"/>
                </a:lnTo>
                <a:lnTo>
                  <a:pt x="6113" y="19669"/>
                </a:lnTo>
                <a:close/>
              </a:path>
              <a:path fill="darken" w="21600" h="27780">
                <a:moveTo>
                  <a:pt x="12047" y="8111"/>
                </a:moveTo>
                <a:lnTo>
                  <a:pt x="15487" y="11078"/>
                </a:lnTo>
                <a:lnTo>
                  <a:pt x="12047" y="11078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8840" y="907560"/>
            <a:ext cx="6083280" cy="527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#define SIZ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truct student_typ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{    char name[10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 num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 age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har addr[15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}stud[SIZE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canf("%s%d%d%s",stud[i].name,&amp;stud[i].num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amp;stud[i].age,stud[i].addr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ve(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splay(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0600" y="842760"/>
            <a:ext cx="6327000" cy="375300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oid save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FILE *fp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=fopen("d:\\fengyi\\exe\\stu_dat","wb"))==NUL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 printf("cannot open file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fwrite(&amp;stud[i],sizeof(struct student_type),1,fp)!=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intf("file write error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17160" y="887040"/>
            <a:ext cx="6125760" cy="43628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oid display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FILE *fp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=fopen("d:\\fengyi\\exe\\stu_dat","rb"))==NUL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 printf("cannot open file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read(&amp;stud[i],sizeof(struct student_type),1,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intf("%-10s %4d %4d %-15s\n",stud[i].name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tud[i].num,stud[i].age,stud[i].addr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22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从键盘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个学生数据，把他们转存到磁盘文件中去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14280" y="288720"/>
            <a:ext cx="77724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格式化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/O:fprintf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scan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24720" y="1157400"/>
            <a:ext cx="71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printf(FILE  *fp,const char  *format[,argument,…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scanf(FILE  *fp,const char  *format[,address,…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680" y="2087640"/>
            <a:ext cx="86518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按格式对文件进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的个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出错或文件尾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760" y="3139920"/>
            <a:ext cx="79434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rintf(fp,“%d,%6.2f”,i,t);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将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按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%d,%6.2f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格式输出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文件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canf(fp,“%d,%f”,&amp;i,&amp;t);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若文件中有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,4.5  ,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则将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送入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, 4.5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送入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>
            <a:hlinkClick r:id="rId1"/>
          </p:cNvPr>
          <p:cNvSpPr/>
          <p:nvPr/>
        </p:nvSpPr>
        <p:spPr>
          <a:xfrm>
            <a:off x="281160" y="5961240"/>
            <a:ext cx="533160" cy="685800"/>
          </a:xfrm>
          <a:custGeom>
            <a:avLst/>
            <a:gdLst>
              <a:gd name="textAreaLeft" fmla="*/ 69840 w 533160"/>
              <a:gd name="textAreaRight" fmla="*/ 463320 w 53316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8771" y="24951"/>
                </a:lnTo>
                <a:lnTo>
                  <a:pt x="18771" y="2829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2829" y="24951"/>
                </a:lnTo>
                <a:lnTo>
                  <a:pt x="18771" y="24951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51"/>
                </a:lnTo>
                <a:close/>
              </a:path>
              <a:path fill="darkenLess" w="21600" h="27780">
                <a:moveTo>
                  <a:pt x="6113" y="8111"/>
                </a:moveTo>
                <a:lnTo>
                  <a:pt x="12047" y="8111"/>
                </a:lnTo>
                <a:lnTo>
                  <a:pt x="15487" y="11078"/>
                </a:lnTo>
                <a:lnTo>
                  <a:pt x="15487" y="19669"/>
                </a:lnTo>
                <a:lnTo>
                  <a:pt x="6113" y="19669"/>
                </a:lnTo>
                <a:close/>
              </a:path>
              <a:path fill="darken" w="21600" h="27780">
                <a:moveTo>
                  <a:pt x="12047" y="8111"/>
                </a:moveTo>
                <a:lnTo>
                  <a:pt x="15487" y="11078"/>
                </a:lnTo>
                <a:lnTo>
                  <a:pt x="12047" y="11078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18840" y="413532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从键盘按格式输入数据存到磁盘文件中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77160" y="743040"/>
            <a:ext cx="6657840" cy="594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char s[80],c[8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,b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(fp=fopen("test","w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uts("can't open file");   exit() ;  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canf(stdin,"%s%d",s,&amp;a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/*read from keaboard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rintf(fp,"%s  %d",s,a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/*write to file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test","r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uts("can't open file"); exit();  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canf(fp,"%s%d",c,&amp;b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*read from file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rintf(stdout,"%s %d",c,b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*print to screen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785880"/>
            <a:ext cx="8955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04640" y="815760"/>
            <a:ext cx="540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char  *fgets(char  *s,int n,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t   fputs(char  *s,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38160" y="1709640"/>
            <a:ext cx="8955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一个字符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时返回读取字符串的首地址；出错或文件尾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u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时返回写入的最后一个字符；出错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12960" y="366876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从键盘读入字符串存入文件，再从文件读回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5320" y="2415600"/>
            <a:ext cx="6069240" cy="1191600"/>
          </a:xfrm>
          <a:prstGeom prst="wedgeRectCallout">
            <a:avLst>
              <a:gd name="adj1" fmla="val -13203"/>
              <a:gd name="adj2" fmla="val -145314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get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从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所指文件读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n-1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个字符送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内存区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并在最后加一个‘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\0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若读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n-1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个字符前遇换行符或文件尾（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EOF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）即结束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66320" y="2274840"/>
            <a:ext cx="4569840" cy="460080"/>
          </a:xfrm>
          <a:prstGeom prst="wedgeRectCallout">
            <a:avLst>
              <a:gd name="adj1" fmla="val -16027"/>
              <a:gd name="adj2" fmla="val -186199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ut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把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字符串写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2760" y="158760"/>
            <a:ext cx="5166000" cy="631188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string[81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file.txt","w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't open file");exit(0);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strlen(gets(string))&gt;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s(string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s("\n"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file.txt","r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't open file");exit(0);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fgets(string,81,fp)!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uts(string,std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6680" y="393480"/>
            <a:ext cx="426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/O: f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uts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79360" y="269640"/>
            <a:ext cx="8618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几个概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位置指针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指向当前读写位置的指针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读写方式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顺序读写：位置指针按字节位置顺序移动，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随机读写：位置指针按需要移动到任意位置，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win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函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void  rewind(FILE  *f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功能：重置文件位置指针到文件开头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返值：无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18800" y="47512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对一个磁盘文件进行显示和复制两次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8680" y="1009800"/>
            <a:ext cx="6077160" cy="411732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*fp1,*fp2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1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pen("d:\\fengyi\\bkc\\ch12_4.c","r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fopen("d:\\fengyi\\bkc\\ch12_41.c","w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!feof(fp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  putchar(getc(fp1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ind(fp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!feof(fp1))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utc(getc(fp1),fp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61520" y="405000"/>
            <a:ext cx="3498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的定位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324000"/>
            <a:ext cx="87580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t  fseek(FILE  *fp,long  offset,int when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功能：改变文件位置指针的位置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返值：成功，返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；失败，返回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值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91920" y="2198880"/>
            <a:ext cx="912600" cy="460080"/>
          </a:xfrm>
          <a:prstGeom prst="wedgeRectCallout">
            <a:avLst>
              <a:gd name="adj1" fmla="val 102087"/>
              <a:gd name="adj2" fmla="val -277754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文件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1960" y="2285280"/>
            <a:ext cx="5757840" cy="1191600"/>
          </a:xfrm>
          <a:prstGeom prst="wedgeRectCallout">
            <a:avLst>
              <a:gd name="adj1" fmla="val 21430"/>
              <a:gd name="adj2" fmla="val -138189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位移量（以起始点为基点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移动的字节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gt;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向后移动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向前移动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440" y="2175480"/>
            <a:ext cx="4089960" cy="1557360"/>
          </a:xfrm>
          <a:prstGeom prst="wedgeRectCallout">
            <a:avLst>
              <a:gd name="adj1" fmla="val 24666"/>
              <a:gd name="adj2" fmla="val -97050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起始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开始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SET  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当前位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CUR   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末尾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END   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31280" y="2306160"/>
            <a:ext cx="295272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100L,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50L,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-10L,2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286000"/>
            <a:ext cx="86184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te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long  ftell(FILE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返回位置指针当前位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用相对文件开头的位移量表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，返回当前位置指针位置；失败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-1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9920" y="4613400"/>
            <a:ext cx="59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磁盘文件上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个学生数据，要求读入第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学生数据并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31120" y="14040"/>
            <a:ext cx="7104240" cy="6858720"/>
            <a:chOff x="2031120" y="14040"/>
            <a:chExt cx="7104240" cy="6858720"/>
          </a:xfrm>
        </p:grpSpPr>
        <p:sp>
          <p:nvSpPr>
            <p:cNvPr id="304" name=""/>
            <p:cNvSpPr/>
            <p:nvPr/>
          </p:nvSpPr>
          <p:spPr>
            <a:xfrm>
              <a:off x="2031120" y="14040"/>
              <a:ext cx="7104240" cy="4848840"/>
            </a:xfrm>
            <a:prstGeom prst="rect">
              <a:avLst/>
            </a:prstGeom>
            <a:solidFill>
              <a:srgbClr val="9cc2e8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int i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ILE *fp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f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(fp=fopen("studat","rb"))==NU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printf("can't open file\n");exit(0);   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(i=0;i&lt;3;i+=2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seek(fp,i*sizeof(struct student_type),0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fread(&amp;stud[i],sizeof(struct student_type),1,fp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%s  %d  %d  %s\n",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ud[i].name,stud[i].num,stud[i].age,stud[i].addr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close(fp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1560" y="3852720"/>
              <a:ext cx="2497320" cy="3020040"/>
            </a:xfrm>
            <a:prstGeom prst="rect">
              <a:avLst/>
            </a:prstGeom>
            <a:solidFill>
              <a:srgbClr val="9cc2e8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struct student_typ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{    int num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char name[10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char addr[15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}stud[3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817000" y="12960"/>
            <a:ext cx="6318000" cy="594612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"stdio.h"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filename[8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ng lengt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ts(filenam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filename,"rb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fp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file not found!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eek(fp,0L,SEEK_END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ngth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tell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Length of File is %1d bytes\n",lengt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2040" y="53942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求文件长度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h12_101.c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-360" y="321480"/>
            <a:ext cx="2639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seek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函数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1899000"/>
            <a:ext cx="8896320" cy="2555280"/>
            <a:chOff x="0" y="1899000"/>
            <a:chExt cx="8896320" cy="2555280"/>
          </a:xfrm>
        </p:grpSpPr>
        <p:sp>
          <p:nvSpPr>
            <p:cNvPr id="152" name=""/>
            <p:cNvSpPr/>
            <p:nvPr/>
          </p:nvSpPr>
          <p:spPr>
            <a:xfrm>
              <a:off x="1172520" y="1899000"/>
              <a:ext cx="192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如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int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型数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000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0" y="1923840"/>
              <a:ext cx="8896320" cy="2530440"/>
              <a:chOff x="0" y="1923840"/>
              <a:chExt cx="8896320" cy="2530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0" y="2820600"/>
                <a:ext cx="2944800" cy="1146240"/>
                <a:chOff x="0" y="2820600"/>
                <a:chExt cx="2944800" cy="11462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93800" y="2820600"/>
                  <a:ext cx="215100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00111000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70200" y="282060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472920"/>
                  <a:ext cx="1693800" cy="493920"/>
                </a:xfrm>
                <a:prstGeom prst="wedgeEllipseCallout">
                  <a:avLst>
                    <a:gd name="adj1" fmla="val 60402"/>
                    <a:gd name="adj2" fmla="val -10498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内存存储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662280" y="3186000"/>
                <a:ext cx="2963880" cy="1268280"/>
                <a:chOff x="3662280" y="3186000"/>
                <a:chExt cx="2963880" cy="1268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662280" y="3186000"/>
                  <a:ext cx="215100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00111000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5160" y="3192480"/>
                  <a:ext cx="0" cy="4046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32360" y="3960720"/>
                  <a:ext cx="1693800" cy="493560"/>
                </a:xfrm>
                <a:prstGeom prst="wedgeEllipseCallout">
                  <a:avLst>
                    <a:gd name="adj1" fmla="val -62462"/>
                    <a:gd name="adj2" fmla="val -12620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二进制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675240" y="1923840"/>
                <a:ext cx="5221080" cy="963720"/>
                <a:chOff x="3675240" y="1923840"/>
                <a:chExt cx="5221080" cy="963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675240" y="2465280"/>
                  <a:ext cx="522108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10001001100000011000000110000001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59200" y="246996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94200" y="248112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816600" y="246384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804080" y="247968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97720" y="1923840"/>
                  <a:ext cx="1939320" cy="439920"/>
                </a:xfrm>
                <a:prstGeom prst="wedgeEllipseCallout">
                  <a:avLst>
                    <a:gd name="adj1" fmla="val -64731"/>
                    <a:gd name="adj2" fmla="val 734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ASCII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flipV="1">
                <a:off x="3070080" y="2715840"/>
                <a:ext cx="528840" cy="31752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70080" y="3033360"/>
                <a:ext cx="528840" cy="37152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3590280" y="745920"/>
            <a:ext cx="1534320" cy="825840"/>
          </a:xfrm>
          <a:prstGeom prst="wedgeRectCallout">
            <a:avLst>
              <a:gd name="adj1" fmla="val 17342"/>
              <a:gd name="adj2" fmla="val 148953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文本文件特点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存储量大、速度慢、便于对字符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08440" y="4708440"/>
            <a:ext cx="1717200" cy="825840"/>
          </a:xfrm>
          <a:prstGeom prst="wedgeRectCallout">
            <a:avLst>
              <a:gd name="adj1" fmla="val 41129"/>
              <a:gd name="adj2" fmla="val -157796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二进制文件特点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存储量小、速度快、便于存放中间结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99080"/>
            <a:ext cx="277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特点：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14280" y="341280"/>
            <a:ext cx="8548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缓冲文件系统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高级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系统，系统自动为正在使用的文件开辟内存缓冲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非缓冲文件系统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低级文件系统，由用户在程序中为每个文件设定缓冲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00" y="2819520"/>
            <a:ext cx="7946640" cy="2743200"/>
            <a:chOff x="716400" y="2819520"/>
            <a:chExt cx="7946640" cy="2743200"/>
          </a:xfrm>
        </p:grpSpPr>
        <p:grpSp>
          <p:nvGrpSpPr>
            <p:cNvPr id="176" name=""/>
            <p:cNvGrpSpPr/>
            <p:nvPr/>
          </p:nvGrpSpPr>
          <p:grpSpPr>
            <a:xfrm>
              <a:off x="2567160" y="2819520"/>
              <a:ext cx="6095880" cy="2743200"/>
              <a:chOff x="2567160" y="2819520"/>
              <a:chExt cx="6095880" cy="2743200"/>
            </a:xfrm>
          </p:grpSpPr>
          <p:sp>
            <p:nvSpPr>
              <p:cNvPr id="177" name=""/>
              <p:cNvSpPr/>
              <p:nvPr/>
            </p:nvSpPr>
            <p:spPr>
              <a:xfrm>
                <a:off x="2567160" y="2819520"/>
                <a:ext cx="3809880" cy="274320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48040" y="4114800"/>
                <a:ext cx="1067040" cy="12193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81560" y="4114800"/>
                <a:ext cx="0" cy="3808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1560" y="4495680"/>
                <a:ext cx="533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48240" y="3276720"/>
                <a:ext cx="1600200" cy="5331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48240" y="4495680"/>
                <a:ext cx="1600200" cy="5335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20040" y="3809880"/>
                <a:ext cx="1143000" cy="106704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24880" y="33526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磁盘文件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77120" y="502920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输出文件缓冲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77120" y="28954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输入文件缓冲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5040" y="373392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程序数据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35640" y="41148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014720" y="3581280"/>
                <a:ext cx="533160" cy="5335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15080" y="4267080"/>
                <a:ext cx="533160" cy="4572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148440" y="3504960"/>
                <a:ext cx="144792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148440" y="4495320"/>
                <a:ext cx="137160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16400" y="3341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缓冲文件系统：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85800" y="348480"/>
            <a:ext cx="3124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处理方法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517680" y="5530680"/>
            <a:ext cx="81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这种方式使得读、写操作不必频繁地访问外设，从而提高了读、写操作的速度。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68280" y="375840"/>
            <a:ext cx="847872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结构体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缓冲文件系统为每个正使用的文件在内存开辟文件信息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信息用系统定义的名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的结构体描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定义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dio.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06240" y="3263760"/>
            <a:ext cx="4348800" cy="265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def   stru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int   _fd;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号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  _cleft;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缓冲区中剩下的字符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  _mode;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操作方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*_next;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当前读写位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*_buff;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缓冲区位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FIL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0960" y="365760"/>
            <a:ext cx="456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类型指针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69360" y="217080"/>
            <a:ext cx="854892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指针变量说明：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LE   *fp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用法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文件打开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时，系统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自动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建立文件结构体，并把指向它的指针返回来，程序通过这个指针获得文件信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访问文件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文件关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后，它的文件结构体被释放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27320" y="2725560"/>
            <a:ext cx="4267080" cy="3637080"/>
            <a:chOff x="2227320" y="2725560"/>
            <a:chExt cx="4267080" cy="3637080"/>
          </a:xfrm>
        </p:grpSpPr>
        <p:sp>
          <p:nvSpPr>
            <p:cNvPr id="201" name=""/>
            <p:cNvSpPr/>
            <p:nvPr/>
          </p:nvSpPr>
          <p:spPr>
            <a:xfrm>
              <a:off x="2227320" y="2840760"/>
              <a:ext cx="1295280" cy="1731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2800" y="2840760"/>
              <a:ext cx="1295280" cy="1731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5080" y="5438880"/>
              <a:ext cx="1219320" cy="92376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2600" y="3013920"/>
              <a:ext cx="1600200" cy="173160"/>
            </a:xfrm>
            <a:prstGeom prst="rightArrow">
              <a:avLst>
                <a:gd name="adj1" fmla="val 50000"/>
                <a:gd name="adj2" fmla="val 231029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2600" y="4110840"/>
              <a:ext cx="1600200" cy="173160"/>
            </a:xfrm>
            <a:prstGeom prst="leftArrow">
              <a:avLst>
                <a:gd name="adj1" fmla="val 50000"/>
                <a:gd name="adj2" fmla="val 231029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08600" y="4572720"/>
              <a:ext cx="228600" cy="865800"/>
            </a:xfrm>
            <a:prstGeom prst="upDownArrow">
              <a:avLst>
                <a:gd name="adj1" fmla="val 50000"/>
                <a:gd name="adj2" fmla="val 75397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05280" y="27255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名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3760" y="313056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使用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方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28960" y="4284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类型指针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52680" y="3533400"/>
              <a:ext cx="7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程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03960" y="3416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操作系统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7000" y="5727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磁盘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72760" y="207000"/>
            <a:ext cx="3087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类型指针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903240"/>
            <a:ext cx="8566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操作用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库函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实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包含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dio.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使用方式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打开文件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-&gt;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文件读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写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-&g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关闭文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系统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自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打开和关闭三个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标准文件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输入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键盘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输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显示器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出错输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显示器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er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打开文件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p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LE    *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(char  *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,char *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4692600"/>
            <a:ext cx="77724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按指定方式打开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打开，为指向文件结构体的指针；打开失败，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01720" y="4983120"/>
            <a:ext cx="1461240" cy="460080"/>
          </a:xfrm>
          <a:prstGeom prst="wedgeRectCallout">
            <a:avLst>
              <a:gd name="adj1" fmla="val -11379"/>
              <a:gd name="adj2" fmla="val -138583"/>
            </a:avLst>
          </a:prstGeom>
          <a:solidFill>
            <a:srgbClr val="9cc2e8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要打开的文件名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90200" y="3598920"/>
            <a:ext cx="1278360" cy="460080"/>
          </a:xfrm>
          <a:prstGeom prst="wedgeRectCallout">
            <a:avLst>
              <a:gd name="adj1" fmla="val -25310"/>
              <a:gd name="adj2" fmla="val 108324"/>
            </a:avLst>
          </a:prstGeom>
          <a:solidFill>
            <a:srgbClr val="9cc2e8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使用文件方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2640" y="1087560"/>
            <a:ext cx="4484520" cy="265428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文件打开与测试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fopen(“aa.c”,“w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fp=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printf(“File open error!\n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5200" y="2595240"/>
            <a:ext cx="6373800" cy="82548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 fopen (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:\\fengyi\\bkc\\test.d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”,”r”);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22960" y="2410920"/>
            <a:ext cx="5962680" cy="119124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har  *filename=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:\\fengyi\\bkc\\test.d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 fopen(filename,”r”);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98600" y="265320"/>
            <a:ext cx="48225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的打开与关闭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03240"/>
            <a:ext cx="8477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作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使文件指针变量与文件“脱钩”，释放文件结构体和文件指针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t  fclose(FILE  *f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3520" y="2063880"/>
            <a:ext cx="8477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关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关闭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出错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98240" y="2602080"/>
            <a:ext cx="2741040" cy="460080"/>
          </a:xfrm>
          <a:prstGeom prst="wedgeRectCallout">
            <a:avLst>
              <a:gd name="adj1" fmla="val -21847"/>
              <a:gd name="adj2" fmla="val -173532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文件打开时返回的文件类型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87680" y="3164040"/>
            <a:ext cx="6095520" cy="3162240"/>
            <a:chOff x="1687680" y="3164040"/>
            <a:chExt cx="6095520" cy="3162240"/>
          </a:xfrm>
        </p:grpSpPr>
        <p:sp>
          <p:nvSpPr>
            <p:cNvPr id="226" name=""/>
            <p:cNvSpPr/>
            <p:nvPr/>
          </p:nvSpPr>
          <p:spPr>
            <a:xfrm>
              <a:off x="1687680" y="3583080"/>
              <a:ext cx="3809880" cy="2743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68560" y="4878360"/>
              <a:ext cx="1066320" cy="12193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01720" y="4878360"/>
              <a:ext cx="0" cy="381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01720" y="5259600"/>
              <a:ext cx="5331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68760" y="4040280"/>
              <a:ext cx="1599840" cy="53352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8760" y="5259600"/>
              <a:ext cx="159984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40560" y="4573800"/>
              <a:ext cx="1142640" cy="1066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540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磁盘文件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7280" y="5792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输出文件缓冲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7280" y="36594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输入文件缓冲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5200" y="44974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程序数据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5800" y="4878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134880" y="4345200"/>
              <a:ext cx="53316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35240" y="5031000"/>
              <a:ext cx="53316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268960" y="4268520"/>
              <a:ext cx="14472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268960" y="5259600"/>
              <a:ext cx="1371240" cy="304560"/>
            </a:xfrm>
            <a:prstGeom prst="line">
              <a:avLst/>
            </a:prstGeom>
            <a:ln w="38160">
              <a:solidFill>
                <a:srgbClr val="d0e2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24200" y="31640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缓冲文件系统：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562360" y="5400360"/>
            <a:ext cx="1029600" cy="736200"/>
            <a:chOff x="5562360" y="5400360"/>
            <a:chExt cx="1029600" cy="736200"/>
          </a:xfrm>
        </p:grpSpPr>
        <p:sp>
          <p:nvSpPr>
            <p:cNvPr id="244" name=""/>
            <p:cNvSpPr/>
            <p:nvPr/>
          </p:nvSpPr>
          <p:spPr>
            <a:xfrm>
              <a:off x="5562360" y="561600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fclose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802600">
              <a:off x="5573880" y="5492520"/>
              <a:ext cx="822240" cy="160200"/>
            </a:xfrm>
            <a:prstGeom prst="rightArrow">
              <a:avLst>
                <a:gd name="adj1" fmla="val 50000"/>
                <a:gd name="adj2" fmla="val 128315"/>
              </a:avLst>
            </a:prstGeom>
            <a:solidFill>
              <a:srgbClr val="ff0000"/>
            </a:solidFill>
            <a:ln w="38160">
              <a:solidFill>
                <a:srgbClr val="d0e2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738400" y="3175200"/>
            <a:ext cx="2375640" cy="460080"/>
          </a:xfrm>
          <a:prstGeom prst="wedgeRectCallout">
            <a:avLst>
              <a:gd name="adj1" fmla="val -47712"/>
              <a:gd name="adj2" fmla="val 170796"/>
            </a:avLst>
          </a:prstGeom>
          <a:solidFill>
            <a:srgbClr val="9cc2e8"/>
          </a:solidFill>
          <a:ln w="38160">
            <a:solidFill>
              <a:srgbClr val="d0e2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不关闭文件可能会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丢失数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66360" y="375840"/>
            <a:ext cx="404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关闭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close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34800" y="919080"/>
            <a:ext cx="85140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字符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/O:fput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get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put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函数原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int  fputc(char ch, FILE *f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功能：将字符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写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指向的文件中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返值：正常，返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;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出错，为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6600" y="3005280"/>
            <a:ext cx="8513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g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int  fgetc(FILE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中读取下一个字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，返回读到的代码值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读到文件尾或出错，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55040" y="4918680"/>
            <a:ext cx="513360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文件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与终端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I/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putc(ch,fp)       fputc(ch,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getc(fp)            fgetc(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putchar( c )      fputc(c,stdou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getchar( )         fgetc(stdi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440" y="339840"/>
            <a:ext cx="422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的读写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40440" y="1246680"/>
            <a:ext cx="2704320" cy="19227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判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二进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文件是否结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ile(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o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fp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      c=fgetc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…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3610080"/>
            <a:ext cx="1698120" cy="459720"/>
            <a:chOff x="0" y="3610080"/>
            <a:chExt cx="1698120" cy="459720"/>
          </a:xfrm>
        </p:grpSpPr>
        <p:sp>
          <p:nvSpPr>
            <p:cNvPr id="254" name=""/>
            <p:cNvSpPr/>
            <p:nvPr/>
          </p:nvSpPr>
          <p:spPr>
            <a:xfrm>
              <a:off x="444600" y="361008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例  文件拷贝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3713400"/>
              <a:ext cx="228600" cy="21096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86760 h 210960"/>
                <a:gd name="textAreaBottom" fmla="*/ 124200 h 2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640" y="24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83880" y="291960"/>
            <a:ext cx="5177880" cy="63118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*filename=“out.txt”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fp=fopen(filename,"w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ot open file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Please input string: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=getchar(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ch!='#'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c(ch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tchar(c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=getchar(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200" y="2523960"/>
            <a:ext cx="19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读文本文件内容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并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4880" y="1446120"/>
            <a:ext cx="5071320" cy="44830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*filename=“out.txt”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fp=fopen(filename,”r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ot open file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=fgetc(fp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!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O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tchar(c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200" y="4048200"/>
            <a:ext cx="8513640" cy="17413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int  feof(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判断文件是否结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文件结束，返回真（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）；文件未结束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84320" y="167760"/>
            <a:ext cx="5347080" cy="66776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*in, *ou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infile[10],outfile[1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"%s",infil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"%s",outfil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((in = fopen(infile, "r"))== 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printf("Cannot open infile.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(out = fopen(outfile, "w"))== 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printf("Cannot open outfile.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ile (!feof(in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utc(fgetc(in), 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close(in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close(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847880" y="289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从键盘输入字符，逐个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存到磁盘文件中，直到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输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为止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05:27:31Z</dcterms:created>
  <dc:creator>hyg</dc:creator>
  <dc:description/>
  <dc:language>en-US</dc:language>
  <cp:lastModifiedBy>YlmF</cp:lastModifiedBy>
  <dcterms:modified xsi:type="dcterms:W3CDTF">2009-06-20T03:35:28Z</dcterms:modified>
  <cp:revision>289</cp:revision>
  <dc:subject/>
  <dc:title>第十一章  文件</dc:title>
</cp:coreProperties>
</file>