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4.wmf" ContentType="image/x-wmf"/>
  <Override PartName="/ppt/media/image2.png" ContentType="image/png"/>
  <Override PartName="/ppt/media/image3.png" ContentType="image/png"/>
  <Override PartName="/ppt/media/WHOOSH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765-92A3-4D26-8F8E-E8496BDD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变量在某一时刻存在，则这时属变量的“生存期”（从给变量分配内存至所分配内存被系统收回的时间间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9D3-FF11-4AE4-BA8C-B0A1189D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C9B-94AA-4F15-AE0E-7B340A6C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988-80F1-4AB0-8BDF-7C693968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944-7C44-4F50-87A7-1AA754AF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0E57-E680-415D-B69C-1E24641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D40-2CE8-47BD-86FD-E4B0A337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FC7-389E-4529-8B6D-63287E54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07CB-6D62-4C6D-8750-5931333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47B2-3356-4690-BD7A-AB6CF563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BF9-8925-4EE8-82B2-2DFB5507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9820-3808-4E38-A145-3ED8A8D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38F-48C2-4674-8880-AFAEF50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F87A-6BF0-4135-AD43-07C4102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8AF4-0D6F-4A15-8EFB-E27B4DC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ED57-FAB2-4350-AEAB-71B157F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DE2-7E22-48A5-A49E-E5629903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502-D42E-4747-918A-823AF176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FCF-BE3A-4BA2-9076-C90D9A3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576-2436-4670-A439-B40574D2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430-9893-425E-8726-3D90A88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A38-3C9B-450A-B1BC-8BC90A4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6EE-A615-42BB-A455-E30942F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247-0392-45CC-BE52-2F11DF0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6DC-3FC6-4380-9928-88F9240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9046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55D-1199-4FBC-845A-0C3F01E706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7E8-6763-4605-A6A8-3E9CE3513357}" type="slidenum"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d1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2A8-A3B9-4500-9AF6-C862D85489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93400" y="369360"/>
            <a:ext cx="845964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概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32760" y="1495800"/>
            <a:ext cx="7373160" cy="5037840"/>
            <a:chOff x="932760" y="1495800"/>
            <a:chExt cx="7373160" cy="5037840"/>
          </a:xfrm>
        </p:grpSpPr>
        <p:grpSp>
          <p:nvGrpSpPr>
            <p:cNvPr id="217" name=""/>
            <p:cNvGrpSpPr/>
            <p:nvPr/>
          </p:nvGrpSpPr>
          <p:grpSpPr>
            <a:xfrm>
              <a:off x="6724440" y="1495800"/>
              <a:ext cx="1581480" cy="5037840"/>
              <a:chOff x="6724440" y="1495800"/>
              <a:chExt cx="1581480" cy="5037840"/>
            </a:xfrm>
          </p:grpSpPr>
          <p:sp>
            <p:nvSpPr>
              <p:cNvPr id="218" name=""/>
              <p:cNvSpPr/>
              <p:nvPr/>
            </p:nvSpPr>
            <p:spPr>
              <a:xfrm>
                <a:off x="6724440" y="1904760"/>
                <a:ext cx="1581480" cy="462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43520" y="23238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3520" y="370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43520" y="4392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43520" y="4736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43520" y="50814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43520" y="54259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43520" y="577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43520" y="26683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3520" y="301284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43520" y="3357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24440" y="4047840"/>
                <a:ext cx="1581480" cy="187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62640" y="14958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63000" y="5819040"/>
                <a:ext cx="48528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……</a:t>
                </a: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932760" y="2257560"/>
              <a:ext cx="2421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int     a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10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“%d”,a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610000" y="2819520"/>
            <a:ext cx="3562200" cy="933480"/>
          </a:xfrm>
          <a:custGeom>
            <a:avLst/>
            <a:gdLst/>
            <a:ahLst/>
            <a:rect l="l" t="t" r="r" b="b"/>
            <a:pathLst>
              <a:path w="2244" h="588">
                <a:moveTo>
                  <a:pt x="0" y="36"/>
                </a:moveTo>
                <a:cubicBezTo>
                  <a:pt x="24" y="28"/>
                  <a:pt x="48" y="20"/>
                  <a:pt x="72" y="12"/>
                </a:cubicBezTo>
                <a:cubicBezTo>
                  <a:pt x="84" y="8"/>
                  <a:pt x="108" y="0"/>
                  <a:pt x="108" y="0"/>
                </a:cubicBezTo>
                <a:cubicBezTo>
                  <a:pt x="256" y="4"/>
                  <a:pt x="404" y="4"/>
                  <a:pt x="552" y="12"/>
                </a:cubicBezTo>
                <a:cubicBezTo>
                  <a:pt x="819" y="27"/>
                  <a:pt x="1080" y="91"/>
                  <a:pt x="1344" y="120"/>
                </a:cubicBezTo>
                <a:cubicBezTo>
                  <a:pt x="1359" y="124"/>
                  <a:pt x="1411" y="135"/>
                  <a:pt x="1428" y="144"/>
                </a:cubicBezTo>
                <a:cubicBezTo>
                  <a:pt x="1441" y="150"/>
                  <a:pt x="1450" y="163"/>
                  <a:pt x="1464" y="168"/>
                </a:cubicBezTo>
                <a:cubicBezTo>
                  <a:pt x="1559" y="202"/>
                  <a:pt x="1674" y="207"/>
                  <a:pt x="1764" y="252"/>
                </a:cubicBezTo>
                <a:cubicBezTo>
                  <a:pt x="1817" y="278"/>
                  <a:pt x="1868" y="310"/>
                  <a:pt x="1920" y="336"/>
                </a:cubicBezTo>
                <a:cubicBezTo>
                  <a:pt x="1976" y="364"/>
                  <a:pt x="2015" y="394"/>
                  <a:pt x="2064" y="432"/>
                </a:cubicBezTo>
                <a:cubicBezTo>
                  <a:pt x="2087" y="450"/>
                  <a:pt x="2112" y="464"/>
                  <a:pt x="2136" y="480"/>
                </a:cubicBezTo>
                <a:cubicBezTo>
                  <a:pt x="2148" y="488"/>
                  <a:pt x="2172" y="504"/>
                  <a:pt x="2172" y="504"/>
                </a:cubicBezTo>
                <a:cubicBezTo>
                  <a:pt x="2199" y="545"/>
                  <a:pt x="2225" y="549"/>
                  <a:pt x="2244" y="58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654600">
            <a:off x="3205080" y="2543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62640" y="380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54480" y="3667680"/>
            <a:ext cx="692640" cy="780120"/>
            <a:chOff x="6054480" y="3667680"/>
            <a:chExt cx="692640" cy="780120"/>
          </a:xfrm>
        </p:grpSpPr>
        <p:sp>
          <p:nvSpPr>
            <p:cNvPr id="237" name=""/>
            <p:cNvSpPr/>
            <p:nvPr/>
          </p:nvSpPr>
          <p:spPr>
            <a:xfrm>
              <a:off x="6054480" y="36676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4480" y="404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33680" y="4487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程序中使用变量名对内存操作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90920" y="3219480"/>
            <a:ext cx="3485880" cy="1066680"/>
            <a:chOff x="2590920" y="3219480"/>
            <a:chExt cx="3485880" cy="1066680"/>
          </a:xfrm>
        </p:grpSpPr>
        <p:sp>
          <p:nvSpPr>
            <p:cNvPr id="241" name=""/>
            <p:cNvSpPr/>
            <p:nvPr/>
          </p:nvSpPr>
          <p:spPr>
            <a:xfrm>
              <a:off x="2590920" y="3219480"/>
              <a:ext cx="3485880" cy="843120"/>
            </a:xfrm>
            <a:custGeom>
              <a:avLst/>
              <a:gdLst/>
              <a:ahLst/>
              <a:rect l="l" t="t" r="r" b="b"/>
              <a:pathLst>
                <a:path w="2196" h="531">
                  <a:moveTo>
                    <a:pt x="0" y="0"/>
                  </a:moveTo>
                  <a:cubicBezTo>
                    <a:pt x="148" y="11"/>
                    <a:pt x="297" y="27"/>
                    <a:pt x="444" y="48"/>
                  </a:cubicBezTo>
                  <a:cubicBezTo>
                    <a:pt x="495" y="65"/>
                    <a:pt x="548" y="71"/>
                    <a:pt x="600" y="84"/>
                  </a:cubicBezTo>
                  <a:cubicBezTo>
                    <a:pt x="662" y="126"/>
                    <a:pt x="735" y="151"/>
                    <a:pt x="804" y="180"/>
                  </a:cubicBezTo>
                  <a:cubicBezTo>
                    <a:pt x="834" y="193"/>
                    <a:pt x="858" y="216"/>
                    <a:pt x="888" y="228"/>
                  </a:cubicBezTo>
                  <a:cubicBezTo>
                    <a:pt x="966" y="259"/>
                    <a:pt x="1048" y="285"/>
                    <a:pt x="1128" y="312"/>
                  </a:cubicBezTo>
                  <a:cubicBezTo>
                    <a:pt x="1174" y="327"/>
                    <a:pt x="1224" y="328"/>
                    <a:pt x="1272" y="336"/>
                  </a:cubicBezTo>
                  <a:cubicBezTo>
                    <a:pt x="1296" y="340"/>
                    <a:pt x="1321" y="340"/>
                    <a:pt x="1344" y="348"/>
                  </a:cubicBezTo>
                  <a:cubicBezTo>
                    <a:pt x="1399" y="366"/>
                    <a:pt x="1458" y="373"/>
                    <a:pt x="1512" y="396"/>
                  </a:cubicBezTo>
                  <a:cubicBezTo>
                    <a:pt x="1528" y="403"/>
                    <a:pt x="1543" y="416"/>
                    <a:pt x="1560" y="420"/>
                  </a:cubicBezTo>
                  <a:cubicBezTo>
                    <a:pt x="1607" y="432"/>
                    <a:pt x="1658" y="429"/>
                    <a:pt x="1704" y="444"/>
                  </a:cubicBezTo>
                  <a:cubicBezTo>
                    <a:pt x="1835" y="488"/>
                    <a:pt x="1950" y="506"/>
                    <a:pt x="2088" y="516"/>
                  </a:cubicBezTo>
                  <a:cubicBezTo>
                    <a:pt x="2164" y="531"/>
                    <a:pt x="2128" y="528"/>
                    <a:pt x="2196" y="52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3791160"/>
              <a:ext cx="2762280" cy="495000"/>
            </a:xfrm>
            <a:custGeom>
              <a:avLst/>
              <a:gdLst/>
              <a:ahLst/>
              <a:rect l="l" t="t" r="r" b="b"/>
              <a:pathLst>
                <a:path w="1740" h="312">
                  <a:moveTo>
                    <a:pt x="1740" y="264"/>
                  </a:moveTo>
                  <a:cubicBezTo>
                    <a:pt x="1715" y="272"/>
                    <a:pt x="1694" y="293"/>
                    <a:pt x="1668" y="300"/>
                  </a:cubicBezTo>
                  <a:cubicBezTo>
                    <a:pt x="1637" y="308"/>
                    <a:pt x="1604" y="308"/>
                    <a:pt x="1572" y="312"/>
                  </a:cubicBezTo>
                  <a:cubicBezTo>
                    <a:pt x="1280" y="303"/>
                    <a:pt x="1007" y="283"/>
                    <a:pt x="720" y="240"/>
                  </a:cubicBezTo>
                  <a:cubicBezTo>
                    <a:pt x="647" y="229"/>
                    <a:pt x="576" y="230"/>
                    <a:pt x="504" y="216"/>
                  </a:cubicBezTo>
                  <a:cubicBezTo>
                    <a:pt x="409" y="198"/>
                    <a:pt x="335" y="162"/>
                    <a:pt x="252" y="120"/>
                  </a:cubicBezTo>
                  <a:cubicBezTo>
                    <a:pt x="215" y="102"/>
                    <a:pt x="183" y="73"/>
                    <a:pt x="144" y="60"/>
                  </a:cubicBezTo>
                  <a:cubicBezTo>
                    <a:pt x="97" y="44"/>
                    <a:pt x="35" y="35"/>
                    <a:pt x="0" y="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28560" y="341280"/>
            <a:ext cx="7454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变量的存储属性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5" name="">
              <a:hlinkClick r:id="rId2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7" name="">
                <a:hlinkClick r:id="rId3" action="ppaction://hlinksldjump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4146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440" y="1633680"/>
            <a:ext cx="816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局部变量默认为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auto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register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变量个数受限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且不能为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long, double, float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全局寿命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和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局部可见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可继承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隶书"/>
                <a:ea typeface="隶书"/>
              </a:rPr>
              <a:t>extern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不是变量定义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可扩展外部变量作用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变量存储类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1428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2600" y="533160"/>
            <a:ext cx="3877920" cy="631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i=1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gister int b=-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=c+8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=i+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88240" y="3091320"/>
            <a:ext cx="4079160" cy="37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her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=2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b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=a+2;   i=i+32;  c=c+5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OTHER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=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7200" y="-1080"/>
            <a:ext cx="20581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1  a:0  b:-10  c:0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07200" y="678240"/>
            <a:ext cx="210096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Other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4  b:0  c:15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06840" y="1357920"/>
            <a:ext cx="212220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0  b:-10  c: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07560" y="2037240"/>
            <a:ext cx="2036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Other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75  a:6  b:4  c: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29120" y="2508120"/>
            <a:ext cx="1776960" cy="412920"/>
            <a:chOff x="5829120" y="2508120"/>
            <a:chExt cx="1776960" cy="412920"/>
          </a:xfrm>
        </p:grpSpPr>
        <p:sp>
          <p:nvSpPr>
            <p:cNvPr id="382" name=""/>
            <p:cNvSpPr/>
            <p:nvPr/>
          </p:nvSpPr>
          <p:spPr>
            <a:xfrm>
              <a:off x="5829120" y="252216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158600" y="249624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72320" y="2638440"/>
            <a:ext cx="2323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829120" y="2508120"/>
            <a:ext cx="1776960" cy="413280"/>
            <a:chOff x="5829120" y="2508120"/>
            <a:chExt cx="1776960" cy="413280"/>
          </a:xfrm>
        </p:grpSpPr>
        <p:sp>
          <p:nvSpPr>
            <p:cNvPr id="387" name=""/>
            <p:cNvSpPr/>
            <p:nvPr/>
          </p:nvSpPr>
          <p:spPr>
            <a:xfrm>
              <a:off x="5829120" y="2522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177680" y="25153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91040" y="2581200"/>
            <a:ext cx="2267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509400"/>
            <a:ext cx="8139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变量的寿命与可见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595520"/>
            <a:ext cx="8459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数据类型：变量所持有的数据的性质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操作属性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存储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存储器类型：寄存器、静态存储区、动态存储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生存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一时刻存在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与动态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作用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区域内有效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局部变量与全局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存储类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auto 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自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register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寄存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static  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extern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定义格式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: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存储类型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]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 变量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840" y="723960"/>
            <a:ext cx="84596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概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8480" y="4586400"/>
            <a:ext cx="25326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如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:    int   sum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uto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a,b,c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giste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float    x,y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1880" y="37764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变量的存储属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24000" y="1074240"/>
            <a:ext cx="85838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局部变量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内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内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只在本函数内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说明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定义的变量只在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不同函数中同名变量，占不同内存单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形参属于局部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可定义在复合语句中有效的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局部变量可用存储类型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：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uto     register    static 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（默认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724280" y="1219320"/>
            <a:ext cx="3943440" cy="5132160"/>
            <a:chOff x="4724280" y="1219320"/>
            <a:chExt cx="3943440" cy="5132160"/>
          </a:xfrm>
        </p:grpSpPr>
        <p:sp>
          <p:nvSpPr>
            <p:cNvPr id="256" name=""/>
            <p:cNvSpPr/>
            <p:nvPr/>
          </p:nvSpPr>
          <p:spPr>
            <a:xfrm>
              <a:off x="4724280" y="1219320"/>
              <a:ext cx="3943440" cy="4952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68720" y="1382760"/>
              <a:ext cx="1393920" cy="49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9640" y="1549440"/>
              <a:ext cx="74880" cy="10922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28440 h 1092240"/>
                <a:gd name="textAreaBottom" fmla="*/ 10638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0600" y="1982880"/>
              <a:ext cx="1171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,b,c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3520" y="3078000"/>
              <a:ext cx="74520" cy="10400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27000 h 1040040"/>
                <a:gd name="textAreaBottom" fmla="*/ 1013040 h 10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4120" y="3419280"/>
              <a:ext cx="1171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x,y,i,j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7960" y="4535280"/>
              <a:ext cx="74880" cy="1322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34200 h 1322640"/>
                <a:gd name="textAreaBottom" fmla="*/ 1288440 h 132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08560" y="4968720"/>
              <a:ext cx="1171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,n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244040" y="318960"/>
            <a:ext cx="4601880" cy="5959440"/>
            <a:chOff x="4244040" y="318960"/>
            <a:chExt cx="4601880" cy="5959440"/>
          </a:xfrm>
        </p:grpSpPr>
        <p:sp>
          <p:nvSpPr>
            <p:cNvPr id="265" name=""/>
            <p:cNvSpPr/>
            <p:nvPr/>
          </p:nvSpPr>
          <p:spPr>
            <a:xfrm>
              <a:off x="4756680" y="318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不同函数中同名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7297560" y="341280"/>
            <a:ext cx="911160" cy="66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97560" y="341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4244040" y="1063800"/>
              <a:ext cx="4601880" cy="521460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3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4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6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7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sub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988520" y="800280"/>
            <a:ext cx="3628440" cy="5544360"/>
            <a:chOff x="4988520" y="800280"/>
            <a:chExt cx="3628440" cy="5544360"/>
          </a:xfrm>
        </p:grpSpPr>
        <p:sp>
          <p:nvSpPr>
            <p:cNvPr id="270" name=""/>
            <p:cNvSpPr/>
            <p:nvPr/>
          </p:nvSpPr>
          <p:spPr>
            <a:xfrm>
              <a:off x="5463360" y="100368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复合语句中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7705800" y="800280"/>
            <a:ext cx="911160" cy="669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05800" y="800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988520" y="1495800"/>
              <a:ext cx="3061080" cy="484884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#define   N  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int i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int a[N]={1,2,3,4,5}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/2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temp=a[i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i]=a[N-i-1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N-i-1]=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%d  ",a[i]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15560" y="714240"/>
            <a:ext cx="3628440" cy="6107760"/>
            <a:chOff x="5515560" y="714240"/>
            <a:chExt cx="3628440" cy="6107760"/>
          </a:xfrm>
        </p:grpSpPr>
        <p:sp>
          <p:nvSpPr>
            <p:cNvPr id="275" name=""/>
            <p:cNvSpPr/>
            <p:nvPr/>
          </p:nvSpPr>
          <p:spPr>
            <a:xfrm>
              <a:off x="5766120" y="6423120"/>
              <a:ext cx="2155680" cy="39888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5  4  3  2  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15560" y="714240"/>
              <a:ext cx="3628440" cy="5544360"/>
              <a:chOff x="5515560" y="714240"/>
              <a:chExt cx="3628440" cy="5544360"/>
            </a:xfrm>
          </p:grpSpPr>
          <p:sp>
            <p:nvSpPr>
              <p:cNvPr id="277" name=""/>
              <p:cNvSpPr/>
              <p:nvPr/>
            </p:nvSpPr>
            <p:spPr>
              <a:xfrm>
                <a:off x="5990400" y="917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复合语句中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78" name=""/>
              <p:cNvGraphicFramePr/>
              <p:nvPr/>
            </p:nvGraphicFramePr>
            <p:xfrm>
              <a:off x="8232840" y="714240"/>
              <a:ext cx="911160" cy="6699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232840" y="71424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5515560" y="1409760"/>
                <a:ext cx="3061080" cy="484884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#define  N  5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int i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int a[N]={1,2,3,4,5}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/2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{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temp=a[i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i]=a[N-i-1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N-i-1]=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%d  ",a[i]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4232880" y="309600"/>
            <a:ext cx="4601880" cy="5959440"/>
            <a:chOff x="4232880" y="309600"/>
            <a:chExt cx="4601880" cy="5959440"/>
          </a:xfrm>
        </p:grpSpPr>
        <p:grpSp>
          <p:nvGrpSpPr>
            <p:cNvPr id="282" name=""/>
            <p:cNvGrpSpPr/>
            <p:nvPr/>
          </p:nvGrpSpPr>
          <p:grpSpPr>
            <a:xfrm>
              <a:off x="4232880" y="309600"/>
              <a:ext cx="4601880" cy="5959440"/>
              <a:chOff x="4232880" y="309600"/>
              <a:chExt cx="4601880" cy="595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4745520" y="309600"/>
                <a:ext cx="177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不同函数中同名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84" name=""/>
              <p:cNvGraphicFramePr/>
              <p:nvPr/>
            </p:nvGraphicFramePr>
            <p:xfrm>
              <a:off x="7286400" y="331920"/>
              <a:ext cx="911160" cy="6699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286400" y="33192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4232880" y="1054440"/>
                <a:ext cx="4601880" cy="521460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3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4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6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7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sub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964200" y="3844800"/>
              <a:ext cx="1607040" cy="131364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sub:a=6,b=7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413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局部变量与全局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10" name="CAMERA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66400" y="552600"/>
            <a:ext cx="820908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外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外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可为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本文件所有函数共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有效范围：从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定义变量的位置开始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到本源文件结束，及有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tern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说明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的其它源文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587960" y="3507840"/>
            <a:ext cx="59122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应尽量少使用全局变量，因为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全局变量在程序全部执行过程中占用存储单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了函数的通用性、可靠性，可移植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程序清晰性，容易出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945720" y="3164760"/>
            <a:ext cx="110437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定义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说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数：          只能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                       可说明多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位置：         所有函数之外              函数内或函数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分配内存： 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可初始化     不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不可初始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978200"/>
            <a:ext cx="8209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说明：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xtern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变量表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3623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定义与外部变量说明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70360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若外部变量与局部变量同名，则外部变量被屏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680" y="312408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可用存储类型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：缺省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stat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98760" y="714240"/>
            <a:ext cx="1614240" cy="3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全局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97240" y="41400"/>
            <a:ext cx="4900320" cy="558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loat   max,min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float  average(float   array[],  int  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 sum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ax=min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for(i=1;i&lt;n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f(array[i]&gt;max)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max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else if(array[i]&lt;min)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sum+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sum/n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ave,score[1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/*Input  */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=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average(score,10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printf("max=%6.2f\nmin=%6.2f\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rage=%6.2f\n",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ax,min,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534000" y="324000"/>
            <a:ext cx="1758240" cy="5981400"/>
            <a:chOff x="6534000" y="324000"/>
            <a:chExt cx="1758240" cy="5981400"/>
          </a:xfrm>
        </p:grpSpPr>
        <p:grpSp>
          <p:nvGrpSpPr>
            <p:cNvPr id="299" name=""/>
            <p:cNvGrpSpPr/>
            <p:nvPr/>
          </p:nvGrpSpPr>
          <p:grpSpPr>
            <a:xfrm>
              <a:off x="6534000" y="324000"/>
              <a:ext cx="1105200" cy="5981400"/>
              <a:chOff x="6534000" y="324000"/>
              <a:chExt cx="1105200" cy="5981400"/>
            </a:xfrm>
          </p:grpSpPr>
          <p:sp>
            <p:nvSpPr>
              <p:cNvPr id="300" name=""/>
              <p:cNvSpPr/>
              <p:nvPr/>
            </p:nvSpPr>
            <p:spPr>
              <a:xfrm>
                <a:off x="6534000" y="324000"/>
                <a:ext cx="11052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9200" y="324000"/>
                <a:ext cx="0" cy="5981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777440" y="3072600"/>
              <a:ext cx="48528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作用域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2680" y="2277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3560" y="2753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603000"/>
            <a:ext cx="1924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114640" y="476280"/>
            <a:ext cx="5333760" cy="6057720"/>
            <a:chOff x="2114640" y="476280"/>
            <a:chExt cx="5333760" cy="6057720"/>
          </a:xfrm>
        </p:grpSpPr>
        <p:sp>
          <p:nvSpPr>
            <p:cNvPr id="307" name=""/>
            <p:cNvSpPr/>
            <p:nvPr/>
          </p:nvSpPr>
          <p:spPr>
            <a:xfrm>
              <a:off x="2114640" y="476280"/>
              <a:ext cx="5333760" cy="605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0520" y="563400"/>
              <a:ext cx="1393560" cy="49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int  p=1,q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int   f3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….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har c1,c2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71960" y="3890880"/>
              <a:ext cx="184320" cy="1963800"/>
            </a:xfrm>
            <a:custGeom>
              <a:avLst/>
              <a:gdLst>
                <a:gd name="textAreaLeft" fmla="*/ 0 w 184320"/>
                <a:gd name="textAreaRight" fmla="*/ 66600 w 184320"/>
                <a:gd name="textAreaTop" fmla="*/ 51120 h 1963800"/>
                <a:gd name="textAreaBottom" fmla="*/ 1912680 h 19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75040" y="413712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1,c2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0240" y="770040"/>
              <a:ext cx="74880" cy="5273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137520 h 5273640"/>
                <a:gd name="textAreaBottom" fmla="*/ 5136120 h 527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37320" y="291456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p,q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908080" y="8676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62080" y="182304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38400" y="1085760"/>
            <a:ext cx="1580760" cy="5200920"/>
            <a:chOff x="1238400" y="1085760"/>
            <a:chExt cx="1580760" cy="5200920"/>
          </a:xfrm>
        </p:grpSpPr>
        <p:grpSp>
          <p:nvGrpSpPr>
            <p:cNvPr id="317" name=""/>
            <p:cNvGrpSpPr/>
            <p:nvPr/>
          </p:nvGrpSpPr>
          <p:grpSpPr>
            <a:xfrm>
              <a:off x="1885680" y="1085760"/>
              <a:ext cx="933480" cy="5200920"/>
              <a:chOff x="1885680" y="1085760"/>
              <a:chExt cx="933480" cy="52009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1885680" y="1085760"/>
                <a:ext cx="933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86040" y="1085760"/>
                <a:ext cx="0" cy="520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238400" y="2405880"/>
              <a:ext cx="726480" cy="3040200"/>
              <a:chOff x="1238400" y="2405880"/>
              <a:chExt cx="726480" cy="3040200"/>
            </a:xfrm>
          </p:grpSpPr>
          <p:sp>
            <p:nvSpPr>
              <p:cNvPr id="321" name=""/>
              <p:cNvSpPr/>
              <p:nvPr/>
            </p:nvSpPr>
            <p:spPr>
              <a:xfrm>
                <a:off x="1238400" y="33559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54680" y="362196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16520" y="240588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1714680" y="1638360"/>
            <a:ext cx="1123560" cy="4648320"/>
            <a:chOff x="1714680" y="1638360"/>
            <a:chExt cx="1123560" cy="4648320"/>
          </a:xfrm>
        </p:grpSpPr>
        <p:grpSp>
          <p:nvGrpSpPr>
            <p:cNvPr id="325" name=""/>
            <p:cNvGrpSpPr/>
            <p:nvPr/>
          </p:nvGrpSpPr>
          <p:grpSpPr>
            <a:xfrm>
              <a:off x="2419200" y="1638360"/>
              <a:ext cx="419040" cy="4648320"/>
              <a:chOff x="2419200" y="1638360"/>
              <a:chExt cx="419040" cy="46483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419200" y="1638360"/>
                <a:ext cx="324000" cy="1066680"/>
                <a:chOff x="2419200" y="1638360"/>
                <a:chExt cx="324000" cy="10666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>
                  <a:off x="2419200" y="1638360"/>
                  <a:ext cx="324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19200" y="16383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19200" y="2705040"/>
                  <a:ext cx="266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533320" y="3809880"/>
                <a:ext cx="304920" cy="2476800"/>
                <a:chOff x="2533320" y="3809880"/>
                <a:chExt cx="304920" cy="2476800"/>
              </a:xfrm>
            </p:grpSpPr>
            <p:sp>
              <p:nvSpPr>
                <p:cNvPr id="331" name=""/>
                <p:cNvSpPr/>
                <p:nvPr/>
              </p:nvSpPr>
              <p:spPr>
                <a:xfrm flipH="1">
                  <a:off x="2533320" y="38289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33680" y="3809880"/>
                  <a:ext cx="0" cy="2476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1714680" y="2196360"/>
              <a:ext cx="726480" cy="3040200"/>
              <a:chOff x="1714680" y="2196360"/>
              <a:chExt cx="726480" cy="3040200"/>
            </a:xfrm>
          </p:grpSpPr>
          <p:sp>
            <p:nvSpPr>
              <p:cNvPr id="334" name=""/>
              <p:cNvSpPr/>
              <p:nvPr/>
            </p:nvSpPr>
            <p:spPr>
              <a:xfrm>
                <a:off x="1714680" y="314640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30960" y="341244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92800" y="219636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520" y="379440"/>
            <a:ext cx="2844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7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579600" y="304920"/>
            <a:ext cx="3902040" cy="3930480"/>
            <a:chOff x="579600" y="304920"/>
            <a:chExt cx="3902040" cy="3930480"/>
          </a:xfrm>
        </p:grpSpPr>
        <p:graphicFrame>
          <p:nvGraphicFramePr>
            <p:cNvPr id="339" name=""/>
            <p:cNvGraphicFramePr/>
            <p:nvPr/>
          </p:nvGraphicFramePr>
          <p:xfrm>
            <a:off x="3515040" y="304920"/>
            <a:ext cx="819000" cy="75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15040" y="304920"/>
                      <a:ext cx="8190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579600" y="5731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8040" y="1092240"/>
              <a:ext cx="3603600" cy="314316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int max(int  x, 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int z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z=x&gt;y?x:y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z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extern int a,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13,b=-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966960" y="4986360"/>
            <a:ext cx="217116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x=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39440" y="1128600"/>
            <a:ext cx="3265200" cy="314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xtern int a,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int max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int z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z=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&gt;b?a: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z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printf("max=%d",max()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t a=13,b=-8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74680" y="304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定义与说明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27160" y="361800"/>
            <a:ext cx="5637960" cy="4010040"/>
            <a:chOff x="227160" y="361800"/>
            <a:chExt cx="5637960" cy="4010040"/>
          </a:xfrm>
        </p:grpSpPr>
        <p:sp>
          <p:nvSpPr>
            <p:cNvPr id="348" name=""/>
            <p:cNvSpPr/>
            <p:nvPr/>
          </p:nvSpPr>
          <p:spPr>
            <a:xfrm>
              <a:off x="2196000" y="923760"/>
              <a:ext cx="3669120" cy="344808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/*ch7_17.c*/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3,b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x(</a:t>
              </a:r>
              <a:r>
                <a:rPr b="0" lang="en-US" sz="2000" spc="-1" strike="noStrike">
                  <a:solidFill>
                    <a:srgbClr val="008000"/>
                  </a:solidFill>
                  <a:latin typeface="Verdana"/>
                </a:rPr>
                <a:t>int  a, int b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int 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c=a&gt;b?a: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c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ff9900"/>
                  </a:solidFill>
                  <a:latin typeface="Verdana"/>
                </a:rPr>
                <a:t>int a=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89080" y="971640"/>
            <a:ext cx="869760" cy="82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080" y="971640"/>
                      <a:ext cx="86976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227160" y="361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128320" y="5118120"/>
            <a:ext cx="1713960" cy="398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x=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>
            <a:hlinkClick r:id="rId4" action="ppaction://hlinksldjump"/>
          </p:cNvPr>
          <p:cNvSpPr/>
          <p:nvPr/>
        </p:nvSpPr>
        <p:spPr>
          <a:xfrm>
            <a:off x="7848720" y="6058080"/>
            <a:ext cx="1047600" cy="5140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与局部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-360" y="810720"/>
            <a:ext cx="858348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存储方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静态存储：程序运行期间分配固定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动态存储：程序运行期间根据需要动态分配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内存用户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3646440"/>
            <a:ext cx="8686800" cy="2819520"/>
            <a:chOff x="457200" y="3646440"/>
            <a:chExt cx="8686800" cy="2819520"/>
          </a:xfrm>
        </p:grpSpPr>
        <p:sp>
          <p:nvSpPr>
            <p:cNvPr id="357" name=""/>
            <p:cNvSpPr/>
            <p:nvPr/>
          </p:nvSpPr>
          <p:spPr>
            <a:xfrm>
              <a:off x="457200" y="3646440"/>
              <a:ext cx="8686800" cy="281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0800" y="3794040"/>
              <a:ext cx="2468520" cy="2309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0800" y="455292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0800" y="532908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9640" y="3916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程序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9880" y="4704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静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98680" y="5491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动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4400" y="479880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84640" y="560376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34680" y="468684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全局变量、局部静态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517824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形参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局部动态变量（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auto   register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函数调用现场保护和返回地址等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7880" y="5433840"/>
              <a:ext cx="74520" cy="86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3920" y="2311560"/>
            <a:ext cx="85834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生存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程序开始执行到程序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动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包含该变量定义的函数开始执行至函数执行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735120" y="453960"/>
            <a:ext cx="7340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动态变量与静态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06-13T14:22:20Z</dcterms:modified>
  <cp:revision>870</cp:revision>
  <dc:subject/>
  <dc:title>第六章  函数</dc:title>
</cp:coreProperties>
</file>