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projctor.wav" ContentType="audio/x-wav"/>
  <Override PartName="/ppt/media/image24.jpeg" ContentType="image/jpeg"/>
  <Override PartName="/ppt/media/image23.jpeg" ContentType="image/jpeg"/>
  <Override PartName="/ppt/media/image12.png" ContentType="image/png"/>
  <Override PartName="/ppt/media/camera.wav" ContentType="audio/x-wav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1.png" ContentType="image/png"/>
  <Override PartName="/ppt/media/image30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5.gif" ContentType="image/gif"/>
  <Override PartName="/ppt/media/image7.jpeg" ContentType="image/jpeg"/>
  <Override PartName="/ppt/media/image38.jpeg" ContentType="image/jpeg"/>
  <Override PartName="/ppt/media/image28.png" ContentType="image/png"/>
  <Override PartName="/ppt/media/image2.gif" ContentType="image/gif"/>
  <Override PartName="/ppt/media/image36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3B7-08E3-4E44-B64D-3390B475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1A2-190C-40C9-BF53-5757526D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63B-C953-43A0-8424-DBD68832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0AD-3334-4167-A698-5A0C7551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7BB4-3A19-42F8-81E9-F4CCCE96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FFF5-8132-4153-A7FC-3D65D650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633A-25E6-45CE-9898-F990DD75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27A0-E2AD-4148-ACD2-9FF733D0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824A-DF70-4735-A1F2-38486C91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E9B8-CAF4-4632-B11A-9C422EE7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567E-E317-4CA8-BDE3-0C7D440A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61D-174E-4669-853E-35D984AA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3044-2486-4526-99C5-EC52B885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5845-EE39-4A9C-A7E2-BEA64DD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5746-DE42-4087-9F70-C488E6C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C5BF-03C5-41A3-B191-DDA568A7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A7A8-5EB3-4EF7-A267-64A9229F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8464-8579-4F13-AF59-3211091D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1D40-D9C7-4623-8669-4EB16A5F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7F9EC-7FB4-4BF5-B925-6D328F48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39C1-A59C-494B-B430-1520B2BF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25AF-3EF0-4BB7-A275-17C85233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F68-A7E7-4723-BD32-28D78FB7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709E-811E-4E23-AB84-9DFF7CC7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4734-252C-4565-BF6D-5CC9FBA0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0AA93-9C69-4AF6-B159-00901570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9C7C-3093-48E9-A21E-3C0D016B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29B43-2040-4B35-A8DE-9E142B3C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6274-72FF-4D85-AE22-C3690963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ABC8E-443E-4E57-8F86-36CA8022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62503-BF84-473E-AA3C-CCA3A919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EB4F9-21B2-4E06-B0B3-48222F0F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0DD7-F214-4799-A08F-6BA2D277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184-FFAD-4AA4-849F-E2FBAC8A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10BCF-01C6-4081-8260-E27C69B5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95D0-2AD1-4F34-9123-45C098A4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FD949-FD36-42FD-A9E5-6BBFDC29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E0E35-1954-4EBA-897D-A26C29CF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4BA9-68AA-4383-A57F-2374DE5A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2694-3A5B-4A41-A89C-DC42D4B9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32351-7B7F-4086-8436-83B72477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1C32A-1989-40DD-B5DE-0532AF19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695A8-BDCC-4DC0-A6AE-B8D9C0B5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D0878-9A59-4F62-8E4D-3330A9DC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9AA-77D8-489A-89DF-4C3B39B0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0F031-4FDD-4EF5-9D90-0614138C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16488-F7AD-4032-919D-B55D8F53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EAD4E-9007-4B91-8653-5988156A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80830-20D9-406A-BC0F-0A3DFF58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FFEA-8534-44A1-8A0A-8BA8007C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1BF4-DD6E-4712-8DC2-E4BB834D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ABB2E-0A0E-4962-8002-94C6E226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9B52-0FB2-410A-9E5F-7EAC6D7E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B35BD-557E-4239-B8D0-8BC4A000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391DC-B578-4609-A93B-3CD13790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93F-627B-443A-AF03-460B5943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B41F3-7B7C-45C3-BF5B-0C792FA4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FB8-1981-479C-BA05-F7B0F5F1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95F-FE32-4125-93FA-C007ADD0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F94-CD39-4A2B-A4BB-66CE9BD6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3C26-E4A7-4D5D-B988-37E2C66F17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12C2-3B42-486C-A40F-9371FBCF0C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83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29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43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57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71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85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99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13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15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97B9-FABC-4EEA-B3D6-29EB8594E9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71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85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36CB-B38A-4BD0-8A51-6D58299326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35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0EB8-2FC4-45E1-9E8E-FD9865E88D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tw/imgres?imgurl=sh.sina.com.cn/eat/20030512/1_18-90-1529-459_2003051211323.jpg&amp;imgrefurl=http://sh.sina.com.cn/eat/20030512/113210822.shtml&amp;h=286&amp;w=400&amp;sz=20&amp;tbnid=X0i8MsoS44AJ:&amp;tbnh=85&amp;tbnw=118&amp;start=7&amp;prev=/images%3F%20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ree3.kaxiu.com/modules/958725763/dw_cs.html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92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66"/>
                </a:solidFill>
                <a:latin typeface="Arial"/>
                <a:ea typeface="黑体"/>
              </a:rPr>
              <a:t>端午的鸭蛋</a:t>
            </a:r>
            <a:endParaRPr b="0" lang="en-US" sz="8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6880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34920" y="44280"/>
            <a:ext cx="3241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_x000b__x000c_"/>
              </a:rPr>
              <a:t>2.</a:t>
            </a:r>
            <a:r>
              <a:rPr b="1" lang="zh-CN" sz="4400" spc="-1" strike="noStrike">
                <a:solidFill>
                  <a:srgbClr val="ff3300"/>
                </a:solidFill>
                <a:latin typeface="_x000b__x000c_"/>
              </a:rPr>
              <a:t>做香角子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38160" y="-435240"/>
            <a:ext cx="850680" cy="52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_x000b__x000c_"/>
              </a:rPr>
              <a:t>3.</a:t>
            </a:r>
            <a:r>
              <a:rPr b="1" lang="zh-CN" sz="4400" spc="-1" strike="noStrike">
                <a:solidFill>
                  <a:srgbClr val="ff3300"/>
                </a:solidFill>
                <a:latin typeface="_x000b__x000c_"/>
              </a:rPr>
              <a:t>贴五毒，贴符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979640" y="60480"/>
            <a:ext cx="7093080" cy="6753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820000" cy="62215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34920" y="-27000"/>
            <a:ext cx="835344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_x000b__x000c_"/>
              </a:rPr>
              <a:t>4</a:t>
            </a:r>
            <a:r>
              <a:rPr b="1" lang="zh-CN" sz="4400" spc="-1" strike="noStrike">
                <a:solidFill>
                  <a:srgbClr val="ff3300"/>
                </a:solidFill>
                <a:latin typeface="_x000b__x000c_"/>
              </a:rPr>
              <a:t>、喝雄黄酒，画“王”字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04920" y="1371600"/>
            <a:ext cx="990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</a:rPr>
              <a:t>鸭蛋络子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24680" y="1143000"/>
            <a:ext cx="609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线绳结成的网状的袋子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960560" y="0"/>
            <a:ext cx="5059440" cy="6858000"/>
          </a:xfrm>
          <a:prstGeom prst="rect">
            <a:avLst/>
          </a:prstGeom>
          <a:ln w="0">
            <a:noFill/>
          </a:ln>
        </p:spPr>
      </p:pic>
      <p:sp>
        <p:nvSpPr>
          <p:cNvPr id="710" name="">
            <a:hlinkClick r:id="rId2" action="ppaction://hlinksldjump"/>
          </p:cNvPr>
          <p:cNvSpPr/>
          <p:nvPr/>
        </p:nvSpPr>
        <p:spPr>
          <a:xfrm>
            <a:off x="8388360" y="6237360"/>
            <a:ext cx="360360" cy="446040"/>
          </a:xfrm>
          <a:custGeom>
            <a:avLst/>
            <a:gdLst>
              <a:gd name="textAreaLeft" fmla="*/ 63000 w 360360"/>
              <a:gd name="textAreaRight" fmla="*/ 261360 w 360360"/>
              <a:gd name="textAreaTop" fmla="*/ 59760 h 446040"/>
              <a:gd name="textAreaBottom" fmla="*/ 386280 h 44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72000"/>
            <a:ext cx="2819520" cy="2030400"/>
          </a:xfrm>
          <a:prstGeom prst="rect">
            <a:avLst/>
          </a:prstGeom>
          <a:ln w="0">
            <a:noFill/>
          </a:ln>
        </p:spPr>
      </p:pic>
      <p:pic>
        <p:nvPicPr>
          <p:cNvPr id="712" name="gyzf48" descr=""/>
          <p:cNvPicPr/>
          <p:nvPr/>
        </p:nvPicPr>
        <p:blipFill>
          <a:blip r:embed="rId3"/>
          <a:stretch/>
        </p:blipFill>
        <p:spPr>
          <a:xfrm>
            <a:off x="0" y="0"/>
            <a:ext cx="2800440" cy="28195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3886200" y="2286000"/>
            <a:ext cx="1344600" cy="110664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6629400" y="2286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6"/>
          <a:stretch/>
        </p:blipFill>
        <p:spPr>
          <a:xfrm>
            <a:off x="380880" y="3048120"/>
            <a:ext cx="2514600" cy="165708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"/>
          <a:stretch/>
        </p:blipFill>
        <p:spPr>
          <a:xfrm>
            <a:off x="3200400" y="228600"/>
            <a:ext cx="2743200" cy="185904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2600280" cy="352440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2286000" cy="16462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3429000" y="5181480"/>
            <a:ext cx="4032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鸭蛋也艺术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195640" y="404640"/>
            <a:ext cx="5182920" cy="107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走进课文  说鸭蛋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26920" y="3573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作者为什么对家乡的咸鸭蛋久久不能忘记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26920" y="1916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作者从哪几个方面来写家乡的鸭蛋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78480" y="1916280"/>
            <a:ext cx="13993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家乡的鸭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619280" y="1341360"/>
            <a:ext cx="358920" cy="3384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24000" y="981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名声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95640" y="4076640"/>
            <a:ext cx="24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特色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64000" y="836640"/>
            <a:ext cx="144360" cy="2305080"/>
          </a:xfrm>
          <a:custGeom>
            <a:avLst/>
            <a:gdLst>
              <a:gd name="textAreaLeft" fmla="*/ 92160 w 144360"/>
              <a:gd name="textAreaRight" fmla="*/ 144360 w 14436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51280" y="620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人们的赞赏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80000" y="148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自己的感受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35280" y="2781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袁枚的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食单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64000" y="3645000"/>
            <a:ext cx="144360" cy="2158920"/>
          </a:xfrm>
          <a:custGeom>
            <a:avLst/>
            <a:gdLst>
              <a:gd name="textAreaLeft" fmla="*/ 92160 w 144360"/>
              <a:gd name="textAreaRight" fmla="*/ 144360 w 14436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80000" y="350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质细而油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80000" y="4508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蛋白柔嫩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蛋黄通红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164360" y="1052640"/>
            <a:ext cx="432000" cy="4248000"/>
          </a:xfrm>
          <a:custGeom>
            <a:avLst/>
            <a:gdLst>
              <a:gd name="textAreaLeft" fmla="*/ 0 w 432000"/>
              <a:gd name="textAreaRight" fmla="*/ 155880 w 43200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7740720" y="1197000"/>
            <a:ext cx="10792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佳</a:t>
            </a:r>
            <a:endParaRPr b="1" lang="en-US" sz="54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6" name=""/>
          <p:cNvSpPr/>
          <p:nvPr/>
        </p:nvSpPr>
        <p:spPr>
          <a:xfrm>
            <a:off x="8317080" y="3573360"/>
            <a:ext cx="360360" cy="792360"/>
          </a:xfrm>
          <a:prstGeom prst="downArrow">
            <a:avLst>
              <a:gd name="adj1" fmla="val 50000"/>
              <a:gd name="adj2" fmla="val 549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740720" y="4581360"/>
            <a:ext cx="115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热爱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自豪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80000" y="112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问起籍贯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会肃然起敬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635280" y="206064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上海店里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会特别标明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35280" y="24210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双黄鸭蛋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会成批输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1280" y="4005360"/>
            <a:ext cx="2286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引袁枚文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708360" y="5445000"/>
            <a:ext cx="2897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以北京鸭蛋相比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2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42560" y="1412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作者为什么对家乡的鸭蛋久久不能忘怀？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1532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对家乡鸭蛋的难以忘怀，实际上不是作者个人的心态。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新魏"/>
              </a:rPr>
              <a:t>这是人类的普遍心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儿时的一切，在成年之后，都会笼罩一层异样的光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1295280" y="17524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826920" y="1844640"/>
            <a:ext cx="30229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打络子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挑鸭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装鸭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挂络子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吃鸭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玩蛋壳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9640" y="620640"/>
            <a:ext cx="5183280" cy="107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走进课文  品鸭蛋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211640" y="1989000"/>
            <a:ext cx="504720" cy="3600720"/>
          </a:xfrm>
          <a:custGeom>
            <a:avLst/>
            <a:gdLst>
              <a:gd name="textAreaLeft" fmla="*/ 0 w 504720"/>
              <a:gd name="textAreaRight" fmla="*/ 182160 w 50472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87640" y="256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（详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87640" y="4508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（详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987640" y="522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（详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932360" y="2205000"/>
            <a:ext cx="7905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趣</a:t>
            </a:r>
            <a:endParaRPr b="1" lang="en-US" sz="4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4" name=""/>
          <p:cNvSpPr/>
          <p:nvPr/>
        </p:nvSpPr>
        <p:spPr>
          <a:xfrm>
            <a:off x="5148360" y="393372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211640" y="4941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怀念、热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5640" y="58770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囊萤映雪的故事（联想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04000" y="191628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作者讲了端午的鸭蛋哪几件事</a:t>
            </a:r>
            <a:r>
              <a:rPr b="1" lang="en-US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表达了怎样的情感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66880" y="914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1752480"/>
            <a:ext cx="54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276720" y="162864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-72720" y="1676520"/>
            <a:ext cx="1368000" cy="2819160"/>
            <a:chOff x="-72720" y="1676520"/>
            <a:chExt cx="1368000" cy="2819160"/>
          </a:xfrm>
        </p:grpSpPr>
        <p:sp>
          <p:nvSpPr>
            <p:cNvPr id="763" name=""/>
            <p:cNvSpPr/>
            <p:nvPr/>
          </p:nvSpPr>
          <p:spPr>
            <a:xfrm>
              <a:off x="228600" y="1676520"/>
              <a:ext cx="1066680" cy="281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-72720" y="2121480"/>
              <a:ext cx="1155240" cy="22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方正舒体"/>
                </a:rPr>
                <a:t>端午的鸭蛋</a:t>
              </a:r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057400" y="549360"/>
            <a:ext cx="3124080" cy="761760"/>
            <a:chOff x="2057400" y="549360"/>
            <a:chExt cx="3124080" cy="761760"/>
          </a:xfrm>
        </p:grpSpPr>
        <p:sp>
          <p:nvSpPr>
            <p:cNvPr id="766" name=""/>
            <p:cNvSpPr/>
            <p:nvPr/>
          </p:nvSpPr>
          <p:spPr>
            <a:xfrm>
              <a:off x="2057400" y="549360"/>
              <a:ext cx="2819520" cy="76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09680" y="54936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方正舒体"/>
                </a:rPr>
                <a:t>端午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方正舒体"/>
                </a:rPr>
                <a:t>的风俗</a:t>
              </a:r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133720" y="2492280"/>
            <a:ext cx="2971800" cy="762120"/>
            <a:chOff x="2133720" y="2492280"/>
            <a:chExt cx="2971800" cy="762120"/>
          </a:xfrm>
        </p:grpSpPr>
        <p:sp>
          <p:nvSpPr>
            <p:cNvPr id="769" name=""/>
            <p:cNvSpPr/>
            <p:nvPr/>
          </p:nvSpPr>
          <p:spPr>
            <a:xfrm>
              <a:off x="2133720" y="2492280"/>
              <a:ext cx="2819520" cy="762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38640" y="249228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方正舒体"/>
                </a:rPr>
                <a:t>家乡的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方正舒体"/>
                </a:rPr>
                <a:t>鸭蛋</a:t>
              </a:r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209680" y="4149720"/>
            <a:ext cx="2971800" cy="761760"/>
            <a:chOff x="2209680" y="4149720"/>
            <a:chExt cx="2971800" cy="761760"/>
          </a:xfrm>
        </p:grpSpPr>
        <p:sp>
          <p:nvSpPr>
            <p:cNvPr id="772" name=""/>
            <p:cNvSpPr/>
            <p:nvPr/>
          </p:nvSpPr>
          <p:spPr>
            <a:xfrm>
              <a:off x="2209680" y="4149720"/>
              <a:ext cx="2819520" cy="76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514600" y="422568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方正舒体"/>
                </a:rPr>
                <a:t>端午的鸭蛋</a:t>
              </a:r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1143000" y="1371600"/>
            <a:ext cx="990720" cy="3276720"/>
            <a:chOff x="1143000" y="1371600"/>
            <a:chExt cx="990720" cy="3276720"/>
          </a:xfrm>
        </p:grpSpPr>
        <p:sp>
          <p:nvSpPr>
            <p:cNvPr id="775" name=""/>
            <p:cNvSpPr/>
            <p:nvPr/>
          </p:nvSpPr>
          <p:spPr>
            <a:xfrm flipV="1">
              <a:off x="1143000" y="1371600"/>
              <a:ext cx="9144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47920" y="30481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19320" y="4114800"/>
              <a:ext cx="9144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3276720" y="33577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03640" y="33336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364000" y="115920"/>
            <a:ext cx="370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系百索子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做香角子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贴五毒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帖符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喝雄黄酒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放黄烟子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吃十二红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48360" y="21337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35640" y="2060640"/>
            <a:ext cx="14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名声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特色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181480" y="378936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410080" y="3500280"/>
            <a:ext cx="1754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挑鸭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吃鸭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玩蛋壳</a:t>
            </a:r>
            <a:r>
              <a:rPr b="1" lang="zh-CN" sz="2800" spc="-1" strike="noStrike">
                <a:solidFill>
                  <a:srgbClr val="74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920" y="44280"/>
            <a:ext cx="1657440" cy="5205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_x000b__x000c_"/>
              </a:rPr>
              <a:t>课文小结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763640" y="5445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对故乡的自豪、热爱之情，对童年生活的怀想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81400" y="5667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情感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4302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Arial"/>
                <a:ea typeface="华文彩云"/>
              </a:rPr>
              <a:t>端午的由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8360" y="549360"/>
            <a:ext cx="88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970760" y="93492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630" name="" descr="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442200" y="-2700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87480" y="1012680"/>
            <a:ext cx="902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端午亦称端五，“端”的意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和“初”相同，称“端五” 如称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初五”；端五的“五”字又与“午”相通，又因午时为“阳辰”，所以端五也叫“端阳”。五月五日，两个五，故又称“重五”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还有许多别称，如：夏节、浴兰节、女 儿节，天中节、地腊、诗人节等等。关于端午节的来源，有纪念屈原说、吴越民族图腾祭说、起于三代夏至节说、恶月恶日驱避说等。影响最广的是纪念屈原说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42520" y="918720"/>
            <a:ext cx="50022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c5900"/>
                </a:solidFill>
                <a:latin typeface="Arial"/>
                <a:ea typeface="华文彩云"/>
              </a:rPr>
              <a:t>总结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485200" cy="38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Arial"/>
                <a:ea typeface="隶书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端午的鸭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告诉我们：日常生活富含生活情趣、人生意味。生活中并不总是惊涛骇浪，也未必处处正襟危坐。只有充分感受生活中的种种快乐、悲苦、平淡以及诗意，我们才算真实的体验到生活的滋味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6948360" y="4762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6095880" y="4567320"/>
            <a:ext cx="3048120" cy="2290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2411280" y="4221000"/>
            <a:ext cx="1978200" cy="20005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978200" cy="200016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 txBox="1"/>
          <p:nvPr/>
        </p:nvSpPr>
        <p:spPr>
          <a:xfrm>
            <a:off x="1042920" y="836640"/>
            <a:ext cx="68421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品语言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01736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家乡是水乡。出鸭。高邮大麻鸭是著名的鸭种。鸭多，鸭蛋也多。高邮人也善于腌鸭蛋。高邮咸鸭蛋于是出了名。</a:t>
            </a:r>
            <a:br>
              <a:rPr sz="3200"/>
            </a:br>
            <a:br>
              <a:rPr sz="32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这几个句子有什么特点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306080" y="4079520"/>
            <a:ext cx="7535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句子简短，极其简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有口语色彩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再找出几个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口语色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句子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53180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哦！你们那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出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咸鸭蛋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我对异乡人称道高邮鸭蛋，是不大高兴的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好像我们那穷地方就出鸭蛋似的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我在北京吃的咸鸭蛋，蛋黄是浅黄色的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这叫什么咸鸭蛋呢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别说鸭蛋都是一样的，细看却不同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有的样子蠢，有的秀气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1960" y="75384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双黄鸭蛋味道其实无特别处。还不就是个鸭蛋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只是切开之后，里面圆圆的两个黄，使人惊奇不已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“惊奇不已”的“已”是什么意思？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这个句子有什么特点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262160" y="4101840"/>
            <a:ext cx="60004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停止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文言色彩，比较典雅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再找出几个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文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色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句子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我走的地方不少，所食鸭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但是《腌蛋》这一条我看后却觉得很亲切，而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“与有荣焉”。文不长，录如下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蛋白柔嫩，不似别处的发干、发粉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入口如嚼石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。油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尤为别处所不及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常食用，一般都是敲破“空头”用筷子挖着吃。筷子头一扎下去，吱——红油就冒出来了。</a:t>
            </a:r>
            <a:br>
              <a:rPr sz="3200"/>
            </a:br>
            <a:br>
              <a:rPr sz="1500"/>
            </a:b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删去“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吱——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”，效果有什么同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8200" y="3801600"/>
            <a:ext cx="829296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吱——”，绘声绘色，真切生动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其中的动感、快感，活灵活现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删去就没有这种味道了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468360" y="1844640"/>
            <a:ext cx="817236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i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平淡而有味（</a:t>
            </a:r>
            <a:r>
              <a:rPr b="1" i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口语色彩浓厚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.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用适当的</a:t>
            </a:r>
            <a:r>
              <a:rPr b="1" i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方言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表现作品的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1" i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地方特色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古汉语的点缀 ，朴素典雅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4.</a:t>
            </a:r>
            <a:r>
              <a:rPr b="1" i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有淡淡的幽默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4000" y="476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汪曾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一位非常讲究语言艺术的作家，他曾经谈到自己在语言上的追求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8388360" y="0"/>
          <a:ext cx="755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8360" y="0"/>
                    <a:ext cx="755640" cy="6858000"/>
                  </a:xfrm>
                  <a:prstGeom prst="rect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9" name=""/>
          <p:cNvGraphicFramePr/>
          <p:nvPr/>
        </p:nvGraphicFramePr>
        <p:xfrm>
          <a:off x="0" y="0"/>
          <a:ext cx="75564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755640" cy="6858000"/>
                  </a:xfrm>
                  <a:prstGeom prst="rect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11" name=""/>
          <p:cNvSpPr/>
          <p:nvPr/>
        </p:nvSpPr>
        <p:spPr>
          <a:xfrm>
            <a:off x="1620360" y="260280"/>
            <a:ext cx="274104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文章语言的特色（找例子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819080" y="1052640"/>
            <a:ext cx="169416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平淡有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315800" y="2637000"/>
            <a:ext cx="169380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方言入文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59800" y="4149720"/>
            <a:ext cx="212076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带有文言色彩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204000" y="4869000"/>
            <a:ext cx="380772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好处是：使文章增添书卷气和典雅之美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79640" y="3357720"/>
            <a:ext cx="604836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好处是：作者脱口而出，直率朴素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15640" y="1989000"/>
            <a:ext cx="274104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好处是：读起来亲切自然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15800" y="5516640"/>
            <a:ext cx="169416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有点幽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331640" y="2060280"/>
            <a:ext cx="647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引用袁枚《随园食单》中“腌蛋”一条，有什么作用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0" y="4149720"/>
            <a:ext cx="85406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使文章典雅，有书卷气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203640" y="1052640"/>
            <a:ext cx="25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考考你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4427640" y="1531800"/>
            <a:ext cx="48243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9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，江苏高邮人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家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，资深文化界名人。早年毕业于西南联大，师从沈从文，曾长期任职北京京剧院编剧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表作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受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à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记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散文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蒲桥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0720" y="279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汪曾祺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2" name=""/>
          <p:cNvGraphicFramePr/>
          <p:nvPr/>
        </p:nvGraphicFramePr>
        <p:xfrm>
          <a:off x="0" y="5661000"/>
          <a:ext cx="914400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1000"/>
                    <a:ext cx="914400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"/>
          <p:cNvSpPr/>
          <p:nvPr/>
        </p:nvSpPr>
        <p:spPr>
          <a:xfrm>
            <a:off x="684360" y="907920"/>
            <a:ext cx="8001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作者在文中说“我对异乡人称道高邮鸭蛋，是不大高兴的”是为什么？这句话表达作者什么感情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-1044720" y="3141720"/>
            <a:ext cx="11449080" cy="2303280"/>
          </a:xfrm>
          <a:prstGeom prst="cloudCallout">
            <a:avLst>
              <a:gd name="adj1" fmla="val -23819"/>
              <a:gd name="adj2" fmla="val 65574"/>
            </a:avLst>
          </a:prstGeom>
          <a:solidFill>
            <a:srgbClr val="ffffff"/>
          </a:solidFill>
          <a:ln w="93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由于异乡人只赞鸭蛋，会给人一种高邮只有鸭蛋，别无他物之感，所以不满。这表作者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黑体"/>
              </a:rPr>
              <a:t>热爱家乡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的真实情感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5" dur="20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0" y="0"/>
            <a:ext cx="3276720" cy="11912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a77"/>
                </a:solidFill>
                <a:latin typeface="黑体"/>
                <a:ea typeface="黑体"/>
              </a:rPr>
              <a:t>论风格 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第六自然段中，作者写到了东晋车胤“囊萤”的故事。有人认为，这段话与课文主要内容无关，是赘笔。谈谈你的理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3581280"/>
            <a:ext cx="77724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认为是赘笔者，是为了文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"/>
              </a:rPr>
              <a:t>结构严谨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，这对中学生大有必要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方正姚体"/>
              </a:rPr>
              <a:t>认为“自然、随意”者，是赞赏作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"/>
              </a:rPr>
              <a:t>闲适自由的风格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方正姚体"/>
              </a:rPr>
              <a:t>，也有道理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5943600" y="5410080"/>
            <a:ext cx="32004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685800" y="1447920"/>
            <a:ext cx="774072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汪曾祺的行文如同随意聊天，于自然而然中写出自己独特的感受和生活的妙处。文风闲适自由，不做刻意的雕凿加工，不刻意追求结构的严谨，但在随意中体现了整体的严谨与和谐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31616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14400" y="1392120"/>
            <a:ext cx="19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汪曾祺的散文风格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85800" y="495288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关键词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66880" y="4648320"/>
            <a:ext cx="5257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  <a:ea typeface="隶书"/>
              </a:rPr>
              <a:t>闲适自由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9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9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593800" y="2971800"/>
            <a:ext cx="1978200" cy="200016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1978200" cy="200016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 txBox="1"/>
          <p:nvPr/>
        </p:nvSpPr>
        <p:spPr>
          <a:xfrm>
            <a:off x="1258920" y="907920"/>
            <a:ext cx="22860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议主旨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250920" y="981000"/>
            <a:ext cx="858348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文章如此津津乐道谈论“咸鸭蛋”有意义吗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95280" y="2264760"/>
            <a:ext cx="83534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人生并不总是惊涛骇浪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更多的是风平浪静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;  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“平平淡淡才是真”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平淡的生活中富含生活的情趣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人生的意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;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</a:t>
            </a:r>
            <a:r>
              <a:rPr b="1" lang="en-US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只有热爱生活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做生活的有心人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才能在平淡的生活中发现情趣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发现诗意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                             </a:t>
            </a:r>
            <a:r>
              <a:rPr b="1" lang="en-US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7d076c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小小的咸鸭蛋里尝出生活的滋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悠然恬静之间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流露出的是对儿时生活的怀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对故乡的热爱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对生活的热爱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054440" y="189000"/>
            <a:ext cx="6883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  <a:ea typeface="华文新魏"/>
              </a:rPr>
              <a:t>议一议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49360" y="5576760"/>
            <a:ext cx="74016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做一个热爱生活的人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6915240" y="4452840"/>
            <a:ext cx="1977840" cy="200052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 txBox="1"/>
          <p:nvPr/>
        </p:nvSpPr>
        <p:spPr>
          <a:xfrm>
            <a:off x="539640" y="189000"/>
            <a:ext cx="763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话佳节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5" name=""/>
          <p:cNvSpPr/>
          <p:nvPr/>
        </p:nvSpPr>
        <p:spPr>
          <a:xfrm>
            <a:off x="1187280" y="3228840"/>
            <a:ext cx="64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了端午节外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知道哪些我们自己的传统节日？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0" y="4572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839880" y="16765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Verdana"/>
              </a:rPr>
              <a:t>春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686800" cy="501948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1144800" y="1676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c0c0"/>
                </a:solidFill>
                <a:latin typeface="Verdana"/>
              </a:rPr>
              <a:t>元宵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8686800" cy="497052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3262320" y="1835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Verdana"/>
              </a:rPr>
              <a:t>清明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4"/>
          <a:stretch/>
        </p:blipFill>
        <p:spPr>
          <a:xfrm>
            <a:off x="228600" y="1447920"/>
            <a:ext cx="8610480" cy="502128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6554880" y="1676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c5900"/>
                </a:solidFill>
                <a:latin typeface="Verdana"/>
              </a:rPr>
              <a:t>端午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5"/>
          <a:stretch/>
        </p:blipFill>
        <p:spPr>
          <a:xfrm>
            <a:off x="228600" y="1447920"/>
            <a:ext cx="8610480" cy="495288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997200" y="1676520"/>
            <a:ext cx="1552320" cy="10083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Verdana"/>
              </a:rPr>
              <a:t>七夕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6"/>
          <a:stretch/>
        </p:blipFill>
        <p:spPr>
          <a:xfrm>
            <a:off x="228600" y="144792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7557120" y="2333160"/>
            <a:ext cx="1094760" cy="3207960"/>
          </a:xfrm>
          <a:prstGeom prst="rect">
            <a:avLst/>
          </a:prstGeom>
          <a:solidFill>
            <a:srgbClr val="3366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Verdana"/>
              </a:rPr>
              <a:t>中秋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7"/>
          <a:stretch/>
        </p:blipFill>
        <p:spPr>
          <a:xfrm>
            <a:off x="250920" y="1413000"/>
            <a:ext cx="8610480" cy="497016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997200" y="1676520"/>
            <a:ext cx="1552320" cy="1008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Verdana"/>
              </a:rPr>
              <a:t>重阳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179280" y="189000"/>
            <a:ext cx="37339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知道这些风俗吗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彩云"/>
              </a:rPr>
              <a:t>中国的传统节日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195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春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元宵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清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端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七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中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重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冬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Arial"/>
                <a:ea typeface="黑体"/>
              </a:rPr>
              <a:t>腊八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249800" y="1870200"/>
            <a:ext cx="79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810560" y="1844640"/>
            <a:ext cx="793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556000" y="1125360"/>
            <a:ext cx="3079800" cy="554544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5533200" y="836640"/>
            <a:ext cx="29235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保护中国节，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保护中国文化！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 txBox="1"/>
          <p:nvPr/>
        </p:nvSpPr>
        <p:spPr>
          <a:xfrm>
            <a:off x="611280" y="1268280"/>
            <a:ext cx="6912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谢谢！再见！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173240" y="944640"/>
            <a:ext cx="140004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学习目标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4360" y="213372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朗读课文，了解文章的内容以及作者的感情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感受文章行文从容、语言优美的风格，品味富有特色的语句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保护中华民俗文化的传承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900720" y="4428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Verdana"/>
                <a:ea typeface="华文彩云"/>
              </a:rPr>
              <a:t>读文本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9200" y="155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汪曾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86800" y="1492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系百索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7040" y="4641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倘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若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29200" y="5364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熏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五毒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231240" y="386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苋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菜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75720" y="4638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似的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8720" y="3124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用酒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13760" y="312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门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楣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383640" y="234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拧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成小绳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56200" y="5361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咂摸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83480" y="3936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车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胤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332520" y="4718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大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96080" y="312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城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隍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0280" y="386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络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13760" y="1492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籍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贯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75680" y="2352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腌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腊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9800" y="2352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硝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药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73360" y="149220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qí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20560" y="14130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jì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41640" y="148428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jí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12360" y="244476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xiāo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83120" y="240660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níng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290000" y="236844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yā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33120" y="3063960"/>
            <a:ext cx="10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huò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83560" y="3141720"/>
            <a:ext cx="16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huáng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229520" y="3143160"/>
            <a:ext cx="10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méi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26840" y="387972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lào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40360" y="3956040"/>
            <a:ext cx="9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yì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207920" y="387972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xià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57360" y="458136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tǎng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70760" y="4657680"/>
            <a:ext cx="7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jī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933240" y="465768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shì·de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51840" y="53802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xū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94160" y="538020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zā·mo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172200" y="53103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避邪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305840" y="53103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xié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036960" y="2116080"/>
            <a:ext cx="374400" cy="1800"/>
          </a:xfrm>
          <a:custGeom>
            <a:avLst/>
            <a:gdLst/>
            <a:ahLst/>
            <a:rect l="l" t="t" r="r" b="b"/>
            <a:pathLst>
              <a:path w="1042" h="1">
                <a:moveTo>
                  <a:pt x="8434" y="5879"/>
                </a:moveTo>
                <a:cubicBezTo>
                  <a:pt x="8781" y="5879"/>
                  <a:pt x="9128" y="5879"/>
                  <a:pt x="9475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9080" y="5973840"/>
            <a:ext cx="320760" cy="1440"/>
          </a:xfrm>
          <a:custGeom>
            <a:avLst/>
            <a:gdLst/>
            <a:ahLst/>
            <a:rect l="l" t="t" r="r" b="b"/>
            <a:pathLst>
              <a:path w="894" h="1">
                <a:moveTo>
                  <a:pt x="18802" y="16594"/>
                </a:moveTo>
                <a:cubicBezTo>
                  <a:pt x="19100" y="16594"/>
                  <a:pt x="19397" y="16594"/>
                  <a:pt x="19695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580000" y="3608280"/>
            <a:ext cx="3564000" cy="324972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1978200" cy="20005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 txBox="1"/>
          <p:nvPr/>
        </p:nvSpPr>
        <p:spPr>
          <a:xfrm>
            <a:off x="900000" y="1700280"/>
            <a:ext cx="6336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知内容看结构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39640" y="333360"/>
            <a:ext cx="59040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_x000b__x000c_"/>
              </a:rPr>
              <a:t>1.</a:t>
            </a:r>
            <a:r>
              <a:rPr b="1" lang="zh-CN" sz="4400" spc="-1" strike="noStrike">
                <a:solidFill>
                  <a:srgbClr val="ff3300"/>
                </a:solidFill>
                <a:latin typeface="_x000b__x000c_"/>
              </a:rPr>
              <a:t>整体感知课文内容：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朗读课文，你觉得课文写了哪几方面内容？请概括出来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1" name="">
            <a:hlinkClick r:id="rId1" action="ppaction://hlinksldjump"/>
          </p:cNvPr>
          <p:cNvSpPr/>
          <p:nvPr/>
        </p:nvSpPr>
        <p:spPr>
          <a:xfrm>
            <a:off x="338400" y="4923000"/>
            <a:ext cx="204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端午风俗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2" name="">
            <a:hlinkClick r:id="rId2" action="ppaction://hlinksldjump"/>
          </p:cNvPr>
          <p:cNvSpPr/>
          <p:nvPr/>
        </p:nvSpPr>
        <p:spPr>
          <a:xfrm>
            <a:off x="2627280" y="3967200"/>
            <a:ext cx="29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家乡鸭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3" name="">
            <a:hlinkClick r:id="rId3" action="ppaction://hlinksldjump"/>
          </p:cNvPr>
          <p:cNvSpPr/>
          <p:nvPr/>
        </p:nvSpPr>
        <p:spPr>
          <a:xfrm>
            <a:off x="5627160" y="3046320"/>
            <a:ext cx="28328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端午鸭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黑体"/>
              </a:rPr>
              <a:t>5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黑体"/>
              </a:rPr>
              <a:t>6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7308720" y="5132520"/>
            <a:ext cx="1835280" cy="1725480"/>
          </a:xfrm>
          <a:prstGeom prst="rect">
            <a:avLst/>
          </a:prstGeom>
          <a:ln w="0">
            <a:noFill/>
          </a:ln>
        </p:spPr>
      </p:pic>
      <p:grpSp>
        <p:nvGrpSpPr>
          <p:cNvPr id="686" name=""/>
          <p:cNvGrpSpPr/>
          <p:nvPr/>
        </p:nvGrpSpPr>
        <p:grpSpPr>
          <a:xfrm>
            <a:off x="0" y="0"/>
            <a:ext cx="2361960" cy="6858000"/>
            <a:chOff x="0" y="0"/>
            <a:chExt cx="2361960" cy="6858000"/>
          </a:xfrm>
        </p:grpSpPr>
        <p:grpSp>
          <p:nvGrpSpPr>
            <p:cNvPr id="687" name=""/>
            <p:cNvGrpSpPr/>
            <p:nvPr/>
          </p:nvGrpSpPr>
          <p:grpSpPr>
            <a:xfrm>
              <a:off x="0" y="0"/>
              <a:ext cx="2361960" cy="5221080"/>
              <a:chOff x="0" y="0"/>
              <a:chExt cx="2361960" cy="5221080"/>
            </a:xfrm>
          </p:grpSpPr>
          <p:pic>
            <p:nvPicPr>
              <p:cNvPr id="6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2488320"/>
                <a:ext cx="1443240" cy="150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2361960" cy="99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995400"/>
                <a:ext cx="1443240" cy="153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981240"/>
                <a:ext cx="144324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2" name="" descr=""/>
            <p:cNvPicPr/>
            <p:nvPr/>
          </p:nvPicPr>
          <p:blipFill>
            <a:blip r:embed="rId7"/>
            <a:stretch/>
          </p:blipFill>
          <p:spPr>
            <a:xfrm>
              <a:off x="0" y="5176800"/>
              <a:ext cx="822600" cy="168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"/>
          <p:cNvSpPr/>
          <p:nvPr/>
        </p:nvSpPr>
        <p:spPr>
          <a:xfrm>
            <a:off x="2195640" y="189000"/>
            <a:ext cx="5182920" cy="10792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走进课文  道习俗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836720" y="1413000"/>
            <a:ext cx="30225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系百索子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做香角子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贴五毒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贴符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喝雄黄酒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放黄烟子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吃“十二红”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5724360" y="1989000"/>
            <a:ext cx="936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俗</a:t>
            </a:r>
            <a:endParaRPr b="1" lang="en-US" sz="4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6" name=""/>
          <p:cNvSpPr/>
          <p:nvPr/>
        </p:nvSpPr>
        <p:spPr>
          <a:xfrm>
            <a:off x="4861080" y="170028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88000" y="4508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（闲适自由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940360" y="393372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4920" y="44280"/>
            <a:ext cx="345744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_x000b__x000c_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_x000b__x000c_"/>
              </a:rPr>
              <a:t>、系百索子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208720" cy="5371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DI</cp:lastModifiedBy>
  <dcterms:modified xsi:type="dcterms:W3CDTF">2012-03-06T07:05:41Z</dcterms:modified>
  <cp:revision>141</cp:revision>
  <dc:subject/>
  <dc:title>PowerPoint Presentation</dc:title>
</cp:coreProperties>
</file>