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png" ContentType="image/png"/>
  <Override PartName="/ppt/media/image19.gif" ContentType="image/gif"/>
  <Override PartName="/ppt/media/image14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0A7-7454-4F17-8081-172203CD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795-81D2-43C8-9486-9E60BD69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344-2C47-4A6B-86A8-79B2BDF4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3BB-C62C-4553-A4D8-EDA8DC8E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9C87-2B5C-42B6-B5D8-3A0A5D49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74CB-B1F5-407D-9589-16D2FF04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2BB-FD49-4992-B15A-0F74DB10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937D-D73C-4883-8771-D77465F6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C441-6E75-493C-9746-80AB7709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B9B5-80C3-4B11-89DF-14D8B43F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55F8-2151-408D-8F7D-859599FD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FF8-F219-4DB0-85A9-BE47F97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6088-E112-46C0-B652-B224D8E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BF61-0A4C-49A6-925F-5F0DA776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9C0D-48FF-46D6-B1BF-115C1901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1613-D658-4F3A-97DF-EA007EA9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F334-C02D-44FA-ACCE-C9EB99D5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51A-DD2D-4174-BBB8-9DA6A0AE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61A-2251-4003-B186-AC19AABD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2DC-F19B-4E8E-9897-CBAF900C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A4D-3EE7-4A2A-BA86-295F71A5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846-FE2F-4DB4-8341-CC9702D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D21-E981-40D3-B627-C8AF6656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F38-C138-46C9-9B32-F3D626C2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6321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56322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任意多边形 56323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任意多边形 56324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任意多边形 56325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任意多边形 56326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任意多边形 56327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任意多边形 56328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任意多边形 56329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任意多边形 56330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任意多边形 56331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任意多边形 56332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矩形 56333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矩形 56334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任意多边形 56335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任意多边形 56336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" name="任意多边形 56337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" name="任意多边形 56338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" name="任意多边形 56339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" name="任意多边形 56340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" name="任意多边形 56341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" name="任意多边形 56342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" name="任意多边形 56343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" name="任意多边形 56344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" name="矩形 56345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" name="矩形 56346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" name="任意多边形 56347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" name="任意多边形 56348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" name="任意多边形 56349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" name="任意多边形 56350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" name="任意多边形 56351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" name="任意多边形 56352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" name="任意多边形 56353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" name="任意多边形 56354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" name="任意多边形 56355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" name="任意多边形 56356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" name="矩形 56357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" name="矩形 56358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" name="任意多边形 56359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" name="任意多边形 56360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" name="任意多边形 56361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" name="任意多边形 56362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" name="任意多边形 56363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" name="任意多边形 56364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" name="任意多边形 56365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" name="任意多边形 56366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" name="任意多边形 56367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" name="任意多边形 56368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矩形 56369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" name="矩形 56370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任意多边形 56371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" name="任意多边形 56372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任意多边形 56373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" name="任意多边形 56374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任意多边形 56375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任意多边形 56376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任意多边形 56377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任意多边形 56378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任意多边形 56379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任意多边形 56380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矩形 56381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矩形 56382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任意多边形 56383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任意多边形 56384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任意多边形 56385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任意多边形 56386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任意多边形 56387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任意多边形 56388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任意多边形 56389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任意多边形 56390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任意多边形 56391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任意多边形 56392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矩形 56393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3" name="矩形 56394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任意多边形 56395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5" name="任意多边形 56396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6" name="任意多边形 56397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7" name="任意多边形 56398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任意多边形 56399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9" name="任意多边形 56400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任意多边形 56401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1" name="任意多边形 56402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任意多边形 56403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3" name="任意多边形 56404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矩形 56405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5" name="矩形 56406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6" name="任意多边形 56407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任意多边形 56408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8" name="任意多边形 56409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任意多边形 56410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任意多边形 56411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任意多边形 56412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" name="任意多边形 56413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" name="任意多边形 56414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任意多边形 56415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任意多边形 56416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矩形 56417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矩形 56418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任意多边形 56419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任意多边形 56420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0" name="任意多边形 56421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1" name="任意多边形 56422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任意多边形 56423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3" name="任意多边形 56424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任意多边形 56425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任意多边形 56426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任意多边形 56427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任意多边形 56428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矩形 56429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矩形 56430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任意多边形 56431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任意多边形 56432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任意多边形 56433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任意多边形 56434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任意多边形 56435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任意多边形 56436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任意多边形 56437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任意多边形 56438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任意多边形 56439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任意多边形 56440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矩形 56441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矩形 56442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任意多边形 56443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任意多边形 56444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任意多边形 56445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任意多边形 56446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任意多边形 56447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任意多边形 56448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任意多边形 56449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任意多边形 56450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任意多边形 56451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任意多边形 56452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矩形 56453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矩形 56454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任意多边形 56455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任意多边形 56456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任意多边形 56457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任意多边形 56458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任意多边形 56459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任意多边形 56460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任意多边形 56461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任意多边形 56462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任意多边形 56463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任意多边形 56464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矩形 56465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任意多边形 56466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46" name="组合 56467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56468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任意多边形 56469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任意多边形 56470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任意多边形 56471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任意多边形 56472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2" name="任意多边形 56473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3" name="任意多边形 56474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4" name="任意多边形 56475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5" name="任意多边形 56476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6" name="任意多边形 56477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7" name="任意多边形 56478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8" name="任意多边形 56479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任意多边形 56480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60" name="组合 56481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56482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任意多边形 56483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任意多边形 56484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任意多边形 56485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任意多边形 56486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任意多边形 56487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任意多边形 56488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任意多边形 56489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任意多边形 56490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任意多边形 56491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任意多边形 56492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任意多边形 56493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任意多边形 56494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组合 56495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56496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任意多边形 56497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任意多边形 56498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任意多边形 56499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任意多边形 56500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任意多边形 56501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任意多边形 56502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任意多边形 56503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任意多边形 56504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任意多边形 56505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任意多边形 56506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任意多边形 56507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任意多边形 56508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8" name="组合 56509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56510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任意多边形 56511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任意多边形 56512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任意多边形 56513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任意多边形 56514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任意多边形 56515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任意多边形 56516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任意多边形 56517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任意多边形 56518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8" name="任意多边形 56519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9" name="任意多边形 56520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0" name="任意多边形 56521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1" name="任意多边形 56522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02" name="组合 56523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56524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任意多边形 56525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任意多边形 56526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6" name="任意多边形 56527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7" name="任意多边形 56528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任意多边形 56529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任意多边形 56530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任意多边形 56531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任意多边形 56532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任意多边形 56533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任意多边形 56534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任意多边形 56535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任意多边形 56536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16" name="组合 56537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56538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8" name="任意多边形 56539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9" name="任意多边形 56540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0" name="任意多边形 56541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1" name="任意多边形 56542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2" name="任意多边形 56543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任意多边形 56544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任意多边形 56545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任意多边形 56546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任意多边形 56547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任意多边形 56548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任意多边形 56549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任意多边形 56550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0" name="组合 56551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56552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232" name="组合 56553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56554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4" name="任意多边形 56555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5" name="任意多边形 56556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6" name="任意多边形 56557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7" name="任意多边形 56558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8" name="任意多边形 56559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39" name="任意多边形 56560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0" name="任意多边形 56561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1" name="任意多边形 56562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2" name="任意多边形 56563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3" name="任意多边形 56564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4" name="任意多边形 56565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45" name="任意多边形 56566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028-AC55-4E3C-8F6E-2CE39753C20A}" type="slidenum">
              <a:rPr b="0" lang="zh-CN" sz="14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任意多边形 57345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88" name="组合 57346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任意多边形 57347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任意多边形 57348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任意多边形 57349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任意多边形 57350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任意多边形 57351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任意多边形 57352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任意多边形 57353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任意多边形 57354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任意多边形 57355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任意多边形 57356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任意多边形 57357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0" name="任意多边形 57358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1" name="任意多边形 57359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02" name="组合 57360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矩形 57361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4" name="任意多边形 57362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5" name="任意多边形 57363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6" name="任意多边形 57364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7" name="任意多边形 57365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8" name="任意多边形 57366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9" name="任意多边形 57367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0" name="任意多边形 57368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任意多边形 57369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2" name="任意多边形 57370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3" name="任意多边形 57371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矩形 57372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5" name="矩形 57373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6" name="任意多边形 57374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任意多边形 57375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8" name="任意多边形 57376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9" name="任意多边形 57377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0" name="任意多边形 57378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1" name="任意多边形 57379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任意多边形 57380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任意多边形 57381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4" name="任意多边形 57382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5" name="任意多边形 57383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6" name="矩形 57384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7" name="矩形 57385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8" name="任意多边形 57386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9" name="任意多边形 57387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0" name="任意多边形 57388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1" name="任意多边形 57389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2" name="任意多边形 57390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3" name="任意多边形 57391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任意多边形 57392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5" name="任意多边形 57393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任意多边形 57394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7" name="任意多边形 57395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8" name="矩形 57396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9" name="矩形 57397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0" name="任意多边形 57398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1" name="任意多边形 57399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任意多边形 57400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3" name="任意多边形 57401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4" name="任意多边形 57402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5" name="任意多边形 57403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6" name="任意多边形 57404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7" name="任意多边形 57405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8" name="任意多边形 57406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9" name="任意多边形 57407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0" name="矩形 57408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1" name="矩形 57409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2" name="任意多边形 57410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3" name="任意多边形 57411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4" name="任意多边形 57412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5" name="任意多边形 57413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6" name="任意多边形 57414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7" name="任意多边形 57415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8" name="任意多边形 57416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9" name="任意多边形 57417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0" name="任意多边形 57418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1" name="任意多边形 57419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2" name="矩形 57420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矩形 57421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任意多边形 57422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任意多边形 57423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任意多边形 57424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7" name="任意多边形 57425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任意多边形 57426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任意多边形 57427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0" name="任意多边形 57428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任意多边形 57429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任意多边形 57430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任意多边形 57431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矩形 57432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矩形 57433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6" name="任意多边形 57434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7" name="任意多边形 57435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8" name="任意多边形 57436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9" name="任意多边形 57437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任意多边形 57438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1" name="任意多边形 57439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2" name="任意多边形 57440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任意多边形 57441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4" name="任意多边形 57442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5" name="任意多边形 57443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6" name="矩形 57444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7" name="矩形 57445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8" name="任意多边形 57446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9" name="任意多边形 57447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0" name="任意多边形 57448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任意多边形 57449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任意多边形 57450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3" name="任意多边形 57451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4" name="任意多边形 57452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任意多边形 57453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任意多边形 57454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7" name="任意多边形 57455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8" name="矩形 57456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矩形 57457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任意多边形 57458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1" name="任意多边形 57459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2" name="任意多边形 57460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3" name="任意多边形 57461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4" name="任意多边形 57462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5" name="任意多边形 57463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6" name="任意多边形 57464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7" name="任意多边形 57465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8" name="任意多边形 57466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9" name="任意多边形 57467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0" name="矩形 57468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1" name="矩形 57469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2" name="任意多边形 57470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3" name="任意多边形 57471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任意多边形 57472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5" name="任意多边形 57473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6" name="任意多边形 57474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任意多边形 57475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任意多边形 57476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9" name="任意多边形 57477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0" name="任意多边形 57478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1" name="任意多边形 57479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2" name="矩形 57480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3" name="矩形 57481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4" name="任意多边形 57482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5" name="任意多边形 57483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6" name="任意多边形 57484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7" name="任意多边形 57485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8" name="任意多边形 57486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9" name="任意多边形 57487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0" name="任意多边形 57488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1" name="任意多边形 57489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2" name="任意多边形 57490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3" name="任意多边形 57491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4" name="矩形 57492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5" name="矩形 57493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6" name="任意多边形 57494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7" name="任意多边形 57495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8" name="任意多边形 57496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9" name="任意多边形 57497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0" name="任意多边形 57498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1" name="任意多边形 57499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2" name="任意多边形 57500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3" name="任意多边形 57501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4" name="任意多边形 57502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5" name="任意多边形 57503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6" name="矩形 57504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47" name="任意多边形 57505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48" name="组合 57511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任意多边形 57512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0" name="任意多边形 57513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1" name="任意多边形 57514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2" name="任意多边形 57515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3" name="任意多边形 57516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4" name="任意多边形 57517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5" name="任意多边形 57518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6" name="任意多边形 57519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7" name="任意多边形 57520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8" name="任意多边形 57521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59" name="任意多边形 57522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0" name="任意多边形 57523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61" name="任意多边形 57524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C512-7EE7-486D-BAD4-67CEA667C4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udy.slzx.cn/Photo/UploadPhotos/200711/2007110710474653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228600" y="190476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962520" y="27734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2666880" y="914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609480" y="1752480"/>
            <a:ext cx="54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AutoShape 17"/>
          <p:cNvSpPr/>
          <p:nvPr/>
        </p:nvSpPr>
        <p:spPr>
          <a:xfrm>
            <a:off x="3352680" y="315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49" name="Group 18"/>
          <p:cNvGrpSpPr/>
          <p:nvPr/>
        </p:nvGrpSpPr>
        <p:grpSpPr>
          <a:xfrm>
            <a:off x="-209160" y="3170160"/>
            <a:ext cx="1368000" cy="2819520"/>
            <a:chOff x="-209160" y="3170160"/>
            <a:chExt cx="1368000" cy="2819520"/>
          </a:xfrm>
        </p:grpSpPr>
        <p:sp>
          <p:nvSpPr>
            <p:cNvPr id="550" name="Oval 19"/>
            <p:cNvSpPr/>
            <p:nvPr/>
          </p:nvSpPr>
          <p:spPr>
            <a:xfrm>
              <a:off x="92160" y="3170160"/>
              <a:ext cx="1066680" cy="28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1" name="Text Box 20"/>
            <p:cNvSpPr/>
            <p:nvPr/>
          </p:nvSpPr>
          <p:spPr>
            <a:xfrm>
              <a:off x="-209160" y="3615120"/>
              <a:ext cx="1155240" cy="22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2041560" y="2354400"/>
            <a:ext cx="3292560" cy="761760"/>
            <a:chOff x="2041560" y="2354400"/>
            <a:chExt cx="3292560" cy="761760"/>
          </a:xfrm>
        </p:grpSpPr>
        <p:sp>
          <p:nvSpPr>
            <p:cNvPr id="553" name="Oval 22"/>
            <p:cNvSpPr/>
            <p:nvPr/>
          </p:nvSpPr>
          <p:spPr>
            <a:xfrm>
              <a:off x="2041560" y="235440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4" name="Text Box 23"/>
            <p:cNvSpPr/>
            <p:nvPr/>
          </p:nvSpPr>
          <p:spPr>
            <a:xfrm>
              <a:off x="2362320" y="23544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端午的风俗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55" name="Group 24"/>
          <p:cNvGrpSpPr/>
          <p:nvPr/>
        </p:nvGrpSpPr>
        <p:grpSpPr>
          <a:xfrm>
            <a:off x="2117880" y="4102200"/>
            <a:ext cx="2971800" cy="761760"/>
            <a:chOff x="2117880" y="4102200"/>
            <a:chExt cx="2971800" cy="761760"/>
          </a:xfrm>
        </p:grpSpPr>
        <p:sp>
          <p:nvSpPr>
            <p:cNvPr id="556" name="Oval 25"/>
            <p:cNvSpPr/>
            <p:nvPr/>
          </p:nvSpPr>
          <p:spPr>
            <a:xfrm>
              <a:off x="2117880" y="410220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7" name="Text Box 26"/>
            <p:cNvSpPr/>
            <p:nvPr/>
          </p:nvSpPr>
          <p:spPr>
            <a:xfrm>
              <a:off x="2422800" y="410220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家乡的鸭蛋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58" name="Group 27"/>
          <p:cNvGrpSpPr/>
          <p:nvPr/>
        </p:nvGrpSpPr>
        <p:grpSpPr>
          <a:xfrm>
            <a:off x="2095560" y="5867280"/>
            <a:ext cx="2971800" cy="761760"/>
            <a:chOff x="2095560" y="5867280"/>
            <a:chExt cx="2971800" cy="761760"/>
          </a:xfrm>
        </p:grpSpPr>
        <p:sp>
          <p:nvSpPr>
            <p:cNvPr id="559" name="Oval 28"/>
            <p:cNvSpPr/>
            <p:nvPr/>
          </p:nvSpPr>
          <p:spPr>
            <a:xfrm>
              <a:off x="2095560" y="5867280"/>
              <a:ext cx="2819520" cy="76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0" name="Text Box 29"/>
            <p:cNvSpPr/>
            <p:nvPr/>
          </p:nvSpPr>
          <p:spPr>
            <a:xfrm>
              <a:off x="2400480" y="594324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方正舒体"/>
                </a:rPr>
                <a:t>端午的鸭蛋</a:t>
              </a:r>
              <a:endParaRPr b="0" lang="en-US" sz="3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561" name="Group 30"/>
          <p:cNvGrpSpPr/>
          <p:nvPr/>
        </p:nvGrpSpPr>
        <p:grpSpPr>
          <a:xfrm>
            <a:off x="1085760" y="2941560"/>
            <a:ext cx="990720" cy="3276720"/>
            <a:chOff x="1085760" y="2941560"/>
            <a:chExt cx="990720" cy="3276720"/>
          </a:xfrm>
        </p:grpSpPr>
        <p:grpSp>
          <p:nvGrpSpPr>
            <p:cNvPr id="562" name=""/>
            <p:cNvGrpSpPr/>
            <p:nvPr/>
          </p:nvGrpSpPr>
          <p:grpSpPr>
            <a:xfrm>
              <a:off x="1085760" y="2941560"/>
              <a:ext cx="914400" cy="457200"/>
              <a:chOff x="1085760" y="2941560"/>
              <a:chExt cx="914400" cy="457200"/>
            </a:xfrm>
          </p:grpSpPr>
          <p:sp>
            <p:nvSpPr>
              <p:cNvPr id="563" name="Line 31"/>
              <p:cNvSpPr/>
              <p:nvPr/>
            </p:nvSpPr>
            <p:spPr>
              <a:xfrm flipV="1">
                <a:off x="1085760" y="2941560"/>
                <a:ext cx="9144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 rot="10800000">
                <a:off x="1085760" y="294156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1390680" y="4618080"/>
              <a:ext cx="609480" cy="360"/>
              <a:chOff x="1390680" y="4618080"/>
              <a:chExt cx="609480" cy="360"/>
            </a:xfrm>
          </p:grpSpPr>
          <p:sp>
            <p:nvSpPr>
              <p:cNvPr id="566" name="Line 32"/>
              <p:cNvSpPr/>
              <p:nvPr/>
            </p:nvSpPr>
            <p:spPr>
              <a:xfrm>
                <a:off x="1390680" y="4618080"/>
                <a:ext cx="60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1390680" y="46180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1162080" y="5684760"/>
              <a:ext cx="914400" cy="533520"/>
              <a:chOff x="1162080" y="5684760"/>
              <a:chExt cx="914400" cy="533520"/>
            </a:xfrm>
          </p:grpSpPr>
          <p:sp>
            <p:nvSpPr>
              <p:cNvPr id="569" name="Line 33"/>
              <p:cNvSpPr/>
              <p:nvPr/>
            </p:nvSpPr>
            <p:spPr>
              <a:xfrm>
                <a:off x="1162080" y="5684760"/>
                <a:ext cx="9144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1162080" y="5684760"/>
                <a:ext cx="9144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71" name="AutoShape 34"/>
          <p:cNvSpPr/>
          <p:nvPr/>
        </p:nvSpPr>
        <p:spPr>
          <a:xfrm>
            <a:off x="3352680" y="50497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2" name="AutoShape 35"/>
          <p:cNvSpPr/>
          <p:nvPr/>
        </p:nvSpPr>
        <p:spPr>
          <a:xfrm>
            <a:off x="4861080" y="220968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3" name="Text Box 36"/>
          <p:cNvSpPr/>
          <p:nvPr/>
        </p:nvSpPr>
        <p:spPr>
          <a:xfrm>
            <a:off x="5181480" y="1905120"/>
            <a:ext cx="39625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系百索子</a:t>
            </a:r>
            <a:r>
              <a:rPr b="1" lang="en-US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做香角子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贴五毒</a:t>
            </a:r>
            <a:r>
              <a:rPr b="1" lang="en-US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帖符</a:t>
            </a:r>
            <a:r>
              <a:rPr b="1" lang="en-US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喝雄黄酒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放黄烟子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吃十二红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（特有）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4" name="AutoShape 37"/>
          <p:cNvSpPr/>
          <p:nvPr/>
        </p:nvSpPr>
        <p:spPr>
          <a:xfrm>
            <a:off x="4970520" y="3987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5" name="Text Box 38"/>
          <p:cNvSpPr/>
          <p:nvPr/>
        </p:nvSpPr>
        <p:spPr>
          <a:xfrm>
            <a:off x="5423040" y="382752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名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40000"/>
                </a:solidFill>
                <a:latin typeface="Times New Roman"/>
                <a:ea typeface="宋体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6" name="矩形 2"/>
          <p:cNvSpPr/>
          <p:nvPr/>
        </p:nvSpPr>
        <p:spPr>
          <a:xfrm>
            <a:off x="76320" y="-604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宋体"/>
              </a:rPr>
              <a:t>一、整体感知，检查预习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矩形 3"/>
          <p:cNvSpPr/>
          <p:nvPr/>
        </p:nvSpPr>
        <p:spPr>
          <a:xfrm>
            <a:off x="152280" y="63324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宋体"/>
              </a:rPr>
              <a:t>、浏览课文，思考文章的写作思路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8" name="矩形 4"/>
          <p:cNvSpPr/>
          <p:nvPr/>
        </p:nvSpPr>
        <p:spPr>
          <a:xfrm>
            <a:off x="136440" y="1252440"/>
            <a:ext cx="90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作者家乡的端午节有哪些风俗？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9" name="图片 68639" descr="图片3"/>
          <p:cNvPicPr/>
          <p:nvPr/>
        </p:nvPicPr>
        <p:blipFill>
          <a:blip r:embed="rId1"/>
          <a:stretch/>
        </p:blipFill>
        <p:spPr>
          <a:xfrm>
            <a:off x="6400800" y="380988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68640" descr="00072467"/>
          <p:cNvPicPr/>
          <p:nvPr/>
        </p:nvPicPr>
        <p:blipFill>
          <a:blip r:embed="rId2"/>
          <a:stretch/>
        </p:blipFill>
        <p:spPr>
          <a:xfrm>
            <a:off x="6324480" y="388620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68642" descr="J5@8JOKO]Q32R970NLZ8RWH"/>
          <p:cNvPicPr/>
          <p:nvPr/>
        </p:nvPicPr>
        <p:blipFill>
          <a:blip r:embed="rId3"/>
          <a:stretch/>
        </p:blipFill>
        <p:spPr>
          <a:xfrm>
            <a:off x="632448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8643" descr="dw5"/>
          <p:cNvPicPr/>
          <p:nvPr/>
        </p:nvPicPr>
        <p:blipFill>
          <a:blip r:embed="rId4"/>
          <a:stretch/>
        </p:blipFill>
        <p:spPr>
          <a:xfrm>
            <a:off x="632448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68644" descr="图片2"/>
          <p:cNvPicPr/>
          <p:nvPr/>
        </p:nvPicPr>
        <p:blipFill>
          <a:blip r:embed="rId5"/>
          <a:stretch/>
        </p:blipFill>
        <p:spPr>
          <a:xfrm>
            <a:off x="6324480" y="38862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152640" y="-30528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Garamond"/>
              </a:rPr>
              <a:t>二、精读课文，先独立完成，再小组合作探究</a:t>
            </a:r>
            <a:endParaRPr b="0" lang="en-US" sz="32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8534520" y="62485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3794"/>
                </a:moveTo>
                <a:lnTo>
                  <a:pt x="19295" y="10800"/>
                </a:lnTo>
                <a:lnTo>
                  <a:pt x="5282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0" y="762120"/>
            <a:ext cx="9372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家乡的咸鸭蛋有什么特点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作者还讲述了关于端午的鸭蛋哪几件趣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字里行间透露出作者怎样的情感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根据下面句子概括汪曾祺的语言特色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请在文中再找出相类似的句子说明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）“这叫什么咸鸭蛋呢！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）“高邮鸭蛋的特点是质细而油多。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）“筷子头一扎下去，吱──红油就冒出来了。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9677520" y="265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4"/>
          <p:cNvSpPr/>
          <p:nvPr/>
        </p:nvSpPr>
        <p:spPr>
          <a:xfrm>
            <a:off x="152280" y="6858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</a:t>
            </a:r>
            <a:r>
              <a:rPr b="1" lang="zh-CN" sz="6600" spc="-1" strike="noStrike">
                <a:solidFill>
                  <a:srgbClr val="a50021"/>
                </a:solidFill>
                <a:latin typeface="Times New Roman"/>
                <a:ea typeface="宋体"/>
              </a:rPr>
              <a:t>家乡的咸鸭蛋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特点？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9" name="Picture 9" descr="11"/>
          <p:cNvPicPr/>
          <p:nvPr/>
        </p:nvPicPr>
        <p:blipFill>
          <a:blip r:embed="rId1"/>
          <a:stretch/>
        </p:blipFill>
        <p:spPr>
          <a:xfrm>
            <a:off x="0" y="3505320"/>
            <a:ext cx="3962520" cy="2759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duck24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038480" y="3581280"/>
            <a:ext cx="4419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-391680" y="1143000"/>
            <a:ext cx="127764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乡鸭蛋的特点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990720" y="83808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声久远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4342680" y="190512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仿宋"/>
                <a:ea typeface="华文仿宋"/>
              </a:rPr>
              <a:t>双黄鸭蛋多 会成批输出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152280" y="4876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家乡鸭蛋的情感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5181480" y="4648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</a:rPr>
              <a:t>曾经沧海难为水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</a:rPr>
              <a:t>与有荣焉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3429000" y="281952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质细而油多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黄是红的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600600" y="2895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仿宋"/>
              </a:rPr>
              <a:t>引袁枚文作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6671520" y="3886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华文仿宋"/>
              </a:rPr>
              <a:t>与北京鸭蛋相比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AutoShape 17"/>
          <p:cNvSpPr/>
          <p:nvPr/>
        </p:nvSpPr>
        <p:spPr>
          <a:xfrm>
            <a:off x="838080" y="1523880"/>
            <a:ext cx="152640" cy="2590920"/>
          </a:xfrm>
          <a:custGeom>
            <a:avLst/>
            <a:gdLst>
              <a:gd name="textAreaLeft" fmla="*/ 97560 w 152640"/>
              <a:gd name="textAreaRight" fmla="*/ 153000 w 1526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e4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00" name="组合 69651"/>
          <p:cNvGrpSpPr/>
          <p:nvPr/>
        </p:nvGrpSpPr>
        <p:grpSpPr>
          <a:xfrm>
            <a:off x="3429000" y="425520"/>
            <a:ext cx="5137200" cy="1372680"/>
            <a:chOff x="3429000" y="425520"/>
            <a:chExt cx="5137200" cy="1372680"/>
          </a:xfrm>
        </p:grpSpPr>
        <p:sp>
          <p:nvSpPr>
            <p:cNvPr id="601" name="Text Box 4"/>
            <p:cNvSpPr/>
            <p:nvPr/>
          </p:nvSpPr>
          <p:spPr>
            <a:xfrm>
              <a:off x="3733920" y="425520"/>
              <a:ext cx="48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华文仿宋"/>
                  <a:ea typeface="华文仿宋"/>
                </a:rPr>
                <a:t>问起籍贯 会肃然起敬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2" name="Text Box 5"/>
            <p:cNvSpPr/>
            <p:nvPr/>
          </p:nvSpPr>
          <p:spPr>
            <a:xfrm>
              <a:off x="4479840" y="1155600"/>
              <a:ext cx="276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华文仿宋"/>
                  <a:ea typeface="华文仿宋"/>
                </a:rPr>
                <a:t>上海店里 会特别标明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3" name="AutoShape 19"/>
            <p:cNvSpPr/>
            <p:nvPr/>
          </p:nvSpPr>
          <p:spPr>
            <a:xfrm>
              <a:off x="3429000" y="774720"/>
              <a:ext cx="304920" cy="825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1240 h 825480"/>
                <a:gd name="textAreaBottom" fmla="*/ 804240 h 8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8837"/>
                  </a:lnTo>
                  <a:cubicBezTo>
                    <a:pt x="10800" y="9737"/>
                    <a:pt x="5400" y="10636"/>
                    <a:pt x="0" y="10636"/>
                  </a:cubicBezTo>
                  <a:cubicBezTo>
                    <a:pt x="5400" y="10636"/>
                    <a:pt x="10800" y="11536"/>
                    <a:pt x="10800" y="12435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e4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04" name="AutoShape 20"/>
          <p:cNvSpPr/>
          <p:nvPr/>
        </p:nvSpPr>
        <p:spPr>
          <a:xfrm>
            <a:off x="2971800" y="22860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6"/>
                </a:lnTo>
                <a:cubicBezTo>
                  <a:pt x="10800" y="9736"/>
                  <a:pt x="5400" y="10636"/>
                  <a:pt x="0" y="10636"/>
                </a:cubicBezTo>
                <a:cubicBezTo>
                  <a:pt x="5400" y="10636"/>
                  <a:pt x="10800" y="11536"/>
                  <a:pt x="10800" y="124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e4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AutoShape 21"/>
          <p:cNvSpPr/>
          <p:nvPr/>
        </p:nvSpPr>
        <p:spPr>
          <a:xfrm>
            <a:off x="4419720" y="5029200"/>
            <a:ext cx="7617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152280" y="5934240"/>
            <a:ext cx="6248520" cy="855720"/>
          </a:xfrm>
          <a:prstGeom prst="rect">
            <a:avLst/>
          </a:prstGeom>
          <a:solidFill>
            <a:srgbClr val="e7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cc"/>
                </a:solidFill>
                <a:latin typeface="Times New Roman"/>
                <a:ea typeface="隶书"/>
              </a:rPr>
              <a:t>对故乡的热爱与自豪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07" name="Picture 20" descr=""/>
          <p:cNvPicPr/>
          <p:nvPr/>
        </p:nvPicPr>
        <p:blipFill>
          <a:blip r:embed="rId1"/>
          <a:stretch/>
        </p:blipFill>
        <p:spPr>
          <a:xfrm>
            <a:off x="7240680" y="5518080"/>
            <a:ext cx="1812960" cy="12636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009800"/>
          </a:xfrm>
          <a:prstGeom prst="rect">
            <a:avLst/>
          </a:prstGeom>
          <a:ln w="0">
            <a:noFill/>
          </a:ln>
        </p:spPr>
      </p:pic>
      <p:sp>
        <p:nvSpPr>
          <p:cNvPr id="609" name="矩形 69650"/>
          <p:cNvSpPr/>
          <p:nvPr/>
        </p:nvSpPr>
        <p:spPr>
          <a:xfrm>
            <a:off x="1434240" y="2286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与众不同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5"/>
          <p:cNvSpPr/>
          <p:nvPr/>
        </p:nvSpPr>
        <p:spPr>
          <a:xfrm>
            <a:off x="141120" y="404640"/>
            <a:ext cx="889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讲述了关于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端午的鸭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哪几件趣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表达了怎样的情感？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308880" y="1747080"/>
            <a:ext cx="789840" cy="1478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趣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3764520" y="1600200"/>
            <a:ext cx="27928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挑鸭蛋、挂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鸭蛋络子（重点）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、吃鸭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2246760" y="2590920"/>
            <a:ext cx="3472560" cy="119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玩鸭蛋（空蛋壳装萤火虫）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联想到囊萤映雪的故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6876360" y="2519280"/>
            <a:ext cx="1826280" cy="433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怀念童年生活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15" name="Picture 4" descr="color-egg2"/>
          <p:cNvPicPr/>
          <p:nvPr/>
        </p:nvPicPr>
        <p:blipFill>
          <a:blip r:embed="rId1"/>
          <a:stretch/>
        </p:blipFill>
        <p:spPr>
          <a:xfrm>
            <a:off x="457200" y="4005360"/>
            <a:ext cx="358128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1"/>
          <p:cNvSpPr/>
          <p:nvPr/>
        </p:nvSpPr>
        <p:spPr>
          <a:xfrm>
            <a:off x="19080" y="990720"/>
            <a:ext cx="91915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根据下面句子概括汪曾祺的语言特色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请在文中再找出相类似的句子说明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这叫什么咸鸭蛋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高邮鸭蛋的特点是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质细而油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筷子头一扎下去，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──红油就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来了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19080" y="0"/>
            <a:ext cx="61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品味语言艺术风格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98305" descr="wzq02"/>
          <p:cNvPicPr/>
          <p:nvPr/>
        </p:nvPicPr>
        <p:blipFill>
          <a:blip r:embed="rId1"/>
          <a:stretch/>
        </p:blipFill>
        <p:spPr>
          <a:xfrm>
            <a:off x="6238800" y="1125360"/>
            <a:ext cx="2905200" cy="36720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98306"/>
          <p:cNvSpPr/>
          <p:nvPr/>
        </p:nvSpPr>
        <p:spPr>
          <a:xfrm>
            <a:off x="0" y="1371600"/>
            <a:ext cx="6095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汪曾祺先生是一位非常讲究语言艺术的作家，他曾经谈到自己在语言上的追求：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淡而有味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用适当的方言表现作品的地方特色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淡淡的幽默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20" name="图片 98307" descr="j0282867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621" name="组合 98308"/>
          <p:cNvGrpSpPr/>
          <p:nvPr/>
        </p:nvGrpSpPr>
        <p:grpSpPr>
          <a:xfrm>
            <a:off x="2484360" y="44280"/>
            <a:ext cx="4751280" cy="934920"/>
            <a:chOff x="2484360" y="44280"/>
            <a:chExt cx="4751280" cy="934920"/>
          </a:xfrm>
        </p:grpSpPr>
        <p:sp>
          <p:nvSpPr>
            <p:cNvPr id="622" name="波形 98309"/>
            <p:cNvSpPr/>
            <p:nvPr/>
          </p:nvSpPr>
          <p:spPr>
            <a:xfrm>
              <a:off x="2484360" y="44280"/>
              <a:ext cx="4249800" cy="934920"/>
            </a:xfrm>
            <a:custGeom>
              <a:avLst/>
              <a:gdLst>
                <a:gd name="textAreaLeft" fmla="*/ 0 w 4249800"/>
                <a:gd name="textAreaRight" fmla="*/ 4250160 w 4249800"/>
                <a:gd name="textAreaTop" fmla="*/ 243000 h 934920"/>
                <a:gd name="textAreaBottom" fmla="*/ 69192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809"/>
                  </a:moveTo>
                  <a:cubicBezTo>
                    <a:pt x="7200" y="-7142"/>
                    <a:pt x="14400" y="12760"/>
                    <a:pt x="21600" y="2809"/>
                  </a:cubicBezTo>
                  <a:lnTo>
                    <a:pt x="21600" y="18791"/>
                  </a:lnTo>
                  <a:cubicBezTo>
                    <a:pt x="14400" y="28742"/>
                    <a:pt x="7200" y="8840"/>
                    <a:pt x="0" y="1879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3" name="文本框 98310"/>
            <p:cNvSpPr/>
            <p:nvPr/>
          </p:nvSpPr>
          <p:spPr>
            <a:xfrm>
              <a:off x="2627280" y="11736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Arial"/>
                  <a:ea typeface="隶书"/>
                </a:rPr>
                <a:t>汪曾祺的语言特点</a:t>
              </a:r>
              <a:endParaRPr b="0" lang="en-US" sz="3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6"/>
          <p:cNvSpPr/>
          <p:nvPr/>
        </p:nvSpPr>
        <p:spPr>
          <a:xfrm>
            <a:off x="228600" y="838080"/>
            <a:ext cx="61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品味语言艺术风格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785880" cy="1713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99332"/>
          <p:cNvGrpSpPr/>
          <p:nvPr/>
        </p:nvGrpSpPr>
        <p:grpSpPr>
          <a:xfrm>
            <a:off x="839880" y="3505320"/>
            <a:ext cx="5584680" cy="703440"/>
            <a:chOff x="839880" y="3505320"/>
            <a:chExt cx="5584680" cy="703440"/>
          </a:xfrm>
        </p:grpSpPr>
        <p:pic>
          <p:nvPicPr>
            <p:cNvPr id="627" name="Picture 3" descr=""/>
            <p:cNvPicPr/>
            <p:nvPr/>
          </p:nvPicPr>
          <p:blipFill>
            <a:blip r:embed="rId2"/>
            <a:stretch/>
          </p:blipFill>
          <p:spPr>
            <a:xfrm>
              <a:off x="5638680" y="3733920"/>
              <a:ext cx="785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文本框 99334"/>
            <p:cNvSpPr/>
            <p:nvPr/>
          </p:nvSpPr>
          <p:spPr>
            <a:xfrm>
              <a:off x="839880" y="350532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创艺简黑体"/>
                </a:rPr>
                <a:t>古汉语的点缀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29" name="文本框 99335"/>
          <p:cNvSpPr/>
          <p:nvPr/>
        </p:nvSpPr>
        <p:spPr>
          <a:xfrm>
            <a:off x="839880" y="4267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善用语言造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0" name="文本框 99336"/>
          <p:cNvSpPr/>
          <p:nvPr/>
        </p:nvSpPr>
        <p:spPr>
          <a:xfrm>
            <a:off x="6885000" y="2209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平淡有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文本框 99337"/>
          <p:cNvSpPr/>
          <p:nvPr/>
        </p:nvSpPr>
        <p:spPr>
          <a:xfrm>
            <a:off x="6960960" y="342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朴素典雅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文本框 99338"/>
          <p:cNvSpPr/>
          <p:nvPr/>
        </p:nvSpPr>
        <p:spPr>
          <a:xfrm>
            <a:off x="7037280" y="4191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创艺简黑体"/>
              </a:rPr>
              <a:t>动感传神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33" name="组合 99339"/>
          <p:cNvGrpSpPr/>
          <p:nvPr/>
        </p:nvGrpSpPr>
        <p:grpSpPr>
          <a:xfrm>
            <a:off x="1322280" y="2133720"/>
            <a:ext cx="5180040" cy="1312920"/>
            <a:chOff x="1322280" y="2133720"/>
            <a:chExt cx="5180040" cy="1312920"/>
          </a:xfrm>
        </p:grpSpPr>
        <p:sp>
          <p:nvSpPr>
            <p:cNvPr id="634" name="文本框 99340"/>
            <p:cNvSpPr/>
            <p:nvPr/>
          </p:nvSpPr>
          <p:spPr>
            <a:xfrm>
              <a:off x="1322280" y="2133720"/>
              <a:ext cx="4143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创艺简黑体"/>
                </a:rPr>
                <a:t>口语色彩浓厚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  <a:ea typeface="创艺简黑体"/>
                </a:rPr>
                <a:t>（好用短句，穿插朴素白话）</a:t>
              </a:r>
              <a:endParaRPr b="0" lang="en-US" sz="4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pic>
          <p:nvPicPr>
            <p:cNvPr id="635" name="Picture 5" descr=""/>
            <p:cNvPicPr/>
            <p:nvPr/>
          </p:nvPicPr>
          <p:blipFill>
            <a:blip r:embed="rId3"/>
            <a:stretch/>
          </p:blipFill>
          <p:spPr>
            <a:xfrm>
              <a:off x="5715000" y="2438280"/>
              <a:ext cx="787320" cy="17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文本框 108545"/>
          <p:cNvSpPr/>
          <p:nvPr/>
        </p:nvSpPr>
        <p:spPr>
          <a:xfrm>
            <a:off x="380880" y="956160"/>
            <a:ext cx="83534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076c"/>
                </a:solidFill>
                <a:latin typeface="楷体_GB2312"/>
              </a:rPr>
              <a:t>&gt;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人生并不总是惊涛骇浪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更多的是风平浪静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;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</a:rPr>
              <a:t>&gt;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平平淡淡才是真”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平淡的生活中富含生活的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人生的意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;                                      </a:t>
            </a:r>
            <a:r>
              <a:rPr b="1" lang="en-US" sz="2800" spc="-1" strike="noStrike">
                <a:solidFill>
                  <a:srgbClr val="7d076c"/>
                </a:solidFill>
                <a:latin typeface="楷体_GB2312"/>
              </a:rPr>
              <a:t>&gt;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只有热爱生活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做生活的有心人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才能在平淡的生活中发现情趣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发现诗意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&gt;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在小小的咸鸭蛋里尝出生活的滋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悠然恬静之间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流露出的是对儿时生活的怀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对故乡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对生活的热爱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</a:rPr>
              <a:t>我们要如汪曾祺老人一样，在平淡的生活中，在琐事、微物中学会发现情趣 ，发现诗意，尝出生活的滋味。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矩形 108546"/>
          <p:cNvSpPr/>
          <p:nvPr/>
        </p:nvSpPr>
        <p:spPr>
          <a:xfrm>
            <a:off x="4149360" y="5576760"/>
            <a:ext cx="74016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做一个热爱生活的人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中山也有很多美味而颇具特色的食物、民俗风俗，你能列举出一两种吗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图片 84993" descr="gh08"/>
          <p:cNvPicPr/>
          <p:nvPr/>
        </p:nvPicPr>
        <p:blipFill>
          <a:blip r:embed="rId1"/>
          <a:stretch/>
        </p:blipFill>
        <p:spPr>
          <a:xfrm>
            <a:off x="3492360" y="189000"/>
            <a:ext cx="5434200" cy="6669000"/>
          </a:xfrm>
          <a:prstGeom prst="rect">
            <a:avLst/>
          </a:prstGeom>
          <a:ln w="0">
            <a:noFill/>
          </a:ln>
        </p:spPr>
      </p:pic>
      <p:sp>
        <p:nvSpPr>
          <p:cNvPr id="506" name="文本框 84994"/>
          <p:cNvSpPr/>
          <p:nvPr/>
        </p:nvSpPr>
        <p:spPr>
          <a:xfrm>
            <a:off x="77040" y="909720"/>
            <a:ext cx="21913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端午的鸭蛋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文本框 84995"/>
          <p:cNvSpPr/>
          <p:nvPr/>
        </p:nvSpPr>
        <p:spPr>
          <a:xfrm>
            <a:off x="1804320" y="321300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汪曾祺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图片 84996" descr="14781_200806061155541Tnm5"/>
          <p:cNvPicPr/>
          <p:nvPr/>
        </p:nvPicPr>
        <p:blipFill>
          <a:blip r:embed="rId2"/>
          <a:stretch/>
        </p:blipFill>
        <p:spPr>
          <a:xfrm>
            <a:off x="0" y="5450040"/>
            <a:ext cx="1511280" cy="140796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84997" descr="边线"/>
          <p:cNvPicPr/>
          <p:nvPr/>
        </p:nvPicPr>
        <p:blipFill>
          <a:blip r:embed="rId3"/>
          <a:stretch/>
        </p:blipFill>
        <p:spPr>
          <a:xfrm>
            <a:off x="0" y="0"/>
            <a:ext cx="1116000" cy="4724280"/>
          </a:xfrm>
          <a:prstGeom prst="rect">
            <a:avLst/>
          </a:prstGeom>
          <a:ln w="0">
            <a:noFill/>
          </a:ln>
        </p:spPr>
      </p:pic>
      <p:sp>
        <p:nvSpPr>
          <p:cNvPr id="510" name="文本框 84998"/>
          <p:cNvSpPr/>
          <p:nvPr/>
        </p:nvSpPr>
        <p:spPr>
          <a:xfrm>
            <a:off x="-484920" y="0"/>
            <a:ext cx="139932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Garamond"/>
              </a:rPr>
              <a:t>（民俗散文）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62470" descr="中山特色美食文化代表 石岐乳鸽"/>
          <p:cNvPicPr/>
          <p:nvPr/>
        </p:nvPicPr>
        <p:blipFill>
          <a:blip r:embed="rId1"/>
          <a:stretch/>
        </p:blipFill>
        <p:spPr>
          <a:xfrm>
            <a:off x="4495680" y="2468520"/>
            <a:ext cx="4648320" cy="4389480"/>
          </a:xfrm>
          <a:prstGeom prst="rect">
            <a:avLst/>
          </a:prstGeom>
          <a:ln w="0">
            <a:noFill/>
          </a:ln>
        </p:spPr>
      </p:pic>
      <p:sp>
        <p:nvSpPr>
          <p:cNvPr id="641" name="矩形 6247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矩形 6247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矩形 6247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4" name="图片 62478" descr="1138318723483717"/>
          <p:cNvPicPr/>
          <p:nvPr/>
        </p:nvPicPr>
        <p:blipFill>
          <a:blip r:embed="rId2"/>
          <a:stretch/>
        </p:blipFill>
        <p:spPr>
          <a:xfrm>
            <a:off x="3619440" y="152280"/>
            <a:ext cx="5524560" cy="3664080"/>
          </a:xfrm>
          <a:prstGeom prst="rect">
            <a:avLst/>
          </a:prstGeom>
          <a:ln w="0">
            <a:noFill/>
          </a:ln>
        </p:spPr>
      </p:pic>
      <p:sp>
        <p:nvSpPr>
          <p:cNvPr id="645" name="矩形 6248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6" name="图片 62482" descr="20080323_49dac757c49ed6b5adb4WQbqcSAB6uU7"/>
          <p:cNvPicPr/>
          <p:nvPr/>
        </p:nvPicPr>
        <p:blipFill>
          <a:blip r:embed="rId3"/>
          <a:stretch/>
        </p:blipFill>
        <p:spPr>
          <a:xfrm>
            <a:off x="0" y="152280"/>
            <a:ext cx="6095880" cy="449604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62484" descr="1536155c56ggwn9wpzw5zw"/>
          <p:cNvPicPr/>
          <p:nvPr/>
        </p:nvPicPr>
        <p:blipFill>
          <a:blip r:embed="rId4"/>
          <a:stretch/>
        </p:blipFill>
        <p:spPr>
          <a:xfrm>
            <a:off x="0" y="2743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62487" descr="121957n5xdkf7pd7ks7bph"/>
          <p:cNvPicPr/>
          <p:nvPr/>
        </p:nvPicPr>
        <p:blipFill>
          <a:blip r:embed="rId5"/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62489" descr="quanjing"/>
          <p:cNvPicPr/>
          <p:nvPr/>
        </p:nvPicPr>
        <p:blipFill>
          <a:blip r:embed="rId6"/>
          <a:stretch/>
        </p:blipFill>
        <p:spPr>
          <a:xfrm>
            <a:off x="2000160" y="228600"/>
            <a:ext cx="7143840" cy="42480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62491" descr="U530P4T8D5300643F107DT20130918160945"/>
          <p:cNvPicPr/>
          <p:nvPr/>
        </p:nvPicPr>
        <p:blipFill>
          <a:blip r:embed="rId7"/>
          <a:stretch/>
        </p:blipFill>
        <p:spPr>
          <a:xfrm>
            <a:off x="0" y="1790640"/>
            <a:ext cx="3809880" cy="50673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62493" descr="o201106081658163656"/>
          <p:cNvPicPr/>
          <p:nvPr/>
        </p:nvPicPr>
        <p:blipFill>
          <a:blip r:embed="rId8"/>
          <a:stretch/>
        </p:blipFill>
        <p:spPr>
          <a:xfrm>
            <a:off x="2209680" y="1828800"/>
            <a:ext cx="4762800" cy="3162240"/>
          </a:xfrm>
          <a:prstGeom prst="rect">
            <a:avLst/>
          </a:prstGeom>
          <a:ln w="0">
            <a:noFill/>
          </a:ln>
        </p:spPr>
      </p:pic>
      <p:sp>
        <p:nvSpPr>
          <p:cNvPr id="652" name="文本框 62494"/>
          <p:cNvSpPr/>
          <p:nvPr/>
        </p:nvSpPr>
        <p:spPr>
          <a:xfrm>
            <a:off x="228600" y="0"/>
            <a:ext cx="8915400" cy="398880"/>
          </a:xfrm>
          <a:prstGeom prst="rect">
            <a:avLst/>
          </a:prstGeom>
          <a:solidFill>
            <a:srgbClr val="e7f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吃，不仅是在吃味道，更是在吃出一种文化，一种风俗，吃出一种幸福滋味，吃出对亲人对家乡的怀想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55" name="图片 65540" descr="a1f94721ba22e5b5e28596e8d5e36754"/>
          <p:cNvPicPr/>
          <p:nvPr/>
        </p:nvPicPr>
        <p:blipFill>
          <a:blip r:embed="rId1"/>
          <a:stretch/>
        </p:blipFill>
        <p:spPr>
          <a:xfrm>
            <a:off x="335268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65542" descr="2008101716422622"/>
          <p:cNvPicPr/>
          <p:nvPr/>
        </p:nvPicPr>
        <p:blipFill>
          <a:blip r:embed="rId2"/>
          <a:stretch/>
        </p:blipFill>
        <p:spPr>
          <a:xfrm>
            <a:off x="3581280" y="0"/>
            <a:ext cx="4876920" cy="3051000"/>
          </a:xfrm>
          <a:prstGeom prst="rect">
            <a:avLst/>
          </a:prstGeom>
          <a:ln w="0">
            <a:noFill/>
          </a:ln>
        </p:spPr>
      </p:pic>
      <p:sp>
        <p:nvSpPr>
          <p:cNvPr id="657" name="文本框 65543"/>
          <p:cNvSpPr/>
          <p:nvPr/>
        </p:nvSpPr>
        <p:spPr>
          <a:xfrm>
            <a:off x="839880" y="36576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Garamond"/>
              </a:rPr>
              <a:t>沙溪龙狮鹤凤舞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8" name="文本框 65545"/>
          <p:cNvSpPr/>
          <p:nvPr/>
        </p:nvSpPr>
        <p:spPr>
          <a:xfrm>
            <a:off x="839880" y="36385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Garamond"/>
              </a:rPr>
              <a:t>沙溪龙狮鹤凤舞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59" name="图片 65568" descr="aa9cb326a0d616a7"/>
          <p:cNvPicPr/>
          <p:nvPr/>
        </p:nvPicPr>
        <p:blipFill>
          <a:blip r:embed="rId3"/>
          <a:stretch/>
        </p:blipFill>
        <p:spPr>
          <a:xfrm>
            <a:off x="243828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65564" descr="2008111317300033"/>
          <p:cNvPicPr/>
          <p:nvPr/>
        </p:nvPicPr>
        <p:blipFill>
          <a:blip r:embed="rId4"/>
          <a:stretch/>
        </p:blipFill>
        <p:spPr>
          <a:xfrm>
            <a:off x="0" y="2711520"/>
            <a:ext cx="9144000" cy="414648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65570" descr="e02e8082aff5c4a4b34fc297bca7aaaf-175-175_m"/>
          <p:cNvPicPr/>
          <p:nvPr/>
        </p:nvPicPr>
        <p:blipFill>
          <a:blip r:embed="rId5"/>
          <a:stretch/>
        </p:blipFill>
        <p:spPr>
          <a:xfrm>
            <a:off x="4686480" y="0"/>
            <a:ext cx="4457520" cy="258120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65566" descr="33"/>
          <p:cNvPicPr/>
          <p:nvPr/>
        </p:nvPicPr>
        <p:blipFill>
          <a:blip r:embed="rId6"/>
          <a:stretch/>
        </p:blipFill>
        <p:spPr>
          <a:xfrm>
            <a:off x="-228600" y="152280"/>
            <a:ext cx="28098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663" name="组合 65584"/>
          <p:cNvGrpSpPr/>
          <p:nvPr/>
        </p:nvGrpSpPr>
        <p:grpSpPr>
          <a:xfrm>
            <a:off x="0" y="-152280"/>
            <a:ext cx="9144000" cy="6858000"/>
            <a:chOff x="0" y="-152280"/>
            <a:chExt cx="9144000" cy="6858000"/>
          </a:xfrm>
        </p:grpSpPr>
        <p:pic>
          <p:nvPicPr>
            <p:cNvPr id="664" name="图片 65585" descr="20100708094952432"/>
            <p:cNvPicPr/>
            <p:nvPr/>
          </p:nvPicPr>
          <p:blipFill>
            <a:blip r:embed="rId7"/>
            <a:stretch/>
          </p:blipFill>
          <p:spPr>
            <a:xfrm>
              <a:off x="2895480" y="-152280"/>
              <a:ext cx="6248520" cy="411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组合 65586"/>
            <p:cNvGrpSpPr/>
            <p:nvPr/>
          </p:nvGrpSpPr>
          <p:grpSpPr>
            <a:xfrm>
              <a:off x="0" y="2514600"/>
              <a:ext cx="5389560" cy="4191120"/>
              <a:chOff x="0" y="2514600"/>
              <a:chExt cx="5389560" cy="4191120"/>
            </a:xfrm>
          </p:grpSpPr>
          <p:pic>
            <p:nvPicPr>
              <p:cNvPr id="666" name="图片 65587" descr="1134954897390181"/>
              <p:cNvPicPr/>
              <p:nvPr/>
            </p:nvPicPr>
            <p:blipFill>
              <a:blip r:embed="rId8"/>
              <a:stretch/>
            </p:blipFill>
            <p:spPr>
              <a:xfrm>
                <a:off x="0" y="2514600"/>
                <a:ext cx="5257080" cy="41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矩形 65588"/>
              <p:cNvSpPr/>
              <p:nvPr/>
            </p:nvSpPr>
            <p:spPr>
              <a:xfrm>
                <a:off x="4245840" y="2525400"/>
                <a:ext cx="1143720" cy="546120"/>
              </a:xfrm>
              <a:prstGeom prst="rect">
                <a:avLst/>
              </a:prstGeom>
              <a:solidFill>
                <a:srgbClr val="f1f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88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Garamond"/>
                  </a:rPr>
                  <a:t>黄圃飘色 </a:t>
                </a:r>
                <a:endParaRPr b="0" lang="en-US" sz="30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4"/>
          <p:cNvSpPr/>
          <p:nvPr/>
        </p:nvSpPr>
        <p:spPr>
          <a:xfrm>
            <a:off x="228600" y="990720"/>
            <a:ext cx="89154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请选取最能表现中山特色的一种风俗或是一种食物，写出你对中山的爱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可以模仿课文第一段的写法，以“中山……，很多风俗和外地一样……”为开头写一段话介绍中山风俗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也可以模仿文中你最喜爱的一个句式，写一段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味道中山  解说词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写出平淡食物中不平常的味道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8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500" spc="-1" strike="noStrike">
                <a:solidFill>
                  <a:srgbClr val="000000"/>
                </a:solidFill>
                <a:latin typeface="Garamond"/>
                <a:ea typeface="宋体"/>
              </a:rPr>
              <a:t>字左右。小组内展示后，推荐优秀作品全班展示。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9" name="Rectangle 2"/>
          <p:cNvSpPr/>
          <p:nvPr/>
        </p:nvSpPr>
        <p:spPr>
          <a:xfrm>
            <a:off x="-152280" y="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cc"/>
                </a:solidFill>
                <a:latin typeface="Garamond"/>
              </a:rPr>
              <a:t>四、小练笔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本周练笔：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请把堂上小练笔扩写成一篇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字以上的作文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味道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，让我们一起分享你的甜蜜幸福的滋味。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Garamond"/>
              </a:rPr>
              <a:t>拓展延伸</a:t>
            </a:r>
            <a:endParaRPr b="0" lang="en-US" sz="60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Garamond"/>
              </a:rPr>
              <a:t>韩国申报端午节为文化遗产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　　“江陵端午祭”是韩国农耕社会时期祈求丰年，民众共同参与的传统祝祭活动。在进行端午祭时，会举行假面舞剧、投壶、摔跤、荡秋千、长跪比赛、跆拳道比赛、高校足球赛等活动，而这些都是具有韩国地方特色的。每年吸引国内外百万人次参与和观光，韩国方面对江陵端午祭非常重视，１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６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年将其列入国家重点无形文化财产第１３号，并于２００５年向联合国科教文组织申报“世界无形遗产”，且取得成功。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"/>
          <p:cNvSpPr/>
          <p:nvPr/>
        </p:nvSpPr>
        <p:spPr>
          <a:xfrm>
            <a:off x="38088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Garamond"/>
              </a:rPr>
              <a:t>我们该怎么办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5" name="WordArt 6"/>
          <p:cNvSpPr txBox="1"/>
          <p:nvPr/>
        </p:nvSpPr>
        <p:spPr>
          <a:xfrm>
            <a:off x="6400800" y="685800"/>
            <a:ext cx="1828800" cy="32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Garamond"/>
                <a:ea typeface="华文彩云"/>
              </a:rPr>
              <a:t>中国的传统节日</a:t>
            </a:r>
            <a:endParaRPr b="0" lang="en-US" sz="48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195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春节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元宵节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清明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端午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七夕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中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重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冬至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63222"/>
                </a:solidFill>
                <a:latin typeface="Garamond"/>
                <a:ea typeface="黑体"/>
              </a:rPr>
              <a:t>腊八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249800" y="1870200"/>
            <a:ext cx="793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7810560" y="1844640"/>
            <a:ext cx="793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0" name="Picture 7" descr="zhu2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56000" y="1125360"/>
            <a:ext cx="3079800" cy="554544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0"/>
          <p:cNvSpPr/>
          <p:nvPr/>
        </p:nvSpPr>
        <p:spPr>
          <a:xfrm>
            <a:off x="5533200" y="836640"/>
            <a:ext cx="29235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保护中国节，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保护中国文化！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104449"/>
          <p:cNvSpPr/>
          <p:nvPr/>
        </p:nvSpPr>
        <p:spPr>
          <a:xfrm>
            <a:off x="0" y="838080"/>
            <a:ext cx="89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民俗是我们和中国文化联系的血脉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宋体"/>
              </a:rPr>
              <a:t>没有集成和积淀的民族是没有根的民族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保   护   民   俗！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佳作欣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文本框 78852"/>
          <p:cNvSpPr/>
          <p:nvPr/>
        </p:nvSpPr>
        <p:spPr>
          <a:xfrm>
            <a:off x="0" y="0"/>
            <a:ext cx="91598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故乡的端午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清晨推窗，扑面而来一股青青的草叶馨香，空气中流淌着淡淡的艾草味，还有粽子的香味儿！又是一年端午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家乡有一种传说，端午这天，用黎明前采下带着露珠的车前草加水炖鸡蛋，吃完鸡蛋，再喝尽汤，肠胃不容易生病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   端午这一天，还要到山中采山艾，据说能避邪祛病。插一把在门边、窗缝，先把蚊子、苍蝇熏个晕头转向，怎么传播疾病？姥姥总在这天缝一个艳艳的荷包给我，那种像小耳朵一样的小布袋，里面装了山艾和朱砂。挂在脖子上，能保佑孩子平安健康。还要用山艾煎汤擦身，说这样就不怕蚊虫叮咬，不生疖子疮包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在端午，最费心思的还是粽子。妈妈总是在端午的前一天就开始动手：先要把买来的芦苇叶和我们到山里采来的菠萝叶，用温水泡在大盆里，再把糯米和香米洗净淘好，要泡上一天才行。到下午吃过晚饭，就开始包粽子了。先把馅心摆好，然后用各色的线缠绕。苇叶粽子有三个角、四个角、八个角的，菠萝叶都包成两个抱在一起的长方形。满满一大锅五颜六色、形态各异的粽子排排好，然后上面压一层笼屉，笼屉里放满鸡蛋，水要漫过鸡蛋，再盖好锅盖，放到文火上煮。要这样慢慢慢慢地煮一夜，中间妈妈总还起来添一次水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早晨从林中回来，一进家门，先深深地吸一口气，啊，香味都窜出来了！我们围在锅边，看妈妈打开锅盖。一下子，屋里满是苇叶和菠萝叶的香味，白白的、浓浓的。吃一个粽子，喝一口妈妈炖好的车前草鸡蛋汤，闻着撞来撞去的艾草的香气。啊，端午真好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 离开了家，端午节不再那么繁琐和细腻。但是，只要清晨有朋友和亲戚提了热热的粽子和温乎乎的鸡蛋来，或者有人轻轻地递过一个小耳朵一样的荷包，所有的心情就全成了一种热热切切想哭的感觉，很柔软很温暖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     那暖暖甜甜的粽子香，那四处流淌的艾草味，那浓浓的情意和绵绵的牵挂，无论身在何方，年年端午，又让人品味起故土家园的温馨和美。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-528480" y="457560"/>
            <a:ext cx="100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谜语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三角四楞长，珍珠肚里藏，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要吃珍珠肉，解带扒衣裳。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Garamond"/>
              </a:rPr>
              <a:t>（猜一物）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2" name="Picture 2" descr="c791c6cb7a3ce23dbe09e69c"/>
          <p:cNvPicPr/>
          <p:nvPr/>
        </p:nvPicPr>
        <p:blipFill>
          <a:blip r:embed="rId1"/>
          <a:stretch/>
        </p:blipFill>
        <p:spPr>
          <a:xfrm>
            <a:off x="838080" y="3505320"/>
            <a:ext cx="69868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文本框 82945"/>
          <p:cNvSpPr/>
          <p:nvPr/>
        </p:nvSpPr>
        <p:spPr>
          <a:xfrm>
            <a:off x="0" y="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端午的味道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超市里琳琅满目的粽子让我看得眼花缭乱，各种各样的味道一应俱全，有绿茶味的，腊肉味的，红枣味的，甚至还有鲍鱼味的、燕窝味的，连包装袋也是五颜六色的，我突然想起，原来今天是端午节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       记忆的河，慢慢开始春潮涌动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      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六年前，奶奶来到我们家小住了几个星期。她准备要回肇庆老家时，正值端午节，妈妈执意留她过完端午节再走。奶奶说她从小就会包粽子，是跟她的妈妈学的。肇庆的裹蒸粽特别有名，奶奶说在她回老家之前一定要亲自包一回粽子给我们吃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奶奶在距离端午节还有三天时就开始准备材料了。她买了很大的艾叶，告诉我，裹蒸粽比一般的粽子大，所以要用大的粽叶来包。她还准备了糯米、黄豆、猪肉、咸蛋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    “糯米要泡一天一夜，包好煮后才好吃，细而滑，不会有夹生的感觉。”奶奶告诉我，我还记得她把黄豆也泡了很长的时间，然后再用开水煮一遍，晾晾，这样就好去皮。先把猪肉切成小块，然后用奶奶自制的蜜汁浇上去，腌上一天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我问奶奶：“包粽子这么麻烦，为什么不上超市买几个回来吃呢？“奶奶神秘地笑了笑，也不告诉我为什么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    终于要包粽子了，奶奶忙啊忙，也不让我帮忙。后来包好了，奶奶就举着她包好的又大又方的粽子看着我笑：“小馋鬼，煮好就能吃了！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文本框 8192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            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端午的味道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     </a:t>
            </a: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过了两三个小时，香喷喷的粽子就端了上来，奶奶把粽子分给我和爸爸妈妈，一人一个，放在一个盘子里，神秘地对我们说：“我把一块玉如意放在了粽子里， 谁吃到了就能一生如意平安，事事顺利，快快乐乐！”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我和爸爸妈妈互相看了几眼，都想看的看那块如意的样子，于是迫不及待切开了自己的那个粽子。爸爸妈妈的粽子里都只有猪肉和咸蛋，他们的目光便齐刷刷地望向了我。毫无疑问，玉如意在我的粽子里。我把它拿出来，哇，一块淡绿色的玉，晶莹剔透，真漂亮！我开心地蹦了起来，觉得这一生便会事事如意、顺利了！这时，我看见奶奶用她那慈祥的目光看着我，满脸爱意，她笑开了花，脸上细细的皱纹幸福地荡漾开来。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   奶奶终于还是回老家了。玉如意从此挂在我胸前，爸爸告诉我，那玉如意是奶奶故意给我的。原来，奶奶在粽子叶上做了个记号，只有她才知道哪个粽子放了玉如意，奶奶是希望我快乐，事事如意呀！</a:t>
            </a:r>
            <a:br>
              <a:rPr sz="2200"/>
            </a:br>
            <a:r>
              <a:rPr b="1" lang="zh-CN" sz="2200" spc="-1" strike="noStrike">
                <a:solidFill>
                  <a:srgbClr val="000000"/>
                </a:solidFill>
                <a:latin typeface="Garamond"/>
              </a:rPr>
              <a:t>       现在我才懂得，那小小的粽子里寄托了奶奶对我全部的爱。细滑的糯米，咸香的蛋黄，细腻的猪肉，还有那淡绿的玉如意，便是端午的味道。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3"/>
          <p:cNvSpPr/>
          <p:nvPr/>
        </p:nvSpPr>
        <p:spPr>
          <a:xfrm>
            <a:off x="106200" y="1066680"/>
            <a:ext cx="9037800" cy="29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cc"/>
                </a:solidFill>
                <a:latin typeface="仿宋"/>
                <a:ea typeface="仿宋"/>
              </a:rPr>
              <a:t>    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端午亦称</a:t>
            </a:r>
            <a:r>
              <a:rPr b="1" lang="zh-CN" sz="3400" spc="-1" strike="noStrike">
                <a:solidFill>
                  <a:srgbClr val="a50021"/>
                </a:solidFill>
                <a:latin typeface="仿宋"/>
                <a:ea typeface="仿宋"/>
              </a:rPr>
              <a:t>端五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，“端”的意和“初”相同，称“端五” 如称“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初五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”；端五的“五”字又与“午”相通，又因午时为“阳辰”，所以端五也叫“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端阳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”。五月五日，两个五，故称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重五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。还有许多别称，如：</a:t>
            </a:r>
            <a:r>
              <a:rPr b="1" lang="zh-CN" sz="3400" spc="-1" strike="noStrike">
                <a:solidFill>
                  <a:srgbClr val="ff0000"/>
                </a:solidFill>
                <a:latin typeface="仿宋"/>
                <a:ea typeface="仿宋"/>
              </a:rPr>
              <a:t>夏节、浴兰节、女儿节，天中节、地腊、诗人节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等等。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    </a:t>
            </a:r>
            <a:r>
              <a:rPr b="1" lang="zh-CN" sz="3400" spc="-1" strike="noStrike">
                <a:solidFill>
                  <a:srgbClr val="0066cc"/>
                </a:solidFill>
                <a:latin typeface="仿宋"/>
                <a:ea typeface="仿宋"/>
              </a:rPr>
              <a:t>关于端午节的来源，有纪念屈原说；越民族图腾祭说；起于三代夏至节说；恶月恶日驱避说等。  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998720" y="304920"/>
            <a:ext cx="4800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66cc"/>
                </a:solidFill>
                <a:latin typeface="Verdana"/>
                <a:ea typeface="华文彩云"/>
              </a:rPr>
              <a:t>了解端午节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4"/>
          <p:cNvSpPr/>
          <p:nvPr/>
        </p:nvSpPr>
        <p:spPr>
          <a:xfrm>
            <a:off x="0" y="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和端午</a:t>
            </a: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       张耒</a:t>
            </a: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</a:t>
            </a:r>
            <a:br>
              <a:rPr sz="4000"/>
            </a:b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竞渡深悲千载冤，</a:t>
            </a:r>
            <a:br>
              <a:rPr sz="4000"/>
            </a:b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忠魂一去讵能还。</a:t>
            </a: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国亡身殒今何有，</a:t>
            </a:r>
            <a:br>
              <a:rPr sz="4000"/>
            </a:br>
            <a:r>
              <a:rPr b="1" lang="zh-CN" sz="4000" spc="-1" strike="noStrike">
                <a:solidFill>
                  <a:srgbClr val="0066cc"/>
                </a:solidFill>
                <a:latin typeface="Garamond"/>
                <a:ea typeface="黑体"/>
              </a:rPr>
              <a:t>  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只留</a:t>
            </a:r>
            <a:r>
              <a:rPr b="1" lang="en-US" sz="4000" spc="-1" strike="noStrike">
                <a:solidFill>
                  <a:srgbClr val="0066cc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离骚</a:t>
            </a:r>
            <a:r>
              <a:rPr b="1" lang="en-US" sz="4000" spc="-1" strike="noStrike">
                <a:solidFill>
                  <a:srgbClr val="0066cc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在世间。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6" name="Picture 5" descr="b0742dfa6973163fa9d3113f"/>
          <p:cNvPicPr/>
          <p:nvPr/>
        </p:nvPicPr>
        <p:blipFill>
          <a:blip r:embed="rId1"/>
          <a:stretch/>
        </p:blipFill>
        <p:spPr>
          <a:xfrm>
            <a:off x="5181480" y="3200400"/>
            <a:ext cx="2738520" cy="3505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"/>
          <p:cNvSpPr/>
          <p:nvPr/>
        </p:nvSpPr>
        <p:spPr>
          <a:xfrm>
            <a:off x="7166880" y="3200400"/>
            <a:ext cx="789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Garamond"/>
                <a:ea typeface="宋体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7744680" y="380880"/>
            <a:ext cx="13993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宋体"/>
              </a:rPr>
              <a:t>路漫漫其修远兮，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宋体"/>
              </a:rPr>
              <a:t>吾将上下而求索。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8991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Garamond"/>
              </a:rPr>
              <a:t>除了吃粽子外，你知道端午节还有哪些习俗呢？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Garamond"/>
              </a:rPr>
              <a:t>了解端午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pic>
        <p:nvPicPr>
          <p:cNvPr id="521" name="图片 73733" descr="20080607020929_new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Garamond"/>
              </a:rPr>
              <a:t>检查预习，字词通关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１、给下列加横线字注音：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门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楣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 ）　 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苋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菜（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）　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籍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贯（       ）　 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硝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药（       ）</a:t>
            </a:r>
            <a:br>
              <a:rPr sz="3800"/>
            </a:b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腌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腊（       ）　 </a:t>
            </a:r>
            <a:r>
              <a:rPr b="1" lang="zh-CN" sz="3800" spc="-1" strike="noStrike" u="sng">
                <a:solidFill>
                  <a:srgbClr val="ff0000"/>
                </a:solidFill>
                <a:uFillTx/>
                <a:latin typeface="Garamond"/>
              </a:rPr>
              <a:t>络</a:t>
            </a:r>
            <a:r>
              <a:rPr b="1" lang="zh-CN" sz="3800" spc="-1" strike="noStrike">
                <a:solidFill>
                  <a:srgbClr val="ff0000"/>
                </a:solidFill>
                <a:latin typeface="Garamond"/>
              </a:rPr>
              <a:t>子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）　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大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襟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 ）　车</a:t>
            </a:r>
            <a:r>
              <a:rPr b="1" lang="zh-CN" sz="3800" spc="-1" strike="noStrike" u="sng">
                <a:solidFill>
                  <a:srgbClr val="000000"/>
                </a:solidFill>
                <a:uFillTx/>
                <a:latin typeface="Garamond"/>
              </a:rPr>
              <a:t>胤</a:t>
            </a: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（       ）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文本框 60419"/>
          <p:cNvSpPr/>
          <p:nvPr/>
        </p:nvSpPr>
        <p:spPr>
          <a:xfrm>
            <a:off x="1904040" y="1981080"/>
            <a:ext cx="11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méi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文本框 60420"/>
          <p:cNvSpPr/>
          <p:nvPr/>
        </p:nvSpPr>
        <p:spPr>
          <a:xfrm>
            <a:off x="5146200" y="1981080"/>
            <a:ext cx="13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xià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6" name="文本框 60421"/>
          <p:cNvSpPr/>
          <p:nvPr/>
        </p:nvSpPr>
        <p:spPr>
          <a:xfrm>
            <a:off x="2057400" y="2590920"/>
            <a:ext cx="45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jí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文本框 60422"/>
          <p:cNvSpPr/>
          <p:nvPr/>
        </p:nvSpPr>
        <p:spPr>
          <a:xfrm>
            <a:off x="5227200" y="2590920"/>
            <a:ext cx="12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方正姚体"/>
                <a:ea typeface="方正姚体"/>
              </a:rPr>
              <a:t>xiāo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文本框 60423"/>
          <p:cNvSpPr/>
          <p:nvPr/>
        </p:nvSpPr>
        <p:spPr>
          <a:xfrm>
            <a:off x="1735560" y="320040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方正姚体"/>
                <a:ea typeface="方正姚体"/>
              </a:rPr>
              <a:t>yā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文本框 60424"/>
          <p:cNvSpPr/>
          <p:nvPr/>
        </p:nvSpPr>
        <p:spPr>
          <a:xfrm>
            <a:off x="5259600" y="3124080"/>
            <a:ext cx="9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lào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0" name="文本框 60425"/>
          <p:cNvSpPr/>
          <p:nvPr/>
        </p:nvSpPr>
        <p:spPr>
          <a:xfrm>
            <a:off x="1974960" y="373392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方正姚体"/>
                <a:ea typeface="方正姚体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文本框 60426"/>
          <p:cNvSpPr/>
          <p:nvPr/>
        </p:nvSpPr>
        <p:spPr>
          <a:xfrm>
            <a:off x="5261400" y="3733920"/>
            <a:ext cx="9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Garamond"/>
              </a:rPr>
              <a:t>yì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32" name="组合 60433"/>
          <p:cNvGrpSpPr/>
          <p:nvPr/>
        </p:nvGrpSpPr>
        <p:grpSpPr>
          <a:xfrm>
            <a:off x="380880" y="4419720"/>
            <a:ext cx="8153640" cy="2438280"/>
            <a:chOff x="380880" y="4419720"/>
            <a:chExt cx="8153640" cy="2438280"/>
          </a:xfrm>
        </p:grpSpPr>
        <p:pic>
          <p:nvPicPr>
            <p:cNvPr id="533" name="Picture 4" descr="color-egg2"/>
            <p:cNvPicPr/>
            <p:nvPr/>
          </p:nvPicPr>
          <p:blipFill>
            <a:blip r:embed="rId1"/>
            <a:stretch/>
          </p:blipFill>
          <p:spPr>
            <a:xfrm>
              <a:off x="380880" y="4419720"/>
              <a:ext cx="2301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矩形 60432"/>
            <p:cNvSpPr/>
            <p:nvPr/>
          </p:nvSpPr>
          <p:spPr>
            <a:xfrm>
              <a:off x="2895480" y="5257800"/>
              <a:ext cx="5639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Garamond"/>
                </a:rPr>
                <a:t>依照所装的物件的形状</a:t>
              </a:r>
              <a:r>
                <a:rPr b="1" lang="en-US" sz="2500" spc="-1" strike="noStrike">
                  <a:solidFill>
                    <a:srgbClr val="000000"/>
                  </a:solidFill>
                  <a:latin typeface="Garamond"/>
                </a:rPr>
                <a:t>,</a:t>
              </a:r>
              <a:r>
                <a:rPr b="1" lang="zh-CN" sz="2500" spc="-1" strike="noStrike">
                  <a:solidFill>
                    <a:srgbClr val="000000"/>
                  </a:solidFill>
                  <a:latin typeface="Garamond"/>
                </a:rPr>
                <a:t>用线结成的网状的小袋子</a:t>
              </a:r>
              <a:r>
                <a:rPr b="1" lang="en-US" sz="25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Garamond"/>
              </a:rPr>
              <a:t>检查预习，字词通关</a:t>
            </a:r>
            <a:endParaRPr b="0" lang="en-US" sz="4400" spc="-1" strike="noStrike">
              <a:solidFill>
                <a:srgbClr val="e40000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２、结合语境解释下列加横线的词语：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上面用朱笔画些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莫名其妙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的道道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曾经沧海难为水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，他乡咸鸭蛋，我实在瞧不上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但是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腌蛋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》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这一条我看后却觉得很亲切，而且，</a:t>
            </a:r>
            <a:r>
              <a:rPr b="1" lang="zh-CN" sz="2500" spc="-1" strike="noStrike">
                <a:solidFill>
                  <a:srgbClr val="a50021"/>
                </a:solidFill>
                <a:latin typeface="Garamond"/>
              </a:rPr>
              <a:t>“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与有荣焉</a:t>
            </a:r>
            <a:r>
              <a:rPr b="1" lang="zh-CN" sz="2500" spc="-1" strike="noStrike">
                <a:solidFill>
                  <a:srgbClr val="a50021"/>
                </a:solidFill>
                <a:latin typeface="Garamond"/>
              </a:rPr>
              <a:t>”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）每逢有人问起我的籍贯，回答之后，对方就会</a:t>
            </a:r>
            <a:r>
              <a:rPr b="1" lang="zh-CN" sz="2500" spc="-1" strike="noStrike" u="sng">
                <a:solidFill>
                  <a:srgbClr val="a50021"/>
                </a:solidFill>
                <a:uFillTx/>
                <a:latin typeface="Garamond"/>
              </a:rPr>
              <a:t>肃然起敬</a:t>
            </a:r>
            <a:r>
              <a:rPr b="1" lang="zh-CN" sz="2500" spc="-1" strike="noStrike">
                <a:solidFill>
                  <a:srgbClr val="000000"/>
                </a:solidFill>
                <a:latin typeface="Garamond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文本框 61451"/>
          <p:cNvSpPr/>
          <p:nvPr/>
        </p:nvSpPr>
        <p:spPr>
          <a:xfrm>
            <a:off x="5558760" y="18288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令人看不懂、说不出其中妙处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文本框 61452"/>
          <p:cNvSpPr/>
          <p:nvPr/>
        </p:nvSpPr>
        <p:spPr>
          <a:xfrm>
            <a:off x="453744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句中指见过家乡鸭蛋，对别处的鸭蛋就难以看上眼了。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文本框 61453"/>
          <p:cNvSpPr/>
          <p:nvPr/>
        </p:nvSpPr>
        <p:spPr>
          <a:xfrm>
            <a:off x="2782440" y="4267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因而也感到荣幸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文本框 61454"/>
          <p:cNvSpPr/>
          <p:nvPr/>
        </p:nvSpPr>
        <p:spPr>
          <a:xfrm>
            <a:off x="3892320" y="5715000"/>
            <a:ext cx="7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（产生严肃敬仰的感情。</a:t>
            </a: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1"/>
          <p:cNvSpPr/>
          <p:nvPr/>
        </p:nvSpPr>
        <p:spPr>
          <a:xfrm>
            <a:off x="0" y="45241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920</a:t>
            </a: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997</a:t>
            </a:r>
            <a:r>
              <a:rPr b="0" lang="zh-CN" sz="2800" spc="-1" strike="noStrike">
                <a:solidFill>
                  <a:srgbClr val="000000"/>
                </a:solidFill>
                <a:latin typeface="Garamond"/>
              </a:rPr>
              <a:t>）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江苏高邮人。中国当代作家、散文家、戏剧家、京派作家的代表人物。 小说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受戒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沙家浜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大淖记事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，散文集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《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蒲桥集</a:t>
            </a:r>
            <a:r>
              <a:rPr b="1" lang="en-US" sz="2800" spc="-1" strike="noStrike">
                <a:solidFill>
                  <a:srgbClr val="0066cc"/>
                </a:solidFill>
                <a:latin typeface="Garamond"/>
              </a:rPr>
              <a:t>》</a:t>
            </a:r>
            <a:r>
              <a:rPr b="1" lang="zh-CN" sz="2800" spc="-1" strike="noStrike">
                <a:solidFill>
                  <a:srgbClr val="0066cc"/>
                </a:solidFill>
                <a:latin typeface="Garamond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42" name="Picture 13" descr="200711071047465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314964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4"/>
          <p:cNvSpPr/>
          <p:nvPr/>
        </p:nvSpPr>
        <p:spPr>
          <a:xfrm>
            <a:off x="3733920" y="0"/>
            <a:ext cx="5410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Garamond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他的身上有一种文人雅士的闲适、恬淡和从容，被誉为是“中国最后一个士大夫” 。其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小说充满诗意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，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散文则着眼于闲情逸致。“小叙事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写凡人小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写油盐酱醋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写“一地鸡毛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他帮助人们发现就在自己身边的“凡人小事”之美。散文没有结构的苦心经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也不追求题旨的玄奥深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平淡质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娓娓道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如话家常。当代散文家黄裳评价：“</a:t>
            </a:r>
            <a:r>
              <a:rPr b="1" lang="zh-CN" sz="2800" spc="-1" strike="noStrike">
                <a:solidFill>
                  <a:srgbClr val="a50021"/>
                </a:solidFill>
                <a:latin typeface="Garamond"/>
              </a:rPr>
              <a:t>他的一切，都是诗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。 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1601640" y="5715000"/>
            <a:ext cx="519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1T08:21:46Z</dcterms:created>
  <dc:creator>Administrator</dc:creator>
  <dc:description/>
  <dc:language>en-US</dc:language>
  <cp:lastModifiedBy>Administrator</cp:lastModifiedBy>
  <dcterms:modified xsi:type="dcterms:W3CDTF">2016-06-01T08:22:13Z</dcterms:modified>
  <cp:revision>2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