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760FB8-78F7-4DB4-A895-C7A1795882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C4D17C-D1DC-4D34-B786-62FBA57699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C13A-6C54-42E6-9BBA-D2F34B1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83BC-0A67-4E6E-831E-4A6257F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25C3-F13F-4A02-BAB2-41FD03F3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559E0-B0B6-4C36-8B12-85A58C8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4F16-0FE2-4706-AE56-61233CA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49D8-470D-4429-9D9D-4EC50595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F15E-064D-4F6A-A582-D91BE3A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62BB0-FE01-408E-A4F6-50D71CF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916F-583A-48BF-B071-1BD48736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585C-B37B-4988-8288-D555B6A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AF150-9A92-4FC4-AE73-6F0612D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C4BF6-3C89-436D-A304-CD037D60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C8568-EA5F-4CAC-9B02-2CDA616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BBC6D-7EF7-459E-912A-E49E3B4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A83F8-98F9-4DC2-B833-D565B72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B81EC-78D2-4AC8-8C45-B66864E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8E7F-52E1-4A9A-9AA7-D67E7F05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F904-5448-4A17-B00A-7751D68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3946E-2F10-47D2-B4F9-4B55DD74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62D5-DB72-409F-9EA8-9345F8A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16018-1E89-4AC7-8C66-5AACBD3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6D53E-8901-43D3-9938-0F6EDBB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C933-64E8-412B-9D69-A788AF3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ACE81-8049-4248-947D-2EF8F51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1F910-D5F6-4E78-BC03-61A7E7C8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F2EB1-1B95-42AB-904A-E51F3B4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0D140-8626-44FE-A162-C41B7A8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0EEA2-BD76-48B8-A356-D81F745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DF892-B22F-4BED-8159-90D69E6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316B7-3D35-418B-B777-0C211912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BFE-BB5A-4A16-B794-674C8A01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A8D7C-1227-4FD2-8A01-08F6C7E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C8A0E-477E-4C6D-BC8C-30FAE6D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1BD8-2612-40AC-86E5-26D153AD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1DD20-6C94-4867-80AB-EB657350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D524-46BA-401B-A148-7C7EA2A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D25CA-F17D-42E6-82C2-9FC6AE9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CEDF7-E185-4E21-BF77-A8B6F848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06476-D654-41AC-BDB2-7C322EBB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66521-DDA9-4188-8CE5-7ED91FA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47DF-BAE6-4D9D-911C-7B0F89F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E5-8055-4C35-8454-FA8E74F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77AE-3B56-47BA-B5B1-D38C3FE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1A15E-E389-4DE4-AF50-96B30A3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2714-B6EF-4FC1-8420-7733EA1C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36553-A15D-4ABA-9AAB-75CD9291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93FBB-3681-4BA4-B536-68C401C8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CA63D-C049-4E5D-9FA7-210CF121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E9244-DE58-40E1-8F9F-67F3C45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99BAE-FC2D-4865-8EB8-470D9542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C347D-7D86-4E68-BC57-241E836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F6ADF-6A8E-483F-9A6D-09D3B4C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D21-4F4C-4AB4-89AD-49CC8EF9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83D10-DB22-4631-9BE8-C9E4351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25B61-9DF0-4466-A0F2-C87A769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F838-5B5D-4E66-BB93-210ACF8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D60FA-47D1-4571-AB9C-BFE0A33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1DC43-5907-4295-B138-2C4B3B7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DCAE9-9216-4E78-9273-9B6FC2F7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57A01-FB67-4637-BD36-6262336B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F89-A8EA-466F-B21B-E20D5F2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E81-45A7-48EE-B1DE-0E592A7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5AF-7F40-4C1C-A3FE-1D0275A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DB1-27B3-4B5B-9490-AB32943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DB9-9A53-4619-A117-110A5BA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56E-E816-4F83-AC24-50B05C4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CA7-C5CC-4921-BEC5-40E5187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3C0-7373-465E-A5BD-70C18A95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A32-6400-4324-A513-8526A9D0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EA7-A0F3-495D-B8B5-D215525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942-DC93-432A-BF62-40369BC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18A-6472-4EE3-AD6C-43EDED3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0D13-9A4C-4710-913D-1A8B821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314-5876-4110-A08D-17C781D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9BBD-EEEB-471B-A309-2E64649F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C72-BE86-4DC0-B532-F5961A9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1B7-4E7E-49C4-AF30-2A5F179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0FBA-C374-492C-9F6C-9BF1F9E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1B6-EB19-4A25-B86B-2C4A0A1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CC0-ECA5-4C63-889B-2A7B736C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DE6A-DAE3-41C1-9CAC-36F77DC8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515C-8995-4672-9379-FAC2C809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A82F-97D3-454C-B747-B7E65452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C04A-7B16-4A6F-98AE-F0F0A29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CC6E-19ED-45AE-95C0-9D2570D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8010-BAE8-4088-A356-559449F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B65C-DF06-44D3-A28D-54D074F1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5AF0-5D89-40E8-9698-9B325E5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9343-ADD0-4327-A6F8-65E50F0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E0B8-840C-4E71-BB39-CCFCD2D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5D1E-0A6D-4647-9FFF-78AB500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DF34-7E42-437A-A022-6129D26A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53BC-061E-49EF-9D99-3ADCFBD0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161F-B32E-47D7-B5FF-819E074C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2FE6-7ABE-4FB4-A21E-066453D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B596-3151-41BF-BB2C-C6FB3F66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A9DA-4AB5-44C6-8671-B78BFED7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B7BB-A815-4758-B5CC-EF3189C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A38B-71CD-40BE-B4FA-B412C81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B0A3-2A53-40B8-9345-30A5DA8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BFFE-5F70-4D1D-83F8-2652F05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F009-E931-4B3C-B269-F797EB6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C56A-93BC-4A3D-BFE9-443FB04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E24F-057C-457F-AC1F-3A285B35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4F45-6536-4B99-9523-E9AC8835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A632-5814-4D95-BC3D-88278F2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57CE-57FF-421F-9701-DBCB6B08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C329-ED5B-4410-81F4-122C212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3150A-0170-4786-BBF9-3CADAD3C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0235-0F96-4DE0-86A3-9A88CA96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A587-4A65-4307-A7A5-2B6BA520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1D13-B23F-443B-A9D9-4FCB4A8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EB52-BE53-4A52-9E08-5CBBBB2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63B9-E8C9-49F3-8F30-E5AA491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5F9A-E5E7-4FB6-8263-F8364D9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4F20-26D9-42D1-BCE5-EC3EACC0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BF3C-238D-48DD-B021-12CF8E4F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0185-8DCF-4125-AA4D-989DDE01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608B-C6DC-484C-8585-6DFA803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0166-8330-4511-A040-35AA9FB1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CC08-96AE-4F10-97E5-1D31685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7C76-DBB6-4389-BFCB-BE8B6BF4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182C-2775-491F-9F2C-DA60CF46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97A9-1F92-4AF1-8B0E-5B06FCB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7288-7A7C-40B6-AE94-95459479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1E68-DB70-427F-8C15-EDC7C2B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3C46-FBFE-4781-87C7-95DB2EB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9287-94DE-4E1E-B2CE-220CD1A9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7ED8-482E-4EAF-9B76-582A1852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D5E6-BA1C-4725-A827-32D784C0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4BCC-9E76-4267-BB30-511AC75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CC4B-8FBA-4BAB-A191-9932365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2D76-CECF-40CD-829C-B051B8ED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8BC3C-68E3-4A4F-AA67-6E18F0C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18BB-C64A-4B31-BE2C-A087D1FB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7D3B-2555-4539-B3F7-6DBCDCA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8AE5-C438-4570-9AF2-D2FB3B7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6A57-2F33-43C8-8DA3-30AA8AF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4E497-D588-40D5-9740-ADC2C7A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A939-D656-4B07-8DC1-36D3C13B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2660-E2F1-41B5-9B58-FBC7A257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3D755-CD99-4BB5-AFEE-631DA652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F01FD-9947-4A4E-A6C5-3EEF950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D54B-FC9F-4628-B703-A6EAB09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F8DE17-1DFE-4BDB-9967-845CF4055D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53E7B8-7B19-4D6C-B5F4-247456928A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376B7B-6477-45AD-9428-88217C8B8D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82E8BB-F23A-4475-9C4C-E4F1BBD0E6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F89-B13E-4ACA-AB3C-5B04DCDE7A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194E41-CF56-4512-AACD-FD5D788058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CA6A5C-B002-4983-A152-FA45F0CB4D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D344F1-127F-42CA-B33D-B405186DE2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477383-EF36-40A0-B988-8C4539AB94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68C735-B97A-48E2-ADC6-B9C5753D56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96D4E4-1C99-423E-AA69-3FC1A8B966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F123F7-2BBE-42F3-99D9-F6048E559C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文本框 5"/>
          <p:cNvSpPr/>
          <p:nvPr/>
        </p:nvSpPr>
        <p:spPr>
          <a:xfrm>
            <a:off x="1709640" y="2071800"/>
            <a:ext cx="619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毕业答辩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PT</a:t>
            </a:r>
            <a:r>
              <a:rPr b="1" lang="zh-CN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模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"/>
          <p:cNvSpPr/>
          <p:nvPr/>
        </p:nvSpPr>
        <p:spPr>
          <a:xfrm>
            <a:off x="4622760" y="5272200"/>
            <a:ext cx="134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* * 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9"/>
          <p:cNvSpPr/>
          <p:nvPr/>
        </p:nvSpPr>
        <p:spPr>
          <a:xfrm>
            <a:off x="1765080" y="5272200"/>
            <a:ext cx="148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* * 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540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 flipH="1">
              <a:off x="1131120" y="5314680"/>
              <a:ext cx="328680" cy="24768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lnTo>
                    <a:pt x="339688" y="551599"/>
                  </a:ln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lnTo>
                    <a:pt x="264023" y="488330"/>
                  </a:ln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23"/>
          <p:cNvGrpSpPr/>
          <p:nvPr/>
        </p:nvGrpSpPr>
        <p:grpSpPr>
          <a:xfrm>
            <a:off x="3938760" y="5181480"/>
            <a:ext cx="552240" cy="552600"/>
            <a:chOff x="3938760" y="5181480"/>
            <a:chExt cx="552240" cy="552600"/>
          </a:xfrm>
        </p:grpSpPr>
        <p:sp>
          <p:nvSpPr>
            <p:cNvPr id="543" name="椭圆 11"/>
            <p:cNvSpPr/>
            <p:nvPr/>
          </p:nvSpPr>
          <p:spPr>
            <a:xfrm>
              <a:off x="3938760" y="5181480"/>
              <a:ext cx="55224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Group 38" descr=""/>
            <p:cNvPicPr/>
            <p:nvPr/>
          </p:nvPicPr>
          <p:blipFill>
            <a:blip r:embed="rId1"/>
            <a:stretch/>
          </p:blipFill>
          <p:spPr>
            <a:xfrm>
              <a:off x="4023360" y="5327640"/>
              <a:ext cx="347400" cy="24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矩形 16"/>
          <p:cNvSpPr/>
          <p:nvPr/>
        </p:nvSpPr>
        <p:spPr>
          <a:xfrm>
            <a:off x="965160" y="36972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组合 1" descr=""/>
          <p:cNvPicPr/>
          <p:nvPr/>
        </p:nvPicPr>
        <p:blipFill>
          <a:blip r:embed="rId1"/>
          <a:stretch/>
        </p:blipFill>
        <p:spPr>
          <a:xfrm>
            <a:off x="4346640" y="1401840"/>
            <a:ext cx="4741920" cy="1931760"/>
          </a:xfrm>
          <a:prstGeom prst="rect">
            <a:avLst/>
          </a:prstGeom>
          <a:ln w="0">
            <a:noFill/>
          </a:ln>
        </p:spPr>
      </p:pic>
      <p:pic>
        <p:nvPicPr>
          <p:cNvPr id="725" name="组合 4" descr=""/>
          <p:cNvPicPr/>
          <p:nvPr/>
        </p:nvPicPr>
        <p:blipFill>
          <a:blip r:embed="rId2"/>
          <a:stretch/>
        </p:blipFill>
        <p:spPr>
          <a:xfrm>
            <a:off x="3181320" y="1682640"/>
            <a:ext cx="4743360" cy="191448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7"/>
          <p:cNvSpPr/>
          <p:nvPr/>
        </p:nvSpPr>
        <p:spPr>
          <a:xfrm>
            <a:off x="9374040" y="1363680"/>
            <a:ext cx="201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8"/>
          <p:cNvSpPr/>
          <p:nvPr/>
        </p:nvSpPr>
        <p:spPr>
          <a:xfrm>
            <a:off x="870120" y="1363680"/>
            <a:ext cx="2017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0"/>
          <p:cNvSpPr/>
          <p:nvPr/>
        </p:nvSpPr>
        <p:spPr>
          <a:xfrm>
            <a:off x="871560" y="4586400"/>
            <a:ext cx="233280" cy="23472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1"/>
          <p:cNvSpPr/>
          <p:nvPr/>
        </p:nvSpPr>
        <p:spPr>
          <a:xfrm>
            <a:off x="1147680" y="4505400"/>
            <a:ext cx="40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2"/>
          <p:cNvSpPr/>
          <p:nvPr/>
        </p:nvSpPr>
        <p:spPr>
          <a:xfrm>
            <a:off x="125244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4"/>
          <p:cNvSpPr/>
          <p:nvPr/>
        </p:nvSpPr>
        <p:spPr>
          <a:xfrm>
            <a:off x="7023240" y="4586400"/>
            <a:ext cx="233280" cy="234720"/>
          </a:xfrm>
          <a:prstGeom prst="ellipse">
            <a:avLst/>
          </a:prstGeom>
          <a:solidFill>
            <a:srgbClr val="4472c4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81"/>
          <p:cNvSpPr/>
          <p:nvPr/>
        </p:nvSpPr>
        <p:spPr>
          <a:xfrm>
            <a:off x="7299360" y="4505400"/>
            <a:ext cx="405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82"/>
          <p:cNvSpPr/>
          <p:nvPr/>
        </p:nvSpPr>
        <p:spPr>
          <a:xfrm>
            <a:off x="740412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22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36" name="文本框 23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等腰三角形 24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4"/>
          <p:cNvSpPr/>
          <p:nvPr/>
        </p:nvSpPr>
        <p:spPr>
          <a:xfrm>
            <a:off x="2063880" y="4437000"/>
            <a:ext cx="8607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n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0" y="2998800"/>
            <a:ext cx="1219212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9" descr=""/>
          <p:cNvPicPr/>
          <p:nvPr/>
        </p:nvPicPr>
        <p:blipFill>
          <a:blip r:embed="rId8"/>
          <a:stretch/>
        </p:blipFill>
        <p:spPr>
          <a:xfrm>
            <a:off x="1093680" y="316080"/>
            <a:ext cx="10282320" cy="268128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623880" y="3097080"/>
            <a:ext cx="5472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6095880" y="3097080"/>
            <a:ext cx="5472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0" descr="png-0644"/>
          <p:cNvPicPr/>
          <p:nvPr/>
        </p:nvPicPr>
        <p:blipFill>
          <a:blip r:embed="rId9"/>
          <a:stretch/>
        </p:blipFill>
        <p:spPr>
          <a:xfrm>
            <a:off x="3887640" y="3097080"/>
            <a:ext cx="525600" cy="3938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png-0652"/>
          <p:cNvPicPr/>
          <p:nvPr/>
        </p:nvPicPr>
        <p:blipFill>
          <a:blip r:embed="rId10"/>
          <a:stretch/>
        </p:blipFill>
        <p:spPr>
          <a:xfrm>
            <a:off x="9645480" y="3097080"/>
            <a:ext cx="5241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0"/>
          <p:cNvSpPr/>
          <p:nvPr/>
        </p:nvSpPr>
        <p:spPr>
          <a:xfrm>
            <a:off x="2757600" y="-114480"/>
            <a:ext cx="646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5"/>
          <p:cNvSpPr/>
          <p:nvPr/>
        </p:nvSpPr>
        <p:spPr>
          <a:xfrm>
            <a:off x="156528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6"/>
          <p:cNvSpPr/>
          <p:nvPr/>
        </p:nvSpPr>
        <p:spPr>
          <a:xfrm>
            <a:off x="170352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8"/>
          <p:cNvSpPr/>
          <p:nvPr/>
        </p:nvSpPr>
        <p:spPr>
          <a:xfrm>
            <a:off x="286200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0"/>
          <p:cNvSpPr/>
          <p:nvPr/>
        </p:nvSpPr>
        <p:spPr>
          <a:xfrm>
            <a:off x="156528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1"/>
          <p:cNvSpPr/>
          <p:nvPr/>
        </p:nvSpPr>
        <p:spPr>
          <a:xfrm>
            <a:off x="170352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22"/>
          <p:cNvSpPr/>
          <p:nvPr/>
        </p:nvSpPr>
        <p:spPr>
          <a:xfrm>
            <a:off x="286200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4"/>
          <p:cNvSpPr/>
          <p:nvPr/>
        </p:nvSpPr>
        <p:spPr>
          <a:xfrm>
            <a:off x="156528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25"/>
          <p:cNvSpPr/>
          <p:nvPr/>
        </p:nvSpPr>
        <p:spPr>
          <a:xfrm>
            <a:off x="170352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6"/>
          <p:cNvSpPr/>
          <p:nvPr/>
        </p:nvSpPr>
        <p:spPr>
          <a:xfrm>
            <a:off x="286200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8"/>
          <p:cNvSpPr/>
          <p:nvPr/>
        </p:nvSpPr>
        <p:spPr>
          <a:xfrm>
            <a:off x="700416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9"/>
          <p:cNvSpPr/>
          <p:nvPr/>
        </p:nvSpPr>
        <p:spPr>
          <a:xfrm>
            <a:off x="714240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0"/>
          <p:cNvSpPr/>
          <p:nvPr/>
        </p:nvSpPr>
        <p:spPr>
          <a:xfrm>
            <a:off x="830052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2"/>
          <p:cNvSpPr/>
          <p:nvPr/>
        </p:nvSpPr>
        <p:spPr>
          <a:xfrm>
            <a:off x="700416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3"/>
          <p:cNvSpPr/>
          <p:nvPr/>
        </p:nvSpPr>
        <p:spPr>
          <a:xfrm>
            <a:off x="714240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4"/>
          <p:cNvSpPr/>
          <p:nvPr/>
        </p:nvSpPr>
        <p:spPr>
          <a:xfrm>
            <a:off x="830052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6"/>
          <p:cNvSpPr/>
          <p:nvPr/>
        </p:nvSpPr>
        <p:spPr>
          <a:xfrm>
            <a:off x="700416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7"/>
          <p:cNvSpPr/>
          <p:nvPr/>
        </p:nvSpPr>
        <p:spPr>
          <a:xfrm>
            <a:off x="714240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38"/>
          <p:cNvSpPr/>
          <p:nvPr/>
        </p:nvSpPr>
        <p:spPr>
          <a:xfrm>
            <a:off x="830052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26"/>
          <p:cNvSpPr/>
          <p:nvPr/>
        </p:nvSpPr>
        <p:spPr>
          <a:xfrm>
            <a:off x="1982880" y="163044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568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空心弧 3"/>
            <p:cNvSpPr/>
            <p:nvPr/>
          </p:nvSpPr>
          <p:spPr>
            <a:xfrm>
              <a:off x="1143000" y="1593720"/>
              <a:ext cx="2455920" cy="2457720"/>
            </a:xfrm>
            <a:custGeom>
              <a:avLst/>
              <a:gdLst/>
              <a:ahLst/>
              <a:rect l="l" t="t" r="r" b="b"/>
              <a:pathLst>
                <a:path w="1861942" h="1862033">
                  <a:moveTo>
                    <a:pt x="936968" y="1862014"/>
                  </a:moveTo>
                  <a:cubicBezTo>
                    <a:pt x="423824" y="1865320"/>
                    <a:pt x="4766" y="1452750"/>
                    <a:pt x="39" y="939591"/>
                  </a:cubicBezTo>
                  <a:cubicBezTo>
                    <a:pt x="-4687" y="426433"/>
                    <a:pt x="406700" y="6214"/>
                    <a:pt x="919817" y="66"/>
                  </a:cubicBezTo>
                  <a:cubicBezTo>
                    <a:pt x="921269" y="121227"/>
                    <a:pt x="922720" y="242387"/>
                    <a:pt x="924172" y="363548"/>
                  </a:cubicBezTo>
                  <a:cubicBezTo>
                    <a:pt x="611407" y="367296"/>
                    <a:pt x="360650" y="623444"/>
                    <a:pt x="363531" y="936244"/>
                  </a:cubicBezTo>
                  <a:cubicBezTo>
                    <a:pt x="366412" y="1249045"/>
                    <a:pt x="621844" y="1500531"/>
                    <a:pt x="934626" y="1498516"/>
                  </a:cubicBezTo>
                  <a:cubicBezTo>
                    <a:pt x="935407" y="1619682"/>
                    <a:pt x="936187" y="1740848"/>
                    <a:pt x="936968" y="186201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46"/>
            <p:cNvSpPr/>
            <p:nvPr/>
          </p:nvSpPr>
          <p:spPr>
            <a:xfrm>
              <a:off x="1409760" y="1860480"/>
              <a:ext cx="19224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TextBox 50" descr=""/>
            <p:cNvPicPr/>
            <p:nvPr/>
          </p:nvPicPr>
          <p:blipFill>
            <a:blip r:embed="rId1"/>
            <a:stretch/>
          </p:blipFill>
          <p:spPr>
            <a:xfrm>
              <a:off x="1371600" y="226764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573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空心弧 8"/>
            <p:cNvSpPr/>
            <p:nvPr/>
          </p:nvSpPr>
          <p:spPr>
            <a:xfrm>
              <a:off x="4848120" y="1593720"/>
              <a:ext cx="2457720" cy="2457720"/>
            </a:xfrm>
            <a:custGeom>
              <a:avLst/>
              <a:gdLst/>
              <a:ahLst/>
              <a:rect l="l" t="t" r="r" b="b"/>
              <a:pathLst>
                <a:path w="1862033" h="1862033">
                  <a:moveTo>
                    <a:pt x="1862012" y="937277"/>
                  </a:moveTo>
                  <a:cubicBezTo>
                    <a:pt x="1858569" y="1449186"/>
                    <a:pt x="1442481" y="1862284"/>
                    <a:pt x="930560" y="1862033"/>
                  </a:cubicBezTo>
                  <a:cubicBezTo>
                    <a:pt x="418639" y="1861782"/>
                    <a:pt x="2955" y="1448277"/>
                    <a:pt x="14" y="936365"/>
                  </a:cubicBezTo>
                  <a:cubicBezTo>
                    <a:pt x="-2927" y="424452"/>
                    <a:pt x="407978" y="6199"/>
                    <a:pt x="919862" y="66"/>
                  </a:cubicBezTo>
                  <a:lnTo>
                    <a:pt x="924218" y="363565"/>
                  </a:lnTo>
                  <a:cubicBezTo>
                    <a:pt x="612204" y="367303"/>
                    <a:pt x="361741" y="622246"/>
                    <a:pt x="363534" y="934277"/>
                  </a:cubicBezTo>
                  <a:cubicBezTo>
                    <a:pt x="365327" y="1246308"/>
                    <a:pt x="618703" y="1498356"/>
                    <a:pt x="930739" y="1498509"/>
                  </a:cubicBezTo>
                  <a:cubicBezTo>
                    <a:pt x="1242775" y="1498662"/>
                    <a:pt x="1496398" y="1246863"/>
                    <a:pt x="1498496" y="934833"/>
                  </a:cubicBezTo>
                  <a:lnTo>
                    <a:pt x="1862012" y="937277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46"/>
            <p:cNvSpPr/>
            <p:nvPr/>
          </p:nvSpPr>
          <p:spPr>
            <a:xfrm>
              <a:off x="5114880" y="1860480"/>
              <a:ext cx="19242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TextBox 75" descr=""/>
            <p:cNvPicPr/>
            <p:nvPr/>
          </p:nvPicPr>
          <p:blipFill>
            <a:blip r:embed="rId2"/>
            <a:stretch/>
          </p:blipFill>
          <p:spPr>
            <a:xfrm>
              <a:off x="5047200" y="226152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578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空心弧 13"/>
            <p:cNvSpPr/>
            <p:nvPr/>
          </p:nvSpPr>
          <p:spPr>
            <a:xfrm>
              <a:off x="8553240" y="1593720"/>
              <a:ext cx="2457720" cy="2457720"/>
            </a:xfrm>
            <a:custGeom>
              <a:avLst/>
              <a:gdLst/>
              <a:ahLst/>
              <a:rect l="l" t="t" r="r" b="b"/>
              <a:pathLst>
                <a:path w="1862033" h="1862033">
                  <a:moveTo>
                    <a:pt x="270580" y="1587229"/>
                  </a:moveTo>
                  <a:cubicBezTo>
                    <a:pt x="6979" y="1321932"/>
                    <a:pt x="-72288" y="924652"/>
                    <a:pt x="69315" y="578507"/>
                  </a:cubicBezTo>
                  <a:cubicBezTo>
                    <a:pt x="210918" y="232362"/>
                    <a:pt x="545901" y="4546"/>
                    <a:pt x="919864" y="66"/>
                  </a:cubicBezTo>
                  <a:cubicBezTo>
                    <a:pt x="921315" y="121232"/>
                    <a:pt x="922767" y="242399"/>
                    <a:pt x="924218" y="363565"/>
                  </a:cubicBezTo>
                  <a:cubicBezTo>
                    <a:pt x="696273" y="366296"/>
                    <a:pt x="492087" y="505159"/>
                    <a:pt x="405775" y="716148"/>
                  </a:cubicBezTo>
                  <a:cubicBezTo>
                    <a:pt x="319463" y="927137"/>
                    <a:pt x="367779" y="1169295"/>
                    <a:pt x="528454" y="1331004"/>
                  </a:cubicBezTo>
                  <a:lnTo>
                    <a:pt x="270580" y="1587229"/>
                  </a:ln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46"/>
            <p:cNvSpPr/>
            <p:nvPr/>
          </p:nvSpPr>
          <p:spPr>
            <a:xfrm>
              <a:off x="8820000" y="1860480"/>
              <a:ext cx="19242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TextBox 80" descr=""/>
            <p:cNvPicPr/>
            <p:nvPr/>
          </p:nvPicPr>
          <p:blipFill>
            <a:blip r:embed="rId3"/>
            <a:stretch/>
          </p:blipFill>
          <p:spPr>
            <a:xfrm>
              <a:off x="8753760" y="226152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文本框 17"/>
          <p:cNvSpPr/>
          <p:nvPr/>
        </p:nvSpPr>
        <p:spPr>
          <a:xfrm>
            <a:off x="11095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2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584" name="文本框 2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等腰三角形 22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文本框 23"/>
          <p:cNvSpPr/>
          <p:nvPr/>
        </p:nvSpPr>
        <p:spPr>
          <a:xfrm>
            <a:off x="481500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4"/>
          <p:cNvSpPr/>
          <p:nvPr/>
        </p:nvSpPr>
        <p:spPr>
          <a:xfrm>
            <a:off x="84517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592" name="组合 5"/>
          <p:cNvGrpSpPr/>
          <p:nvPr/>
        </p:nvGrpSpPr>
        <p:grpSpPr>
          <a:xfrm>
            <a:off x="5708520" y="3022560"/>
            <a:ext cx="1447920" cy="276480"/>
            <a:chOff x="5708520" y="3022560"/>
            <a:chExt cx="1447920" cy="276480"/>
          </a:xfrm>
        </p:grpSpPr>
        <p:sp>
          <p:nvSpPr>
            <p:cNvPr id="593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7"/>
            <p:cNvSpPr/>
            <p:nvPr/>
          </p:nvSpPr>
          <p:spPr>
            <a:xfrm flipV="1" rot="16200000">
              <a:off x="6995160" y="3087720"/>
              <a:ext cx="173160" cy="1490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8"/>
          <p:cNvGrpSpPr/>
          <p:nvPr/>
        </p:nvGrpSpPr>
        <p:grpSpPr>
          <a:xfrm>
            <a:off x="5029200" y="3753000"/>
            <a:ext cx="1428480" cy="276480"/>
            <a:chOff x="5029200" y="3753000"/>
            <a:chExt cx="1428480" cy="276480"/>
          </a:xfrm>
        </p:grpSpPr>
        <p:sp>
          <p:nvSpPr>
            <p:cNvPr id="596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等腰三角形 10"/>
            <p:cNvSpPr/>
            <p:nvPr/>
          </p:nvSpPr>
          <p:spPr>
            <a:xfrm flipH="1" flipV="1" rot="5400000">
              <a:off x="5017320" y="3809160"/>
              <a:ext cx="172800" cy="14904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文本框 11"/>
          <p:cNvSpPr/>
          <p:nvPr/>
        </p:nvSpPr>
        <p:spPr>
          <a:xfrm>
            <a:off x="804240" y="118584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4472c4"/>
                </a:solidFill>
                <a:latin typeface="Century Gothic"/>
                <a:ea typeface="微软雅黑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9693720" y="475920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1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01" name="文本框 2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等腰三角形 21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文本框 25"/>
          <p:cNvSpPr/>
          <p:nvPr/>
        </p:nvSpPr>
        <p:spPr>
          <a:xfrm>
            <a:off x="3559320" y="15019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6"/>
          <p:cNvSpPr/>
          <p:nvPr/>
        </p:nvSpPr>
        <p:spPr>
          <a:xfrm>
            <a:off x="5425920" y="48355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606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609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2" descr="\\MAGNUM\Projects\Microsoft\Cloud Power FY12\Design\ICONS_PNG\Building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612" name="矩形 12"/>
            <p:cNvSpPr/>
            <p:nvPr/>
          </p:nvSpPr>
          <p:spPr>
            <a:xfrm>
              <a:off x="10733040" y="5124600"/>
              <a:ext cx="68580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40"/>
          <p:cNvSpPr/>
          <p:nvPr/>
        </p:nvSpPr>
        <p:spPr>
          <a:xfrm>
            <a:off x="1586880" y="15764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618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51"/>
          <p:cNvGrpSpPr/>
          <p:nvPr/>
        </p:nvGrpSpPr>
        <p:grpSpPr>
          <a:xfrm>
            <a:off x="3292200" y="3463920"/>
            <a:ext cx="2087280" cy="1545840"/>
            <a:chOff x="3292200" y="3463920"/>
            <a:chExt cx="2087280" cy="1545840"/>
          </a:xfrm>
        </p:grpSpPr>
        <p:sp>
          <p:nvSpPr>
            <p:cNvPr id="621" name="矩形 12"/>
            <p:cNvSpPr/>
            <p:nvPr/>
          </p:nvSpPr>
          <p:spPr>
            <a:xfrm flipH="1" flipV="1">
              <a:off x="3292560" y="395064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12"/>
            <p:cNvSpPr/>
            <p:nvPr/>
          </p:nvSpPr>
          <p:spPr>
            <a:xfrm flipH="1" flipV="1" rot="16200000">
              <a:off x="3291840" y="39531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625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12"/>
            <p:cNvSpPr/>
            <p:nvPr/>
          </p:nvSpPr>
          <p:spPr>
            <a:xfrm flipH="1" flipV="1" rot="16200000">
              <a:off x="5833440" y="28929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53"/>
          <p:cNvGrpSpPr/>
          <p:nvPr/>
        </p:nvGrpSpPr>
        <p:grpSpPr>
          <a:xfrm>
            <a:off x="8373600" y="1198440"/>
            <a:ext cx="3177000" cy="1694160"/>
            <a:chOff x="8373600" y="1198440"/>
            <a:chExt cx="3177000" cy="1694160"/>
          </a:xfrm>
        </p:grpSpPr>
        <p:sp>
          <p:nvSpPr>
            <p:cNvPr id="629" name="流程图: 数据 23"/>
            <p:cNvSpPr/>
            <p:nvPr/>
          </p:nvSpPr>
          <p:spPr>
            <a:xfrm>
              <a:off x="8373960" y="1198440"/>
              <a:ext cx="3176640" cy="635040"/>
            </a:xfrm>
            <a:prstGeom prst="flowChartInputOutpu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矩形 12"/>
            <p:cNvSpPr/>
            <p:nvPr/>
          </p:nvSpPr>
          <p:spPr>
            <a:xfrm flipH="1" flipV="1">
              <a:off x="8373960" y="1833480"/>
              <a:ext cx="635040" cy="105912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矩形 12"/>
            <p:cNvSpPr/>
            <p:nvPr/>
          </p:nvSpPr>
          <p:spPr>
            <a:xfrm flipH="1" flipV="1" rot="16200000">
              <a:off x="8373240" y="183240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6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34" name="文本框 6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等腰三角形 62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63"/>
          <p:cNvSpPr/>
          <p:nvPr/>
        </p:nvSpPr>
        <p:spPr>
          <a:xfrm>
            <a:off x="1266840" y="2079720"/>
            <a:ext cx="31114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5"/>
          <p:cNvSpPr/>
          <p:nvPr/>
        </p:nvSpPr>
        <p:spPr>
          <a:xfrm>
            <a:off x="860400" y="523872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25"/>
          <p:cNvSpPr/>
          <p:nvPr/>
        </p:nvSpPr>
        <p:spPr>
          <a:xfrm>
            <a:off x="3530520" y="4206960"/>
            <a:ext cx="2298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5"/>
          <p:cNvSpPr/>
          <p:nvPr/>
        </p:nvSpPr>
        <p:spPr>
          <a:xfrm>
            <a:off x="6072120" y="3138480"/>
            <a:ext cx="2297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5"/>
          <p:cNvSpPr/>
          <p:nvPr/>
        </p:nvSpPr>
        <p:spPr>
          <a:xfrm>
            <a:off x="8648640" y="195408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5"/>
          <p:cNvGrpSpPr/>
          <p:nvPr/>
        </p:nvGrpSpPr>
        <p:grpSpPr>
          <a:xfrm>
            <a:off x="4319640" y="2181240"/>
            <a:ext cx="3562200" cy="3562200"/>
            <a:chOff x="4319640" y="2181240"/>
            <a:chExt cx="3562200" cy="3562200"/>
          </a:xfrm>
        </p:grpSpPr>
        <p:sp>
          <p:nvSpPr>
            <p:cNvPr id="642" name="椭圆 17"/>
            <p:cNvSpPr/>
            <p:nvPr/>
          </p:nvSpPr>
          <p:spPr>
            <a:xfrm>
              <a:off x="4319640" y="2181240"/>
              <a:ext cx="3562200" cy="356220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18"/>
            <p:cNvSpPr/>
            <p:nvPr/>
          </p:nvSpPr>
          <p:spPr>
            <a:xfrm>
              <a:off x="4730760" y="2592360"/>
              <a:ext cx="2739960" cy="2739960"/>
            </a:xfrm>
            <a:prstGeom prst="ellips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19"/>
            <p:cNvSpPr/>
            <p:nvPr/>
          </p:nvSpPr>
          <p:spPr>
            <a:xfrm>
              <a:off x="5141880" y="3003480"/>
              <a:ext cx="1917720" cy="191772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9"/>
          <p:cNvSpPr/>
          <p:nvPr/>
        </p:nvSpPr>
        <p:spPr>
          <a:xfrm>
            <a:off x="5688000" y="3386160"/>
            <a:ext cx="94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关键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下箭头 12"/>
          <p:cNvSpPr/>
          <p:nvPr/>
        </p:nvSpPr>
        <p:spPr>
          <a:xfrm>
            <a:off x="5319720" y="1085760"/>
            <a:ext cx="1562040" cy="1917720"/>
          </a:xfrm>
          <a:prstGeom prst="downArrow">
            <a:avLst>
              <a:gd name="adj1" fmla="val 5313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3"/>
          <p:cNvSpPr/>
          <p:nvPr/>
        </p:nvSpPr>
        <p:spPr>
          <a:xfrm>
            <a:off x="5691240" y="108576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5849640" y="153972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下箭头 9"/>
          <p:cNvSpPr/>
          <p:nvPr/>
        </p:nvSpPr>
        <p:spPr>
          <a:xfrm rot="7200000">
            <a:off x="6980040" y="4001760"/>
            <a:ext cx="1562040" cy="1917720"/>
          </a:xfrm>
          <a:prstGeom prst="downArrow">
            <a:avLst>
              <a:gd name="adj1" fmla="val 5313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0"/>
          <p:cNvSpPr/>
          <p:nvPr/>
        </p:nvSpPr>
        <p:spPr>
          <a:xfrm rot="7200000">
            <a:off x="8108280" y="531864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1"/>
          <p:cNvSpPr/>
          <p:nvPr/>
        </p:nvSpPr>
        <p:spPr>
          <a:xfrm rot="18000000">
            <a:off x="7542720" y="456840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下箭头 6"/>
          <p:cNvSpPr/>
          <p:nvPr/>
        </p:nvSpPr>
        <p:spPr>
          <a:xfrm flipH="1" rot="14400000">
            <a:off x="3649680" y="4001760"/>
            <a:ext cx="1562400" cy="1917720"/>
          </a:xfrm>
          <a:prstGeom prst="downArrow">
            <a:avLst>
              <a:gd name="adj1" fmla="val 53130"/>
              <a:gd name="adj2" fmla="val 4998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7"/>
          <p:cNvSpPr/>
          <p:nvPr/>
        </p:nvSpPr>
        <p:spPr>
          <a:xfrm flipH="1" rot="14400000">
            <a:off x="3261240" y="5317920"/>
            <a:ext cx="822240" cy="16488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45"/>
          <p:cNvSpPr/>
          <p:nvPr/>
        </p:nvSpPr>
        <p:spPr>
          <a:xfrm flipH="1" rot="3600000">
            <a:off x="4106160" y="460116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3"/>
          <p:cNvSpPr/>
          <p:nvPr/>
        </p:nvSpPr>
        <p:spPr>
          <a:xfrm>
            <a:off x="7647120" y="100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25"/>
          <p:cNvSpPr/>
          <p:nvPr/>
        </p:nvSpPr>
        <p:spPr>
          <a:xfrm>
            <a:off x="9437040" y="44006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27"/>
          <p:cNvSpPr/>
          <p:nvPr/>
        </p:nvSpPr>
        <p:spPr>
          <a:xfrm>
            <a:off x="1231560" y="451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2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59" name="文本框 3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31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25"/>
          <p:cNvSpPr/>
          <p:nvPr/>
        </p:nvSpPr>
        <p:spPr>
          <a:xfrm>
            <a:off x="1030320" y="48862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5"/>
          <p:cNvSpPr/>
          <p:nvPr/>
        </p:nvSpPr>
        <p:spPr>
          <a:xfrm>
            <a:off x="7299360" y="13906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25"/>
          <p:cNvSpPr/>
          <p:nvPr/>
        </p:nvSpPr>
        <p:spPr>
          <a:xfrm>
            <a:off x="9090000" y="4886280"/>
            <a:ext cx="20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667" name="组合 4"/>
          <p:cNvGrpSpPr/>
          <p:nvPr/>
        </p:nvGrpSpPr>
        <p:grpSpPr>
          <a:xfrm>
            <a:off x="627120" y="4522680"/>
            <a:ext cx="3284640" cy="473040"/>
            <a:chOff x="627120" y="4522680"/>
            <a:chExt cx="3284640" cy="473040"/>
          </a:xfrm>
        </p:grpSpPr>
        <p:sp>
          <p:nvSpPr>
            <p:cNvPr id="668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6"/>
            <p:cNvSpPr/>
            <p:nvPr/>
          </p:nvSpPr>
          <p:spPr>
            <a:xfrm>
              <a:off x="171036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9"/>
          <p:cNvGrpSpPr/>
          <p:nvPr/>
        </p:nvGrpSpPr>
        <p:grpSpPr>
          <a:xfrm>
            <a:off x="4452840" y="4522680"/>
            <a:ext cx="3286080" cy="473040"/>
            <a:chOff x="4452840" y="4522680"/>
            <a:chExt cx="3286080" cy="473040"/>
          </a:xfrm>
        </p:grpSpPr>
        <p:sp>
          <p:nvSpPr>
            <p:cNvPr id="671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11"/>
            <p:cNvSpPr/>
            <p:nvPr/>
          </p:nvSpPr>
          <p:spPr>
            <a:xfrm>
              <a:off x="55368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13"/>
          <p:cNvGrpSpPr/>
          <p:nvPr/>
        </p:nvGrpSpPr>
        <p:grpSpPr>
          <a:xfrm>
            <a:off x="8280360" y="4522680"/>
            <a:ext cx="3284640" cy="473040"/>
            <a:chOff x="8280360" y="4522680"/>
            <a:chExt cx="3284640" cy="473040"/>
          </a:xfrm>
        </p:grpSpPr>
        <p:sp>
          <p:nvSpPr>
            <p:cNvPr id="674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15"/>
            <p:cNvSpPr/>
            <p:nvPr/>
          </p:nvSpPr>
          <p:spPr>
            <a:xfrm>
              <a:off x="93636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21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77" name="文本框 22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等腰三角形 23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文本框 25"/>
          <p:cNvSpPr/>
          <p:nvPr/>
        </p:nvSpPr>
        <p:spPr>
          <a:xfrm>
            <a:off x="2917800" y="1376280"/>
            <a:ext cx="6356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5"/>
          <p:cNvSpPr/>
          <p:nvPr/>
        </p:nvSpPr>
        <p:spPr>
          <a:xfrm>
            <a:off x="62712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6"/>
          <p:cNvSpPr/>
          <p:nvPr/>
        </p:nvSpPr>
        <p:spPr>
          <a:xfrm>
            <a:off x="4452840" y="5106960"/>
            <a:ext cx="3286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7"/>
          <p:cNvSpPr/>
          <p:nvPr/>
        </p:nvSpPr>
        <p:spPr>
          <a:xfrm>
            <a:off x="828036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4"/>
          <p:cNvSpPr/>
          <p:nvPr/>
        </p:nvSpPr>
        <p:spPr>
          <a:xfrm>
            <a:off x="1511280" y="5586480"/>
            <a:ext cx="91695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1"/>
          <p:cNvSpPr/>
          <p:nvPr/>
        </p:nvSpPr>
        <p:spPr>
          <a:xfrm>
            <a:off x="873000" y="1427040"/>
            <a:ext cx="2863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2"/>
          <p:cNvSpPr/>
          <p:nvPr/>
        </p:nvSpPr>
        <p:spPr>
          <a:xfrm>
            <a:off x="979560" y="1714680"/>
            <a:ext cx="2757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81"/>
          <p:cNvSpPr/>
          <p:nvPr/>
        </p:nvSpPr>
        <p:spPr>
          <a:xfrm>
            <a:off x="3990960" y="1427040"/>
            <a:ext cx="286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2"/>
          <p:cNvSpPr/>
          <p:nvPr/>
        </p:nvSpPr>
        <p:spPr>
          <a:xfrm>
            <a:off x="4097160" y="1714680"/>
            <a:ext cx="2759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组合 21" descr=""/>
          <p:cNvPicPr/>
          <p:nvPr/>
        </p:nvPicPr>
        <p:blipFill>
          <a:blip r:embed="rId1"/>
          <a:stretch/>
        </p:blipFill>
        <p:spPr>
          <a:xfrm>
            <a:off x="9156600" y="1090440"/>
            <a:ext cx="1322640" cy="140832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28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03" name="文本框 29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等腰三角形 30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矩形 2"/>
          <p:cNvSpPr/>
          <p:nvPr/>
        </p:nvSpPr>
        <p:spPr>
          <a:xfrm>
            <a:off x="766800" y="3513240"/>
            <a:ext cx="3203640" cy="45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"/>
          <p:cNvSpPr/>
          <p:nvPr/>
        </p:nvSpPr>
        <p:spPr>
          <a:xfrm>
            <a:off x="1333440" y="357012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sp>
        <p:nvSpPr>
          <p:cNvPr id="710" name="矩形 8"/>
          <p:cNvSpPr/>
          <p:nvPr/>
        </p:nvSpPr>
        <p:spPr>
          <a:xfrm>
            <a:off x="8188200" y="3059280"/>
            <a:ext cx="3205440" cy="45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9"/>
          <p:cNvSpPr/>
          <p:nvPr/>
        </p:nvSpPr>
        <p:spPr>
          <a:xfrm>
            <a:off x="8761320" y="313200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0"/>
          <p:cNvSpPr/>
          <p:nvPr/>
        </p:nvSpPr>
        <p:spPr>
          <a:xfrm>
            <a:off x="8188200" y="3565440"/>
            <a:ext cx="32054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1"/>
          <p:cNvSpPr/>
          <p:nvPr/>
        </p:nvSpPr>
        <p:spPr>
          <a:xfrm>
            <a:off x="762120" y="2352600"/>
            <a:ext cx="3205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2"/>
          <p:cNvGrpSpPr/>
          <p:nvPr/>
        </p:nvGrpSpPr>
        <p:grpSpPr>
          <a:xfrm>
            <a:off x="8187840" y="5611680"/>
            <a:ext cx="474840" cy="493920"/>
            <a:chOff x="8187840" y="5611680"/>
            <a:chExt cx="474840" cy="493920"/>
          </a:xfrm>
        </p:grpSpPr>
        <p:sp>
          <p:nvSpPr>
            <p:cNvPr id="715" name="Line 181"/>
            <p:cNvSpPr/>
            <p:nvPr/>
          </p:nvSpPr>
          <p:spPr>
            <a:xfrm flipH="1" flipV="1">
              <a:off x="8187840" y="5611680"/>
              <a:ext cx="474840" cy="47952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 flipH="1">
              <a:off x="8187480" y="5611680"/>
              <a:ext cx="474840" cy="4939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文本框 15"/>
          <p:cNvSpPr/>
          <p:nvPr/>
        </p:nvSpPr>
        <p:spPr>
          <a:xfrm>
            <a:off x="8820000" y="5299200"/>
            <a:ext cx="2573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719" name="Freeform 77"/>
            <p:cNvSpPr/>
            <p:nvPr/>
          </p:nvSpPr>
          <p:spPr>
            <a:xfrm>
              <a:off x="2070000" y="1545840"/>
              <a:ext cx="615960" cy="42084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ed7d31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23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22" name="文本框 24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等腰三角形 25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7Z</dcterms:created>
  <dc:creator>第一PPT模板网-WWW.1PPT.COM</dc:creator>
  <dc:description>第一PPT模板网-WWW.1PPT.COM</dc:description>
  <dc:language>en-US</dc:language>
  <cp:lastModifiedBy>123</cp:lastModifiedBy>
  <dcterms:modified xsi:type="dcterms:W3CDTF">2016-04-20T01:26:49Z</dcterms:modified>
  <cp:revision>52</cp:revision>
  <dc:subject/>
  <dc:title>PowerPoint 演示文稿</dc:title>
</cp:coreProperties>
</file>