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77A-5F76-4BAA-9877-141C6C68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851-6DA9-4B7F-8AF1-044A24F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0B5-F1A0-412E-A0D0-7EB825CD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C02-8F69-4FA7-82D2-12B90B3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3E8-1416-4F85-8321-8535709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303-2859-4E10-BD66-74221483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A41-7EE8-46A4-A685-A9DFF66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A24-3199-42FE-A569-2C43CC4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E8A-571E-4A80-994D-5E9855FA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DFB-3357-445E-A239-439E6AE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50D-4810-4CE0-8055-00F88F5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A8D-FC81-4132-ABA2-1C3DC51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641-91D8-4A8F-9FF2-48ED2255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"/>
          <p:cNvPicPr/>
          <p:nvPr/>
        </p:nvPicPr>
        <p:blipFill>
          <a:blip r:embed="rId1"/>
          <a:stretch/>
        </p:blipFill>
        <p:spPr>
          <a:xfrm>
            <a:off x="0" y="-15228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895480" y="1143000"/>
            <a:ext cx="508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班健康活动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733920" y="2286000"/>
            <a:ext cx="3390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五官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轻音乐 - 舒缓.mp3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891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2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523880" y="38088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活动目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培养幼儿的观察力、想象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口语表达能力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知道人的五官的名称、位置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各自的作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008331191293_2"/>
          <p:cNvPicPr/>
          <p:nvPr/>
        </p:nvPicPr>
        <p:blipFill>
          <a:blip r:embed="rId2"/>
          <a:stretch/>
        </p:blipFill>
        <p:spPr>
          <a:xfrm>
            <a:off x="380880" y="762120"/>
            <a:ext cx="617220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765400" y="838080"/>
            <a:ext cx="2540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照一照，我们的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上有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e6f6267e475b44ea4d7e8685e8b0bed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15228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我们的脸上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眉毛、眼睛、嘴巴、鼻子、耳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11-07-14030902-131062734205103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100560" y="1066680"/>
            <a:ext cx="16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游   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 rot="5400000">
            <a:off x="1713960" y="2400120"/>
            <a:ext cx="4724640" cy="1600200"/>
          </a:xfrm>
          <a:custGeom>
            <a:avLst/>
            <a:gdLst>
              <a:gd name="textAreaLeft" fmla="*/ 0 w 4724640"/>
              <a:gd name="textAreaRight" fmla="*/ 4724640 w 472464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 rot="418800">
            <a:off x="3585600" y="991080"/>
            <a:ext cx="103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请小朋友们帮我找出我的五官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0015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990720" y="53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谢小朋友，我变漂亮了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uguanzhengdiwei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08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小朋友们，你们知道我们的本领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 rot="364800">
            <a:off x="1447920" y="38052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" name="轻音乐 - 舒缓.mp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8913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3-31T07:52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