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DB9C-4915-4096-8EFA-350C1387B3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6EDC-2D83-4576-A348-33587B4D11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BA6-E565-433D-9F09-199420D7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BD2-42C5-4012-A05B-9AF9796D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663-AAD8-4936-8E15-4362FF49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CD3-7108-44F3-8504-38D9956C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30A6-6EA1-4EE6-8B81-2EF6C257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5F7A-19DC-49AA-AD0B-FF8851D3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BEF2-0184-41F6-9B20-700D701C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7EDF-CD10-4FC3-ACE1-D5F735AE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5A49-6CB1-46FB-ACB5-0824D105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229A-7D40-490B-88AC-26ABADA8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DC28-1FC3-4E91-887F-15183562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BAD-2C99-44B4-AD8C-A6D4DC0C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23ED-9AFD-45DF-BE6B-14C62B7B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6510-9B65-4928-8C3D-F1B241D7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436E-2B12-4C6E-8D48-DEDFE3A5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9832-D269-406B-933F-5A81060F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1772-3A62-42F6-BE2E-B0B50B72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862-85C9-4D66-94AD-808611D0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7E9-4BBB-4AF8-A7B9-BB9969B3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0D9-A934-4369-B6BD-24171056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F75-4A2C-4147-BE16-FD84838B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CAE-AB48-4793-9444-1D0A24C3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0D1-02A7-4124-AB48-C7CFB1FF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38E-9A8F-4186-8A0C-3BA05587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99B0-D7A4-4A96-9E84-5510F500FE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09CE-18D9-4636-9E73-D8E6512623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9421a"/>
                </a:solidFill>
                <a:latin typeface="微软雅黑"/>
                <a:ea typeface="微软雅黑"/>
              </a:rPr>
              <a:t>部落守卫战辅助新手指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34920" y="2349360"/>
            <a:ext cx="5832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1" action="ppaction://hlinksldjump"/>
              </a:rPr>
              <a:t>进入游戏并运行辅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用辅助进行试炼排兵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三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大号多开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四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4" action="ppaction://hlinksldjump"/>
              </a:rPr>
              <a:t>小号多开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小号采用轮流登录的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1619280" y="1654200"/>
            <a:ext cx="2665440" cy="4870440"/>
          </a:xfrm>
          <a:prstGeom prst="rect">
            <a:avLst/>
          </a:prstGeom>
          <a:ln w="0">
            <a:noFill/>
          </a:ln>
        </p:spPr>
      </p:pic>
      <p:cxnSp>
        <p:nvCxnSpPr>
          <p:cNvPr id="181" name="直接箭头连接符 9"/>
          <p:cNvCxnSpPr/>
          <p:nvPr/>
        </p:nvCxnSpPr>
        <p:spPr>
          <a:xfrm>
            <a:off x="1209600" y="3973320"/>
            <a:ext cx="504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矩形 10"/>
          <p:cNvSpPr/>
          <p:nvPr/>
        </p:nvSpPr>
        <p:spPr>
          <a:xfrm>
            <a:off x="414360" y="3741840"/>
            <a:ext cx="917640" cy="4460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勾这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1"/>
          <p:cNvSpPr/>
          <p:nvPr/>
        </p:nvSpPr>
        <p:spPr>
          <a:xfrm>
            <a:off x="3492360" y="3800520"/>
            <a:ext cx="719280" cy="37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12"/>
          <p:cNvSpPr/>
          <p:nvPr/>
        </p:nvSpPr>
        <p:spPr>
          <a:xfrm>
            <a:off x="4211640" y="398772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3"/>
          <p:cNvSpPr/>
          <p:nvPr/>
        </p:nvSpPr>
        <p:spPr>
          <a:xfrm>
            <a:off x="4500720" y="3649680"/>
            <a:ext cx="1233360" cy="6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默认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即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思在后面有解释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4"/>
          <p:cNvSpPr/>
          <p:nvPr/>
        </p:nvSpPr>
        <p:spPr>
          <a:xfrm>
            <a:off x="1728720" y="4462560"/>
            <a:ext cx="2338560" cy="287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15"/>
          <p:cNvSpPr/>
          <p:nvPr/>
        </p:nvSpPr>
        <p:spPr>
          <a:xfrm>
            <a:off x="1308240" y="4599000"/>
            <a:ext cx="420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414360" y="4375080"/>
            <a:ext cx="917640" cy="5749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双击一个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5994360" y="1762200"/>
            <a:ext cx="1257480" cy="3670200"/>
          </a:xfrm>
          <a:prstGeom prst="rect">
            <a:avLst/>
          </a:prstGeom>
          <a:ln w="0">
            <a:noFill/>
          </a:ln>
        </p:spPr>
      </p:pic>
      <p:sp>
        <p:nvSpPr>
          <p:cNvPr id="190" name="矩形 23"/>
          <p:cNvSpPr/>
          <p:nvPr/>
        </p:nvSpPr>
        <p:spPr>
          <a:xfrm>
            <a:off x="5994360" y="4016520"/>
            <a:ext cx="1174680" cy="127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4"/>
          <p:cNvSpPr/>
          <p:nvPr/>
        </p:nvSpPr>
        <p:spPr>
          <a:xfrm>
            <a:off x="7169040" y="4646520"/>
            <a:ext cx="422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2"/>
          <p:cNvSpPr/>
          <p:nvPr/>
        </p:nvSpPr>
        <p:spPr>
          <a:xfrm>
            <a:off x="7380360" y="4365720"/>
            <a:ext cx="140976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选择区进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1261800" y="1125360"/>
            <a:ext cx="28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小号多号切换使用多号试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1042920" y="1765440"/>
            <a:ext cx="3568680" cy="1434960"/>
          </a:xfrm>
          <a:prstGeom prst="rect">
            <a:avLst/>
          </a:prstGeom>
          <a:ln w="0">
            <a:noFill/>
          </a:ln>
        </p:spPr>
      </p:pic>
      <p:sp>
        <p:nvSpPr>
          <p:cNvPr id="196" name="矩形 19"/>
          <p:cNvSpPr/>
          <p:nvPr/>
        </p:nvSpPr>
        <p:spPr>
          <a:xfrm>
            <a:off x="3492360" y="2527200"/>
            <a:ext cx="1030320" cy="341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21"/>
          <p:cNvSpPr/>
          <p:nvPr/>
        </p:nvSpPr>
        <p:spPr>
          <a:xfrm flipV="1">
            <a:off x="4011480" y="2868120"/>
            <a:ext cx="5040" cy="406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5364000" y="2697120"/>
            <a:ext cx="3086280" cy="3713040"/>
          </a:xfrm>
          <a:prstGeom prst="rect">
            <a:avLst/>
          </a:prstGeom>
          <a:ln w="0">
            <a:noFill/>
          </a:ln>
        </p:spPr>
      </p:pic>
      <p:sp>
        <p:nvSpPr>
          <p:cNvPr id="199" name="矩形 26"/>
          <p:cNvSpPr/>
          <p:nvPr/>
        </p:nvSpPr>
        <p:spPr>
          <a:xfrm>
            <a:off x="6012000" y="4238640"/>
            <a:ext cx="895320" cy="43164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接连接符 27"/>
          <p:cNvSpPr/>
          <p:nvPr/>
        </p:nvSpPr>
        <p:spPr>
          <a:xfrm>
            <a:off x="4432320" y="4454640"/>
            <a:ext cx="1579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8"/>
          <p:cNvSpPr/>
          <p:nvPr/>
        </p:nvSpPr>
        <p:spPr>
          <a:xfrm>
            <a:off x="5796000" y="5013360"/>
            <a:ext cx="895320" cy="3826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9"/>
          <p:cNvSpPr/>
          <p:nvPr/>
        </p:nvSpPr>
        <p:spPr>
          <a:xfrm>
            <a:off x="2125800" y="5621400"/>
            <a:ext cx="2290680" cy="765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层数要手动点一下开始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才会保存填入的层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30"/>
          <p:cNvSpPr/>
          <p:nvPr/>
        </p:nvSpPr>
        <p:spPr>
          <a:xfrm flipV="1">
            <a:off x="4432320" y="5204880"/>
            <a:ext cx="1363680" cy="798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227400" y="3071880"/>
            <a:ext cx="1558800" cy="598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号要进试炼只需打勾多号试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5"/>
          <p:cNvSpPr/>
          <p:nvPr/>
        </p:nvSpPr>
        <p:spPr>
          <a:xfrm>
            <a:off x="1268280" y="4073400"/>
            <a:ext cx="352908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号试炼只进行自动战斗，所以每个号码里面必须填入自动战斗的层数，然后先手动开始一次，以后辅助就只进行自动战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1538280" y="1125360"/>
            <a:ext cx="43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久登录回数解释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可以参考这类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205000" cy="4032000"/>
          </a:xfrm>
          <a:prstGeom prst="rect">
            <a:avLst/>
          </a:prstGeom>
          <a:ln w="0">
            <a:noFill/>
          </a:ln>
        </p:spPr>
      </p:pic>
      <p:sp>
        <p:nvSpPr>
          <p:cNvPr id="209" name="矩形 15"/>
          <p:cNvSpPr/>
          <p:nvPr/>
        </p:nvSpPr>
        <p:spPr>
          <a:xfrm>
            <a:off x="1924200" y="4052880"/>
            <a:ext cx="685800" cy="2826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接连接符 16"/>
          <p:cNvSpPr/>
          <p:nvPr/>
        </p:nvSpPr>
        <p:spPr>
          <a:xfrm>
            <a:off x="2611440" y="4211640"/>
            <a:ext cx="808200" cy="946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2765520" y="1887480"/>
            <a:ext cx="5978520" cy="2158920"/>
          </a:xfrm>
          <a:prstGeom prst="rect">
            <a:avLst/>
          </a:prstGeom>
          <a:ln w="0">
            <a:noFill/>
          </a:ln>
        </p:spPr>
      </p:pic>
      <p:sp>
        <p:nvSpPr>
          <p:cNvPr id="212" name="矩形 18"/>
          <p:cNvSpPr/>
          <p:nvPr/>
        </p:nvSpPr>
        <p:spPr>
          <a:xfrm>
            <a:off x="3419640" y="4684680"/>
            <a:ext cx="33843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表示这里打勾的所有操作运行二次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运行之后切换另一个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继续操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下箭头 4"/>
          <p:cNvSpPr/>
          <p:nvPr/>
        </p:nvSpPr>
        <p:spPr>
          <a:xfrm flipV="1">
            <a:off x="4859280" y="4153680"/>
            <a:ext cx="360360" cy="4618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1512000" y="1125360"/>
            <a:ext cx="35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容易断线，断线辅助会尝试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216160" y="1844640"/>
            <a:ext cx="2517840" cy="4549680"/>
          </a:xfrm>
          <a:prstGeom prst="rect">
            <a:avLst/>
          </a:prstGeom>
          <a:ln w="0">
            <a:noFill/>
          </a:ln>
        </p:spPr>
      </p:pic>
      <p:cxnSp>
        <p:nvCxnSpPr>
          <p:cNvPr id="217" name="直接箭头连接符 10"/>
          <p:cNvCxnSpPr/>
          <p:nvPr/>
        </p:nvCxnSpPr>
        <p:spPr>
          <a:xfrm flipH="1">
            <a:off x="4709880" y="5229000"/>
            <a:ext cx="713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矩形 18"/>
          <p:cNvSpPr/>
          <p:nvPr/>
        </p:nvSpPr>
        <p:spPr>
          <a:xfrm>
            <a:off x="5065560" y="4869000"/>
            <a:ext cx="244980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断线列表将会退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17"/>
          <p:cNvSpPr/>
          <p:nvPr/>
        </p:nvSpPr>
        <p:spPr>
          <a:xfrm>
            <a:off x="3741840" y="2697120"/>
            <a:ext cx="1176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9"/>
          <p:cNvSpPr/>
          <p:nvPr/>
        </p:nvSpPr>
        <p:spPr>
          <a:xfrm>
            <a:off x="4917960" y="2355840"/>
            <a:ext cx="2448000" cy="6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不需验证码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需验证码辅助会自动登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0"/>
          <p:cNvSpPr/>
          <p:nvPr/>
        </p:nvSpPr>
        <p:spPr>
          <a:xfrm>
            <a:off x="3056040" y="2577960"/>
            <a:ext cx="685800" cy="2844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68360" y="1824120"/>
            <a:ext cx="2481480" cy="4537080"/>
          </a:xfrm>
          <a:prstGeom prst="rect">
            <a:avLst/>
          </a:prstGeom>
          <a:ln w="0">
            <a:noFill/>
          </a:ln>
        </p:spPr>
      </p:pic>
      <p:pic>
        <p:nvPicPr>
          <p:cNvPr id="223" name="标题 1" descr=""/>
          <p:cNvPicPr/>
          <p:nvPr/>
        </p:nvPicPr>
        <p:blipFill>
          <a:blip r:embed="rId2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1512000" y="1125360"/>
            <a:ext cx="35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容易断线，断线辅助会尝试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直接箭头连接符 10"/>
          <p:cNvCxnSpPr/>
          <p:nvPr/>
        </p:nvCxnSpPr>
        <p:spPr>
          <a:xfrm flipH="1">
            <a:off x="4517640" y="3176280"/>
            <a:ext cx="713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6" name="矩形 19"/>
          <p:cNvSpPr/>
          <p:nvPr/>
        </p:nvSpPr>
        <p:spPr>
          <a:xfrm>
            <a:off x="5230800" y="2421000"/>
            <a:ext cx="3301920" cy="1512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或在不同地区登录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会要求输验证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现验证码辅助将无法自动登录此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012320" y="1125360"/>
            <a:ext cx="20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从辅助左上角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881440" y="2124000"/>
            <a:ext cx="3035160" cy="281952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3867120" y="3059280"/>
            <a:ext cx="85896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7"/>
          <p:cNvSpPr/>
          <p:nvPr/>
        </p:nvSpPr>
        <p:spPr>
          <a:xfrm>
            <a:off x="4726080" y="3240000"/>
            <a:ext cx="1684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6415200" y="2843280"/>
            <a:ext cx="2082600" cy="7048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不需验证码即可登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直接箭头连接符 11"/>
          <p:cNvCxnSpPr/>
          <p:nvPr/>
        </p:nvCxnSpPr>
        <p:spPr>
          <a:xfrm>
            <a:off x="2378160" y="2339640"/>
            <a:ext cx="504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8" name="矩形 13"/>
          <p:cNvSpPr/>
          <p:nvPr/>
        </p:nvSpPr>
        <p:spPr>
          <a:xfrm>
            <a:off x="657360" y="2050920"/>
            <a:ext cx="1773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关闭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窗口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直接箭头连接符 14"/>
          <p:cNvCxnSpPr/>
          <p:nvPr/>
        </p:nvCxnSpPr>
        <p:spPr>
          <a:xfrm>
            <a:off x="2476440" y="3965040"/>
            <a:ext cx="505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矩形 15"/>
          <p:cNvSpPr/>
          <p:nvPr/>
        </p:nvSpPr>
        <p:spPr>
          <a:xfrm>
            <a:off x="755640" y="3676680"/>
            <a:ext cx="1774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号只打勾单号登录即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1324440" y="1125360"/>
            <a:ext cx="29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登录之后从右边选区进入游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7"/>
          <p:cNvSpPr/>
          <p:nvPr/>
        </p:nvSpPr>
        <p:spPr>
          <a:xfrm>
            <a:off x="1193760" y="4491000"/>
            <a:ext cx="843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501480" y="4184640"/>
            <a:ext cx="1043280" cy="6001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选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035080" y="1660680"/>
            <a:ext cx="1168560" cy="4647960"/>
          </a:xfrm>
          <a:prstGeom prst="rect">
            <a:avLst/>
          </a:prstGeom>
          <a:ln w="0">
            <a:noFill/>
          </a:ln>
        </p:spPr>
      </p:pic>
      <p:sp>
        <p:nvSpPr>
          <p:cNvPr id="106" name="矩形 5"/>
          <p:cNvSpPr/>
          <p:nvPr/>
        </p:nvSpPr>
        <p:spPr>
          <a:xfrm>
            <a:off x="2038320" y="4243320"/>
            <a:ext cx="1176480" cy="480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284720" y="1989000"/>
            <a:ext cx="1257120" cy="3670560"/>
          </a:xfrm>
          <a:prstGeom prst="rect">
            <a:avLst/>
          </a:prstGeom>
          <a:ln w="0">
            <a:noFill/>
          </a:ln>
        </p:spPr>
      </p:pic>
      <p:sp>
        <p:nvSpPr>
          <p:cNvPr id="108" name="矩形 20"/>
          <p:cNvSpPr/>
          <p:nvPr/>
        </p:nvSpPr>
        <p:spPr>
          <a:xfrm>
            <a:off x="4284720" y="3703680"/>
            <a:ext cx="1174680" cy="480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21"/>
          <p:cNvSpPr/>
          <p:nvPr/>
        </p:nvSpPr>
        <p:spPr>
          <a:xfrm>
            <a:off x="5459400" y="394488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7"/>
          <p:cNvSpPr/>
          <p:nvPr/>
        </p:nvSpPr>
        <p:spPr>
          <a:xfrm>
            <a:off x="5880240" y="3645000"/>
            <a:ext cx="222084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可选择要进入的类型，不选即进官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3"/>
          <p:cNvSpPr/>
          <p:nvPr/>
        </p:nvSpPr>
        <p:spPr>
          <a:xfrm>
            <a:off x="5880240" y="4613400"/>
            <a:ext cx="222084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选择区进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4"/>
          <p:cNvSpPr/>
          <p:nvPr/>
        </p:nvSpPr>
        <p:spPr>
          <a:xfrm>
            <a:off x="4284720" y="4243320"/>
            <a:ext cx="1174680" cy="127332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接连接符 25"/>
          <p:cNvSpPr/>
          <p:nvPr/>
        </p:nvSpPr>
        <p:spPr>
          <a:xfrm>
            <a:off x="5459400" y="487980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1475640" y="1125360"/>
            <a:ext cx="41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各项设置根据个人需要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以大号为例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80880" y="1773360"/>
            <a:ext cx="8380440" cy="3047760"/>
          </a:xfrm>
          <a:prstGeom prst="rect">
            <a:avLst/>
          </a:prstGeom>
          <a:ln w="0">
            <a:noFill/>
          </a:ln>
        </p:spPr>
      </p:pic>
      <p:sp>
        <p:nvSpPr>
          <p:cNvPr id="117" name="矩形 15"/>
          <p:cNvSpPr/>
          <p:nvPr/>
        </p:nvSpPr>
        <p:spPr>
          <a:xfrm>
            <a:off x="1473120" y="2205000"/>
            <a:ext cx="866880" cy="180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6"/>
          <p:cNvSpPr/>
          <p:nvPr/>
        </p:nvSpPr>
        <p:spPr>
          <a:xfrm>
            <a:off x="2003400" y="4005360"/>
            <a:ext cx="8683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8"/>
          <p:cNvSpPr/>
          <p:nvPr/>
        </p:nvSpPr>
        <p:spPr>
          <a:xfrm>
            <a:off x="2484360" y="4365720"/>
            <a:ext cx="866880" cy="3585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9"/>
          <p:cNvSpPr/>
          <p:nvPr/>
        </p:nvSpPr>
        <p:spPr>
          <a:xfrm>
            <a:off x="2995560" y="3645000"/>
            <a:ext cx="8683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2"/>
          <p:cNvSpPr/>
          <p:nvPr/>
        </p:nvSpPr>
        <p:spPr>
          <a:xfrm>
            <a:off x="3930480" y="329724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6"/>
          <p:cNvSpPr/>
          <p:nvPr/>
        </p:nvSpPr>
        <p:spPr>
          <a:xfrm>
            <a:off x="4716360" y="364500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7"/>
          <p:cNvSpPr/>
          <p:nvPr/>
        </p:nvSpPr>
        <p:spPr>
          <a:xfrm>
            <a:off x="5867280" y="2233440"/>
            <a:ext cx="9367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8"/>
          <p:cNvSpPr/>
          <p:nvPr/>
        </p:nvSpPr>
        <p:spPr>
          <a:xfrm>
            <a:off x="6588000" y="293688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9"/>
          <p:cNvSpPr/>
          <p:nvPr/>
        </p:nvSpPr>
        <p:spPr>
          <a:xfrm>
            <a:off x="3303720" y="4992840"/>
            <a:ext cx="253512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详细设置请点击按钮进行设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0"/>
          <p:cNvSpPr/>
          <p:nvPr/>
        </p:nvSpPr>
        <p:spPr>
          <a:xfrm>
            <a:off x="3090960" y="2593800"/>
            <a:ext cx="8665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1475640" y="1125360"/>
            <a:ext cx="41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各项设置根据个人需要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以大号为例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735120" y="1771560"/>
            <a:ext cx="1984320" cy="264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3059280" y="1793880"/>
            <a:ext cx="250344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4"/>
          <a:stretch/>
        </p:blipFill>
        <p:spPr>
          <a:xfrm>
            <a:off x="3049560" y="2535120"/>
            <a:ext cx="873000" cy="85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735120" y="4483080"/>
            <a:ext cx="223344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6"/>
          <a:stretch/>
        </p:blipFill>
        <p:spPr>
          <a:xfrm>
            <a:off x="735120" y="4892760"/>
            <a:ext cx="1768320" cy="509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7"/>
          <a:stretch/>
        </p:blipFill>
        <p:spPr>
          <a:xfrm>
            <a:off x="4011480" y="2535120"/>
            <a:ext cx="1486080" cy="520920"/>
          </a:xfrm>
          <a:prstGeom prst="rect">
            <a:avLst/>
          </a:prstGeom>
          <a:ln w="0">
            <a:noFill/>
          </a:ln>
        </p:spPr>
      </p:pic>
      <p:sp>
        <p:nvSpPr>
          <p:cNvPr id="135" name="矩形 21"/>
          <p:cNvSpPr/>
          <p:nvPr/>
        </p:nvSpPr>
        <p:spPr>
          <a:xfrm>
            <a:off x="770040" y="5486400"/>
            <a:ext cx="177480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征总次数为全部次数，按顺序出征，一个打一次，如遇需宣战会自动宣战，但会继续出征可战斗状态的玩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8"/>
          <a:stretch/>
        </p:blipFill>
        <p:spPr>
          <a:xfrm>
            <a:off x="4011480" y="3092400"/>
            <a:ext cx="20876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9"/>
          <a:stretch/>
        </p:blipFill>
        <p:spPr>
          <a:xfrm>
            <a:off x="6275520" y="1814400"/>
            <a:ext cx="1795320" cy="59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10"/>
          <a:stretch/>
        </p:blipFill>
        <p:spPr>
          <a:xfrm>
            <a:off x="6294600" y="2421000"/>
            <a:ext cx="1330200" cy="1063440"/>
          </a:xfrm>
          <a:prstGeom prst="rect">
            <a:avLst/>
          </a:prstGeom>
          <a:ln w="0">
            <a:noFill/>
          </a:ln>
        </p:spPr>
      </p:pic>
      <p:sp>
        <p:nvSpPr>
          <p:cNvPr id="139" name="矩形 31"/>
          <p:cNvSpPr/>
          <p:nvPr/>
        </p:nvSpPr>
        <p:spPr>
          <a:xfrm>
            <a:off x="6321600" y="3500280"/>
            <a:ext cx="177480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为联盟满福利时间，设个大概可以领的时间，自动领取。超过结束时间也会自动领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11"/>
          <a:stretch/>
        </p:blipFill>
        <p:spPr>
          <a:xfrm>
            <a:off x="5062680" y="4456080"/>
            <a:ext cx="1054080" cy="1085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12"/>
          <a:stretch/>
        </p:blipFill>
        <p:spPr>
          <a:xfrm>
            <a:off x="6321600" y="4619520"/>
            <a:ext cx="1833480" cy="1378080"/>
          </a:xfrm>
          <a:prstGeom prst="rect">
            <a:avLst/>
          </a:prstGeom>
          <a:ln w="0">
            <a:noFill/>
          </a:ln>
        </p:spPr>
      </p:pic>
      <p:sp>
        <p:nvSpPr>
          <p:cNvPr id="142" name="矩形 32"/>
          <p:cNvSpPr/>
          <p:nvPr/>
        </p:nvSpPr>
        <p:spPr>
          <a:xfrm>
            <a:off x="6330960" y="6089760"/>
            <a:ext cx="1739880" cy="352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打过首领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可打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接连接符 34"/>
          <p:cNvSpPr/>
          <p:nvPr/>
        </p:nvSpPr>
        <p:spPr>
          <a:xfrm flipH="1">
            <a:off x="4824360" y="5495760"/>
            <a:ext cx="324000" cy="282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5" descr=""/>
          <p:cNvPicPr/>
          <p:nvPr/>
        </p:nvPicPr>
        <p:blipFill>
          <a:blip r:embed="rId13"/>
          <a:stretch/>
        </p:blipFill>
        <p:spPr>
          <a:xfrm>
            <a:off x="3081240" y="3780000"/>
            <a:ext cx="1784520" cy="1738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36"/>
          <p:cNvSpPr/>
          <p:nvPr/>
        </p:nvSpPr>
        <p:spPr>
          <a:xfrm>
            <a:off x="3081240" y="5602320"/>
            <a:ext cx="1741680" cy="350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过首领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可打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37"/>
          <p:cNvSpPr/>
          <p:nvPr/>
        </p:nvSpPr>
        <p:spPr>
          <a:xfrm>
            <a:off x="5499000" y="5308560"/>
            <a:ext cx="822600" cy="8650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1074240" y="1125360"/>
            <a:ext cx="22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先手动进入试炼洞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1042920" y="1844640"/>
            <a:ext cx="252108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如果你最高想打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1042920" y="2573280"/>
            <a:ext cx="518472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因前面不损兵，所以可只排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的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6"/>
          <p:cNvSpPr/>
          <p:nvPr/>
        </p:nvSpPr>
        <p:spPr>
          <a:xfrm>
            <a:off x="1042920" y="3303720"/>
            <a:ext cx="547380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先在游戏里面自动战斗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，这样就可以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开始排兵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095480" y="3976560"/>
            <a:ext cx="26780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949680" y="1125360"/>
            <a:ext cx="18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辅助的试炼设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1042920" y="1844640"/>
            <a:ext cx="475308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因游戏里自动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，辅助需要排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的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7201080" cy="2404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8"/>
          <p:cNvSpPr/>
          <p:nvPr/>
        </p:nvSpPr>
        <p:spPr>
          <a:xfrm>
            <a:off x="4454640" y="5032440"/>
            <a:ext cx="177300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自动战斗再排兵重要，因前面自动战斗了，所以这个必须打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4500720" y="4003560"/>
            <a:ext cx="1726920" cy="5778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10"/>
          <p:cNvSpPr/>
          <p:nvPr/>
        </p:nvSpPr>
        <p:spPr>
          <a:xfrm flipV="1">
            <a:off x="5364000" y="4581000"/>
            <a:ext cx="0" cy="46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6300720" y="4551480"/>
            <a:ext cx="1008000" cy="260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接连接符 19"/>
          <p:cNvSpPr/>
          <p:nvPr/>
        </p:nvSpPr>
        <p:spPr>
          <a:xfrm flipV="1">
            <a:off x="6875640" y="4822560"/>
            <a:ext cx="0" cy="46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8"/>
          <p:cNvSpPr/>
          <p:nvPr/>
        </p:nvSpPr>
        <p:spPr>
          <a:xfrm>
            <a:off x="6411960" y="5013360"/>
            <a:ext cx="177336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让辅助进行正确才打勾每天自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将辅助复制在不同文件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6083280" cy="1752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3"/>
          <a:stretch/>
        </p:blipFill>
        <p:spPr>
          <a:xfrm>
            <a:off x="2908440" y="2492280"/>
            <a:ext cx="2895480" cy="292320"/>
          </a:xfrm>
          <a:prstGeom prst="rect">
            <a:avLst/>
          </a:prstGeom>
          <a:ln w="0">
            <a:noFill/>
          </a:ln>
        </p:spPr>
      </p:pic>
      <p:cxnSp>
        <p:nvCxnSpPr>
          <p:cNvPr id="167" name="直接箭头连接符 18"/>
          <p:cNvCxnSpPr/>
          <p:nvPr/>
        </p:nvCxnSpPr>
        <p:spPr>
          <a:xfrm flipH="1">
            <a:off x="1978920" y="2852640"/>
            <a:ext cx="180108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8" name="直接箭头连接符 22"/>
          <p:cNvCxnSpPr/>
          <p:nvPr/>
        </p:nvCxnSpPr>
        <p:spPr>
          <a:xfrm flipH="1">
            <a:off x="3492360" y="2852640"/>
            <a:ext cx="70524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9" name="直接箭头连接符 26"/>
          <p:cNvCxnSpPr/>
          <p:nvPr/>
        </p:nvCxnSpPr>
        <p:spPr>
          <a:xfrm>
            <a:off x="4703400" y="2879640"/>
            <a:ext cx="30060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0" name="直接箭头连接符 27"/>
          <p:cNvCxnSpPr/>
          <p:nvPr/>
        </p:nvCxnSpPr>
        <p:spPr>
          <a:xfrm>
            <a:off x="5148360" y="2879640"/>
            <a:ext cx="129600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打开文件夹分别运行辅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rcRect l="0" t="0" r="0" b="4302"/>
          <a:stretch/>
        </p:blipFill>
        <p:spPr>
          <a:xfrm>
            <a:off x="981000" y="1603440"/>
            <a:ext cx="3111480" cy="486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3"/>
          <a:stretch/>
        </p:blipFill>
        <p:spPr>
          <a:xfrm>
            <a:off x="4946760" y="1603440"/>
            <a:ext cx="119376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矩形 34"/>
          <p:cNvSpPr/>
          <p:nvPr/>
        </p:nvSpPr>
        <p:spPr>
          <a:xfrm>
            <a:off x="4861080" y="3944880"/>
            <a:ext cx="1377720" cy="70812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35"/>
          <p:cNvSpPr/>
          <p:nvPr/>
        </p:nvSpPr>
        <p:spPr>
          <a:xfrm>
            <a:off x="6221520" y="4270320"/>
            <a:ext cx="295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6"/>
          <p:cNvSpPr/>
          <p:nvPr/>
        </p:nvSpPr>
        <p:spPr>
          <a:xfrm>
            <a:off x="6516720" y="3944880"/>
            <a:ext cx="2219400" cy="7081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小化时提示，这样可以区别哪个辅助运行哪个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05:14:20Z</dcterms:created>
  <dc:creator>杂草</dc:creator>
  <dc:description/>
  <dc:language>en-US</dc:language>
  <cp:lastModifiedBy>Ven</cp:lastModifiedBy>
  <dcterms:modified xsi:type="dcterms:W3CDTF">2013-12-09T03:50:46Z</dcterms:modified>
  <cp:revision>36</cp:revision>
  <dc:subject/>
  <dc:title>PowerPoint 演示文稿</dc:title>
</cp:coreProperties>
</file>