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4893-1B5E-4A38-BA0B-8C700423B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2C81-9B0A-4ABD-9BEC-FDB144F3C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6473-6EA1-4857-889C-D4FDBCE31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70A5-D629-40CB-8883-C8DEE32D4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F1AB-BB6C-422C-B32A-285EBFCFC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D9E3-E743-4478-B2CC-F02AFDD4A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C016-37EC-435F-A88A-7A796AD51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56C6-FF85-4AA5-88AD-0B033E2A6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EDBE-D0F7-4B7E-9E37-03C7E53E1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B849-5A68-4C98-A91E-DB954ECAF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4578-3410-46BA-AA97-D757D5989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7DF8-D0E4-4633-A2CE-DC9166D3B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A936-9A6C-4142-9132-3246C61954A9}" type="slidenum">
              <a:rPr b="0" lang="en-US" sz="8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-9360" y="0"/>
            <a:ext cx="9181800" cy="6891480"/>
          </a:xfrm>
          <a:custGeom>
            <a:avLst/>
            <a:gdLst/>
            <a:ahLst/>
            <a:rect l="l" t="t" r="r" b="b"/>
            <a:pathLst>
              <a:path w="5784" h="4341">
                <a:moveTo>
                  <a:pt x="6" y="0"/>
                </a:moveTo>
                <a:lnTo>
                  <a:pt x="0" y="2941"/>
                </a:lnTo>
                <a:cubicBezTo>
                  <a:pt x="1122" y="3547"/>
                  <a:pt x="4681" y="4341"/>
                  <a:pt x="5784" y="4171"/>
                </a:cubicBezTo>
                <a:lnTo>
                  <a:pt x="5761" y="2"/>
                </a:lnTo>
                <a:lnTo>
                  <a:pt x="6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5950080"/>
            <a:ext cx="3924360" cy="67608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5516640"/>
            <a:ext cx="8550360" cy="89856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2843280" y="5950080"/>
            <a:ext cx="6327720" cy="62064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>
            <a:hlinkClick r:id="rId3"/>
          </p:cNvPr>
          <p:cNvSpPr/>
          <p:nvPr/>
        </p:nvSpPr>
        <p:spPr>
          <a:xfrm>
            <a:off x="42480" y="6523200"/>
            <a:ext cx="2129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69696"/>
                </a:solidFill>
                <a:latin typeface="굴림"/>
              </a:rPr>
              <a:t>Copyright © by ARTCOM PT All rights reserved.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>
            <a:hlinkClick r:id="rId4"/>
          </p:cNvPr>
          <p:cNvSpPr/>
          <p:nvPr/>
        </p:nvSpPr>
        <p:spPr>
          <a:xfrm>
            <a:off x="7496280" y="6599160"/>
            <a:ext cx="1676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969696"/>
                </a:solidFill>
                <a:latin typeface="Times New Roman"/>
              </a:rPr>
              <a:t>www.art-com.co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6553080"/>
            <a:ext cx="91440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6134040" y="492120"/>
            <a:ext cx="30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9360" y="0"/>
            <a:ext cx="916272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-36360" y="3429000"/>
            <a:ext cx="346068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-com.co.kr/online/ppt_gallery_1.htm" TargetMode="External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9360" y="0"/>
            <a:ext cx="916272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-36360" y="3429000"/>
            <a:ext cx="346068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6310440"/>
            <a:ext cx="1851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80808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997440" y="4556160"/>
            <a:ext cx="11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c0c0"/>
                </a:solidFill>
                <a:latin typeface="Times New Roman"/>
              </a:rPr>
              <a:t>200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9</a:t>
            </a:r>
            <a:r>
              <a:rPr b="0" lang="ko-KR" sz="2400" spc="-1" strike="noStrike">
                <a:solidFill>
                  <a:srgbClr val="c0c0c0"/>
                </a:solidFill>
                <a:latin typeface="Times New Roman"/>
              </a:rPr>
              <a:t>.0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>
            <a:hlinkClick r:id="rId2"/>
          </p:cNvPr>
          <p:cNvSpPr/>
          <p:nvPr/>
        </p:nvSpPr>
        <p:spPr>
          <a:xfrm>
            <a:off x="2921040" y="4235400"/>
            <a:ext cx="3301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Times New Roman"/>
              </a:rPr>
              <a:t>Homepag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>
            <a:hlinkClick r:id="rId3"/>
          </p:cNvPr>
          <p:cNvSpPr/>
          <p:nvPr/>
        </p:nvSpPr>
        <p:spPr>
          <a:xfrm>
            <a:off x="3511440" y="654372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c0c0"/>
                </a:solidFill>
                <a:latin typeface="굴림"/>
              </a:rPr>
              <a:t>Copyright © by ARTCOM PT  All rights reserved.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2349360"/>
            <a:ext cx="6310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werPoint Template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F6A7-B862-4C84-8A0A-056232C366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90560" y="197172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178560" y="287280"/>
            <a:ext cx="53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PowerPoint Template_Sub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FE60-C363-4A15-A225-37C8F64023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37:18Z</dcterms:created>
  <dc:creator>ARTCOM PT</dc:creator>
  <dc:description>본 디자인은 ARTCOM PT연구소에 저작권이 있습니다. </dc:description>
  <dc:language>en-US</dc:language>
  <cp:lastModifiedBy>雨林木风</cp:lastModifiedBy>
  <dcterms:modified xsi:type="dcterms:W3CDTF">2009-11-30T09:37:25Z</dcterms:modified>
  <cp:revision>13</cp:revision>
  <dc:subject/>
  <dc:title>슬라이드 1</dc:title>
</cp:coreProperties>
</file>