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636E-DFB4-4048-B8A4-BAD397477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7B68-5892-4C2E-B1C7-E667DD34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37335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5960" y="3333240"/>
            <a:ext cx="37335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31D2-0A03-466C-AA92-8D0FF58D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9893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5960" y="333324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989360" y="333324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C02D-6CE7-4B05-9E91-48E7E5FA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338480" y="312408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601000" y="312408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75960" y="333324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1338480" y="333324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2601000" y="333324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3860-8DC6-429C-91D3-8B8850C7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3F065-67B6-4490-9766-A06F588A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5960" y="3124080"/>
            <a:ext cx="37335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6F0D4-6988-4A6C-AFFC-12D0FC14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37335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0C443-0E58-489F-8D41-32E840D1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8219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989360" y="3124080"/>
            <a:ext cx="18219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61760-D9B6-475C-825D-95C3BEF3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09D9C-009F-444A-B9C8-6C415018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5960" y="1523520"/>
            <a:ext cx="6629400" cy="68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09ED6-9EB1-4104-B1F5-A9535347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989360" y="3124080"/>
            <a:ext cx="18219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5960" y="333324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C2803-8791-4807-B664-775D568A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75960" y="3124080"/>
            <a:ext cx="37335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A9B5-A9B0-40E9-8723-2BA9ABE5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8219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9893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989360" y="333324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CAE57-0876-40CD-BDEC-B1B2C2F0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9893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5960" y="3333240"/>
            <a:ext cx="37335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0B224-90A8-4DD0-896D-FA428236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37335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5960" y="3333240"/>
            <a:ext cx="37335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3319A-CAE7-4A98-BB90-0DB9A12F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9893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5960" y="333324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989360" y="333324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F3CA8-5926-4D21-9313-110CD7DD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338480" y="312408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601000" y="312408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5960" y="333324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1338480" y="333324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2601000" y="333324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FC6C1-8BEE-4B0E-902D-E38CDD767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37335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6EC2-7EC3-45EC-ACDF-DCA9C047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8219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989360" y="3124080"/>
            <a:ext cx="18219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9C9-0269-417E-AA54-01E36363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2CBA-A773-461D-A52B-CD6DD491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5960" y="1523520"/>
            <a:ext cx="6629400" cy="68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1123-E6B6-4D88-B103-4D6F91F8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89360" y="3124080"/>
            <a:ext cx="18219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960" y="333324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1326-218F-406D-B18E-A2139051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8219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9893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89360" y="333324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DC67-F9E0-4040-BDB7-9765D625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9893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5960" y="3333240"/>
            <a:ext cx="37335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1AC2-E1F6-466F-A775-6461E17F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9360" y="-15840"/>
            <a:ext cx="9153360" cy="1308240"/>
          </a:xfrm>
          <a:custGeom>
            <a:avLst/>
            <a:gdLst/>
            <a:ahLst/>
            <a:rect l="l" t="t" r="r" b="b"/>
            <a:pathLst>
              <a:path w="5778" h="1215">
                <a:moveTo>
                  <a:pt x="5778" y="640"/>
                </a:moveTo>
                <a:cubicBezTo>
                  <a:pt x="4217" y="104"/>
                  <a:pt x="3024" y="562"/>
                  <a:pt x="2656" y="668"/>
                </a:cubicBezTo>
                <a:cubicBezTo>
                  <a:pt x="2288" y="774"/>
                  <a:pt x="1066" y="1215"/>
                  <a:pt x="0" y="726"/>
                </a:cubicBezTo>
                <a:cubicBezTo>
                  <a:pt x="0" y="726"/>
                  <a:pt x="12" y="292"/>
                  <a:pt x="12" y="6"/>
                </a:cubicBezTo>
                <a:cubicBezTo>
                  <a:pt x="2901" y="5"/>
                  <a:pt x="5778" y="0"/>
                  <a:pt x="5778" y="0"/>
                </a:cubicBezTo>
                <a:cubicBezTo>
                  <a:pt x="5778" y="227"/>
                  <a:pt x="5778" y="413"/>
                  <a:pt x="5778" y="640"/>
                </a:cubicBezTo>
                <a:close/>
              </a:path>
            </a:pathLst>
          </a:custGeom>
          <a:solidFill>
            <a:srgbClr val="988b3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500200" y="201600"/>
            <a:ext cx="6629400" cy="1006560"/>
          </a:xfrm>
          <a:custGeom>
            <a:avLst/>
            <a:gdLst/>
            <a:ahLst/>
            <a:rect l="l" t="t" r="r" b="b"/>
            <a:pathLst>
              <a:path w="4173" h="936">
                <a:moveTo>
                  <a:pt x="669" y="179"/>
                </a:moveTo>
                <a:cubicBezTo>
                  <a:pt x="1122" y="287"/>
                  <a:pt x="1351" y="360"/>
                  <a:pt x="1538" y="422"/>
                </a:cubicBezTo>
                <a:cubicBezTo>
                  <a:pt x="1725" y="484"/>
                  <a:pt x="3122" y="936"/>
                  <a:pt x="4173" y="374"/>
                </a:cubicBezTo>
                <a:cubicBezTo>
                  <a:pt x="4173" y="374"/>
                  <a:pt x="4173" y="387"/>
                  <a:pt x="4173" y="306"/>
                </a:cubicBezTo>
                <a:cubicBezTo>
                  <a:pt x="3957" y="435"/>
                  <a:pt x="3346" y="626"/>
                  <a:pt x="2845" y="589"/>
                </a:cubicBezTo>
                <a:cubicBezTo>
                  <a:pt x="2344" y="552"/>
                  <a:pt x="1639" y="170"/>
                  <a:pt x="1165" y="85"/>
                </a:cubicBezTo>
                <a:cubicBezTo>
                  <a:pt x="691" y="0"/>
                  <a:pt x="261" y="21"/>
                  <a:pt x="0" y="77"/>
                </a:cubicBezTo>
                <a:cubicBezTo>
                  <a:pt x="2" y="84"/>
                  <a:pt x="261" y="92"/>
                  <a:pt x="669" y="179"/>
                </a:cubicBezTo>
                <a:close/>
              </a:path>
            </a:pathLst>
          </a:custGeom>
          <a:gradFill rotWithShape="0">
            <a:gsLst>
              <a:gs pos="0">
                <a:srgbClr val="e8c972">
                  <a:alpha val="50196"/>
                </a:srgbClr>
              </a:gs>
              <a:gs pos="100000">
                <a:srgbClr val="e8c972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3640" y="-12600"/>
            <a:ext cx="3854520" cy="1177920"/>
          </a:xfrm>
          <a:custGeom>
            <a:avLst/>
            <a:gdLst/>
            <a:ahLst/>
            <a:rect l="l" t="t" r="r" b="b"/>
            <a:pathLst>
              <a:path w="2426" h="1095">
                <a:moveTo>
                  <a:pt x="2426" y="1"/>
                </a:moveTo>
                <a:cubicBezTo>
                  <a:pt x="2426" y="232"/>
                  <a:pt x="2426" y="464"/>
                  <a:pt x="2426" y="464"/>
                </a:cubicBezTo>
                <a:cubicBezTo>
                  <a:pt x="1216" y="1095"/>
                  <a:pt x="584" y="162"/>
                  <a:pt x="0" y="0"/>
                </a:cubicBezTo>
                <a:cubicBezTo>
                  <a:pt x="0" y="0"/>
                  <a:pt x="1213" y="0"/>
                  <a:pt x="2426" y="1"/>
                </a:cubicBezTo>
                <a:close/>
              </a:path>
            </a:pathLst>
          </a:custGeom>
          <a:gradFill rotWithShape="0">
            <a:gsLst>
              <a:gs pos="0">
                <a:srgbClr val="e8c972">
                  <a:alpha val="0"/>
                </a:srgbClr>
              </a:gs>
              <a:gs pos="100000">
                <a:srgbClr val="e8c972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4E88-4BBA-484A-9C27-11351FACB7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313400" y="6477120"/>
            <a:ext cx="175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924680" y="1371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rcRect l="22381" t="0" r="12122" b="0"/>
          <a:stretch/>
        </p:blipFill>
        <p:spPr>
          <a:xfrm>
            <a:off x="769608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3"/>
          <a:stretch/>
        </p:blipFill>
        <p:spPr>
          <a:xfrm>
            <a:off x="7162920" y="76320"/>
            <a:ext cx="1226880" cy="1600200"/>
          </a:xfrm>
          <a:prstGeom prst="rect">
            <a:avLst/>
          </a:prstGeom>
          <a:ln w="0">
            <a:noFill/>
          </a:ln>
        </p:spPr>
      </p:pic>
      <p:sp>
        <p:nvSpPr>
          <p:cNvPr id="19" name="PlaceHolder 5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1f14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rcRect l="0" t="0" r="13003" b="0"/>
          <a:stretch/>
        </p:blipFill>
        <p:spPr>
          <a:xfrm>
            <a:off x="2514600" y="361800"/>
            <a:ext cx="6629400" cy="6496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1793880"/>
            <a:ext cx="9144000" cy="5064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6480" y="0"/>
            <a:ext cx="9172800" cy="1592280"/>
          </a:xfrm>
          <a:custGeom>
            <a:avLst/>
            <a:gdLst/>
            <a:ahLst/>
            <a:rect l="l" t="t" r="r" b="b"/>
            <a:pathLst>
              <a:path w="5778" h="1215">
                <a:moveTo>
                  <a:pt x="5778" y="640"/>
                </a:moveTo>
                <a:cubicBezTo>
                  <a:pt x="4217" y="104"/>
                  <a:pt x="3024" y="562"/>
                  <a:pt x="2656" y="668"/>
                </a:cubicBezTo>
                <a:cubicBezTo>
                  <a:pt x="2288" y="774"/>
                  <a:pt x="1066" y="1215"/>
                  <a:pt x="0" y="726"/>
                </a:cubicBezTo>
                <a:cubicBezTo>
                  <a:pt x="0" y="726"/>
                  <a:pt x="12" y="292"/>
                  <a:pt x="12" y="6"/>
                </a:cubicBezTo>
                <a:cubicBezTo>
                  <a:pt x="2901" y="5"/>
                  <a:pt x="5778" y="0"/>
                  <a:pt x="5778" y="0"/>
                </a:cubicBezTo>
                <a:cubicBezTo>
                  <a:pt x="5778" y="227"/>
                  <a:pt x="5778" y="413"/>
                  <a:pt x="5778" y="640"/>
                </a:cubicBezTo>
                <a:close/>
              </a:path>
            </a:pathLst>
          </a:custGeom>
          <a:solidFill>
            <a:srgbClr val="988b3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-3960" y="-3240"/>
            <a:ext cx="3862440" cy="1435320"/>
          </a:xfrm>
          <a:custGeom>
            <a:avLst/>
            <a:gdLst/>
            <a:ahLst/>
            <a:rect l="l" t="t" r="r" b="b"/>
            <a:pathLst>
              <a:path w="2426" h="1095">
                <a:moveTo>
                  <a:pt x="2426" y="1"/>
                </a:moveTo>
                <a:cubicBezTo>
                  <a:pt x="2426" y="232"/>
                  <a:pt x="2426" y="464"/>
                  <a:pt x="2426" y="464"/>
                </a:cubicBezTo>
                <a:cubicBezTo>
                  <a:pt x="1216" y="1095"/>
                  <a:pt x="584" y="162"/>
                  <a:pt x="0" y="0"/>
                </a:cubicBezTo>
                <a:cubicBezTo>
                  <a:pt x="0" y="0"/>
                  <a:pt x="1213" y="0"/>
                  <a:pt x="2426" y="1"/>
                </a:cubicBezTo>
                <a:close/>
              </a:path>
            </a:pathLst>
          </a:custGeom>
          <a:gradFill rotWithShape="0">
            <a:gsLst>
              <a:gs pos="0">
                <a:srgbClr val="988b3a">
                  <a:alpha val="0"/>
                </a:srgbClr>
              </a:gs>
              <a:gs pos="100000">
                <a:srgbClr val="e8c972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-4680" y="258840"/>
            <a:ext cx="6643440" cy="1225440"/>
          </a:xfrm>
          <a:custGeom>
            <a:avLst/>
            <a:gdLst/>
            <a:ahLst/>
            <a:rect l="l" t="t" r="r" b="b"/>
            <a:pathLst>
              <a:path w="4173" h="936">
                <a:moveTo>
                  <a:pt x="669" y="179"/>
                </a:moveTo>
                <a:cubicBezTo>
                  <a:pt x="1122" y="287"/>
                  <a:pt x="1351" y="360"/>
                  <a:pt x="1538" y="422"/>
                </a:cubicBezTo>
                <a:cubicBezTo>
                  <a:pt x="1725" y="484"/>
                  <a:pt x="3122" y="936"/>
                  <a:pt x="4173" y="374"/>
                </a:cubicBezTo>
                <a:cubicBezTo>
                  <a:pt x="4173" y="374"/>
                  <a:pt x="4173" y="387"/>
                  <a:pt x="4173" y="306"/>
                </a:cubicBezTo>
                <a:cubicBezTo>
                  <a:pt x="3957" y="435"/>
                  <a:pt x="3346" y="626"/>
                  <a:pt x="2845" y="589"/>
                </a:cubicBezTo>
                <a:cubicBezTo>
                  <a:pt x="2344" y="552"/>
                  <a:pt x="1639" y="170"/>
                  <a:pt x="1165" y="85"/>
                </a:cubicBezTo>
                <a:cubicBezTo>
                  <a:pt x="691" y="0"/>
                  <a:pt x="261" y="21"/>
                  <a:pt x="0" y="77"/>
                </a:cubicBezTo>
                <a:cubicBezTo>
                  <a:pt x="2" y="84"/>
                  <a:pt x="261" y="92"/>
                  <a:pt x="669" y="179"/>
                </a:cubicBezTo>
                <a:close/>
              </a:path>
            </a:pathLst>
          </a:custGeom>
          <a:gradFill rotWithShape="0">
            <a:gsLst>
              <a:gs pos="0">
                <a:srgbClr val="e8c972">
                  <a:alpha val="50196"/>
                </a:srgbClr>
              </a:gs>
              <a:gs pos="100000">
                <a:srgbClr val="47452d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9440" y="25704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ldNum" idx="4"/>
          </p:nvPr>
        </p:nvSpPr>
        <p:spPr>
          <a:xfrm>
            <a:off x="3352320" y="6305040"/>
            <a:ext cx="1600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7527-8D6E-42CB-9B14-2851BF2A80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1612800" y="6305040"/>
            <a:ext cx="1650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dt" idx="6"/>
          </p:nvPr>
        </p:nvSpPr>
        <p:spPr>
          <a:xfrm>
            <a:off x="152280" y="630504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447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839080" y="11430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5480" y="1447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11430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246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676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600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609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458200" y="1447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609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1371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4380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image" Target="../media/image8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1f14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8c972"/>
                </a:solidFill>
                <a:latin typeface="Times New Roman"/>
              </a:rPr>
              <a:t>          </a:t>
            </a:r>
            <a:r>
              <a:rPr b="1" lang="en-US" sz="3400" spc="-1" strike="noStrike">
                <a:solidFill>
                  <a:srgbClr val="e8c972"/>
                </a:solidFill>
                <a:latin typeface="Times New Roman"/>
              </a:rPr>
              <a:t>ThemeGallery</a:t>
            </a:r>
            <a:br>
              <a:rPr sz="2900"/>
            </a:br>
            <a:r>
              <a:rPr b="1" lang="en-US" sz="5500" spc="-1" strike="noStrike">
                <a:solidFill>
                  <a:srgbClr val="ffffff"/>
                </a:solidFill>
                <a:latin typeface="Times New Roman"/>
              </a:rPr>
              <a:t>PowerTemplate</a:t>
            </a: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240" y="2971440"/>
            <a:ext cx="47242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0640" y="3033720"/>
            <a:ext cx="2849760" cy="2752560"/>
          </a:xfrm>
          <a:prstGeom prst="roundRect">
            <a:avLst>
              <a:gd name="adj" fmla="val 8014"/>
            </a:avLst>
          </a:prstGeom>
          <a:solidFill>
            <a:srgbClr val="ffffff"/>
          </a:solidFill>
          <a:ln w="28440">
            <a:solidFill>
              <a:srgbClr val="ef8d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64000" y="3098880"/>
            <a:ext cx="2703600" cy="2611440"/>
          </a:xfrm>
          <a:prstGeom prst="roundRect">
            <a:avLst>
              <a:gd name="adj" fmla="val 79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990720" y="2470320"/>
            <a:ext cx="2856960" cy="466560"/>
            <a:chOff x="990720" y="2470320"/>
            <a:chExt cx="2856960" cy="466560"/>
          </a:xfrm>
        </p:grpSpPr>
        <p:sp>
          <p:nvSpPr>
            <p:cNvPr id="341" name=""/>
            <p:cNvSpPr/>
            <p:nvPr/>
          </p:nvSpPr>
          <p:spPr>
            <a:xfrm>
              <a:off x="990720" y="247032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78b44"/>
                </a:gs>
                <a:gs pos="50000">
                  <a:srgbClr val="6fb157"/>
                </a:gs>
                <a:gs pos="100000">
                  <a:srgbClr val="578b44"/>
                </a:gs>
              </a:gsLst>
              <a:lin ang="108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705120" y="254016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20960" y="254016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275440" y="2470320"/>
            <a:ext cx="2856960" cy="466560"/>
            <a:chOff x="5275440" y="2470320"/>
            <a:chExt cx="2856960" cy="466560"/>
          </a:xfrm>
        </p:grpSpPr>
        <p:sp>
          <p:nvSpPr>
            <p:cNvPr id="345" name=""/>
            <p:cNvSpPr/>
            <p:nvPr/>
          </p:nvSpPr>
          <p:spPr>
            <a:xfrm>
              <a:off x="5275440" y="247032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37d1d"/>
                </a:gs>
                <a:gs pos="50000">
                  <a:srgbClr val="ef8d21"/>
                </a:gs>
                <a:gs pos="100000">
                  <a:srgbClr val="d37d1d"/>
                </a:gs>
              </a:gsLst>
              <a:lin ang="10800000"/>
            </a:gradFill>
            <a:ln w="12600">
              <a:solidFill>
                <a:srgbClr val="ef8d21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7989840" y="254016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05680" y="254016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990720" y="3033720"/>
            <a:ext cx="284940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6fb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8"/>
          <p:cNvSpPr/>
          <p:nvPr/>
        </p:nvSpPr>
        <p:spPr>
          <a:xfrm>
            <a:off x="1257480" y="2549520"/>
            <a:ext cx="22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8"/>
          <p:cNvSpPr/>
          <p:nvPr/>
        </p:nvSpPr>
        <p:spPr>
          <a:xfrm>
            <a:off x="5595840" y="25495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 rot="10806000">
            <a:off x="3922200" y="3576960"/>
            <a:ext cx="1293840" cy="755640"/>
          </a:xfrm>
          <a:prstGeom prst="rightArrow">
            <a:avLst>
              <a:gd name="adj1" fmla="val 46509"/>
              <a:gd name="adj2" fmla="val 37622"/>
            </a:avLst>
          </a:prstGeom>
          <a:gradFill rotWithShape="0">
            <a:gsLst>
              <a:gs pos="0">
                <a:srgbClr val="6fb157"/>
              </a:gs>
              <a:gs pos="100000">
                <a:srgbClr val="fefefe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543640" y="317484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f8d21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ef8d21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32480" y="445464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f8d21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ef8d21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673600" y="34797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73600" y="47005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5432400" y="3244680"/>
            <a:ext cx="168480" cy="168480"/>
            <a:chOff x="5432400" y="3244680"/>
            <a:chExt cx="168480" cy="168480"/>
          </a:xfrm>
        </p:grpSpPr>
        <p:sp>
          <p:nvSpPr>
            <p:cNvPr id="357" name=""/>
            <p:cNvSpPr/>
            <p:nvPr/>
          </p:nvSpPr>
          <p:spPr>
            <a:xfrm>
              <a:off x="5432400" y="3244680"/>
              <a:ext cx="168480" cy="16848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bec5d1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45720" y="3258720"/>
              <a:ext cx="140400" cy="140040"/>
            </a:xfrm>
            <a:prstGeom prst="ellipse">
              <a:avLst/>
            </a:prstGeom>
            <a:gradFill rotWithShape="0">
              <a:gsLst>
                <a:gs pos="0">
                  <a:srgbClr val="f3b571"/>
                </a:gs>
                <a:gs pos="100000">
                  <a:srgbClr val="ef8d2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432400" y="4535640"/>
            <a:ext cx="168480" cy="168120"/>
            <a:chOff x="5432400" y="4535640"/>
            <a:chExt cx="168480" cy="168120"/>
          </a:xfrm>
        </p:grpSpPr>
        <p:sp>
          <p:nvSpPr>
            <p:cNvPr id="360" name=""/>
            <p:cNvSpPr/>
            <p:nvPr/>
          </p:nvSpPr>
          <p:spPr>
            <a:xfrm>
              <a:off x="5432400" y="4535640"/>
              <a:ext cx="168480" cy="16812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bec5d1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45720" y="4549680"/>
              <a:ext cx="140400" cy="140040"/>
            </a:xfrm>
            <a:prstGeom prst="ellipse">
              <a:avLst/>
            </a:prstGeom>
            <a:gradFill rotWithShape="0">
              <a:gsLst>
                <a:gs pos="0">
                  <a:srgbClr val="f3b571"/>
                </a:gs>
                <a:gs pos="100000">
                  <a:srgbClr val="ef8d2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1143000" y="5024520"/>
            <a:ext cx="263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4745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7452d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47452d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4745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7452d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47452d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3260880"/>
            <a:ext cx="2698920" cy="428400"/>
          </a:xfrm>
          <a:prstGeom prst="roundRect">
            <a:avLst>
              <a:gd name="adj" fmla="val 50000"/>
            </a:avLst>
          </a:prstGeom>
          <a:solidFill>
            <a:srgbClr val="6fb157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66680" y="384480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6fb157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066680" y="440532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6fb157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091520" y="333360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91520" y="391788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091520" y="447660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 rot="10794000">
            <a:off x="3890160" y="4183200"/>
            <a:ext cx="1297080" cy="755640"/>
          </a:xfrm>
          <a:prstGeom prst="rightArrow">
            <a:avLst>
              <a:gd name="adj1" fmla="val 46509"/>
              <a:gd name="adj2" fmla="val 37716"/>
            </a:avLst>
          </a:prstGeom>
          <a:gradFill rotWithShape="0">
            <a:gsLst>
              <a:gs pos="0">
                <a:srgbClr val="ef8d21"/>
              </a:gs>
              <a:gs pos="100000">
                <a:srgbClr val="fefefe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932040" y="16765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922320" y="59119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62560" y="59119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48320" y="3382920"/>
            <a:ext cx="39621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648320" y="2440080"/>
            <a:ext cx="39621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485640" y="1843200"/>
            <a:ext cx="3809880" cy="466560"/>
            <a:chOff x="485640" y="1843200"/>
            <a:chExt cx="3809880" cy="466560"/>
          </a:xfrm>
        </p:grpSpPr>
        <p:sp>
          <p:nvSpPr>
            <p:cNvPr id="377" name=""/>
            <p:cNvSpPr/>
            <p:nvPr/>
          </p:nvSpPr>
          <p:spPr>
            <a:xfrm>
              <a:off x="485640" y="1843200"/>
              <a:ext cx="380988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97c3"/>
                </a:gs>
                <a:gs pos="100000">
                  <a:srgbClr val="83c5dd"/>
                </a:gs>
              </a:gsLst>
              <a:lin ang="10800000"/>
            </a:gradFill>
            <a:ln w="12600">
              <a:solidFill>
                <a:srgbClr val="1da5d5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4105800" y="1882800"/>
              <a:ext cx="169920" cy="390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8320" y="1884240"/>
              <a:ext cx="169920" cy="38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Text Box 18"/>
          <p:cNvSpPr/>
          <p:nvPr/>
        </p:nvSpPr>
        <p:spPr>
          <a:xfrm>
            <a:off x="800280" y="1814400"/>
            <a:ext cx="305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5400000">
            <a:off x="4410000" y="2638440"/>
            <a:ext cx="488880" cy="488880"/>
          </a:xfrm>
          <a:prstGeom prst="diamond">
            <a:avLst/>
          </a:prstGeom>
          <a:solidFill>
            <a:srgbClr val="d54f6f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5400000">
            <a:off x="4409640" y="3581280"/>
            <a:ext cx="489240" cy="488880"/>
          </a:xfrm>
          <a:prstGeom prst="diamond">
            <a:avLst/>
          </a:prstGeom>
          <a:solidFill>
            <a:srgbClr val="5ac2c2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48320" y="5259240"/>
            <a:ext cx="39621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48320" y="4316400"/>
            <a:ext cx="39621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5400000">
            <a:off x="4410000" y="4514760"/>
            <a:ext cx="488880" cy="488880"/>
          </a:xfrm>
          <a:prstGeom prst="diamond">
            <a:avLst/>
          </a:prstGeom>
          <a:solidFill>
            <a:srgbClr val="ef8d21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rot="5400000">
            <a:off x="4410000" y="5457960"/>
            <a:ext cx="488880" cy="488880"/>
          </a:xfrm>
          <a:prstGeom prst="diamond">
            <a:avLst/>
          </a:prstGeom>
          <a:solidFill>
            <a:srgbClr val="6fb157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2652840"/>
            <a:ext cx="3353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9"/>
          <p:cNvSpPr/>
          <p:nvPr/>
        </p:nvSpPr>
        <p:spPr>
          <a:xfrm>
            <a:off x="4952880" y="3454560"/>
            <a:ext cx="350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52880" y="4519440"/>
            <a:ext cx="3353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4952880" y="5330880"/>
            <a:ext cx="350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9480" y="2530440"/>
            <a:ext cx="3625920" cy="3625920"/>
          </a:xfrm>
          <a:prstGeom prst="ellipse">
            <a:avLst/>
          </a:prstGeom>
          <a:solidFill>
            <a:srgbClr val="d54f6f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58680" y="3297240"/>
            <a:ext cx="2927520" cy="2867040"/>
          </a:xfrm>
          <a:prstGeom prst="ellipse">
            <a:avLst/>
          </a:prstGeom>
          <a:solidFill>
            <a:srgbClr val="5ac2c2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353960" y="4025880"/>
            <a:ext cx="2160720" cy="2139840"/>
          </a:xfrm>
          <a:prstGeom prst="ellipse">
            <a:avLst/>
          </a:prstGeom>
          <a:solidFill>
            <a:srgbClr val="ef8d21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04960" y="4719600"/>
            <a:ext cx="1484280" cy="1452600"/>
          </a:xfrm>
          <a:prstGeom prst="ellipse">
            <a:avLst/>
          </a:prstGeom>
          <a:solidFill>
            <a:srgbClr val="6fb157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8"/>
          <p:cNvSpPr/>
          <p:nvPr/>
        </p:nvSpPr>
        <p:spPr>
          <a:xfrm>
            <a:off x="1577880" y="5305320"/>
            <a:ext cx="17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8"/>
          <p:cNvSpPr/>
          <p:nvPr/>
        </p:nvSpPr>
        <p:spPr>
          <a:xfrm>
            <a:off x="1482840" y="4284720"/>
            <a:ext cx="18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8"/>
          <p:cNvSpPr/>
          <p:nvPr/>
        </p:nvSpPr>
        <p:spPr>
          <a:xfrm>
            <a:off x="1482840" y="3492360"/>
            <a:ext cx="18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8"/>
          <p:cNvSpPr/>
          <p:nvPr/>
        </p:nvSpPr>
        <p:spPr>
          <a:xfrm>
            <a:off x="1482840" y="272556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93920" y="4484520"/>
            <a:ext cx="6360840" cy="103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f7f7"/>
              </a:gs>
              <a:gs pos="100000">
                <a:srgbClr val="eaeaea"/>
              </a:gs>
            </a:gsLst>
            <a:lin ang="5400000"/>
          </a:gradFill>
          <a:ln w="19080">
            <a:solidFill>
              <a:srgbClr val="ef8d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393920" y="3110040"/>
            <a:ext cx="6360840" cy="103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f7f7"/>
              </a:gs>
              <a:gs pos="100000">
                <a:srgbClr val="eaeaea"/>
              </a:gs>
            </a:gsLst>
            <a:lin ang="5400000"/>
          </a:gradFill>
          <a:ln w="19080">
            <a:solidFill>
              <a:srgbClr val="5ac2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93920" y="1746360"/>
            <a:ext cx="6360840" cy="103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f7f7"/>
              </a:gs>
              <a:gs pos="100000">
                <a:srgbClr val="eaeaea"/>
              </a:gs>
            </a:gsLst>
            <a:lin ang="5400000"/>
          </a:gradFill>
          <a:ln w="19080">
            <a:solidFill>
              <a:srgbClr val="6fb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222640" y="2889360"/>
            <a:ext cx="4686120" cy="463320"/>
            <a:chOff x="2222640" y="2889360"/>
            <a:chExt cx="4686120" cy="463320"/>
          </a:xfrm>
        </p:grpSpPr>
        <p:sp>
          <p:nvSpPr>
            <p:cNvPr id="404" name=""/>
            <p:cNvSpPr/>
            <p:nvPr/>
          </p:nvSpPr>
          <p:spPr>
            <a:xfrm>
              <a:off x="2222640" y="2889360"/>
              <a:ext cx="4686120" cy="463320"/>
            </a:xfrm>
            <a:prstGeom prst="roundRect">
              <a:avLst>
                <a:gd name="adj" fmla="val 17509"/>
              </a:avLst>
            </a:prstGeom>
            <a:solidFill>
              <a:srgbClr val="5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2234160" y="2903760"/>
              <a:ext cx="4668840" cy="428400"/>
              <a:chOff x="2234160" y="2903760"/>
              <a:chExt cx="4668840" cy="428400"/>
            </a:xfrm>
          </p:grpSpPr>
          <p:sp>
            <p:nvSpPr>
              <p:cNvPr id="406" name=""/>
              <p:cNvSpPr/>
              <p:nvPr/>
            </p:nvSpPr>
            <p:spPr>
              <a:xfrm>
                <a:off x="2234160" y="3221280"/>
                <a:ext cx="46688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ac2c2">
                      <a:alpha val="0"/>
                    </a:srgbClr>
                  </a:gs>
                  <a:gs pos="100000">
                    <a:srgbClr val="c4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234160" y="2903760"/>
                <a:ext cx="46688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fe6e6"/>
                  </a:gs>
                  <a:gs pos="100000">
                    <a:srgbClr val="5ac2c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"/>
          <p:cNvGrpSpPr/>
          <p:nvPr/>
        </p:nvGrpSpPr>
        <p:grpSpPr>
          <a:xfrm>
            <a:off x="2195640" y="4260960"/>
            <a:ext cx="4686120" cy="463320"/>
            <a:chOff x="2195640" y="4260960"/>
            <a:chExt cx="4686120" cy="463320"/>
          </a:xfrm>
        </p:grpSpPr>
        <p:sp>
          <p:nvSpPr>
            <p:cNvPr id="409" name=""/>
            <p:cNvSpPr/>
            <p:nvPr/>
          </p:nvSpPr>
          <p:spPr>
            <a:xfrm>
              <a:off x="2195640" y="4260960"/>
              <a:ext cx="4686120" cy="463320"/>
            </a:xfrm>
            <a:prstGeom prst="roundRect">
              <a:avLst>
                <a:gd name="adj" fmla="val 17509"/>
              </a:avLst>
            </a:prstGeom>
            <a:solidFill>
              <a:srgbClr val="ef8d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2207160" y="4275360"/>
              <a:ext cx="4668840" cy="428400"/>
              <a:chOff x="2207160" y="4275360"/>
              <a:chExt cx="4668840" cy="428400"/>
            </a:xfrm>
          </p:grpSpPr>
          <p:sp>
            <p:nvSpPr>
              <p:cNvPr id="411" name=""/>
              <p:cNvSpPr/>
              <p:nvPr/>
            </p:nvSpPr>
            <p:spPr>
              <a:xfrm>
                <a:off x="2207160" y="4592880"/>
                <a:ext cx="46688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f8d21">
                      <a:alpha val="0"/>
                    </a:srgbClr>
                  </a:gs>
                  <a:gs pos="100000">
                    <a:srgbClr val="f7d2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207160" y="4275360"/>
                <a:ext cx="46688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d6b0"/>
                  </a:gs>
                  <a:gs pos="100000">
                    <a:srgbClr val="ef8d2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"/>
          <p:cNvGrpSpPr/>
          <p:nvPr/>
        </p:nvGrpSpPr>
        <p:grpSpPr>
          <a:xfrm>
            <a:off x="2225520" y="1523880"/>
            <a:ext cx="4686480" cy="463680"/>
            <a:chOff x="2225520" y="1523880"/>
            <a:chExt cx="4686480" cy="463680"/>
          </a:xfrm>
        </p:grpSpPr>
        <p:sp>
          <p:nvSpPr>
            <p:cNvPr id="414" name=""/>
            <p:cNvSpPr/>
            <p:nvPr/>
          </p:nvSpPr>
          <p:spPr>
            <a:xfrm>
              <a:off x="2225520" y="1523880"/>
              <a:ext cx="4686480" cy="463680"/>
            </a:xfrm>
            <a:prstGeom prst="roundRect">
              <a:avLst>
                <a:gd name="adj" fmla="val 17509"/>
              </a:avLst>
            </a:prstGeom>
            <a:solidFill>
              <a:srgbClr val="6fb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2237040" y="1538280"/>
              <a:ext cx="4669200" cy="428400"/>
              <a:chOff x="2237040" y="1538280"/>
              <a:chExt cx="4669200" cy="428400"/>
            </a:xfrm>
          </p:grpSpPr>
          <p:sp>
            <p:nvSpPr>
              <p:cNvPr id="416" name=""/>
              <p:cNvSpPr/>
              <p:nvPr/>
            </p:nvSpPr>
            <p:spPr>
              <a:xfrm>
                <a:off x="2237040" y="1855800"/>
                <a:ext cx="466920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fb157">
                      <a:alpha val="0"/>
                    </a:srgbClr>
                  </a:gs>
                  <a:gs pos="100000">
                    <a:srgbClr val="cbe2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237040" y="1538280"/>
                <a:ext cx="4669200" cy="11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0e5c8"/>
                  </a:gs>
                  <a:gs pos="100000">
                    <a:srgbClr val="6fb15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3435840" y="15685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dd your 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435840" y="294804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dd your 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435840" y="431640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dd your 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52600" y="2021040"/>
            <a:ext cx="337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19120" y="2344680"/>
            <a:ext cx="6319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452600" y="4775040"/>
            <a:ext cx="337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19120" y="5068800"/>
            <a:ext cx="6319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96880" y="5667480"/>
            <a:ext cx="616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52600" y="3400560"/>
            <a:ext cx="337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419120" y="3693960"/>
            <a:ext cx="6319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2163600" y="4013280"/>
            <a:ext cx="228312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94710"/>
              </a:gs>
              <a:gs pos="100000">
                <a:srgbClr val="ef8d21"/>
              </a:gs>
            </a:gsLst>
            <a:lin ang="81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4745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65520" y="2398680"/>
            <a:ext cx="2284560" cy="1575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ac2c2"/>
              </a:gs>
              <a:gs pos="100000">
                <a:srgbClr val="499f9f"/>
              </a:gs>
            </a:gsLst>
            <a:lin ang="81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4745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63600" y="2398680"/>
            <a:ext cx="2284560" cy="1575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49393"/>
              </a:gs>
              <a:gs pos="100000">
                <a:srgbClr val="5ac2c2"/>
              </a:gs>
            </a:gsLst>
            <a:lin ang="135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4745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3367080" y="2397240"/>
            <a:ext cx="2284560" cy="1573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67474"/>
              </a:gs>
              <a:gs pos="100000">
                <a:srgbClr val="5ac2c2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362400" y="4010040"/>
            <a:ext cx="228420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56a19"/>
              </a:gs>
              <a:gs pos="100000">
                <a:srgbClr val="ef8d21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4745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562640" y="4013280"/>
            <a:ext cx="228276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f8d21"/>
              </a:gs>
              <a:gs pos="100000">
                <a:srgbClr val="ad6617"/>
              </a:gs>
            </a:gsLst>
            <a:lin ang="135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4745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886200" y="2487600"/>
            <a:ext cx="123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90640" y="424188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048280" y="4241880"/>
            <a:ext cx="123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86200" y="4830840"/>
            <a:ext cx="123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33480" y="278136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372360" y="279864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14400" y="461628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419880" y="463392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019320" y="1676520"/>
            <a:ext cx="30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289320" y="5683320"/>
            <a:ext cx="24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690640" y="307188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048280" y="3071880"/>
            <a:ext cx="123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657600" y="3429000"/>
            <a:ext cx="1652760" cy="1108080"/>
            <a:chOff x="3657600" y="3429000"/>
            <a:chExt cx="1652760" cy="1108080"/>
          </a:xfrm>
        </p:grpSpPr>
        <p:sp>
          <p:nvSpPr>
            <p:cNvPr id="448" name=""/>
            <p:cNvSpPr/>
            <p:nvPr/>
          </p:nvSpPr>
          <p:spPr>
            <a:xfrm>
              <a:off x="3657600" y="3429000"/>
              <a:ext cx="1652760" cy="1108080"/>
            </a:xfrm>
            <a:prstGeom prst="hexagon">
              <a:avLst>
                <a:gd name="adj" fmla="val 37289"/>
                <a:gd name="vf" fmla="val 115470"/>
              </a:avLst>
            </a:prstGeom>
            <a:solidFill>
              <a:srgbClr val="f8f8f8">
                <a:alpha val="50000"/>
              </a:srgbClr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01160" y="3456000"/>
              <a:ext cx="1554480" cy="1042200"/>
            </a:xfrm>
            <a:prstGeom prst="hexagon">
              <a:avLst>
                <a:gd name="adj" fmla="val 37288"/>
                <a:gd name="vf" fmla="val 115470"/>
              </a:avLst>
            </a:prstGeom>
            <a:solidFill>
              <a:srgbClr val="f8f8f8"/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3857760" y="359712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71400" y="2825640"/>
            <a:ext cx="7999560" cy="2476440"/>
          </a:xfrm>
          <a:custGeom>
            <a:avLst/>
            <a:gdLst/>
            <a:ahLst/>
            <a:rect l="l" t="t" r="r" b="b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solidFill>
            <a:srgbClr val="ef8d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236600" y="4029120"/>
            <a:ext cx="1133640" cy="1044360"/>
            <a:chOff x="1236600" y="4029120"/>
            <a:chExt cx="1133640" cy="1044360"/>
          </a:xfrm>
        </p:grpSpPr>
        <p:sp>
          <p:nvSpPr>
            <p:cNvPr id="454" name=""/>
            <p:cNvSpPr/>
            <p:nvPr/>
          </p:nvSpPr>
          <p:spPr>
            <a:xfrm>
              <a:off x="1348560" y="4833360"/>
              <a:ext cx="441720" cy="22644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71717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652040" y="4750560"/>
              <a:ext cx="483480" cy="22248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71717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65600" y="4885560"/>
              <a:ext cx="404640" cy="18756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71717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6600" y="4311000"/>
              <a:ext cx="29520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521360" y="4029120"/>
              <a:ext cx="371520" cy="9392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61560" y="4326840"/>
              <a:ext cx="29484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7183440" y="19051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5130720" y="254304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3224160" y="317988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63" name=""/>
          <p:cNvGrpSpPr/>
          <p:nvPr/>
        </p:nvGrpSpPr>
        <p:grpSpPr>
          <a:xfrm>
            <a:off x="600120" y="5394240"/>
            <a:ext cx="1808280" cy="314280"/>
            <a:chOff x="600120" y="5394240"/>
            <a:chExt cx="1808280" cy="314280"/>
          </a:xfrm>
        </p:grpSpPr>
        <p:sp>
          <p:nvSpPr>
            <p:cNvPr id="464" name=""/>
            <p:cNvSpPr/>
            <p:nvPr/>
          </p:nvSpPr>
          <p:spPr>
            <a:xfrm>
              <a:off x="600120" y="539424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8a859"/>
                </a:gs>
                <a:gs pos="100000">
                  <a:srgbClr val="b68a1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318400" y="5420880"/>
              <a:ext cx="8064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10920" y="5421600"/>
              <a:ext cx="8064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Text Box 18"/>
          <p:cNvSpPr/>
          <p:nvPr/>
        </p:nvSpPr>
        <p:spPr>
          <a:xfrm>
            <a:off x="816120" y="5372280"/>
            <a:ext cx="13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538200" y="190512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71400" y="574344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92520" y="504180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795920" y="421488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900840" y="338760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730600" y="4595760"/>
            <a:ext cx="1807920" cy="312840"/>
            <a:chOff x="2730600" y="4595760"/>
            <a:chExt cx="1807920" cy="312840"/>
          </a:xfrm>
        </p:grpSpPr>
        <p:sp>
          <p:nvSpPr>
            <p:cNvPr id="474" name=""/>
            <p:cNvSpPr/>
            <p:nvPr/>
          </p:nvSpPr>
          <p:spPr>
            <a:xfrm>
              <a:off x="2730600" y="4595760"/>
              <a:ext cx="180792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8a859"/>
                </a:gs>
                <a:gs pos="100000">
                  <a:srgbClr val="b68a1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4448520" y="4622040"/>
              <a:ext cx="80640" cy="261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41400" y="4623120"/>
              <a:ext cx="8064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Text Box 18"/>
          <p:cNvSpPr/>
          <p:nvPr/>
        </p:nvSpPr>
        <p:spPr>
          <a:xfrm>
            <a:off x="2944800" y="457344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761000" y="3782880"/>
            <a:ext cx="1807920" cy="314280"/>
            <a:chOff x="4761000" y="3782880"/>
            <a:chExt cx="1807920" cy="314280"/>
          </a:xfrm>
        </p:grpSpPr>
        <p:sp>
          <p:nvSpPr>
            <p:cNvPr id="479" name=""/>
            <p:cNvSpPr/>
            <p:nvPr/>
          </p:nvSpPr>
          <p:spPr>
            <a:xfrm>
              <a:off x="4761000" y="378288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8a859"/>
                </a:gs>
                <a:gs pos="100000">
                  <a:srgbClr val="b68a1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6478920" y="3809520"/>
              <a:ext cx="8064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71800" y="3810240"/>
              <a:ext cx="8064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2" name="Text Box 18"/>
          <p:cNvSpPr/>
          <p:nvPr/>
        </p:nvSpPr>
        <p:spPr>
          <a:xfrm>
            <a:off x="4976640" y="3760920"/>
            <a:ext cx="13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878520" y="2992320"/>
            <a:ext cx="1808280" cy="314280"/>
            <a:chOff x="6878520" y="2992320"/>
            <a:chExt cx="1808280" cy="314280"/>
          </a:xfrm>
        </p:grpSpPr>
        <p:sp>
          <p:nvSpPr>
            <p:cNvPr id="484" name=""/>
            <p:cNvSpPr/>
            <p:nvPr/>
          </p:nvSpPr>
          <p:spPr>
            <a:xfrm>
              <a:off x="6878520" y="299232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8a859"/>
                </a:gs>
                <a:gs pos="100000">
                  <a:srgbClr val="b68a1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8596800" y="3018960"/>
              <a:ext cx="8064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89320" y="3019680"/>
              <a:ext cx="8064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Text Box 18"/>
          <p:cNvSpPr/>
          <p:nvPr/>
        </p:nvSpPr>
        <p:spPr>
          <a:xfrm>
            <a:off x="7094520" y="2970360"/>
            <a:ext cx="13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990720" y="2438280"/>
            <a:ext cx="7061040" cy="373392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134040" y="27986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d54f6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19440" y="27986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5ac2c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908440" y="27986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6fb15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93840" y="27986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ef8d2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1666800"/>
            <a:ext cx="6629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1298520" y="5146560"/>
            <a:ext cx="1553760" cy="704880"/>
            <a:chOff x="1298520" y="5146560"/>
            <a:chExt cx="1553760" cy="704880"/>
          </a:xfrm>
        </p:grpSpPr>
        <p:sp>
          <p:nvSpPr>
            <p:cNvPr id="496" name=""/>
            <p:cNvSpPr/>
            <p:nvPr/>
          </p:nvSpPr>
          <p:spPr>
            <a:xfrm>
              <a:off x="1298520" y="51465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cc781c"/>
                </a:gs>
                <a:gs pos="100000">
                  <a:srgbClr val="ef8d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99960" y="51476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ef8d21"/>
                </a:gs>
                <a:gs pos="100000">
                  <a:srgbClr val="f2af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2917800" y="5146560"/>
            <a:ext cx="1553760" cy="704880"/>
            <a:chOff x="2917800" y="5146560"/>
            <a:chExt cx="1553760" cy="704880"/>
          </a:xfrm>
        </p:grpSpPr>
        <p:sp>
          <p:nvSpPr>
            <p:cNvPr id="499" name=""/>
            <p:cNvSpPr/>
            <p:nvPr/>
          </p:nvSpPr>
          <p:spPr>
            <a:xfrm>
              <a:off x="2917800" y="51465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e974a"/>
                </a:gs>
                <a:gs pos="100000">
                  <a:srgbClr val="6fb15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19240" y="51476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fb157"/>
                </a:gs>
                <a:gs pos="100000">
                  <a:srgbClr val="a9cf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535640" y="5146560"/>
            <a:ext cx="1553760" cy="704880"/>
            <a:chOff x="4535640" y="5146560"/>
            <a:chExt cx="1553760" cy="704880"/>
          </a:xfrm>
        </p:grpSpPr>
        <p:sp>
          <p:nvSpPr>
            <p:cNvPr id="502" name=""/>
            <p:cNvSpPr/>
            <p:nvPr/>
          </p:nvSpPr>
          <p:spPr>
            <a:xfrm>
              <a:off x="4535640" y="51465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4ca5a5"/>
                </a:gs>
                <a:gs pos="100000">
                  <a:srgbClr val="5ac2c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37080" y="51476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5ac2c2"/>
                </a:gs>
                <a:gs pos="100000">
                  <a:srgbClr val="9c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151680" y="5146560"/>
            <a:ext cx="1553760" cy="704880"/>
            <a:chOff x="6151680" y="5146560"/>
            <a:chExt cx="1553760" cy="704880"/>
          </a:xfrm>
        </p:grpSpPr>
        <p:sp>
          <p:nvSpPr>
            <p:cNvPr id="505" name=""/>
            <p:cNvSpPr/>
            <p:nvPr/>
          </p:nvSpPr>
          <p:spPr>
            <a:xfrm>
              <a:off x="6151680" y="51465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b6435e"/>
                </a:gs>
                <a:gs pos="100000">
                  <a:srgbClr val="d54f6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153120" y="51476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d54f6f"/>
                </a:gs>
                <a:gs pos="100000">
                  <a:srgbClr val="e390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386000" y="29606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000240" y="296064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21320" y="29606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222960" y="296064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316160" y="51386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933640" y="51386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556160" y="513864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154560" y="513864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301760" y="4952880"/>
            <a:ext cx="1550520" cy="154080"/>
            <a:chOff x="1301760" y="4952880"/>
            <a:chExt cx="1550520" cy="154080"/>
          </a:xfrm>
        </p:grpSpPr>
        <p:sp>
          <p:nvSpPr>
            <p:cNvPr id="516" name=""/>
            <p:cNvSpPr/>
            <p:nvPr/>
          </p:nvSpPr>
          <p:spPr>
            <a:xfrm>
              <a:off x="1301760" y="49528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c781c"/>
                </a:gs>
                <a:gs pos="100000">
                  <a:srgbClr val="ef8d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302840" y="49528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8d21"/>
                </a:gs>
                <a:gs pos="100000">
                  <a:srgbClr val="f2af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301760" y="4799160"/>
            <a:ext cx="1550520" cy="152280"/>
            <a:chOff x="1301760" y="4799160"/>
            <a:chExt cx="1550520" cy="152280"/>
          </a:xfrm>
        </p:grpSpPr>
        <p:sp>
          <p:nvSpPr>
            <p:cNvPr id="519" name=""/>
            <p:cNvSpPr/>
            <p:nvPr/>
          </p:nvSpPr>
          <p:spPr>
            <a:xfrm>
              <a:off x="1301760" y="47991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c781c"/>
                </a:gs>
                <a:gs pos="100000">
                  <a:srgbClr val="ef8d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02840" y="47991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8d21"/>
                </a:gs>
                <a:gs pos="100000">
                  <a:srgbClr val="f2af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1301760" y="4611600"/>
            <a:ext cx="1550520" cy="154080"/>
            <a:chOff x="1301760" y="4611600"/>
            <a:chExt cx="1550520" cy="154080"/>
          </a:xfrm>
        </p:grpSpPr>
        <p:sp>
          <p:nvSpPr>
            <p:cNvPr id="522" name=""/>
            <p:cNvSpPr/>
            <p:nvPr/>
          </p:nvSpPr>
          <p:spPr>
            <a:xfrm>
              <a:off x="1301760" y="46116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c781c"/>
                </a:gs>
                <a:gs pos="100000">
                  <a:srgbClr val="ef8d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302840" y="46116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8d21"/>
                </a:gs>
                <a:gs pos="100000">
                  <a:srgbClr val="f2af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1301760" y="4424400"/>
            <a:ext cx="1550520" cy="154080"/>
            <a:chOff x="1301760" y="4424400"/>
            <a:chExt cx="1550520" cy="154080"/>
          </a:xfrm>
        </p:grpSpPr>
        <p:sp>
          <p:nvSpPr>
            <p:cNvPr id="525" name=""/>
            <p:cNvSpPr/>
            <p:nvPr/>
          </p:nvSpPr>
          <p:spPr>
            <a:xfrm>
              <a:off x="1301760" y="44244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c781c"/>
                </a:gs>
                <a:gs pos="100000">
                  <a:srgbClr val="ef8d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302840" y="44244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8d21"/>
                </a:gs>
                <a:gs pos="100000">
                  <a:srgbClr val="f2af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301760" y="4241880"/>
            <a:ext cx="1550520" cy="154080"/>
            <a:chOff x="1301760" y="4241880"/>
            <a:chExt cx="1550520" cy="154080"/>
          </a:xfrm>
        </p:grpSpPr>
        <p:sp>
          <p:nvSpPr>
            <p:cNvPr id="528" name=""/>
            <p:cNvSpPr/>
            <p:nvPr/>
          </p:nvSpPr>
          <p:spPr>
            <a:xfrm>
              <a:off x="1301760" y="42418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c781c"/>
                </a:gs>
                <a:gs pos="100000">
                  <a:srgbClr val="ef8d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02840" y="42418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8d21"/>
                </a:gs>
                <a:gs pos="100000">
                  <a:srgbClr val="f2af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1301760" y="4054320"/>
            <a:ext cx="1550520" cy="154080"/>
            <a:chOff x="1301760" y="4054320"/>
            <a:chExt cx="1550520" cy="154080"/>
          </a:xfrm>
        </p:grpSpPr>
        <p:sp>
          <p:nvSpPr>
            <p:cNvPr id="531" name=""/>
            <p:cNvSpPr/>
            <p:nvPr/>
          </p:nvSpPr>
          <p:spPr>
            <a:xfrm>
              <a:off x="1301760" y="40543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c781c"/>
                </a:gs>
                <a:gs pos="100000">
                  <a:srgbClr val="ef8d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02840" y="40543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8d21"/>
                </a:gs>
                <a:gs pos="100000">
                  <a:srgbClr val="f2af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1301760" y="3867120"/>
            <a:ext cx="1550520" cy="154080"/>
            <a:chOff x="1301760" y="3867120"/>
            <a:chExt cx="1550520" cy="154080"/>
          </a:xfrm>
        </p:grpSpPr>
        <p:sp>
          <p:nvSpPr>
            <p:cNvPr id="534" name=""/>
            <p:cNvSpPr/>
            <p:nvPr/>
          </p:nvSpPr>
          <p:spPr>
            <a:xfrm>
              <a:off x="1301760" y="38671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c781c"/>
                </a:gs>
                <a:gs pos="100000">
                  <a:srgbClr val="ef8d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02840" y="38671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8d21"/>
                </a:gs>
                <a:gs pos="100000">
                  <a:srgbClr val="f2af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1301760" y="3681360"/>
            <a:ext cx="1550520" cy="154080"/>
            <a:chOff x="1301760" y="3681360"/>
            <a:chExt cx="1550520" cy="154080"/>
          </a:xfrm>
        </p:grpSpPr>
        <p:sp>
          <p:nvSpPr>
            <p:cNvPr id="537" name=""/>
            <p:cNvSpPr/>
            <p:nvPr/>
          </p:nvSpPr>
          <p:spPr>
            <a:xfrm>
              <a:off x="1301760" y="36813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c781c"/>
                </a:gs>
                <a:gs pos="100000">
                  <a:srgbClr val="ef8d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302840" y="3681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8d21"/>
                </a:gs>
                <a:gs pos="100000">
                  <a:srgbClr val="f2af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2925720" y="4952880"/>
            <a:ext cx="1550520" cy="154080"/>
            <a:chOff x="2925720" y="4952880"/>
            <a:chExt cx="1550520" cy="154080"/>
          </a:xfrm>
        </p:grpSpPr>
        <p:sp>
          <p:nvSpPr>
            <p:cNvPr id="540" name=""/>
            <p:cNvSpPr/>
            <p:nvPr/>
          </p:nvSpPr>
          <p:spPr>
            <a:xfrm>
              <a:off x="2925720" y="495288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6fb157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926800" y="49528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fb157"/>
                </a:gs>
                <a:gs pos="100000">
                  <a:srgbClr val="9ac8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2925720" y="4799160"/>
            <a:ext cx="1550520" cy="152280"/>
            <a:chOff x="2925720" y="4799160"/>
            <a:chExt cx="1550520" cy="152280"/>
          </a:xfrm>
        </p:grpSpPr>
        <p:sp>
          <p:nvSpPr>
            <p:cNvPr id="543" name=""/>
            <p:cNvSpPr/>
            <p:nvPr/>
          </p:nvSpPr>
          <p:spPr>
            <a:xfrm>
              <a:off x="2925720" y="47991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e974a"/>
                </a:gs>
                <a:gs pos="100000">
                  <a:srgbClr val="6fb15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26800" y="47991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fb157"/>
                </a:gs>
                <a:gs pos="100000">
                  <a:srgbClr val="9ac8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4527720" y="4952880"/>
            <a:ext cx="1548720" cy="154080"/>
            <a:chOff x="4527720" y="4952880"/>
            <a:chExt cx="1548720" cy="154080"/>
          </a:xfrm>
        </p:grpSpPr>
        <p:sp>
          <p:nvSpPr>
            <p:cNvPr id="546" name=""/>
            <p:cNvSpPr/>
            <p:nvPr/>
          </p:nvSpPr>
          <p:spPr>
            <a:xfrm>
              <a:off x="4527720" y="4952880"/>
              <a:ext cx="1547280" cy="154080"/>
            </a:xfrm>
            <a:prstGeom prst="roundRect">
              <a:avLst>
                <a:gd name="adj" fmla="val 20588"/>
              </a:avLst>
            </a:prstGeom>
            <a:solidFill>
              <a:srgbClr val="5ac2c2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528800" y="4952880"/>
              <a:ext cx="15476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c2c2"/>
                </a:gs>
                <a:gs pos="100000">
                  <a:srgbClr val="8b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6148440" y="4952880"/>
            <a:ext cx="1549080" cy="154080"/>
            <a:chOff x="6148440" y="4952880"/>
            <a:chExt cx="1549080" cy="154080"/>
          </a:xfrm>
        </p:grpSpPr>
        <p:sp>
          <p:nvSpPr>
            <p:cNvPr id="549" name=""/>
            <p:cNvSpPr/>
            <p:nvPr/>
          </p:nvSpPr>
          <p:spPr>
            <a:xfrm>
              <a:off x="6148440" y="49528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b6435e"/>
                </a:gs>
                <a:gs pos="100000">
                  <a:srgbClr val="d54f6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149520" y="49528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54f6f"/>
                </a:gs>
                <a:gs pos="100000">
                  <a:srgbClr val="e084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2925720" y="4613400"/>
            <a:ext cx="1550520" cy="152280"/>
            <a:chOff x="2925720" y="4613400"/>
            <a:chExt cx="1550520" cy="152280"/>
          </a:xfrm>
        </p:grpSpPr>
        <p:sp>
          <p:nvSpPr>
            <p:cNvPr id="552" name=""/>
            <p:cNvSpPr/>
            <p:nvPr/>
          </p:nvSpPr>
          <p:spPr>
            <a:xfrm>
              <a:off x="2925720" y="46134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e974a"/>
                </a:gs>
                <a:gs pos="100000">
                  <a:srgbClr val="6fb15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926800" y="46134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fb157"/>
                </a:gs>
                <a:gs pos="100000">
                  <a:srgbClr val="9ac8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2925720" y="4435560"/>
            <a:ext cx="1550520" cy="152280"/>
            <a:chOff x="2925720" y="4435560"/>
            <a:chExt cx="1550520" cy="152280"/>
          </a:xfrm>
        </p:grpSpPr>
        <p:sp>
          <p:nvSpPr>
            <p:cNvPr id="555" name=""/>
            <p:cNvSpPr/>
            <p:nvPr/>
          </p:nvSpPr>
          <p:spPr>
            <a:xfrm>
              <a:off x="2925720" y="44355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e974a"/>
                </a:gs>
                <a:gs pos="100000">
                  <a:srgbClr val="6fb15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926800" y="44355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fb157"/>
                </a:gs>
                <a:gs pos="100000">
                  <a:srgbClr val="9ac8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2925720" y="4249800"/>
            <a:ext cx="1550520" cy="152280"/>
            <a:chOff x="2925720" y="4249800"/>
            <a:chExt cx="1550520" cy="152280"/>
          </a:xfrm>
        </p:grpSpPr>
        <p:sp>
          <p:nvSpPr>
            <p:cNvPr id="558" name=""/>
            <p:cNvSpPr/>
            <p:nvPr/>
          </p:nvSpPr>
          <p:spPr>
            <a:xfrm>
              <a:off x="2925720" y="42498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e974a"/>
                </a:gs>
                <a:gs pos="100000">
                  <a:srgbClr val="6fb15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926800" y="42498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fb157"/>
                </a:gs>
                <a:gs pos="100000">
                  <a:srgbClr val="9ac8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4527720" y="4797360"/>
            <a:ext cx="1548720" cy="154080"/>
            <a:chOff x="4527720" y="4797360"/>
            <a:chExt cx="1548720" cy="154080"/>
          </a:xfrm>
        </p:grpSpPr>
        <p:sp>
          <p:nvSpPr>
            <p:cNvPr id="561" name=""/>
            <p:cNvSpPr/>
            <p:nvPr/>
          </p:nvSpPr>
          <p:spPr>
            <a:xfrm>
              <a:off x="4527720" y="4797360"/>
              <a:ext cx="1547280" cy="154080"/>
            </a:xfrm>
            <a:prstGeom prst="roundRect">
              <a:avLst>
                <a:gd name="adj" fmla="val 20588"/>
              </a:avLst>
            </a:prstGeom>
            <a:solidFill>
              <a:srgbClr val="5ac2c2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528800" y="4797360"/>
              <a:ext cx="15476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c2c2"/>
                </a:gs>
                <a:gs pos="100000">
                  <a:srgbClr val="8b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4527720" y="4611600"/>
            <a:ext cx="1548720" cy="154080"/>
            <a:chOff x="4527720" y="4611600"/>
            <a:chExt cx="1548720" cy="154080"/>
          </a:xfrm>
        </p:grpSpPr>
        <p:sp>
          <p:nvSpPr>
            <p:cNvPr id="564" name=""/>
            <p:cNvSpPr/>
            <p:nvPr/>
          </p:nvSpPr>
          <p:spPr>
            <a:xfrm>
              <a:off x="4527720" y="4611600"/>
              <a:ext cx="1547280" cy="154080"/>
            </a:xfrm>
            <a:prstGeom prst="roundRect">
              <a:avLst>
                <a:gd name="adj" fmla="val 20588"/>
              </a:avLst>
            </a:prstGeom>
            <a:solidFill>
              <a:srgbClr val="5ac2c2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28800" y="4611600"/>
              <a:ext cx="15476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c2c2"/>
                </a:gs>
                <a:gs pos="100000">
                  <a:srgbClr val="8b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148440" y="4789440"/>
            <a:ext cx="1549080" cy="154080"/>
            <a:chOff x="6148440" y="4789440"/>
            <a:chExt cx="1549080" cy="154080"/>
          </a:xfrm>
        </p:grpSpPr>
        <p:sp>
          <p:nvSpPr>
            <p:cNvPr id="567" name=""/>
            <p:cNvSpPr/>
            <p:nvPr/>
          </p:nvSpPr>
          <p:spPr>
            <a:xfrm>
              <a:off x="6148440" y="47894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b6435e"/>
                </a:gs>
                <a:gs pos="100000">
                  <a:srgbClr val="d54f6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49520" y="47894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54f6f"/>
                </a:gs>
                <a:gs pos="100000">
                  <a:srgbClr val="e084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0720" y="5057640"/>
            <a:ext cx="3352680" cy="119088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219320" y="4857840"/>
            <a:ext cx="2885760" cy="443880"/>
            <a:chOff x="1219320" y="4857840"/>
            <a:chExt cx="2885760" cy="443880"/>
          </a:xfrm>
        </p:grpSpPr>
        <p:sp>
          <p:nvSpPr>
            <p:cNvPr id="572" name=""/>
            <p:cNvSpPr/>
            <p:nvPr/>
          </p:nvSpPr>
          <p:spPr>
            <a:xfrm>
              <a:off x="1219320" y="4857840"/>
              <a:ext cx="2885760" cy="44388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38760" y="4861440"/>
              <a:ext cx="2845440" cy="199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fefe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4648320" y="5057640"/>
            <a:ext cx="3352680" cy="119088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876920" y="4857840"/>
            <a:ext cx="2885760" cy="443880"/>
            <a:chOff x="4876920" y="4857840"/>
            <a:chExt cx="2885760" cy="443880"/>
          </a:xfrm>
        </p:grpSpPr>
        <p:sp>
          <p:nvSpPr>
            <p:cNvPr id="576" name=""/>
            <p:cNvSpPr/>
            <p:nvPr/>
          </p:nvSpPr>
          <p:spPr>
            <a:xfrm>
              <a:off x="4876920" y="4857840"/>
              <a:ext cx="2885760" cy="44388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96360" y="4861440"/>
              <a:ext cx="2845440" cy="199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fefe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709560" y="4248000"/>
            <a:ext cx="7824960" cy="552600"/>
            <a:chOff x="709560" y="4248000"/>
            <a:chExt cx="7824960" cy="552600"/>
          </a:xfrm>
        </p:grpSpPr>
        <p:sp>
          <p:nvSpPr>
            <p:cNvPr id="579" name=""/>
            <p:cNvSpPr/>
            <p:nvPr/>
          </p:nvSpPr>
          <p:spPr>
            <a:xfrm>
              <a:off x="709560" y="4383000"/>
              <a:ext cx="346320" cy="277920"/>
            </a:xfrm>
            <a:prstGeom prst="roundRect">
              <a:avLst>
                <a:gd name="adj" fmla="val 29069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47452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38440" y="4248000"/>
              <a:ext cx="7696080" cy="552600"/>
            </a:xfrm>
            <a:prstGeom prst="rightArrow">
              <a:avLst>
                <a:gd name="adj1" fmla="val 50000"/>
                <a:gd name="adj2" fmla="val 63187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47452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1676520" y="43434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221000" y="43434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586560" y="43434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990720" y="2438280"/>
            <a:ext cx="0" cy="19051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3346560" y="2101320"/>
            <a:ext cx="0" cy="22417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5686560" y="1644120"/>
            <a:ext cx="0" cy="269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8050320" y="1263240"/>
            <a:ext cx="0" cy="3079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90720" y="3886200"/>
            <a:ext cx="2347920" cy="457200"/>
          </a:xfrm>
          <a:prstGeom prst="bevel">
            <a:avLst>
              <a:gd name="adj" fmla="val 5903"/>
            </a:avLst>
          </a:prstGeom>
          <a:gradFill rotWithShape="0">
            <a:gsLst>
              <a:gs pos="0">
                <a:srgbClr val="f4bc7f"/>
              </a:gs>
              <a:gs pos="100000">
                <a:srgbClr val="ef8d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348000" y="3352680"/>
            <a:ext cx="2347920" cy="990720"/>
          </a:xfrm>
          <a:prstGeom prst="bevel">
            <a:avLst>
              <a:gd name="adj" fmla="val 3046"/>
            </a:avLst>
          </a:prstGeom>
          <a:gradFill rotWithShape="0">
            <a:gsLst>
              <a:gs pos="0">
                <a:srgbClr val="b0d3a3"/>
              </a:gs>
              <a:gs pos="100000">
                <a:srgbClr val="6fb15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695920" y="2743200"/>
            <a:ext cx="2347920" cy="1600200"/>
          </a:xfrm>
          <a:prstGeom prst="bevel">
            <a:avLst>
              <a:gd name="adj" fmla="val 2481"/>
            </a:avLst>
          </a:prstGeom>
          <a:gradFill rotWithShape="0">
            <a:gsLst>
              <a:gs pos="0">
                <a:srgbClr val="95d7d7"/>
              </a:gs>
              <a:gs pos="100000">
                <a:srgbClr val="5ac2c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271476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375000" y="220968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722920" y="160020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219320" y="38894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249200" y="49039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906800" y="49039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096920" y="53802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745160" y="53802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581280" y="3657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910120" y="3389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3773520" y="2467080"/>
            <a:ext cx="4761000" cy="2414880"/>
            <a:chOff x="3773520" y="2467080"/>
            <a:chExt cx="4761000" cy="2414880"/>
          </a:xfrm>
        </p:grpSpPr>
        <p:sp>
          <p:nvSpPr>
            <p:cNvPr id="603" name=""/>
            <p:cNvSpPr/>
            <p:nvPr/>
          </p:nvSpPr>
          <p:spPr>
            <a:xfrm>
              <a:off x="3773520" y="246708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773520" y="287244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773520" y="326592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73520" y="367164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73520" y="406548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773520" y="447084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73520" y="488160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3348720" y="2208240"/>
            <a:ext cx="636480" cy="2670840"/>
            <a:chOff x="3348720" y="2208240"/>
            <a:chExt cx="636480" cy="2670840"/>
          </a:xfrm>
        </p:grpSpPr>
        <p:sp>
          <p:nvSpPr>
            <p:cNvPr id="611" name=""/>
            <p:cNvSpPr/>
            <p:nvPr/>
          </p:nvSpPr>
          <p:spPr>
            <a:xfrm>
              <a:off x="3378960" y="45720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372840" y="419724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372840" y="37710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8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348720" y="33656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348720" y="29894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2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348720" y="256320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4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48720" y="22082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6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2674800" y="553068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884240" y="5076720"/>
            <a:ext cx="6478560" cy="792000"/>
            <a:chOff x="1884240" y="5076720"/>
            <a:chExt cx="6478560" cy="792000"/>
          </a:xfrm>
        </p:grpSpPr>
        <p:sp>
          <p:nvSpPr>
            <p:cNvPr id="620" name=""/>
            <p:cNvSpPr/>
            <p:nvPr/>
          </p:nvSpPr>
          <p:spPr>
            <a:xfrm flipV="1">
              <a:off x="1884240" y="5618520"/>
              <a:ext cx="6281640" cy="74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3054240" y="5076720"/>
              <a:ext cx="5308560" cy="792000"/>
              <a:chOff x="3054240" y="5076720"/>
              <a:chExt cx="5308560" cy="792000"/>
            </a:xfrm>
          </p:grpSpPr>
          <p:sp>
            <p:nvSpPr>
              <p:cNvPr id="622" name=""/>
              <p:cNvSpPr/>
              <p:nvPr/>
            </p:nvSpPr>
            <p:spPr>
              <a:xfrm flipV="1">
                <a:off x="3054240" y="5095800"/>
                <a:ext cx="1351080" cy="333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4951440" y="5119560"/>
                <a:ext cx="857160" cy="496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5810040" y="5262120"/>
                <a:ext cx="757440" cy="43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6734160" y="5304960"/>
                <a:ext cx="730080" cy="4856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7650000" y="5332320"/>
                <a:ext cx="712800" cy="53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4019400" y="5076720"/>
                <a:ext cx="1009800" cy="449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8" name=""/>
          <p:cNvSpPr/>
          <p:nvPr/>
        </p:nvSpPr>
        <p:spPr>
          <a:xfrm>
            <a:off x="3538440" y="251460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0f6ee">
                  <a:alpha val="80392"/>
                </a:srgbClr>
              </a:gs>
              <a:gs pos="100000">
                <a:srgbClr val="6fb157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354480" y="3762360"/>
            <a:ext cx="4640040" cy="178452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c9eaea">
                  <a:alpha val="90196"/>
                </a:srgbClr>
              </a:gs>
              <a:gs pos="100000">
                <a:srgbClr val="5ac2c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624120" y="560700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541760" y="5715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3240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345360" y="58672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270920" y="59436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593040" y="3225960"/>
            <a:ext cx="135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178160" y="443232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348080" y="3154320"/>
            <a:ext cx="1955880" cy="35568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5ac2c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227640" y="2025720"/>
            <a:ext cx="198144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6fb157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5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306440" y="38098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306440" y="422604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65280" y="1981080"/>
            <a:ext cx="246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65280" y="3581280"/>
            <a:ext cx="251460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949320" y="4267080"/>
            <a:ext cx="314280" cy="330480"/>
          </a:xfrm>
          <a:prstGeom prst="ellipse">
            <a:avLst/>
          </a:prstGeom>
          <a:gradFill rotWithShape="0">
            <a:gsLst>
              <a:gs pos="0">
                <a:srgbClr val="6fb157"/>
              </a:gs>
              <a:gs pos="100000">
                <a:srgbClr val="49753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47452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942840" y="3840120"/>
            <a:ext cx="314640" cy="330120"/>
          </a:xfrm>
          <a:prstGeom prst="ellipse">
            <a:avLst/>
          </a:prstGeom>
          <a:gradFill rotWithShape="0">
            <a:gsLst>
              <a:gs pos="0">
                <a:srgbClr val="5ac2c2"/>
              </a:gs>
              <a:gs pos="100000">
                <a:srgbClr val="3b808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47452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5842080" y="2693880"/>
            <a:ext cx="2747880" cy="309744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4297320" y="3112920"/>
            <a:ext cx="2622600" cy="257508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260440" y="3114720"/>
            <a:ext cx="2810160" cy="2574720"/>
          </a:xfrm>
          <a:custGeom>
            <a:avLst/>
            <a:gdLst>
              <a:gd name="textAreaLeft" fmla="*/ 0 w 2810160"/>
              <a:gd name="textAreaRight" fmla="*/ 2810520 w 281016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54f6f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050920" y="2814480"/>
            <a:ext cx="4349880" cy="51768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fb157"/>
              </a:gs>
              <a:gs pos="100000">
                <a:srgbClr val="3351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00280" y="2813040"/>
            <a:ext cx="2400120" cy="2895480"/>
          </a:xfrm>
          <a:custGeom>
            <a:avLst/>
            <a:gdLst>
              <a:gd name="textAreaLeft" fmla="*/ 0 w 2400120"/>
              <a:gd name="textAreaRight" fmla="*/ 2400480 w 240012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66216"/>
              </a:gs>
              <a:gs pos="100000">
                <a:srgbClr val="ef8d21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949320" y="3476520"/>
            <a:ext cx="1824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738520" y="2841480"/>
            <a:ext cx="34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052960" y="3697200"/>
            <a:ext cx="1670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Arial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162240" y="3693960"/>
            <a:ext cx="1670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Arial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200808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684840" y="413388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d54f6f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783480" y="45100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d54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783480" y="49118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d54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783480" y="53132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d54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783480" y="57164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d54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713120" y="413388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d54f6f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811760" y="45100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d54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811760" y="49118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d54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811760" y="53132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d54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811760" y="57164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d54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595600" y="41338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6fb157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692440" y="451008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6fb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692440" y="491184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6fb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692440" y="531324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6fb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692440" y="571644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6fb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23880" y="41338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6fb157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667800" y="3914640"/>
            <a:ext cx="1789200" cy="407880"/>
            <a:chOff x="667800" y="3914640"/>
            <a:chExt cx="1789200" cy="407880"/>
          </a:xfrm>
        </p:grpSpPr>
        <p:sp>
          <p:nvSpPr>
            <p:cNvPr id="674" name=""/>
            <p:cNvSpPr/>
            <p:nvPr/>
          </p:nvSpPr>
          <p:spPr>
            <a:xfrm>
              <a:off x="674640" y="3914640"/>
              <a:ext cx="1766520" cy="4078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6fb157"/>
                </a:gs>
                <a:gs pos="100000">
                  <a:srgbClr val="34522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667800" y="3971880"/>
              <a:ext cx="97560" cy="320760"/>
              <a:chOff x="667800" y="3971880"/>
              <a:chExt cx="97560" cy="320760"/>
            </a:xfrm>
          </p:grpSpPr>
          <p:sp>
            <p:nvSpPr>
              <p:cNvPr id="676" name=""/>
              <p:cNvSpPr/>
              <p:nvPr/>
            </p:nvSpPr>
            <p:spPr>
              <a:xfrm flipV="1" rot="21333000">
                <a:off x="680040" y="3973680"/>
                <a:ext cx="72720" cy="316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 rot="21333000">
                <a:off x="684720" y="3997800"/>
                <a:ext cx="44640" cy="26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 rot="21333000">
                <a:off x="682920" y="4033800"/>
                <a:ext cx="2880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2352600" y="3967920"/>
              <a:ext cx="104400" cy="338760"/>
              <a:chOff x="2352600" y="3967920"/>
              <a:chExt cx="104400" cy="338760"/>
            </a:xfrm>
          </p:grpSpPr>
          <p:sp>
            <p:nvSpPr>
              <p:cNvPr id="680" name=""/>
              <p:cNvSpPr/>
              <p:nvPr/>
            </p:nvSpPr>
            <p:spPr>
              <a:xfrm flipH="1" flipV="1" rot="267000">
                <a:off x="2365200" y="3970080"/>
                <a:ext cx="78840" cy="333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 flipV="1" rot="267000">
                <a:off x="2389680" y="399564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 flipV="1" rot="267000">
                <a:off x="2409840" y="403236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683" name="" descr="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1423440" y="324072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4" name=""/>
          <p:cNvGrpSpPr/>
          <p:nvPr/>
        </p:nvGrpSpPr>
        <p:grpSpPr>
          <a:xfrm>
            <a:off x="2622240" y="3914640"/>
            <a:ext cx="1788840" cy="407880"/>
            <a:chOff x="2622240" y="3914640"/>
            <a:chExt cx="1788840" cy="407880"/>
          </a:xfrm>
        </p:grpSpPr>
        <p:sp>
          <p:nvSpPr>
            <p:cNvPr id="685" name=""/>
            <p:cNvSpPr/>
            <p:nvPr/>
          </p:nvSpPr>
          <p:spPr>
            <a:xfrm>
              <a:off x="2629080" y="3914640"/>
              <a:ext cx="1766160" cy="4078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6fb157"/>
                </a:gs>
                <a:gs pos="100000">
                  <a:srgbClr val="34522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2622240" y="3971880"/>
              <a:ext cx="97560" cy="320760"/>
              <a:chOff x="2622240" y="3971880"/>
              <a:chExt cx="97560" cy="320760"/>
            </a:xfrm>
          </p:grpSpPr>
          <p:sp>
            <p:nvSpPr>
              <p:cNvPr id="687" name=""/>
              <p:cNvSpPr/>
              <p:nvPr/>
            </p:nvSpPr>
            <p:spPr>
              <a:xfrm flipV="1" rot="21333000">
                <a:off x="2634480" y="3973680"/>
                <a:ext cx="72720" cy="316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 rot="21333000">
                <a:off x="2639160" y="3997800"/>
                <a:ext cx="44640" cy="26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 rot="21333000">
                <a:off x="2637360" y="4033800"/>
                <a:ext cx="2880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4306680" y="3967920"/>
              <a:ext cx="104400" cy="338760"/>
              <a:chOff x="4306680" y="3967920"/>
              <a:chExt cx="104400" cy="338760"/>
            </a:xfrm>
          </p:grpSpPr>
          <p:sp>
            <p:nvSpPr>
              <p:cNvPr id="691" name=""/>
              <p:cNvSpPr/>
              <p:nvPr/>
            </p:nvSpPr>
            <p:spPr>
              <a:xfrm flipH="1" flipV="1" rot="267000">
                <a:off x="4319280" y="3970080"/>
                <a:ext cx="78840" cy="333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 flipV="1" rot="267000">
                <a:off x="4343760" y="399564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 flipV="1" rot="267000">
                <a:off x="4363920" y="403236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694" name="" descr="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3377520" y="3240720"/>
              <a:ext cx="252720" cy="16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5" name=""/>
          <p:cNvGrpSpPr/>
          <p:nvPr/>
        </p:nvGrpSpPr>
        <p:grpSpPr>
          <a:xfrm>
            <a:off x="4752360" y="3914640"/>
            <a:ext cx="1787760" cy="407880"/>
            <a:chOff x="4752360" y="3914640"/>
            <a:chExt cx="1787760" cy="407880"/>
          </a:xfrm>
        </p:grpSpPr>
        <p:sp>
          <p:nvSpPr>
            <p:cNvPr id="696" name=""/>
            <p:cNvSpPr/>
            <p:nvPr/>
          </p:nvSpPr>
          <p:spPr>
            <a:xfrm>
              <a:off x="4759200" y="3914640"/>
              <a:ext cx="1765080" cy="4078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54f6f"/>
                </a:gs>
                <a:gs pos="100000">
                  <a:srgbClr val="792d3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4752360" y="3971880"/>
              <a:ext cx="97560" cy="320760"/>
              <a:chOff x="4752360" y="3971880"/>
              <a:chExt cx="97560" cy="320760"/>
            </a:xfrm>
          </p:grpSpPr>
          <p:sp>
            <p:nvSpPr>
              <p:cNvPr id="698" name=""/>
              <p:cNvSpPr/>
              <p:nvPr/>
            </p:nvSpPr>
            <p:spPr>
              <a:xfrm flipV="1" rot="21333000">
                <a:off x="4764600" y="3973680"/>
                <a:ext cx="72720" cy="316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 rot="21333000">
                <a:off x="4769280" y="3997800"/>
                <a:ext cx="44640" cy="26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 rot="21333000">
                <a:off x="4767480" y="4033800"/>
                <a:ext cx="2880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6435720" y="3967920"/>
              <a:ext cx="104400" cy="338760"/>
              <a:chOff x="6435720" y="3967920"/>
              <a:chExt cx="104400" cy="338760"/>
            </a:xfrm>
          </p:grpSpPr>
          <p:sp>
            <p:nvSpPr>
              <p:cNvPr id="702" name=""/>
              <p:cNvSpPr/>
              <p:nvPr/>
            </p:nvSpPr>
            <p:spPr>
              <a:xfrm flipH="1" flipV="1" rot="267000">
                <a:off x="6448320" y="3970080"/>
                <a:ext cx="78840" cy="333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 flipV="1" rot="267000">
                <a:off x="6472800" y="399564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 flipV="1" rot="267000">
                <a:off x="6492960" y="403236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05" name="" descr="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507280" y="3241440"/>
              <a:ext cx="25272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"/>
          <p:cNvGrpSpPr/>
          <p:nvPr/>
        </p:nvGrpSpPr>
        <p:grpSpPr>
          <a:xfrm>
            <a:off x="6708240" y="3914640"/>
            <a:ext cx="1789200" cy="407880"/>
            <a:chOff x="6708240" y="3914640"/>
            <a:chExt cx="1789200" cy="407880"/>
          </a:xfrm>
        </p:grpSpPr>
        <p:sp>
          <p:nvSpPr>
            <p:cNvPr id="707" name=""/>
            <p:cNvSpPr/>
            <p:nvPr/>
          </p:nvSpPr>
          <p:spPr>
            <a:xfrm>
              <a:off x="6715080" y="3914640"/>
              <a:ext cx="1766520" cy="4078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54f6f"/>
                </a:gs>
                <a:gs pos="100000">
                  <a:srgbClr val="792d3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6708240" y="3971880"/>
              <a:ext cx="97560" cy="320760"/>
              <a:chOff x="6708240" y="3971880"/>
              <a:chExt cx="97560" cy="320760"/>
            </a:xfrm>
          </p:grpSpPr>
          <p:sp>
            <p:nvSpPr>
              <p:cNvPr id="709" name=""/>
              <p:cNvSpPr/>
              <p:nvPr/>
            </p:nvSpPr>
            <p:spPr>
              <a:xfrm flipV="1" rot="21333000">
                <a:off x="6720480" y="3973680"/>
                <a:ext cx="72720" cy="316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 rot="21333000">
                <a:off x="6725160" y="3997800"/>
                <a:ext cx="44640" cy="26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 rot="21333000">
                <a:off x="6723360" y="4033800"/>
                <a:ext cx="2880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393040" y="3967920"/>
              <a:ext cx="104400" cy="338760"/>
              <a:chOff x="8393040" y="3967920"/>
              <a:chExt cx="104400" cy="338760"/>
            </a:xfrm>
          </p:grpSpPr>
          <p:sp>
            <p:nvSpPr>
              <p:cNvPr id="713" name=""/>
              <p:cNvSpPr/>
              <p:nvPr/>
            </p:nvSpPr>
            <p:spPr>
              <a:xfrm flipH="1" flipV="1" rot="267000">
                <a:off x="8405640" y="3970080"/>
                <a:ext cx="78840" cy="333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 flipV="1" rot="267000">
                <a:off x="8430120" y="399564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flipV="1" rot="267000">
                <a:off x="8450280" y="403236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16" name="" descr="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463880" y="324072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17" name=""/>
          <p:cNvCxnSpPr>
            <a:stCxn id="718" idx="2"/>
            <a:endCxn id="719" idx="3"/>
          </p:cNvCxnSpPr>
          <p:nvPr/>
        </p:nvCxnSpPr>
        <p:spPr>
          <a:xfrm rot="5400000">
            <a:off x="3182400" y="1644480"/>
            <a:ext cx="680040" cy="2083680"/>
          </a:xfrm>
          <a:prstGeom prst="bentConnector3">
            <a:avLst>
              <a:gd name="adj1" fmla="val 49523"/>
            </a:avLst>
          </a:prstGeom>
          <a:ln w="9360">
            <a:solidFill>
              <a:srgbClr val="eaeaea"/>
            </a:solidFill>
            <a:miter/>
          </a:ln>
        </p:spPr>
      </p:cxnSp>
      <p:cxnSp>
        <p:nvCxnSpPr>
          <p:cNvPr id="720" name=""/>
          <p:cNvCxnSpPr>
            <a:stCxn id="718" idx="2"/>
            <a:endCxn id="721" idx="3"/>
          </p:cNvCxnSpPr>
          <p:nvPr/>
        </p:nvCxnSpPr>
        <p:spPr>
          <a:xfrm flipH="1" rot="16200000">
            <a:off x="5244840" y="1665000"/>
            <a:ext cx="678600" cy="2040480"/>
          </a:xfrm>
          <a:prstGeom prst="bentConnector3">
            <a:avLst>
              <a:gd name="adj1" fmla="val 49628"/>
            </a:avLst>
          </a:prstGeom>
          <a:ln w="9360">
            <a:solidFill>
              <a:srgbClr val="eaeaea"/>
            </a:solidFill>
            <a:miter/>
          </a:ln>
        </p:spPr>
      </p:cxnSp>
      <p:grpSp>
        <p:nvGrpSpPr>
          <p:cNvPr id="722" name=""/>
          <p:cNvGrpSpPr/>
          <p:nvPr/>
        </p:nvGrpSpPr>
        <p:grpSpPr>
          <a:xfrm>
            <a:off x="6245280" y="1539720"/>
            <a:ext cx="1484280" cy="366480"/>
            <a:chOff x="6245280" y="1539720"/>
            <a:chExt cx="1484280" cy="366480"/>
          </a:xfrm>
        </p:grpSpPr>
        <p:sp>
          <p:nvSpPr>
            <p:cNvPr id="723" name=""/>
            <p:cNvSpPr/>
            <p:nvPr/>
          </p:nvSpPr>
          <p:spPr>
            <a:xfrm>
              <a:off x="6251400" y="1539720"/>
              <a:ext cx="146412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e8c972"/>
                </a:gs>
                <a:gs pos="100000">
                  <a:srgbClr val="84724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6245280" y="1591560"/>
              <a:ext cx="82080" cy="288360"/>
              <a:chOff x="6245280" y="1591560"/>
              <a:chExt cx="82080" cy="288360"/>
            </a:xfrm>
          </p:grpSpPr>
          <p:sp>
            <p:nvSpPr>
              <p:cNvPr id="725" name=""/>
              <p:cNvSpPr/>
              <p:nvPr/>
            </p:nvSpPr>
            <p:spPr>
              <a:xfrm flipV="1" rot="21333000">
                <a:off x="6256080" y="1593000"/>
                <a:ext cx="60120" cy="28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 rot="21333000">
                <a:off x="6260040" y="1614240"/>
                <a:ext cx="37080" cy="239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 rot="21333000">
                <a:off x="6258240" y="164592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7641360" y="1587960"/>
              <a:ext cx="88200" cy="304560"/>
              <a:chOff x="7641360" y="1587960"/>
              <a:chExt cx="88200" cy="304560"/>
            </a:xfrm>
          </p:grpSpPr>
          <p:sp>
            <p:nvSpPr>
              <p:cNvPr id="729" name=""/>
              <p:cNvSpPr/>
              <p:nvPr/>
            </p:nvSpPr>
            <p:spPr>
              <a:xfrm flipH="1" flipV="1" rot="267000">
                <a:off x="7652160" y="158976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 flipV="1" rot="267000">
                <a:off x="7673040" y="161280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 flipV="1" rot="267000">
                <a:off x="7690320" y="164520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32" name="" descr="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862680" y="990000"/>
              <a:ext cx="227160" cy="133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3" name=""/>
          <p:cNvGrpSpPr/>
          <p:nvPr/>
        </p:nvGrpSpPr>
        <p:grpSpPr>
          <a:xfrm>
            <a:off x="6245280" y="2146320"/>
            <a:ext cx="1484280" cy="366480"/>
            <a:chOff x="6245280" y="2146320"/>
            <a:chExt cx="1484280" cy="366480"/>
          </a:xfrm>
        </p:grpSpPr>
        <p:sp>
          <p:nvSpPr>
            <p:cNvPr id="734" name=""/>
            <p:cNvSpPr/>
            <p:nvPr/>
          </p:nvSpPr>
          <p:spPr>
            <a:xfrm>
              <a:off x="6251400" y="2146320"/>
              <a:ext cx="146412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e8c972"/>
                </a:gs>
                <a:gs pos="100000">
                  <a:srgbClr val="84724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6245280" y="2198160"/>
              <a:ext cx="82080" cy="288360"/>
              <a:chOff x="6245280" y="2198160"/>
              <a:chExt cx="82080" cy="288360"/>
            </a:xfrm>
          </p:grpSpPr>
          <p:sp>
            <p:nvSpPr>
              <p:cNvPr id="736" name=""/>
              <p:cNvSpPr/>
              <p:nvPr/>
            </p:nvSpPr>
            <p:spPr>
              <a:xfrm flipV="1" rot="21333000">
                <a:off x="6256080" y="2199600"/>
                <a:ext cx="60120" cy="28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 rot="21333000">
                <a:off x="6260040" y="2220840"/>
                <a:ext cx="37080" cy="239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 rot="21333000">
                <a:off x="6258240" y="225252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7641360" y="2194560"/>
              <a:ext cx="88200" cy="304560"/>
              <a:chOff x="7641360" y="2194560"/>
              <a:chExt cx="88200" cy="304560"/>
            </a:xfrm>
          </p:grpSpPr>
          <p:sp>
            <p:nvSpPr>
              <p:cNvPr id="740" name=""/>
              <p:cNvSpPr/>
              <p:nvPr/>
            </p:nvSpPr>
            <p:spPr>
              <a:xfrm flipH="1" flipV="1" rot="267000">
                <a:off x="7652160" y="219636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 flipV="1" rot="267000">
                <a:off x="7673040" y="221940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 flipV="1" rot="267000">
                <a:off x="7690320" y="225180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43" name="" descr="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862680" y="1596600"/>
              <a:ext cx="227160" cy="13384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44" name=""/>
          <p:cNvCxnSpPr>
            <a:endCxn id="683" idx="3"/>
          </p:cNvCxnSpPr>
          <p:nvPr/>
        </p:nvCxnSpPr>
        <p:spPr>
          <a:xfrm rot="5400000">
            <a:off x="1733760" y="3183480"/>
            <a:ext cx="559080" cy="926280"/>
          </a:xfrm>
          <a:prstGeom prst="bentConnector3">
            <a:avLst>
              <a:gd name="adj1" fmla="val 49613"/>
            </a:avLst>
          </a:prstGeom>
          <a:ln w="9360">
            <a:solidFill>
              <a:srgbClr val="eaeaea"/>
            </a:solidFill>
            <a:miter/>
          </a:ln>
        </p:spPr>
      </p:cxnSp>
      <p:cxnSp>
        <p:nvCxnSpPr>
          <p:cNvPr id="745" name=""/>
          <p:cNvCxnSpPr>
            <a:endCxn id="694" idx="3"/>
          </p:cNvCxnSpPr>
          <p:nvPr/>
        </p:nvCxnSpPr>
        <p:spPr>
          <a:xfrm flipH="1" rot="16200000">
            <a:off x="2710800" y="313092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eaeaea"/>
            </a:solidFill>
            <a:miter/>
          </a:ln>
        </p:spPr>
      </p:cxnSp>
      <p:grpSp>
        <p:nvGrpSpPr>
          <p:cNvPr id="746" name=""/>
          <p:cNvGrpSpPr/>
          <p:nvPr/>
        </p:nvGrpSpPr>
        <p:grpSpPr>
          <a:xfrm>
            <a:off x="1470960" y="3016080"/>
            <a:ext cx="2048760" cy="365040"/>
            <a:chOff x="1470960" y="3016080"/>
            <a:chExt cx="2048760" cy="365040"/>
          </a:xfrm>
        </p:grpSpPr>
        <p:sp>
          <p:nvSpPr>
            <p:cNvPr id="747" name=""/>
            <p:cNvSpPr/>
            <p:nvPr/>
          </p:nvSpPr>
          <p:spPr>
            <a:xfrm>
              <a:off x="1474920" y="3016080"/>
              <a:ext cx="2029320" cy="36504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6fb157"/>
                </a:gs>
                <a:gs pos="100000">
                  <a:srgbClr val="34522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1470960" y="3067200"/>
              <a:ext cx="105120" cy="288720"/>
              <a:chOff x="1470960" y="3067200"/>
              <a:chExt cx="105120" cy="288720"/>
            </a:xfrm>
          </p:grpSpPr>
          <p:sp>
            <p:nvSpPr>
              <p:cNvPr id="749" name=""/>
              <p:cNvSpPr/>
              <p:nvPr/>
            </p:nvSpPr>
            <p:spPr>
              <a:xfrm flipV="1" rot="21333000">
                <a:off x="1481760" y="306972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 rot="21333000">
                <a:off x="1486440" y="309132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 rot="21333000">
                <a:off x="1483920" y="312192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3405600" y="3063240"/>
              <a:ext cx="114120" cy="304560"/>
              <a:chOff x="3405600" y="3063240"/>
              <a:chExt cx="114120" cy="304560"/>
            </a:xfrm>
          </p:grpSpPr>
          <p:sp>
            <p:nvSpPr>
              <p:cNvPr id="753" name=""/>
              <p:cNvSpPr/>
              <p:nvPr/>
            </p:nvSpPr>
            <p:spPr>
              <a:xfrm flipH="1" flipV="1" rot="267000">
                <a:off x="3416760" y="3066120"/>
                <a:ext cx="90720" cy="298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 flipV="1" rot="267000">
                <a:off x="3445200" y="308772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 flipV="1" rot="267000">
                <a:off x="3468600" y="312120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56" name="" descr="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367000" y="2207880"/>
              <a:ext cx="226440" cy="18550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57" name=""/>
          <p:cNvCxnSpPr>
            <a:endCxn id="705" idx="3"/>
          </p:cNvCxnSpPr>
          <p:nvPr/>
        </p:nvCxnSpPr>
        <p:spPr>
          <a:xfrm rot="5400000">
            <a:off x="5835960" y="3162960"/>
            <a:ext cx="561240" cy="962640"/>
          </a:xfrm>
          <a:prstGeom prst="bentConnector3">
            <a:avLst>
              <a:gd name="adj1" fmla="val 49422"/>
            </a:avLst>
          </a:prstGeom>
          <a:ln w="9360">
            <a:solidFill>
              <a:srgbClr val="eaeaea"/>
            </a:solidFill>
            <a:miter/>
          </a:ln>
        </p:spPr>
      </p:cxnSp>
      <p:cxnSp>
        <p:nvCxnSpPr>
          <p:cNvPr id="758" name=""/>
          <p:cNvCxnSpPr>
            <a:endCxn id="716" idx="3"/>
          </p:cNvCxnSpPr>
          <p:nvPr/>
        </p:nvCxnSpPr>
        <p:spPr>
          <a:xfrm flipH="1" rot="16200000">
            <a:off x="6812640" y="3147840"/>
            <a:ext cx="560880" cy="996120"/>
          </a:xfrm>
          <a:prstGeom prst="bentConnector3">
            <a:avLst>
              <a:gd name="adj1" fmla="val 49454"/>
            </a:avLst>
          </a:prstGeom>
          <a:ln w="9360">
            <a:solidFill>
              <a:srgbClr val="eaeaea"/>
            </a:solidFill>
            <a:miter/>
          </a:ln>
        </p:spPr>
      </p:cxnSp>
      <p:cxnSp>
        <p:nvCxnSpPr>
          <p:cNvPr id="759" name=""/>
          <p:cNvCxnSpPr>
            <a:stCxn id="718" idx="3"/>
            <a:endCxn id="725" idx="1"/>
          </p:cNvCxnSpPr>
          <p:nvPr/>
        </p:nvCxnSpPr>
        <p:spPr>
          <a:xfrm flipV="1">
            <a:off x="5277960" y="1737720"/>
            <a:ext cx="978840" cy="283320"/>
          </a:xfrm>
          <a:prstGeom prst="bentConnector3">
            <a:avLst>
              <a:gd name="adj1" fmla="val 49337"/>
            </a:avLst>
          </a:prstGeom>
          <a:ln w="9360">
            <a:solidFill>
              <a:srgbClr val="eaeaea"/>
            </a:solidFill>
            <a:miter/>
          </a:ln>
        </p:spPr>
      </p:cxnSp>
      <p:cxnSp>
        <p:nvCxnSpPr>
          <p:cNvPr id="760" name=""/>
          <p:cNvCxnSpPr>
            <a:stCxn id="718" idx="3"/>
            <a:endCxn id="736" idx="1"/>
          </p:cNvCxnSpPr>
          <p:nvPr/>
        </p:nvCxnSpPr>
        <p:spPr>
          <a:xfrm>
            <a:off x="5277960" y="2020680"/>
            <a:ext cx="978840" cy="324360"/>
          </a:xfrm>
          <a:prstGeom prst="bentConnector3">
            <a:avLst>
              <a:gd name="adj1" fmla="val 49337"/>
            </a:avLst>
          </a:prstGeom>
          <a:ln w="9360">
            <a:solidFill>
              <a:srgbClr val="eaeaea"/>
            </a:solidFill>
            <a:miter/>
          </a:ln>
        </p:spPr>
      </p:cxnSp>
      <p:grpSp>
        <p:nvGrpSpPr>
          <p:cNvPr id="761" name=""/>
          <p:cNvGrpSpPr/>
          <p:nvPr/>
        </p:nvGrpSpPr>
        <p:grpSpPr>
          <a:xfrm>
            <a:off x="5591880" y="3016080"/>
            <a:ext cx="2050920" cy="365040"/>
            <a:chOff x="5591880" y="3016080"/>
            <a:chExt cx="2050920" cy="365040"/>
          </a:xfrm>
        </p:grpSpPr>
        <p:sp>
          <p:nvSpPr>
            <p:cNvPr id="762" name=""/>
            <p:cNvSpPr/>
            <p:nvPr/>
          </p:nvSpPr>
          <p:spPr>
            <a:xfrm>
              <a:off x="5595840" y="3016080"/>
              <a:ext cx="2031480" cy="36504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54f6f"/>
                </a:gs>
                <a:gs pos="100000">
                  <a:srgbClr val="792d3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5591880" y="3067200"/>
              <a:ext cx="105120" cy="288720"/>
              <a:chOff x="5591880" y="3067200"/>
              <a:chExt cx="105120" cy="288720"/>
            </a:xfrm>
          </p:grpSpPr>
          <p:sp>
            <p:nvSpPr>
              <p:cNvPr id="764" name=""/>
              <p:cNvSpPr/>
              <p:nvPr/>
            </p:nvSpPr>
            <p:spPr>
              <a:xfrm flipV="1" rot="21333000">
                <a:off x="5602680" y="306972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V="1" rot="21333000">
                <a:off x="5607360" y="309132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 rot="21333000">
                <a:off x="5604840" y="312192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7528680" y="3063240"/>
              <a:ext cx="114120" cy="304560"/>
              <a:chOff x="7528680" y="3063240"/>
              <a:chExt cx="114120" cy="304560"/>
            </a:xfrm>
          </p:grpSpPr>
          <p:sp>
            <p:nvSpPr>
              <p:cNvPr id="768" name=""/>
              <p:cNvSpPr/>
              <p:nvPr/>
            </p:nvSpPr>
            <p:spPr>
              <a:xfrm flipH="1" flipV="1" rot="267000">
                <a:off x="7539840" y="3066120"/>
                <a:ext cx="90720" cy="298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 flipV="1" rot="267000">
                <a:off x="7568280" y="308772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 flipV="1" rot="267000">
                <a:off x="7591680" y="312120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71" name="" descr="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488640" y="2206800"/>
              <a:ext cx="22644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2" name=""/>
          <p:cNvSpPr/>
          <p:nvPr/>
        </p:nvSpPr>
        <p:spPr>
          <a:xfrm>
            <a:off x="720720" y="45100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6fb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20720" y="49118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6fb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20720" y="53132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6fb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20720" y="57164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6fb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3848040" y="1693800"/>
            <a:ext cx="1430280" cy="652680"/>
            <a:chOff x="3848040" y="1693800"/>
            <a:chExt cx="1430280" cy="652680"/>
          </a:xfrm>
        </p:grpSpPr>
        <p:sp>
          <p:nvSpPr>
            <p:cNvPr id="718" name=""/>
            <p:cNvSpPr/>
            <p:nvPr/>
          </p:nvSpPr>
          <p:spPr>
            <a:xfrm>
              <a:off x="3848040" y="1693800"/>
              <a:ext cx="1430280" cy="65268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5ac2c2"/>
                </a:gs>
                <a:gs pos="100000">
                  <a:srgbClr val="336e6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77" name="" descr="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455000" y="1129320"/>
              <a:ext cx="234000" cy="13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"/>
          <p:cNvSpPr/>
          <p:nvPr/>
        </p:nvSpPr>
        <p:spPr>
          <a:xfrm>
            <a:off x="4224240" y="18241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Arial"/>
              </a:rPr>
              <a:t>C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320520" y="1555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341400" y="2160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749240" y="30020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868720" y="30020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809640" y="39276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763720" y="39276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897440" y="39276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59440" y="39276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894600" y="45054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894600" y="49132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894600" y="53038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894600" y="5722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851920" y="45054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851920" y="49132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851920" y="53038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851920" y="5722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004720" y="45054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004720" y="49132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004720" y="53038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004720" y="5722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966720" y="45054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966720" y="49132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966720" y="53038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966720" y="5722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81240" y="5315040"/>
            <a:ext cx="48006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67040" y="493380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2514600"/>
            <a:ext cx="48006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2565360"/>
            <a:ext cx="2181240" cy="2463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2771640" cy="2772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809880" y="213372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14760" y="3211560"/>
            <a:ext cx="48006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67080" y="283068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3925800"/>
            <a:ext cx="48006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354492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14760" y="4648320"/>
            <a:ext cx="48006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426708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84400" y="2209680"/>
            <a:ext cx="314280" cy="330480"/>
          </a:xfrm>
          <a:prstGeom prst="ellipse">
            <a:avLst/>
          </a:prstGeom>
          <a:gradFill rotWithShape="0">
            <a:gsLst>
              <a:gs pos="0">
                <a:srgbClr val="d54f6f"/>
              </a:gs>
              <a:gs pos="100000">
                <a:srgbClr val="8d344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47452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14680" y="2895480"/>
            <a:ext cx="314280" cy="330480"/>
          </a:xfrm>
          <a:prstGeom prst="ellipse">
            <a:avLst/>
          </a:prstGeom>
          <a:gradFill rotWithShape="0">
            <a:gsLst>
              <a:gs pos="0">
                <a:srgbClr val="5ac2c2"/>
              </a:gs>
              <a:gs pos="100000">
                <a:srgbClr val="3b808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47452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8600" y="3633840"/>
            <a:ext cx="314280" cy="330120"/>
          </a:xfrm>
          <a:prstGeom prst="ellipse">
            <a:avLst/>
          </a:prstGeom>
          <a:gradFill rotWithShape="0">
            <a:gsLst>
              <a:gs pos="0">
                <a:srgbClr val="6fb157"/>
              </a:gs>
              <a:gs pos="100000">
                <a:srgbClr val="49753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47452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83000" y="4324320"/>
            <a:ext cx="314280" cy="330120"/>
          </a:xfrm>
          <a:prstGeom prst="ellipse">
            <a:avLst/>
          </a:prstGeom>
          <a:gradFill rotWithShape="0">
            <a:gsLst>
              <a:gs pos="0">
                <a:srgbClr val="d54f6f"/>
              </a:gs>
              <a:gs pos="100000">
                <a:srgbClr val="8d344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47452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49480" y="5005440"/>
            <a:ext cx="314280" cy="330120"/>
          </a:xfrm>
          <a:prstGeom prst="ellipse">
            <a:avLst/>
          </a:prstGeom>
          <a:gradFill rotWithShape="0">
            <a:gsLst>
              <a:gs pos="0">
                <a:srgbClr val="5ac2c2"/>
              </a:gs>
              <a:gs pos="100000">
                <a:srgbClr val="3b808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47452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1f14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75960" y="3124080"/>
            <a:ext cx="37335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title"/>
          </p:nvPr>
        </p:nvSpPr>
        <p:spPr>
          <a:xfrm>
            <a:off x="75960" y="2437920"/>
            <a:ext cx="662940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Times New Roman"/>
              </a:rPr>
              <a:t>Thank you!</a:t>
            </a: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795320"/>
            <a:ext cx="7467480" cy="32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514980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[ Image information in product 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mage : www.openas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139840" y="4121280"/>
            <a:ext cx="5056200" cy="923760"/>
            <a:chOff x="2139840" y="4121280"/>
            <a:chExt cx="5056200" cy="923760"/>
          </a:xfrm>
        </p:grpSpPr>
        <p:sp>
          <p:nvSpPr>
            <p:cNvPr id="155" name=""/>
            <p:cNvSpPr/>
            <p:nvPr/>
          </p:nvSpPr>
          <p:spPr>
            <a:xfrm>
              <a:off x="2139840" y="4121280"/>
              <a:ext cx="505620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c3449"/>
                </a:gs>
                <a:gs pos="100000">
                  <a:srgbClr val="d54f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70240" y="504036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79600" y="412128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214720" y="5311800"/>
            <a:ext cx="5084640" cy="923760"/>
            <a:chOff x="2214720" y="5311800"/>
            <a:chExt cx="5084640" cy="923760"/>
          </a:xfrm>
        </p:grpSpPr>
        <p:sp>
          <p:nvSpPr>
            <p:cNvPr id="159" name=""/>
            <p:cNvSpPr/>
            <p:nvPr/>
          </p:nvSpPr>
          <p:spPr>
            <a:xfrm>
              <a:off x="2214720" y="5311800"/>
              <a:ext cx="508464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fb157"/>
                </a:gs>
                <a:gs pos="100000">
                  <a:srgbClr val="4974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38200" y="623088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61960" y="531180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214720" y="2930400"/>
            <a:ext cx="5084640" cy="924120"/>
            <a:chOff x="2214720" y="2930400"/>
            <a:chExt cx="5084640" cy="924120"/>
          </a:xfrm>
        </p:grpSpPr>
        <p:sp>
          <p:nvSpPr>
            <p:cNvPr id="163" name=""/>
            <p:cNvSpPr/>
            <p:nvPr/>
          </p:nvSpPr>
          <p:spPr>
            <a:xfrm>
              <a:off x="2214720" y="2930400"/>
              <a:ext cx="508464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f8d21"/>
                </a:gs>
                <a:gs pos="100000">
                  <a:srgbClr val="9d5d1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79600" y="384948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38200" y="293364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120760" y="1768320"/>
            <a:ext cx="5027760" cy="924120"/>
            <a:chOff x="2120760" y="1768320"/>
            <a:chExt cx="5027760" cy="924120"/>
          </a:xfrm>
        </p:grpSpPr>
        <p:sp>
          <p:nvSpPr>
            <p:cNvPr id="167" name=""/>
            <p:cNvSpPr/>
            <p:nvPr/>
          </p:nvSpPr>
          <p:spPr>
            <a:xfrm>
              <a:off x="2120760" y="1768320"/>
              <a:ext cx="502776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b8080"/>
                </a:gs>
                <a:gs pos="100000">
                  <a:srgbClr val="5ac2c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38200" y="269244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38200" y="177156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Text Box 4"/>
          <p:cNvSpPr/>
          <p:nvPr/>
        </p:nvSpPr>
        <p:spPr>
          <a:xfrm>
            <a:off x="2428920" y="193032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2387520" y="3076560"/>
            <a:ext cx="457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2428920" y="430056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2387520" y="5468760"/>
            <a:ext cx="457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Group 5"/>
          <p:cNvGrpSpPr/>
          <p:nvPr/>
        </p:nvGrpSpPr>
        <p:grpSpPr>
          <a:xfrm>
            <a:off x="1305000" y="1600200"/>
            <a:ext cx="1238040" cy="1236600"/>
            <a:chOff x="1305000" y="1600200"/>
            <a:chExt cx="1238040" cy="1236600"/>
          </a:xfrm>
        </p:grpSpPr>
        <p:sp>
          <p:nvSpPr>
            <p:cNvPr id="175" name="Oval 6"/>
            <p:cNvSpPr/>
            <p:nvPr/>
          </p:nvSpPr>
          <p:spPr>
            <a:xfrm>
              <a:off x="1305000" y="160020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5a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7"/>
            <p:cNvSpPr/>
            <p:nvPr/>
          </p:nvSpPr>
          <p:spPr>
            <a:xfrm>
              <a:off x="1355760" y="165096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5ac2c2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8"/>
            <p:cNvSpPr/>
            <p:nvPr/>
          </p:nvSpPr>
          <p:spPr>
            <a:xfrm>
              <a:off x="1406520" y="170496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5ac2c2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Text Box 9"/>
          <p:cNvSpPr/>
          <p:nvPr/>
        </p:nvSpPr>
        <p:spPr>
          <a:xfrm>
            <a:off x="1376280" y="190008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Group 12"/>
          <p:cNvGrpSpPr/>
          <p:nvPr/>
        </p:nvGrpSpPr>
        <p:grpSpPr>
          <a:xfrm>
            <a:off x="6886440" y="2749680"/>
            <a:ext cx="1238400" cy="1236600"/>
            <a:chOff x="6886440" y="2749680"/>
            <a:chExt cx="1238400" cy="1236600"/>
          </a:xfrm>
        </p:grpSpPr>
        <p:sp>
          <p:nvSpPr>
            <p:cNvPr id="180" name="Oval 13"/>
            <p:cNvSpPr/>
            <p:nvPr/>
          </p:nvSpPr>
          <p:spPr>
            <a:xfrm>
              <a:off x="6886440" y="274968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ef8d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4"/>
            <p:cNvSpPr/>
            <p:nvPr/>
          </p:nvSpPr>
          <p:spPr>
            <a:xfrm>
              <a:off x="6937200" y="2800440"/>
              <a:ext cx="1135080" cy="1134720"/>
            </a:xfrm>
            <a:prstGeom prst="ellipse">
              <a:avLst/>
            </a:prstGeom>
            <a:noFill/>
            <a:ln w="38160">
              <a:solidFill>
                <a:srgbClr val="ef8d21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5"/>
            <p:cNvSpPr/>
            <p:nvPr/>
          </p:nvSpPr>
          <p:spPr>
            <a:xfrm>
              <a:off x="6987960" y="2854440"/>
              <a:ext cx="1033560" cy="1032840"/>
            </a:xfrm>
            <a:prstGeom prst="ellipse">
              <a:avLst/>
            </a:prstGeom>
            <a:noFill/>
            <a:ln w="38160">
              <a:solidFill>
                <a:srgbClr val="ef8d21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Text Box 16"/>
          <p:cNvSpPr/>
          <p:nvPr/>
        </p:nvSpPr>
        <p:spPr>
          <a:xfrm>
            <a:off x="6958080" y="30592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Group 19"/>
          <p:cNvGrpSpPr/>
          <p:nvPr/>
        </p:nvGrpSpPr>
        <p:grpSpPr>
          <a:xfrm>
            <a:off x="1295280" y="3970440"/>
            <a:ext cx="1238400" cy="1236600"/>
            <a:chOff x="1295280" y="3970440"/>
            <a:chExt cx="1238400" cy="1236600"/>
          </a:xfrm>
        </p:grpSpPr>
        <p:sp>
          <p:nvSpPr>
            <p:cNvPr id="185" name="Oval 20"/>
            <p:cNvSpPr/>
            <p:nvPr/>
          </p:nvSpPr>
          <p:spPr>
            <a:xfrm>
              <a:off x="1295280" y="397044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d54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21"/>
            <p:cNvSpPr/>
            <p:nvPr/>
          </p:nvSpPr>
          <p:spPr>
            <a:xfrm>
              <a:off x="1346040" y="4021200"/>
              <a:ext cx="1135080" cy="1134720"/>
            </a:xfrm>
            <a:prstGeom prst="ellipse">
              <a:avLst/>
            </a:prstGeom>
            <a:noFill/>
            <a:ln w="38160">
              <a:solidFill>
                <a:srgbClr val="d54f6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22"/>
            <p:cNvSpPr/>
            <p:nvPr/>
          </p:nvSpPr>
          <p:spPr>
            <a:xfrm>
              <a:off x="1396800" y="4075200"/>
              <a:ext cx="1033560" cy="1032840"/>
            </a:xfrm>
            <a:prstGeom prst="ellipse">
              <a:avLst/>
            </a:prstGeom>
            <a:noFill/>
            <a:ln w="38160">
              <a:solidFill>
                <a:srgbClr val="d54f6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Text Box 23"/>
          <p:cNvSpPr/>
          <p:nvPr/>
        </p:nvSpPr>
        <p:spPr>
          <a:xfrm>
            <a:off x="1366920" y="427032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Group 26"/>
          <p:cNvGrpSpPr/>
          <p:nvPr/>
        </p:nvGrpSpPr>
        <p:grpSpPr>
          <a:xfrm>
            <a:off x="6886440" y="5130720"/>
            <a:ext cx="1238400" cy="1236600"/>
            <a:chOff x="6886440" y="5130720"/>
            <a:chExt cx="1238400" cy="1236600"/>
          </a:xfrm>
        </p:grpSpPr>
        <p:sp>
          <p:nvSpPr>
            <p:cNvPr id="190" name="Oval 27"/>
            <p:cNvSpPr/>
            <p:nvPr/>
          </p:nvSpPr>
          <p:spPr>
            <a:xfrm>
              <a:off x="6886440" y="513072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6fb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28"/>
            <p:cNvSpPr/>
            <p:nvPr/>
          </p:nvSpPr>
          <p:spPr>
            <a:xfrm>
              <a:off x="6937200" y="5181480"/>
              <a:ext cx="1135080" cy="1134720"/>
            </a:xfrm>
            <a:prstGeom prst="ellipse">
              <a:avLst/>
            </a:prstGeom>
            <a:noFill/>
            <a:ln w="38160">
              <a:solidFill>
                <a:srgbClr val="6fb157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29"/>
            <p:cNvSpPr/>
            <p:nvPr/>
          </p:nvSpPr>
          <p:spPr>
            <a:xfrm>
              <a:off x="6987960" y="5235480"/>
              <a:ext cx="1033560" cy="1032840"/>
            </a:xfrm>
            <a:prstGeom prst="ellipse">
              <a:avLst/>
            </a:prstGeom>
            <a:noFill/>
            <a:ln w="38160">
              <a:solidFill>
                <a:srgbClr val="6fb157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Text Box 30"/>
          <p:cNvSpPr/>
          <p:nvPr/>
        </p:nvSpPr>
        <p:spPr>
          <a:xfrm>
            <a:off x="6958080" y="54388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1905120" y="5759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285280" y="1523880"/>
            <a:ext cx="2063880" cy="172908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ef8d21"/>
              </a:gs>
              <a:gs pos="100000">
                <a:srgbClr val="a66216"/>
              </a:gs>
            </a:gsLst>
            <a:lin ang="81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87840" y="1523880"/>
            <a:ext cx="2063880" cy="172908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6fb157"/>
              </a:gs>
              <a:gs pos="100000">
                <a:srgbClr val="588d45"/>
              </a:gs>
            </a:gsLst>
            <a:lin ang="81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0" y="353844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449393"/>
              </a:gs>
              <a:gs pos="100000">
                <a:srgbClr val="5ac2c2"/>
              </a:gs>
            </a:gsLst>
            <a:lin ang="81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587120" y="353844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8c3449"/>
              </a:gs>
              <a:gs pos="100000">
                <a:srgbClr val="d54f6f"/>
              </a:gs>
            </a:gsLst>
            <a:lin ang="81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2341440"/>
            <a:ext cx="2081160" cy="2082960"/>
          </a:xfrm>
          <a:prstGeom prst="ellipse">
            <a:avLst/>
          </a:prstGeom>
          <a:solidFill>
            <a:srgbClr val="fe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7600" y="192708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38760" y="192708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95520" y="447840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38760" y="447840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97560" y="2800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M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00960" y="2800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M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97560" y="3743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M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00960" y="3743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M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622600"/>
            <a:ext cx="8435880" cy="4311720"/>
          </a:xfrm>
          <a:custGeom>
            <a:avLst/>
            <a:gdLst/>
            <a:ahLst/>
            <a:rect l="l" t="t" r="r" b="b"/>
            <a:pathLst>
              <a:path w="5218" h="2716">
                <a:moveTo>
                  <a:pt x="0" y="2387"/>
                </a:moveTo>
                <a:cubicBezTo>
                  <a:pt x="0" y="2527"/>
                  <a:pt x="0" y="2668"/>
                  <a:pt x="0" y="2668"/>
                </a:cubicBezTo>
                <a:cubicBezTo>
                  <a:pt x="2256" y="2716"/>
                  <a:pt x="4539" y="1996"/>
                  <a:pt x="5218" y="220"/>
                </a:cubicBezTo>
                <a:lnTo>
                  <a:pt x="4011" y="0"/>
                </a:lnTo>
                <a:cubicBezTo>
                  <a:pt x="3333" y="2003"/>
                  <a:pt x="638" y="2311"/>
                  <a:pt x="0" y="2387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746360" y="5823000"/>
            <a:ext cx="764640" cy="799920"/>
            <a:chOff x="1746360" y="5823000"/>
            <a:chExt cx="764640" cy="799920"/>
          </a:xfrm>
        </p:grpSpPr>
        <p:grpSp>
          <p:nvGrpSpPr>
            <p:cNvPr id="212" name=""/>
            <p:cNvGrpSpPr/>
            <p:nvPr/>
          </p:nvGrpSpPr>
          <p:grpSpPr>
            <a:xfrm>
              <a:off x="1746360" y="5823000"/>
              <a:ext cx="764640" cy="799920"/>
              <a:chOff x="1746360" y="5823000"/>
              <a:chExt cx="764640" cy="799920"/>
            </a:xfrm>
          </p:grpSpPr>
          <p:pic>
            <p:nvPicPr>
              <p:cNvPr id="2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18720" y="6450120"/>
                <a:ext cx="62964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746360" y="5823000"/>
                <a:ext cx="764640" cy="73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1746360" y="5823000"/>
                <a:ext cx="759600" cy="739800"/>
              </a:xfrm>
              <a:prstGeom prst="ellipse">
                <a:avLst/>
              </a:prstGeom>
              <a:gradFill rotWithShape="0">
                <a:gsLst>
                  <a:gs pos="0">
                    <a:srgbClr val="5ac2c2">
                      <a:alpha val="55294"/>
                    </a:srgbClr>
                  </a:gs>
                  <a:gs pos="50000">
                    <a:srgbClr val="295959">
                      <a:alpha val="90196"/>
                    </a:srgbClr>
                  </a:gs>
                  <a:gs pos="100000">
                    <a:srgbClr val="5ac2c2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1821960" y="5830560"/>
              <a:ext cx="604800" cy="26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"/>
          <p:cNvGrpSpPr/>
          <p:nvPr/>
        </p:nvGrpSpPr>
        <p:grpSpPr>
          <a:xfrm>
            <a:off x="3263760" y="5213520"/>
            <a:ext cx="1079280" cy="1078560"/>
            <a:chOff x="3263760" y="5213520"/>
            <a:chExt cx="1079280" cy="1078560"/>
          </a:xfrm>
        </p:grpSpPr>
        <p:grpSp>
          <p:nvGrpSpPr>
            <p:cNvPr id="218" name=""/>
            <p:cNvGrpSpPr/>
            <p:nvPr/>
          </p:nvGrpSpPr>
          <p:grpSpPr>
            <a:xfrm>
              <a:off x="3263760" y="5213520"/>
              <a:ext cx="1079280" cy="1078560"/>
              <a:chOff x="3263760" y="5213520"/>
              <a:chExt cx="1079280" cy="1078560"/>
            </a:xfrm>
          </p:grpSpPr>
          <p:pic>
            <p:nvPicPr>
              <p:cNvPr id="2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366000" y="6059160"/>
                <a:ext cx="888840" cy="23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263760" y="5213520"/>
                <a:ext cx="1079280" cy="99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>
                <a:off x="3263760" y="5213520"/>
                <a:ext cx="1072080" cy="997560"/>
              </a:xfrm>
              <a:prstGeom prst="ellipse">
                <a:avLst/>
              </a:prstGeom>
              <a:gradFill rotWithShape="0">
                <a:gsLst>
                  <a:gs pos="0">
                    <a:srgbClr val="6fb157">
                      <a:alpha val="55294"/>
                    </a:srgbClr>
                  </a:gs>
                  <a:gs pos="50000">
                    <a:srgbClr val="335128">
                      <a:alpha val="90196"/>
                    </a:srgbClr>
                  </a:gs>
                  <a:gs pos="100000">
                    <a:srgbClr val="6fb157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22" name="" descr=""/>
            <p:cNvPicPr/>
            <p:nvPr/>
          </p:nvPicPr>
          <p:blipFill>
            <a:blip r:embed="rId6"/>
            <a:stretch/>
          </p:blipFill>
          <p:spPr>
            <a:xfrm>
              <a:off x="3370320" y="5223600"/>
              <a:ext cx="853200" cy="35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3" name=""/>
          <p:cNvGrpSpPr/>
          <p:nvPr/>
        </p:nvGrpSpPr>
        <p:grpSpPr>
          <a:xfrm>
            <a:off x="4876920" y="3994200"/>
            <a:ext cx="1561320" cy="1599480"/>
            <a:chOff x="4876920" y="3994200"/>
            <a:chExt cx="1561320" cy="1599480"/>
          </a:xfrm>
        </p:grpSpPr>
        <p:grpSp>
          <p:nvGrpSpPr>
            <p:cNvPr id="224" name=""/>
            <p:cNvGrpSpPr/>
            <p:nvPr/>
          </p:nvGrpSpPr>
          <p:grpSpPr>
            <a:xfrm>
              <a:off x="4876920" y="3994200"/>
              <a:ext cx="1561320" cy="1599480"/>
              <a:chOff x="4876920" y="3994200"/>
              <a:chExt cx="1561320" cy="1599480"/>
            </a:xfrm>
          </p:grpSpPr>
          <p:pic>
            <p:nvPicPr>
              <p:cNvPr id="22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024880" y="5248080"/>
                <a:ext cx="1285560" cy="34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76920" y="3994200"/>
                <a:ext cx="1561320" cy="147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>
                <a:off x="4876920" y="3994200"/>
                <a:ext cx="1550520" cy="1479240"/>
              </a:xfrm>
              <a:prstGeom prst="ellipse">
                <a:avLst/>
              </a:prstGeom>
              <a:gradFill rotWithShape="0">
                <a:gsLst>
                  <a:gs pos="0">
                    <a:srgbClr val="ef8d21">
                      <a:alpha val="55294"/>
                    </a:srgbClr>
                  </a:gs>
                  <a:gs pos="50000">
                    <a:srgbClr val="6e400f">
                      <a:alpha val="90196"/>
                    </a:srgbClr>
                  </a:gs>
                  <a:gs pos="100000">
                    <a:srgbClr val="ef8d21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28" name="" descr=""/>
            <p:cNvPicPr/>
            <p:nvPr/>
          </p:nvPicPr>
          <p:blipFill>
            <a:blip r:embed="rId9"/>
            <a:stretch/>
          </p:blipFill>
          <p:spPr>
            <a:xfrm>
              <a:off x="5031360" y="4009320"/>
              <a:ext cx="1234440" cy="52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"/>
          <p:cNvGrpSpPr/>
          <p:nvPr/>
        </p:nvGrpSpPr>
        <p:grpSpPr>
          <a:xfrm>
            <a:off x="6324480" y="1631880"/>
            <a:ext cx="2278440" cy="2361240"/>
            <a:chOff x="6324480" y="1631880"/>
            <a:chExt cx="2278440" cy="2361240"/>
          </a:xfrm>
        </p:grpSpPr>
        <p:grpSp>
          <p:nvGrpSpPr>
            <p:cNvPr id="230" name=""/>
            <p:cNvGrpSpPr/>
            <p:nvPr/>
          </p:nvGrpSpPr>
          <p:grpSpPr>
            <a:xfrm>
              <a:off x="6324480" y="1631880"/>
              <a:ext cx="2278440" cy="2361240"/>
              <a:chOff x="6324480" y="1631880"/>
              <a:chExt cx="2278440" cy="2361240"/>
            </a:xfrm>
          </p:grpSpPr>
          <p:pic>
            <p:nvPicPr>
              <p:cNvPr id="23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540480" y="3483000"/>
                <a:ext cx="1876320" cy="51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324480" y="1631880"/>
                <a:ext cx="2278440" cy="217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"/>
              <p:cNvSpPr/>
              <p:nvPr/>
            </p:nvSpPr>
            <p:spPr>
              <a:xfrm>
                <a:off x="6324480" y="1631880"/>
                <a:ext cx="2262960" cy="2183400"/>
              </a:xfrm>
              <a:prstGeom prst="ellipse">
                <a:avLst/>
              </a:prstGeom>
              <a:gradFill rotWithShape="0">
                <a:gsLst>
                  <a:gs pos="0">
                    <a:srgbClr val="d54f6f">
                      <a:alpha val="55294"/>
                    </a:srgbClr>
                  </a:gs>
                  <a:gs pos="50000">
                    <a:srgbClr val="622433">
                      <a:alpha val="90196"/>
                    </a:srgbClr>
                  </a:gs>
                  <a:gs pos="100000">
                    <a:srgbClr val="d54f6f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34" name="" descr=""/>
            <p:cNvPicPr/>
            <p:nvPr/>
          </p:nvPicPr>
          <p:blipFill>
            <a:blip r:embed="rId12"/>
            <a:stretch/>
          </p:blipFill>
          <p:spPr>
            <a:xfrm>
              <a:off x="6549840" y="1654560"/>
              <a:ext cx="1801800" cy="77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/>
          <p:cNvSpPr/>
          <p:nvPr/>
        </p:nvSpPr>
        <p:spPr>
          <a:xfrm rot="4617600">
            <a:off x="2774520" y="5988240"/>
            <a:ext cx="231840" cy="203040"/>
          </a:xfrm>
          <a:prstGeom prst="triangle">
            <a:avLst>
              <a:gd name="adj" fmla="val 50000"/>
            </a:avLst>
          </a:prstGeom>
          <a:solidFill>
            <a:srgbClr val="e8c9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3499200">
            <a:off x="4430160" y="5306760"/>
            <a:ext cx="301680" cy="263520"/>
          </a:xfrm>
          <a:prstGeom prst="triangle">
            <a:avLst>
              <a:gd name="adj" fmla="val 50000"/>
            </a:avLst>
          </a:prstGeom>
          <a:solidFill>
            <a:srgbClr val="e8c9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284200">
            <a:off x="6351120" y="3795480"/>
            <a:ext cx="400320" cy="349200"/>
          </a:xfrm>
          <a:prstGeom prst="triangle">
            <a:avLst>
              <a:gd name="adj" fmla="val 50000"/>
            </a:avLst>
          </a:prstGeom>
          <a:solidFill>
            <a:srgbClr val="e8c9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1752480" y="59961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Calibri"/>
                <a:ea typeface="Arial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3429000" y="5518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Calibri"/>
                <a:ea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5181480" y="4451400"/>
            <a:ext cx="92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Calibri"/>
                <a:ea typeface="Arial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6858000" y="2405160"/>
            <a:ext cx="9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ffff"/>
                </a:solidFill>
                <a:latin typeface="Calibri"/>
                <a:ea typeface="Arial"/>
              </a:rPr>
              <a:t>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38080" y="23176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3156120"/>
            <a:ext cx="37339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251320" y="2760840"/>
            <a:ext cx="2867040" cy="2968560"/>
          </a:xfrm>
          <a:prstGeom prst="ellipse">
            <a:avLst/>
          </a:prstGeom>
          <a:noFill/>
          <a:ln w="57240">
            <a:solidFill>
              <a:srgbClr val="e8c972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47760" y="2760840"/>
            <a:ext cx="2867040" cy="2968560"/>
          </a:xfrm>
          <a:prstGeom prst="ellipse">
            <a:avLst/>
          </a:prstGeom>
          <a:noFill/>
          <a:ln w="57240">
            <a:solidFill>
              <a:srgbClr val="e8c972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3678120"/>
            <a:ext cx="2514600" cy="1220760"/>
          </a:xfrm>
          <a:prstGeom prst="roundRect">
            <a:avLst>
              <a:gd name="adj" fmla="val 13264"/>
            </a:avLst>
          </a:prstGeom>
          <a:gradFill rotWithShape="0">
            <a:gsLst>
              <a:gs pos="0">
                <a:srgbClr val="ef8d21"/>
              </a:gs>
              <a:gs pos="100000">
                <a:srgbClr val="6e400f"/>
              </a:gs>
            </a:gsLst>
            <a:lin ang="5400000"/>
          </a:gradFill>
          <a:ln w="3816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29000" y="4059360"/>
            <a:ext cx="24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63640" y="4002120"/>
            <a:ext cx="16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557360" y="2378160"/>
            <a:ext cx="1044720" cy="1022400"/>
            <a:chOff x="1557360" y="2378160"/>
            <a:chExt cx="1044720" cy="1022400"/>
          </a:xfrm>
        </p:grpSpPr>
        <p:grpSp>
          <p:nvGrpSpPr>
            <p:cNvPr id="251" name=""/>
            <p:cNvGrpSpPr/>
            <p:nvPr/>
          </p:nvGrpSpPr>
          <p:grpSpPr>
            <a:xfrm>
              <a:off x="1557360" y="2378160"/>
              <a:ext cx="1044720" cy="1022400"/>
              <a:chOff x="1557360" y="2378160"/>
              <a:chExt cx="1044720" cy="1022400"/>
            </a:xfrm>
          </p:grpSpPr>
          <p:pic>
            <p:nvPicPr>
              <p:cNvPr id="2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57360" y="2378160"/>
                <a:ext cx="1044720" cy="101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>
                <a:off x="1557360" y="2378160"/>
                <a:ext cx="1037520" cy="1022400"/>
              </a:xfrm>
              <a:prstGeom prst="ellipse">
                <a:avLst/>
              </a:prstGeom>
              <a:gradFill rotWithShape="0">
                <a:gsLst>
                  <a:gs pos="0">
                    <a:srgbClr val="d54f6f">
                      <a:alpha val="55294"/>
                    </a:srgbClr>
                  </a:gs>
                  <a:gs pos="50000">
                    <a:srgbClr val="622433">
                      <a:alpha val="90196"/>
                    </a:srgbClr>
                  </a:gs>
                  <a:gs pos="100000">
                    <a:srgbClr val="d54f6f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54" name="" descr=""/>
            <p:cNvPicPr/>
            <p:nvPr/>
          </p:nvPicPr>
          <p:blipFill>
            <a:blip r:embed="rId2"/>
            <a:stretch/>
          </p:blipFill>
          <p:spPr>
            <a:xfrm>
              <a:off x="1661400" y="2387880"/>
              <a:ext cx="825120" cy="36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"/>
          <p:cNvGrpSpPr/>
          <p:nvPr/>
        </p:nvGrpSpPr>
        <p:grpSpPr>
          <a:xfrm>
            <a:off x="696960" y="3749760"/>
            <a:ext cx="1044360" cy="1022400"/>
            <a:chOff x="696960" y="3749760"/>
            <a:chExt cx="1044360" cy="1022400"/>
          </a:xfrm>
        </p:grpSpPr>
        <p:grpSp>
          <p:nvGrpSpPr>
            <p:cNvPr id="256" name=""/>
            <p:cNvGrpSpPr/>
            <p:nvPr/>
          </p:nvGrpSpPr>
          <p:grpSpPr>
            <a:xfrm>
              <a:off x="696960" y="3749760"/>
              <a:ext cx="1044360" cy="1022400"/>
              <a:chOff x="696960" y="3749760"/>
              <a:chExt cx="1044360" cy="1022400"/>
            </a:xfrm>
          </p:grpSpPr>
          <p:pic>
            <p:nvPicPr>
              <p:cNvPr id="2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6960" y="3749760"/>
                <a:ext cx="1044360" cy="101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696960" y="3749760"/>
                <a:ext cx="1037160" cy="1022400"/>
              </a:xfrm>
              <a:prstGeom prst="ellipse">
                <a:avLst/>
              </a:prstGeom>
              <a:gradFill rotWithShape="0">
                <a:gsLst>
                  <a:gs pos="0">
                    <a:srgbClr val="d54f6f">
                      <a:alpha val="55294"/>
                    </a:srgbClr>
                  </a:gs>
                  <a:gs pos="50000">
                    <a:srgbClr val="622433">
                      <a:alpha val="90196"/>
                    </a:srgbClr>
                  </a:gs>
                  <a:gs pos="100000">
                    <a:srgbClr val="d54f6f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59" name="" descr=""/>
            <p:cNvPicPr/>
            <p:nvPr/>
          </p:nvPicPr>
          <p:blipFill>
            <a:blip r:embed="rId4"/>
            <a:stretch/>
          </p:blipFill>
          <p:spPr>
            <a:xfrm>
              <a:off x="801000" y="3759480"/>
              <a:ext cx="824760" cy="36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0" name=""/>
          <p:cNvGrpSpPr/>
          <p:nvPr/>
        </p:nvGrpSpPr>
        <p:grpSpPr>
          <a:xfrm>
            <a:off x="1557360" y="5045040"/>
            <a:ext cx="1044720" cy="1022400"/>
            <a:chOff x="1557360" y="5045040"/>
            <a:chExt cx="1044720" cy="1022400"/>
          </a:xfrm>
        </p:grpSpPr>
        <p:grpSp>
          <p:nvGrpSpPr>
            <p:cNvPr id="261" name=""/>
            <p:cNvGrpSpPr/>
            <p:nvPr/>
          </p:nvGrpSpPr>
          <p:grpSpPr>
            <a:xfrm>
              <a:off x="1557360" y="5045040"/>
              <a:ext cx="1044720" cy="1022400"/>
              <a:chOff x="1557360" y="5045040"/>
              <a:chExt cx="1044720" cy="1022400"/>
            </a:xfrm>
          </p:grpSpPr>
          <p:pic>
            <p:nvPicPr>
              <p:cNvPr id="26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557360" y="5045040"/>
                <a:ext cx="1044720" cy="101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1557360" y="5045040"/>
                <a:ext cx="1037520" cy="1022400"/>
              </a:xfrm>
              <a:prstGeom prst="ellipse">
                <a:avLst/>
              </a:prstGeom>
              <a:gradFill rotWithShape="0">
                <a:gsLst>
                  <a:gs pos="0">
                    <a:srgbClr val="d54f6f">
                      <a:alpha val="55294"/>
                    </a:srgbClr>
                  </a:gs>
                  <a:gs pos="50000">
                    <a:srgbClr val="622433">
                      <a:alpha val="90196"/>
                    </a:srgbClr>
                  </a:gs>
                  <a:gs pos="100000">
                    <a:srgbClr val="d54f6f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64" name="" descr=""/>
            <p:cNvPicPr/>
            <p:nvPr/>
          </p:nvPicPr>
          <p:blipFill>
            <a:blip r:embed="rId6"/>
            <a:stretch/>
          </p:blipFill>
          <p:spPr>
            <a:xfrm>
              <a:off x="1661400" y="5054760"/>
              <a:ext cx="825120" cy="36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/>
          <p:cNvSpPr/>
          <p:nvPr/>
        </p:nvSpPr>
        <p:spPr>
          <a:xfrm>
            <a:off x="1546200" y="261000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62040" y="399744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549440" y="526248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718320" y="2405160"/>
            <a:ext cx="990720" cy="968400"/>
            <a:chOff x="6718320" y="2405160"/>
            <a:chExt cx="990720" cy="968400"/>
          </a:xfrm>
        </p:grpSpPr>
        <p:grpSp>
          <p:nvGrpSpPr>
            <p:cNvPr id="269" name=""/>
            <p:cNvGrpSpPr/>
            <p:nvPr/>
          </p:nvGrpSpPr>
          <p:grpSpPr>
            <a:xfrm>
              <a:off x="6718320" y="2405160"/>
              <a:ext cx="990720" cy="968400"/>
              <a:chOff x="6718320" y="2405160"/>
              <a:chExt cx="990720" cy="968400"/>
            </a:xfrm>
          </p:grpSpPr>
          <p:pic>
            <p:nvPicPr>
              <p:cNvPr id="27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718320" y="2405160"/>
                <a:ext cx="990720" cy="96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6718320" y="2405160"/>
                <a:ext cx="983880" cy="968400"/>
              </a:xfrm>
              <a:prstGeom prst="ellipse">
                <a:avLst/>
              </a:prstGeom>
              <a:gradFill rotWithShape="0">
                <a:gsLst>
                  <a:gs pos="0">
                    <a:srgbClr val="6fb157">
                      <a:alpha val="55294"/>
                    </a:srgbClr>
                  </a:gs>
                  <a:gs pos="50000">
                    <a:srgbClr val="497439">
                      <a:alpha val="90196"/>
                    </a:srgbClr>
                  </a:gs>
                  <a:gs pos="100000">
                    <a:srgbClr val="6fb157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72" name="" descr=""/>
            <p:cNvPicPr/>
            <p:nvPr/>
          </p:nvPicPr>
          <p:blipFill>
            <a:blip r:embed="rId8"/>
            <a:stretch/>
          </p:blipFill>
          <p:spPr>
            <a:xfrm>
              <a:off x="6816960" y="2414520"/>
              <a:ext cx="782280" cy="34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"/>
          <p:cNvSpPr/>
          <p:nvPr/>
        </p:nvSpPr>
        <p:spPr>
          <a:xfrm>
            <a:off x="6680160" y="261000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7612200" y="3776760"/>
            <a:ext cx="990360" cy="968400"/>
            <a:chOff x="7612200" y="3776760"/>
            <a:chExt cx="990360" cy="968400"/>
          </a:xfrm>
        </p:grpSpPr>
        <p:grpSp>
          <p:nvGrpSpPr>
            <p:cNvPr id="275" name=""/>
            <p:cNvGrpSpPr/>
            <p:nvPr/>
          </p:nvGrpSpPr>
          <p:grpSpPr>
            <a:xfrm>
              <a:off x="7612200" y="3776760"/>
              <a:ext cx="990360" cy="968400"/>
              <a:chOff x="7612200" y="3776760"/>
              <a:chExt cx="990360" cy="968400"/>
            </a:xfrm>
          </p:grpSpPr>
          <p:pic>
            <p:nvPicPr>
              <p:cNvPr id="27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612200" y="3776760"/>
                <a:ext cx="990360" cy="96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7612200" y="3776760"/>
                <a:ext cx="983520" cy="968400"/>
              </a:xfrm>
              <a:prstGeom prst="ellipse">
                <a:avLst/>
              </a:prstGeom>
              <a:gradFill rotWithShape="0">
                <a:gsLst>
                  <a:gs pos="0">
                    <a:srgbClr val="6fb157">
                      <a:alpha val="55294"/>
                    </a:srgbClr>
                  </a:gs>
                  <a:gs pos="50000">
                    <a:srgbClr val="497439">
                      <a:alpha val="90196"/>
                    </a:srgbClr>
                  </a:gs>
                  <a:gs pos="100000">
                    <a:srgbClr val="6fb157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78" name="" descr=""/>
            <p:cNvPicPr/>
            <p:nvPr/>
          </p:nvPicPr>
          <p:blipFill>
            <a:blip r:embed="rId10"/>
            <a:stretch/>
          </p:blipFill>
          <p:spPr>
            <a:xfrm>
              <a:off x="7710840" y="3786120"/>
              <a:ext cx="781920" cy="34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"/>
          <p:cNvSpPr/>
          <p:nvPr/>
        </p:nvSpPr>
        <p:spPr>
          <a:xfrm>
            <a:off x="7550280" y="399744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6718320" y="5054760"/>
            <a:ext cx="990720" cy="968040"/>
            <a:chOff x="6718320" y="5054760"/>
            <a:chExt cx="990720" cy="968040"/>
          </a:xfrm>
        </p:grpSpPr>
        <p:grpSp>
          <p:nvGrpSpPr>
            <p:cNvPr id="281" name=""/>
            <p:cNvGrpSpPr/>
            <p:nvPr/>
          </p:nvGrpSpPr>
          <p:grpSpPr>
            <a:xfrm>
              <a:off x="6718320" y="5054760"/>
              <a:ext cx="990720" cy="968040"/>
              <a:chOff x="6718320" y="5054760"/>
              <a:chExt cx="990720" cy="968040"/>
            </a:xfrm>
          </p:grpSpPr>
          <p:pic>
            <p:nvPicPr>
              <p:cNvPr id="28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718320" y="5054760"/>
                <a:ext cx="990720" cy="96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18320" y="5054760"/>
                <a:ext cx="983880" cy="968040"/>
              </a:xfrm>
              <a:prstGeom prst="ellipse">
                <a:avLst/>
              </a:prstGeom>
              <a:gradFill rotWithShape="0">
                <a:gsLst>
                  <a:gs pos="0">
                    <a:srgbClr val="6fb157">
                      <a:alpha val="55294"/>
                    </a:srgbClr>
                  </a:gs>
                  <a:gs pos="50000">
                    <a:srgbClr val="497439">
                      <a:alpha val="90196"/>
                    </a:srgbClr>
                  </a:gs>
                  <a:gs pos="100000">
                    <a:srgbClr val="6fb157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84" name="" descr=""/>
            <p:cNvPicPr/>
            <p:nvPr/>
          </p:nvPicPr>
          <p:blipFill>
            <a:blip r:embed="rId12"/>
            <a:stretch/>
          </p:blipFill>
          <p:spPr>
            <a:xfrm>
              <a:off x="6816960" y="5064120"/>
              <a:ext cx="782280" cy="34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/>
          <p:cNvSpPr/>
          <p:nvPr/>
        </p:nvSpPr>
        <p:spPr>
          <a:xfrm>
            <a:off x="6680160" y="525924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10120" y="4002120"/>
            <a:ext cx="16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1981080" y="167652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7360" y="4343400"/>
            <a:ext cx="2543040" cy="160020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bc6f1a"/>
              </a:gs>
              <a:gs pos="100000">
                <a:srgbClr val="ef8d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632040" y="37148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11360" y="47721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1112760" y="43671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752400" y="4849920"/>
            <a:ext cx="231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7360" y="1981080"/>
            <a:ext cx="2543040" cy="160020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3e8686"/>
              </a:gs>
              <a:gs pos="100000">
                <a:srgbClr val="5ac2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1360" y="240984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8"/>
          <p:cNvSpPr/>
          <p:nvPr/>
        </p:nvSpPr>
        <p:spPr>
          <a:xfrm>
            <a:off x="1112760" y="2004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752400" y="2487600"/>
            <a:ext cx="231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991120" y="4343400"/>
            <a:ext cx="2543400" cy="160020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a83e57"/>
              </a:gs>
              <a:gs pos="100000">
                <a:srgbClr val="d54f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45120" y="4772160"/>
            <a:ext cx="240840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8"/>
          <p:cNvSpPr/>
          <p:nvPr/>
        </p:nvSpPr>
        <p:spPr>
          <a:xfrm>
            <a:off x="6446880" y="43671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086520" y="4849920"/>
            <a:ext cx="231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991120" y="1981080"/>
            <a:ext cx="2543400" cy="160020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578b44"/>
              </a:gs>
              <a:gs pos="100000">
                <a:srgbClr val="6fb1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45120" y="2409840"/>
            <a:ext cx="240840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8"/>
          <p:cNvSpPr/>
          <p:nvPr/>
        </p:nvSpPr>
        <p:spPr>
          <a:xfrm>
            <a:off x="6446880" y="2004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6086520" y="2487600"/>
            <a:ext cx="231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734920" y="2182320"/>
            <a:ext cx="3636000" cy="3620160"/>
            <a:chOff x="2734920" y="2182320"/>
            <a:chExt cx="3636000" cy="3620160"/>
          </a:xfrm>
        </p:grpSpPr>
        <p:sp>
          <p:nvSpPr>
            <p:cNvPr id="307" name=""/>
            <p:cNvSpPr/>
            <p:nvPr/>
          </p:nvSpPr>
          <p:spPr>
            <a:xfrm rot="6774000">
              <a:off x="3200400" y="2733480"/>
              <a:ext cx="2679480" cy="2641680"/>
            </a:xfrm>
            <a:custGeom>
              <a:avLst/>
              <a:gdLst>
                <a:gd name="textAreaLeft" fmla="*/ 0 w 2679480"/>
                <a:gd name="textAreaRight" fmla="*/ 2679840 w 2679480"/>
                <a:gd name="textAreaTop" fmla="*/ 0 h 2641680"/>
                <a:gd name="textAreaBottom" fmla="*/ 264204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d54f6f"/>
                </a:gs>
                <a:gs pos="100000">
                  <a:srgbClr val="000000"/>
                </a:gs>
              </a:gsLst>
              <a:lin ang="67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2174000">
              <a:off x="3143160" y="2715840"/>
              <a:ext cx="2679840" cy="264168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2641680"/>
                <a:gd name="textAreaBottom" fmla="*/ 264204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ef8d21"/>
                </a:gs>
                <a:gs pos="100000">
                  <a:srgbClr val="000000"/>
                </a:gs>
              </a:gsLst>
              <a:lin ang="13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7574600">
              <a:off x="3240000" y="2609280"/>
              <a:ext cx="2679480" cy="2641680"/>
            </a:xfrm>
            <a:custGeom>
              <a:avLst/>
              <a:gdLst>
                <a:gd name="textAreaLeft" fmla="*/ 0 w 2679480"/>
                <a:gd name="textAreaRight" fmla="*/ 2679840 w 2679480"/>
                <a:gd name="textAreaTop" fmla="*/ 0 h 2641680"/>
                <a:gd name="textAreaBottom" fmla="*/ 264204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5ac2c2"/>
                </a:gs>
                <a:gs pos="100000">
                  <a:srgbClr val="050c0c"/>
                </a:gs>
              </a:gsLst>
              <a:lin ang="175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374000">
              <a:off x="3282480" y="2666880"/>
              <a:ext cx="2679840" cy="264168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2641680"/>
                <a:gd name="textAreaBottom" fmla="*/ 264204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6fb157"/>
                </a:gs>
                <a:gs pos="100000">
                  <a:srgbClr val="000000"/>
                </a:gs>
              </a:gsLst>
              <a:lin ang="121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774800" y="586440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75000" y="2759040"/>
            <a:ext cx="524016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cf3e9">
                  <a:alpha val="80392"/>
                </a:srgbClr>
              </a:gs>
              <a:gs pos="100000">
                <a:srgbClr val="ef8d21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89120" y="588492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00       01       02      03       04       05       06        0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53640" y="49546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425400" y="48369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86920" y="40924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6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5160" y="33829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285520" y="49039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768280" y="40053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5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513120" y="23385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8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47760" y="30621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763640" y="6294600"/>
            <a:ext cx="209556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ext in here  (unit: %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32040" y="594684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Arial"/>
              </a:rPr>
              <a:t>Y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98480" y="2301840"/>
            <a:ext cx="22096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ef8d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ef8d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ef8d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58960" y="2203560"/>
            <a:ext cx="3870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908440" y="521496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5128"/>
              </a:gs>
              <a:gs pos="100000">
                <a:srgbClr val="6fb15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67240" y="513864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5128"/>
              </a:gs>
              <a:gs pos="100000">
                <a:srgbClr val="6fb15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191120" y="443376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5128"/>
              </a:gs>
              <a:gs pos="100000">
                <a:srgbClr val="6fb15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824360" y="366084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5128"/>
              </a:gs>
              <a:gs pos="100000">
                <a:srgbClr val="6fb15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05480" y="471816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5128"/>
              </a:gs>
              <a:gs pos="100000">
                <a:srgbClr val="6fb15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21440" y="431316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5128"/>
              </a:gs>
              <a:gs pos="100000">
                <a:srgbClr val="6fb15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89680" y="274320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5128"/>
              </a:gs>
              <a:gs pos="100000">
                <a:srgbClr val="6fb15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581960" y="3328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5128"/>
              </a:gs>
              <a:gs pos="100000">
                <a:srgbClr val="6fb15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703600" y="2301840"/>
            <a:ext cx="22096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ef8d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ef8d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ef8d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74800" y="17524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7:17:38Z</dcterms:created>
  <dc:creator>www.themegallery.com</dc:creator>
  <dc:description/>
  <dc:language>en-US</dc:language>
  <cp:lastModifiedBy>Data_server</cp:lastModifiedBy>
  <dcterms:modified xsi:type="dcterms:W3CDTF">2008-02-28T02:15:25Z</dcterms:modified>
  <cp:revision>30</cp:revision>
  <dc:subject/>
  <dc:title>ThemeGallery Power Template</dc:title>
</cp:coreProperties>
</file>