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489-71DE-4F96-AD67-3E6325CB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65F-C92E-44F0-9719-87727A8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287-D9E3-4203-AAED-11263768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D25-8825-4004-BB82-1CC5EC6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A930-3209-4667-B4E9-79993962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8C3-45ED-4985-AC5C-F419EAF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1EB-C108-4402-9BFC-657FACE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6498-9EEC-4273-9CB6-2FB118D0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448-8E69-4314-857F-4BA0233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F382-11A2-42A7-A677-26D3E43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3EC-681A-4F1A-B5B8-A66996A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200-EE9E-4492-B974-3B3104B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D417-8151-42CE-8485-0C59CFB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FDF-8820-4EB7-A73A-9501869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247E-C778-48CE-B172-450AFFD6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A0D-66CC-44BB-A243-E1D114A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A4E-6799-43B8-8865-5DD792EF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DBA-51E1-474A-827B-25B70A3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7B-59F5-4986-9C7E-D48A3DC6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8A6-6DBC-4911-A646-A6ABF025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BD5-65EF-4B62-9BDF-3AE712E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E28-8DD9-4983-AC6B-F37A519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C67-8462-49EA-8A89-0850D3E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8BF-5555-49B3-BF33-0917855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ADE-9C75-4695-B27F-E13E8C38F95B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5FF-F198-4369-B3B4-B4E1D5115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3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4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5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47920" y="1527120"/>
            <a:ext cx="5714640" cy="5330520"/>
            <a:chOff x="1447920" y="1527120"/>
            <a:chExt cx="5714640" cy="5330520"/>
          </a:xfrm>
        </p:grpSpPr>
        <p:sp>
          <p:nvSpPr>
            <p:cNvPr id="263" name=""/>
            <p:cNvSpPr/>
            <p:nvPr/>
          </p:nvSpPr>
          <p:spPr>
            <a:xfrm rot="13770000">
              <a:off x="4782960" y="411516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856000">
              <a:off x="2755800" y="3632400"/>
              <a:ext cx="103572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394200">
              <a:off x="4917960" y="247608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165640" y="1527120"/>
              <a:ext cx="925200" cy="911880"/>
              <a:chOff x="5165640" y="1527120"/>
              <a:chExt cx="925200" cy="9118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5165640" y="1527120"/>
                <a:ext cx="894960" cy="911880"/>
                <a:chOff x="5165640" y="1527120"/>
                <a:chExt cx="894960" cy="911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165640" y="1527120"/>
                  <a:ext cx="89496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120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447920" y="2860200"/>
              <a:ext cx="1790280" cy="1894680"/>
              <a:chOff x="1447920" y="2860200"/>
              <a:chExt cx="1790280" cy="189468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447920" y="2860200"/>
                <a:ext cx="1790280" cy="1894680"/>
                <a:chOff x="1447920" y="2860200"/>
                <a:chExt cx="1790280" cy="1894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47920" y="286020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652400" y="2891520"/>
                  <a:ext cx="138096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563840" y="37022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097240" y="4263840"/>
              <a:ext cx="2065320" cy="2105280"/>
              <a:chOff x="5097240" y="4263840"/>
              <a:chExt cx="2065320" cy="21052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5097240" y="4263840"/>
                <a:ext cx="2065320" cy="2105280"/>
                <a:chOff x="5097240" y="4263840"/>
                <a:chExt cx="2065320" cy="2105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097240" y="42638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2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3304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541224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1400" y="636948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3880" y="250920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299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2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5472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334" name="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77a4"/>
                    </a:gs>
                    <a:gs pos="100000">
                      <a:srgbClr val="4e91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0256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ed8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1876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066040" y="1981080"/>
                <a:ext cx="600480" cy="594720"/>
                <a:chOff x="2066040" y="1981080"/>
                <a:chExt cx="600480" cy="594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06604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07216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7936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8548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11716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f8b4a"/>
                    </a:gs>
                    <a:gs pos="100000">
                      <a:srgbClr val="34b03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60792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5eb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62412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6f7d9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4efc0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271400" y="1981080"/>
                <a:ext cx="600480" cy="594720"/>
                <a:chOff x="4271400" y="1981080"/>
                <a:chExt cx="600480" cy="594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27140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27752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28472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29084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2252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81328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bed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82948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76760" y="1981080"/>
                <a:ext cx="600480" cy="594720"/>
                <a:chOff x="6476760" y="1981080"/>
                <a:chExt cx="600480" cy="5947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47676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8288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9008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49620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2788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01600" y="2031840"/>
            <a:ext cx="6057000" cy="407880"/>
            <a:chOff x="1101600" y="2031840"/>
            <a:chExt cx="6057000" cy="407880"/>
          </a:xfrm>
        </p:grpSpPr>
        <p:sp>
          <p:nvSpPr>
            <p:cNvPr id="466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022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925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1838520" y="2255400"/>
              <a:ext cx="98640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3592080" y="2255400"/>
              <a:ext cx="97884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5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804320" y="1913400"/>
              <a:ext cx="1131120" cy="1064520"/>
              <a:chOff x="1804320" y="1913400"/>
              <a:chExt cx="1131120" cy="1064520"/>
            </a:xfrm>
          </p:grpSpPr>
          <p:sp>
            <p:nvSpPr>
              <p:cNvPr id="477" name=""/>
              <p:cNvSpPr/>
              <p:nvPr/>
            </p:nvSpPr>
            <p:spPr>
              <a:xfrm>
                <a:off x="1804320" y="191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74880" y="198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31040" y="220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2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804320" y="3361320"/>
              <a:ext cx="1131120" cy="1064520"/>
              <a:chOff x="1804320" y="3361320"/>
              <a:chExt cx="1131120" cy="1064520"/>
            </a:xfrm>
          </p:grpSpPr>
          <p:sp>
            <p:nvSpPr>
              <p:cNvPr id="484" name=""/>
              <p:cNvSpPr/>
              <p:nvPr/>
            </p:nvSpPr>
            <p:spPr>
              <a:xfrm>
                <a:off x="1804320" y="33613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74880" y="34297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3104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89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804320" y="4837680"/>
              <a:ext cx="1131120" cy="1064520"/>
              <a:chOff x="1804320" y="4837680"/>
              <a:chExt cx="1131120" cy="1064520"/>
            </a:xfrm>
          </p:grpSpPr>
          <p:sp>
            <p:nvSpPr>
              <p:cNvPr id="491" name=""/>
              <p:cNvSpPr/>
              <p:nvPr/>
            </p:nvSpPr>
            <p:spPr>
              <a:xfrm>
                <a:off x="1804320" y="48376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74880" y="49060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3104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320"/>
                <a:gridCol w="1121040"/>
                <a:gridCol w="1098360"/>
                <a:gridCol w="1095480"/>
                <a:gridCol w="1104840"/>
                <a:gridCol w="109548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24040" y="732600"/>
            <a:ext cx="7380720" cy="5582160"/>
            <a:chOff x="824040" y="732600"/>
            <a:chExt cx="7380720" cy="5582160"/>
          </a:xfrm>
        </p:grpSpPr>
        <p:sp>
          <p:nvSpPr>
            <p:cNvPr id="516" name="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610280" y="2229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8bfcd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c5189"/>
                </a:gs>
                <a:gs pos="100000">
                  <a:srgbClr val="4987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c285f"/>
                </a:gs>
                <a:gs pos="100000">
                  <a:srgbClr val="364e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52c08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824040" y="732600"/>
              <a:ext cx="7380720" cy="5582160"/>
              <a:chOff x="824040" y="732600"/>
              <a:chExt cx="7380720" cy="5582160"/>
            </a:xfrm>
          </p:grpSpPr>
          <p:sp>
            <p:nvSpPr>
              <p:cNvPr id="528" name="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5e783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539200">
                <a:off x="1242360" y="1636920"/>
                <a:ext cx="654372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b6c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d8ccf"/>
              </a:gs>
              <a:gs pos="100000">
                <a:srgbClr val="364e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914400" y="4387680"/>
            <a:ext cx="1485720" cy="1989000"/>
            <a:chOff x="914400" y="4387680"/>
            <a:chExt cx="1485720" cy="1989000"/>
          </a:xfrm>
        </p:grpSpPr>
        <p:grpSp>
          <p:nvGrpSpPr>
            <p:cNvPr id="540" name=""/>
            <p:cNvGrpSpPr/>
            <p:nvPr/>
          </p:nvGrpSpPr>
          <p:grpSpPr>
            <a:xfrm>
              <a:off x="914400" y="4387680"/>
              <a:ext cx="1485720" cy="1514520"/>
              <a:chOff x="914400" y="4387680"/>
              <a:chExt cx="1485720" cy="15145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914400" y="4387680"/>
                <a:ext cx="1485720" cy="1514520"/>
                <a:chOff x="914400" y="4387680"/>
                <a:chExt cx="1485720" cy="15145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914400" y="438768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08396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107208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1066680" y="5987880"/>
              <a:ext cx="120636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781680" y="4343400"/>
            <a:ext cx="1524240" cy="2066760"/>
            <a:chOff x="6781680" y="4343400"/>
            <a:chExt cx="1524240" cy="2066760"/>
          </a:xfrm>
        </p:grpSpPr>
        <p:grpSp>
          <p:nvGrpSpPr>
            <p:cNvPr id="547" name=""/>
            <p:cNvGrpSpPr/>
            <p:nvPr/>
          </p:nvGrpSpPr>
          <p:grpSpPr>
            <a:xfrm>
              <a:off x="6781680" y="4343400"/>
              <a:ext cx="1524240" cy="1531800"/>
              <a:chOff x="6781680" y="4343400"/>
              <a:chExt cx="1524240" cy="1531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781680" y="4343400"/>
                <a:ext cx="1524240" cy="1531800"/>
                <a:chOff x="6781680" y="4343400"/>
                <a:chExt cx="1524240" cy="15318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781680" y="43434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955920" y="43686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692496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6824520" y="5922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554" name=""/>
            <p:cNvGrpSpPr/>
            <p:nvPr/>
          </p:nvGrpSpPr>
          <p:grpSpPr>
            <a:xfrm>
              <a:off x="2819520" y="4387680"/>
              <a:ext cx="1523880" cy="1520640"/>
              <a:chOff x="2819520" y="4387680"/>
              <a:chExt cx="1523880" cy="1520640"/>
            </a:xfrm>
          </p:grpSpPr>
          <p:sp>
            <p:nvSpPr>
              <p:cNvPr id="555" name=""/>
              <p:cNvSpPr/>
              <p:nvPr/>
            </p:nvSpPr>
            <p:spPr>
              <a:xfrm>
                <a:off x="2819520" y="43876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b52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895480" y="51177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560" name=""/>
            <p:cNvGrpSpPr/>
            <p:nvPr/>
          </p:nvGrpSpPr>
          <p:grpSpPr>
            <a:xfrm>
              <a:off x="4876920" y="4343400"/>
              <a:ext cx="1523880" cy="1520640"/>
              <a:chOff x="4876920" y="4343400"/>
              <a:chExt cx="1523880" cy="1520640"/>
            </a:xfrm>
          </p:grpSpPr>
          <p:sp>
            <p:nvSpPr>
              <p:cNvPr id="561" name=""/>
              <p:cNvSpPr/>
              <p:nvPr/>
            </p:nvSpPr>
            <p:spPr>
              <a:xfrm>
                <a:off x="4876920" y="43434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545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4952880" y="50734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– 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27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6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雨林木风</cp:lastModifiedBy>
  <dcterms:modified xsi:type="dcterms:W3CDTF">2009-11-30T09:33:07Z</dcterms:modified>
  <cp:revision>3</cp:revision>
  <dc:subject/>
  <dc:title>PowerPoint Template</dc:title>
</cp:coreProperties>
</file>