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418-C2F7-4A54-BFAC-619DECDB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9DF-65B9-45DB-8452-439B60B7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E28-20A0-4564-B230-CA147DBA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0E8-0BAD-4A66-B86D-4410F2CA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002D-D2F9-4685-AD8C-713F6355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DD7A-B1FE-40DF-A555-1E2503D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86D7-BAB3-40FD-8691-7FC54E53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807-4D27-48AB-9196-1DB6BD3C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E97-3A0E-4D96-BC2B-7897919A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D4D-9F87-4699-8743-A727E64B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D2C-B51F-4F04-841D-1A0F4BE8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1C7-CC18-474B-9138-F11C6A2D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4431-7D11-4470-A95A-131D308B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DF9-A728-4D70-B364-DEBFD1EE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883-CAD5-466B-962E-BF4C2DF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5082-1145-4239-8639-BF31A4D9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604A-4A47-47F9-B8A2-2C22FEAE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270-9B9D-42C3-BC34-1C62122F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177-93C0-4C03-97E6-0CD5366B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6EA-8117-4AA2-9AE1-67B992D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B31-0CF0-483A-8417-D18A7693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F7A-A433-4BD7-887D-B895FE3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A45-7FC5-4FB2-9183-BAF5DC71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46D-0047-48E7-A968-23B4B3F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47600"/>
            <a:ext cx="0" cy="512604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161040"/>
            <a:ext cx="86652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f8c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  <a:ea typeface="굴림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-101880" y="6482880"/>
            <a:ext cx="5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2FA-EE4E-47EE-8DD3-FE342B9C54F4}" type="slidenum">
              <a: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78120" y="-9360"/>
            <a:ext cx="7269120" cy="688644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2b81a6"/>
              </a:gs>
              <a:gs pos="100000">
                <a:srgbClr val="37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C4CF-0FDD-4415-8BFA-7D3BCFEA3EAE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6e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6e6e6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6e6e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11160" y="1455840"/>
            <a:ext cx="0" cy="312876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1440" y="-4680"/>
            <a:ext cx="1552680" cy="1585800"/>
            <a:chOff x="271440" y="-4680"/>
            <a:chExt cx="1552680" cy="1585800"/>
          </a:xfrm>
        </p:grpSpPr>
        <p:sp>
          <p:nvSpPr>
            <p:cNvPr id="94" name=""/>
            <p:cNvSpPr/>
            <p:nvPr/>
          </p:nvSpPr>
          <p:spPr>
            <a:xfrm>
              <a:off x="1036800" y="-4680"/>
              <a:ext cx="787320" cy="158580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1440" y="0"/>
              <a:ext cx="895320" cy="29700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71640" y="-9360"/>
            <a:ext cx="1895400" cy="151920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1640" y="-14400"/>
            <a:ext cx="2138400" cy="158112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-14400"/>
            <a:ext cx="2338560" cy="162720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  <a:ea typeface="굴림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  <a:ea typeface="굴림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76320" y="1552680"/>
            <a:ext cx="0" cy="2957400"/>
          </a:xfrm>
          <a:prstGeom prst="line">
            <a:avLst/>
          </a:prstGeom>
          <a:ln w="9360">
            <a:solidFill>
              <a:srgbClr val="37a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sign Template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808280" y="-9360"/>
            <a:ext cx="7332480" cy="6946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68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68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3760" y="198432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557856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5620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2101680"/>
          <a:ext cx="230508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1680"/>
                    <a:ext cx="23050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365640" y="2184480"/>
          <a:ext cx="246852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18448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058080" y="2044800"/>
          <a:ext cx="2468520" cy="323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8080" y="204480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B73-27BF-4741-8D2D-AF424DF3B7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3040" y="1353960"/>
            <a:ext cx="4353120" cy="507960"/>
            <a:chOff x="473040" y="1353960"/>
            <a:chExt cx="4353120" cy="507960"/>
          </a:xfrm>
        </p:grpSpPr>
        <p:sp>
          <p:nvSpPr>
            <p:cNvPr id="257" name=""/>
            <p:cNvSpPr/>
            <p:nvPr/>
          </p:nvSpPr>
          <p:spPr>
            <a:xfrm>
              <a:off x="709560" y="1369800"/>
              <a:ext cx="411660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61600" y="145692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0" name=""/>
          <p:cNvGraphicFramePr/>
          <p:nvPr/>
        </p:nvGraphicFramePr>
        <p:xfrm>
          <a:off x="330120" y="843120"/>
          <a:ext cx="79232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843120"/>
                    <a:ext cx="79232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1AE-0D1B-4049-80C3-26AD2339C2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57240" y="1735200"/>
            <a:ext cx="6029640" cy="709560"/>
            <a:chOff x="1857240" y="1735200"/>
            <a:chExt cx="6029640" cy="709560"/>
          </a:xfrm>
        </p:grpSpPr>
        <p:sp>
          <p:nvSpPr>
            <p:cNvPr id="110" name=""/>
            <p:cNvSpPr/>
            <p:nvPr/>
          </p:nvSpPr>
          <p:spPr>
            <a:xfrm>
              <a:off x="2185920" y="176364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7240" y="1741320"/>
              <a:ext cx="1301760" cy="70344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57240" y="2712960"/>
            <a:ext cx="6029640" cy="709560"/>
            <a:chOff x="1857240" y="2712960"/>
            <a:chExt cx="6029640" cy="709560"/>
          </a:xfrm>
        </p:grpSpPr>
        <p:sp>
          <p:nvSpPr>
            <p:cNvPr id="115" name=""/>
            <p:cNvSpPr/>
            <p:nvPr/>
          </p:nvSpPr>
          <p:spPr>
            <a:xfrm>
              <a:off x="2185920" y="274176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81760" y="283860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57240" y="3691080"/>
            <a:ext cx="6029640" cy="709560"/>
            <a:chOff x="1857240" y="3691080"/>
            <a:chExt cx="6029640" cy="709560"/>
          </a:xfrm>
        </p:grpSpPr>
        <p:sp>
          <p:nvSpPr>
            <p:cNvPr id="120" name=""/>
            <p:cNvSpPr/>
            <p:nvPr/>
          </p:nvSpPr>
          <p:spPr>
            <a:xfrm>
              <a:off x="2185920" y="371952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57240" y="3697200"/>
              <a:ext cx="1301760" cy="70344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857240" y="4668840"/>
            <a:ext cx="6029640" cy="709560"/>
            <a:chOff x="1857240" y="4668840"/>
            <a:chExt cx="6029640" cy="709560"/>
          </a:xfrm>
        </p:grpSpPr>
        <p:sp>
          <p:nvSpPr>
            <p:cNvPr id="125" name=""/>
            <p:cNvSpPr/>
            <p:nvPr/>
          </p:nvSpPr>
          <p:spPr>
            <a:xfrm>
              <a:off x="2185920" y="4697280"/>
              <a:ext cx="570096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CDD-97B7-44D5-99C2-888B6B4CB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D86-4498-41DB-B80B-D836EF5B4D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89cfe8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37a3d1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73040" y="1353960"/>
            <a:ext cx="4353120" cy="507960"/>
            <a:chOff x="473040" y="1353960"/>
            <a:chExt cx="4353120" cy="507960"/>
          </a:xfrm>
        </p:grpSpPr>
        <p:sp>
          <p:nvSpPr>
            <p:cNvPr id="149" name=""/>
            <p:cNvSpPr/>
            <p:nvPr/>
          </p:nvSpPr>
          <p:spPr>
            <a:xfrm>
              <a:off x="709560" y="1369800"/>
              <a:ext cx="411660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61600" y="145692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B01-9B33-4FD8-B536-4DDDCE6C43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C44-83CF-4C3F-A4E0-CBFB074053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175" name="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5A1-77EB-4317-829B-48F0A2E4FD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182" name="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360" y="1143000"/>
              <a:ext cx="391428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185" name="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08520" y="1143000"/>
              <a:ext cx="391428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>
              <a:gd name="textAreaLeft" fmla="*/ 0 w 4327560"/>
              <a:gd name="textAreaRight" fmla="*/ 4327920 w 4327560"/>
              <a:gd name="textAreaTop" fmla="*/ 0 h 4327560"/>
              <a:gd name="textAreaBottom" fmla="*/ 4327920 h 432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4D4-95CD-4D74-B343-A81F0B730B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4280" y="191772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4280" y="596916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DEB-5E30-4A55-AB14-1BCC739211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E04-793E-4BA3-87ED-1AB8936CC7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SungHa,Park</dc:creator>
  <dc:description/>
  <dc:language>en-US</dc:language>
  <cp:lastModifiedBy>SungHa,Park</cp:lastModifiedBy>
  <dcterms:modified xsi:type="dcterms:W3CDTF">2004-03-26T04:51:28Z</dcterms:modified>
  <cp:revision>1</cp:revision>
  <dc:subject/>
  <dc:title>PowerPoint Design Templat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8095602</vt:r8>
  </property>
  <property fmtid="{D5CDD505-2E9C-101B-9397-08002B2CF9AE}" pid="3" name="_AuthorEmail">
    <vt:lpwstr>shpark@guilddesign.com</vt:lpwstr>
  </property>
  <property fmtid="{D5CDD505-2E9C-101B-9397-08002B2CF9AE}" pid="4" name="_AuthorEmailDisplayName">
    <vt:lpwstr>Sung Ha, Park</vt:lpwstr>
  </property>
  <property fmtid="{D5CDD505-2E9C-101B-9397-08002B2CF9AE}" pid="5" name="_EmailSubject">
    <vt:lpwstr>영문 파워포인트 마스타 페이지 </vt:lpwstr>
  </property>
  <property fmtid="{D5CDD505-2E9C-101B-9397-08002B2CF9AE}" pid="6" name="_ReviewingToolsShownOnce">
    <vt:lpwstr/>
  </property>
</Properties>
</file>