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584-50A2-4313-BD2C-8DF6A8C7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4CF-A852-4743-A3F9-339FD760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B26-6465-49B1-8550-37EDF9D7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D61-1F73-4B29-AC2B-1EF1234B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243-2AE4-45BD-8469-2E83B6C2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D4D-990E-4D1B-ABAF-B5362C63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683-F438-46BB-AB99-1081F6F1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4C2-4F21-452C-A658-456EC4A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F18-3127-4947-AE22-F752B6C8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578-33D6-4191-9C52-3D06C573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8C6-2881-40F7-85FF-4331C1C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CD4-BA91-408C-81A3-B14C33CF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705A-E573-4D24-A8A5-418A8C3455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1B2B-5E81-4354-9B42-A0E7AC660B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5" r="0" b="145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7981920" y="48355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914"/>
                </a:solidFill>
                <a:latin typeface="微软雅黑"/>
                <a:ea typeface="微软雅黑"/>
              </a:rPr>
              <a:t>zzplovez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1401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a2914"/>
                </a:solidFill>
                <a:latin typeface="微软雅黑"/>
                <a:ea typeface="微软雅黑"/>
              </a:rPr>
              <a:t>单击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0" y="2738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a2914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2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2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293" name="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294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14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17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1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24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2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31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3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38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3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45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47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6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5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81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82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88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90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0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07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1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1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2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2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29" name="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30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3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3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4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4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4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5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5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6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6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6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6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4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图片 66" descr=""/>
            <p:cNvPicPr/>
            <p:nvPr/>
          </p:nvPicPr>
          <p:blipFill>
            <a:blip r:embed="rId9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8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82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83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9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3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4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8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02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0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09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1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16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1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23" name="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24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69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0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4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1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39" name="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0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6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3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0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7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0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1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7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7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4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1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98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0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9" name="直接箭头连接符 51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10" name="直接箭头连接符 52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11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2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24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3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34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35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4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47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5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55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4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65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66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77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78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8:31:00Z</dcterms:created>
  <dc:creator>微软中国</dc:creator>
  <dc:description/>
  <dc:language>en-US</dc:language>
  <cp:lastModifiedBy>微软中国</cp:lastModifiedBy>
  <cp:lastPrinted>1899-12-30T00:00:00Z</cp:lastPrinted>
  <dcterms:modified xsi:type="dcterms:W3CDTF">2012-06-10T11:17:0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